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8E4-E121-474E-822A-2AA7E1D1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86B-7490-4E73-A7AF-9B032CC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104-49BD-46E7-AC10-E9694597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91E-3BAE-4CAE-AB8A-EDC05605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152-8966-44AB-8B40-760F158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FB8-6EB7-483B-B6E1-BB025D3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1E5-4631-45DF-A775-D5B0948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382-F9ED-459C-A825-9AB7E07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FF3-538E-4E15-B552-04F8E5D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9B8-A499-4556-A1EC-0D6DB48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C5B-5AAB-4831-B53B-62CF642C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D89-9918-454A-8BA4-BA73DFF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7C5-12D7-4862-9C1A-F118B3CE5877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AD2-7502-4F9E-9001-9CA3CAB0D0CF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QL:  The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Instanc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191120" y="1900080"/>
          <a:ext cx="4572000" cy="23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00080"/>
                    <a:ext cx="457200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191120" y="4140360"/>
          <a:ext cx="4800600" cy="25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140360"/>
                    <a:ext cx="48006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52880" y="177840"/>
          <a:ext cx="388620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77840"/>
                    <a:ext cx="38862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335120" y="212760"/>
            <a:ext cx="53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R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360" y="1967040"/>
            <a:ext cx="5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S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8160" y="4176720"/>
            <a:ext cx="5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S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 will use these instances of the Sailors and Reserves relations in our exam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asic SQL Que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-lis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A list of relation names (possibly with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ange-variab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fter each name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arget-lis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A list of attributes of relations i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elation-lis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qualific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Comparisons (Attr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p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st or Attr1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p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ttr2, wher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p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one of                                 )  combined usin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, OR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TINC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an optional keyword indicating that the answer should not contain duplicates.  Default is that duplicates are </a:t>
            </a: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no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liminated!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4549680" y="358920"/>
            <a:ext cx="4372200" cy="118980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LECT        [DISTINCT]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arget-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     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-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WHERE      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qualificatio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19720" y="3759120"/>
                <a:ext cx="4257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³</m:t>
                    </m:r>
                    <m:r>
                      <m:t xml:space="preserve">,</m:t>
                    </m:r>
                    <m:r>
                      <m:t xml:space="preserve">¹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eptual Evaluation Strateg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mantics of an SQL query defined in terms of the following conceptual evaluation strateg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pute the cross-product of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-lis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card resulting tuples if they fail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qualification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lete attributes that are not i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arget-lis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DISTIN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specified, eliminate duplicate row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s strategy is probably the least efficient way to compute a query!  An optimizer will find more efficient strategies to compute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the same answers</a:t>
            </a:r>
            <a:r>
              <a:rPr b="0" lang="en-US" sz="2800" spc="-1" strike="noStrike">
                <a:solidFill>
                  <a:srgbClr val="bc37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of Conceptual Evalu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112840" y="1432080"/>
            <a:ext cx="5374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 S1, Reserves R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1.sid=R1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1.bid=103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30240" y="2819520"/>
          <a:ext cx="797580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2819520"/>
                    <a:ext cx="797580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 Note on Range Variab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ally needed only if the same relation appears twice in th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lause.  The previous query can also be written a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3" name=""/>
          <p:cNvSpPr/>
          <p:nvPr/>
        </p:nvSpPr>
        <p:spPr>
          <a:xfrm>
            <a:off x="1174680" y="3490920"/>
            <a:ext cx="4581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 S,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=R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id=103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4784760"/>
            <a:ext cx="4632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, Reserve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.sid=Reserves.s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bid=103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01600" y="3711600"/>
            <a:ext cx="2295720" cy="15555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t is good style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however, to us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nge variable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lways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657600"/>
            <a:ext cx="2057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920" y="4786200"/>
            <a:ext cx="61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O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41868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sailors who’ve reserved at least one boat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ould addin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TINCT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this query make a differenc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is the effect of replacing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.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by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.s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th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lause?  Would addin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TINC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this variant of the query make a differenc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2274840" y="1784520"/>
            <a:ext cx="3973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,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=R.s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important factor in the early acceptance of the relational model; more natural than earlier, procedural query languag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alternative ways to write a query; optimizer should look for most efficient evaluation pla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practice, users need to be aware of how queries are optimized and evaluated (algebra) for best resul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QL3 (SQL:1999) adds nested relational and object-oriented features to SQ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2T19:06:00Z</dcterms:created>
  <dc:creator/>
  <dc:description/>
  <dc:language>en-US</dc:language>
  <cp:lastModifiedBy>Donated by Intel</cp:lastModifiedBy>
  <cp:lastPrinted>2000-01-24T16:57:43Z</cp:lastPrinted>
  <dcterms:modified xsi:type="dcterms:W3CDTF">2000-01-24T17:02:05Z</dcterms:modified>
  <cp:revision>37</cp:revision>
  <dc:subject>Database Management Systems</dc:subject>
  <dc:title>SQL Queries</dc:title>
</cp:coreProperties>
</file>