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C68-2C13-4573-BE33-A8D9AB84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98F-D7D4-4189-93AE-5D4C3055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F82-CE64-4393-9612-017E6E0B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180-5367-4155-BDD2-2C820294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D94-2B74-43EF-ACF8-643107EB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8C7-E1DE-41DD-AEAB-6FB7F2C1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CB6-AD8C-47E3-8EB8-10E0FBB5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5F0-BBF3-46B9-AF77-9E366004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507-BFA9-4B14-99B8-0F9E85CA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696-5A11-4C74-B94A-E77750D7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CF1-7FDF-40B4-9BE6-BE7C8C66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D34-845F-414A-A7B2-23540BC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632-30AA-425C-92AA-6433EAE5C0F7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4EA3-9690-451E-94CB-A1A99A6565F7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Algebra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ross-Produc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ach row of S1 is paired with each row of R1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sult schema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as one field per field of S1 and R1, with field names `inherited’ if possibl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Conflic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Both S1 and R1 have a field called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28880" y="6045120"/>
                <a:ext cx="5402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sid</m:t>
                    </m:r>
                    <m:r>
                      <m:t xml:space="preserve">1,5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sid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1</m:t>
                    </m:r>
                    <m:r>
                      <m:t xml:space="preserve">´</m:t>
                    </m:r>
                    <m:r>
                      <m:t xml:space="preserve">R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1239840" y="3129120"/>
          <a:ext cx="691344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3129120"/>
                    <a:ext cx="691344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50440" y="6005520"/>
            <a:ext cx="330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Renaming operato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Joi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ondition Joi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 R     </a:t>
            </a:r>
            <a:r>
              <a:rPr b="0" lang="en-US" sz="2800" spc="-1" strike="noStrike" baseline="-25000">
                <a:solidFill>
                  <a:srgbClr val="005400"/>
                </a:solidFill>
                <a:latin typeface="Book Antiqua"/>
              </a:rPr>
              <a:t>C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 = 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5400"/>
                </a:solidFill>
                <a:latin typeface="Book Antiqua"/>
              </a:rPr>
              <a:t>C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R 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S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1      </a:t>
            </a:r>
            <a:r>
              <a:rPr b="0" i="1" lang="en-US" sz="2800" spc="-1" strike="noStrike" baseline="-25000">
                <a:solidFill>
                  <a:srgbClr val="005400"/>
                </a:solidFill>
                <a:latin typeface="Book Antiqua"/>
              </a:rPr>
              <a:t>S1.sid &lt; R1.sid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 R1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67480" indent="-267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sult schema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ame as that of cross-produc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67480" indent="-267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ewer tuples than cross-product, might be able to compute more efficientl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67480" indent="-267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metimes called 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theta-joi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2346480"/>
          <a:ext cx="822960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46480"/>
                    <a:ext cx="822960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40384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86200" y="1523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Joi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qui-Join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pecial case of condition join where the conditio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c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ntains only </a:t>
            </a:r>
            <a:r>
              <a:rPr b="1" i="1" lang="en-US" sz="2800" spc="-1" strike="noStrike">
                <a:solidFill>
                  <a:srgbClr val="005400"/>
                </a:solidFill>
                <a:latin typeface="Book Antiqua"/>
              </a:rPr>
              <a:t>equalities</a:t>
            </a:r>
            <a:r>
              <a:rPr b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d ^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1        </a:t>
            </a:r>
            <a:r>
              <a:rPr b="0" lang="en-US" sz="2800" spc="-1" strike="noStrike" baseline="-25000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1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sult schema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milar to cross-product, but only one copy of fields for which equality is specifi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Natural Joi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Equijoin o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al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mmon fields (fields with the same </a:t>
            </a:r>
            <a:r>
              <a:rPr b="1" i="1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nam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38320" y="2646360"/>
          <a:ext cx="744840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2646360"/>
                    <a:ext cx="744840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81280" y="411480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41868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ind names of sailors who’ve reserved boat #103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lution 1: 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743200" y="1905120"/>
                <a:ext cx="6264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" name=""/>
          <p:cNvGrpSpPr/>
          <p:nvPr/>
        </p:nvGrpSpPr>
        <p:grpSpPr>
          <a:xfrm>
            <a:off x="116640" y="2989440"/>
            <a:ext cx="8552520" cy="2309760"/>
            <a:chOff x="116640" y="2989440"/>
            <a:chExt cx="8552520" cy="2309760"/>
          </a:xfrm>
        </p:grpSpPr>
        <p:sp>
          <p:nvSpPr>
            <p:cNvPr id="148" name=""/>
            <p:cNvSpPr/>
            <p:nvPr/>
          </p:nvSpPr>
          <p:spPr>
            <a:xfrm>
              <a:off x="116640" y="2989440"/>
              <a:ext cx="2184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5400"/>
                </a:buClr>
                <a:buSzPct val="75000"/>
                <a:buFont typeface="Monotype Sort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5400"/>
                  </a:solidFill>
                  <a:latin typeface="Book Antiqua"/>
                </a:rPr>
                <a:t> </a:t>
              </a:r>
              <a:r>
                <a:rPr b="0" lang="en-US" sz="2800" spc="-1" strike="noStrike">
                  <a:solidFill>
                    <a:srgbClr val="005400"/>
                  </a:solidFill>
                  <a:latin typeface="Book Antiqua"/>
                </a:rPr>
                <a:t>Solution 2</a:t>
              </a: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: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590920" y="3073320"/>
                  <a:ext cx="607824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Temp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id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3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rPr>
                          <m:lit/>
                          <m:nor/>
                        </m:rPr>
                        <m:t xml:space="preserve">serve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2590920" y="3987720"/>
                  <a:ext cx="607824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Temp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Temp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&gt;&lt;</m:t>
                      </m:r>
                      <m:r>
                        <m:rPr>
                          <m:lit/>
                          <m:nor/>
                        </m:rPr>
                        <m:t xml:space="preserve">Sailor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2590920" y="4673520"/>
                  <a:ext cx="3193920" cy="62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name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Temp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2" name=""/>
          <p:cNvGrpSpPr/>
          <p:nvPr/>
        </p:nvGrpSpPr>
        <p:grpSpPr>
          <a:xfrm>
            <a:off x="118440" y="5654520"/>
            <a:ext cx="8949240" cy="814680"/>
            <a:chOff x="118440" y="5654520"/>
            <a:chExt cx="8949240" cy="814680"/>
          </a:xfrm>
        </p:grpSpPr>
        <p:sp>
          <p:nvSpPr>
            <p:cNvPr id="153" name=""/>
            <p:cNvSpPr/>
            <p:nvPr/>
          </p:nvSpPr>
          <p:spPr>
            <a:xfrm>
              <a:off x="118440" y="5654520"/>
              <a:ext cx="2184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5400"/>
                </a:buClr>
                <a:buSzPct val="75000"/>
                <a:buFont typeface="Monotype Sort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5400"/>
                  </a:solidFill>
                  <a:latin typeface="Book Antiqua"/>
                </a:rPr>
                <a:t> </a:t>
              </a:r>
              <a:r>
                <a:rPr b="0" lang="en-US" sz="2800" spc="-1" strike="noStrike">
                  <a:solidFill>
                    <a:srgbClr val="005400"/>
                  </a:solidFill>
                  <a:latin typeface="Book Antiqua"/>
                </a:rPr>
                <a:t>Solution 3</a:t>
              </a: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: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2590920" y="5715000"/>
                  <a:ext cx="647676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nam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id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3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rPr>
                          <m:lit/>
                          <m:nor/>
                        </m:rPr>
                        <m:t xml:space="preserve">serves</m:t>
                      </m:r>
                      <m:r>
                        <m:rPr>
                          <m:lit/>
                          <m:nor/>
                        </m:rPr>
                        <m:t xml:space="preserve">&gt;&lt;</m:t>
                      </m:r>
                      <m:r>
                        <m:rPr>
                          <m:lit/>
                          <m:nor/>
                        </m:rPr>
                        <m:t xml:space="preserve">Sailors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ind names of sailors who’ve reserved a red boat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formation about boat color only available in Boats; so need an extra join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66680" y="3068640"/>
                <a:ext cx="78282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or</m:t>
                        </m:r>
                        <m:r>
                          <m:t xml:space="preserve">=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Boat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831240" y="4054320"/>
            <a:ext cx="8257320" cy="1387800"/>
            <a:chOff x="831240" y="4054320"/>
            <a:chExt cx="8257320" cy="1387800"/>
          </a:xfrm>
        </p:grpSpPr>
        <p:sp>
          <p:nvSpPr>
            <p:cNvPr id="161" name=""/>
            <p:cNvSpPr/>
            <p:nvPr/>
          </p:nvSpPr>
          <p:spPr>
            <a:xfrm>
              <a:off x="831240" y="4054320"/>
              <a:ext cx="4619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5400"/>
                </a:buClr>
                <a:buSzPct val="75000"/>
                <a:buFont typeface="Monotype Sort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5400"/>
                  </a:solidFill>
                  <a:latin typeface="Book Antiqua"/>
                </a:rPr>
                <a:t> </a:t>
              </a:r>
              <a:r>
                <a:rPr b="0" lang="en-US" sz="2800" spc="-1" strike="noStrike">
                  <a:solidFill>
                    <a:srgbClr val="005400"/>
                  </a:solidFill>
                  <a:latin typeface="Book Antiqua"/>
                </a:rPr>
                <a:t>A more efficient solution:</a:t>
              </a:r>
              <a:endParaRPr b="0" lang="en-US" sz="28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1062000" y="4826160"/>
                  <a:ext cx="80265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nam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i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id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lor</m:t>
                          </m:r>
                          <m:r>
                            <m:t xml:space="preserve">=</m:t>
                          </m:r>
                          <m:r>
                            <m:t xml:space="preserve">'</m:t>
                          </m:r>
                          <m:r>
                            <m:rPr>
                              <m:lit/>
                              <m:nor/>
                            </m:rPr>
                            <m:t xml:space="preserve">red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Boats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&gt;&lt;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&gt;&lt;</m:t>
                      </m:r>
                      <m:r>
                        <m:rPr>
                          <m:lit/>
                          <m:nor/>
                        </m:rPr>
                        <m:t xml:space="preserve">Sailor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3" name=""/>
          <p:cNvSpPr/>
          <p:nvPr/>
        </p:nvSpPr>
        <p:spPr>
          <a:xfrm>
            <a:off x="758520" y="5775480"/>
            <a:ext cx="77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 query optimizer can find this given the first solution!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4950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ind sailors who’ve reserved a red or a green boat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identify all red or green boats, then find sailors who’ve reserved one of these boat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2120" y="2784600"/>
            <a:ext cx="8316720" cy="1547640"/>
            <a:chOff x="762120" y="2784600"/>
            <a:chExt cx="8316720" cy="154764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838080" y="2784600"/>
                  <a:ext cx="824076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Tempboats</m:t>
                      </m:r>
                      <m:r>
                        <m:t xml:space="preserve">,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lor</m:t>
                          </m:r>
                          <m:r>
                            <m:t xml:space="preserve">=</m:t>
                          </m:r>
                          <m:r>
                            <m:t xml:space="preserve">'</m:t>
                          </m:r>
                          <m:r>
                            <m:rPr>
                              <m:lit/>
                              <m:nor/>
                            </m:rPr>
                            <m:t xml:space="preserve">red</m:t>
                          </m:r>
                          <m:r>
                            <m:t xml:space="preserve">'</m:t>
                          </m:r>
                          <m:r>
                            <m:t xml:space="preserve">Ú</m:t>
                          </m:r>
                          <m:r>
                            <m:rPr>
                              <m:lit/>
                              <m:nor/>
                            </m:rPr>
                            <m:t xml:space="preserve">color</m:t>
                          </m:r>
                          <m:r>
                            <m:t xml:space="preserve">=</m:t>
                          </m:r>
                          <m:r>
                            <m:t xml:space="preserve">'</m:t>
                          </m:r>
                          <m:r>
                            <m:rPr>
                              <m:lit/>
                              <m:nor/>
                            </m:rPr>
                            <m:t xml:space="preserve">green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Boats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62120" y="3648240"/>
                  <a:ext cx="743112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name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Tempboats</m:t>
                      </m:r>
                      <m:r>
                        <m:rPr>
                          <m:lit/>
                          <m:nor/>
                        </m:rPr>
                        <m:t xml:space="preserve">&gt;&lt;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rPr>
                          <m:lit/>
                          <m:nor/>
                        </m:rPr>
                        <m:t xml:space="preserve">serves</m:t>
                      </m:r>
                      <m:r>
                        <m:rPr>
                          <m:lit/>
                          <m:nor/>
                        </m:rPr>
                        <m:t xml:space="preserve">&gt;&lt;</m:t>
                      </m:r>
                      <m:r>
                        <m:rPr>
                          <m:lit/>
                          <m:nor/>
                        </m:rPr>
                        <m:t xml:space="preserve">Sailor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1" name=""/>
          <p:cNvSpPr/>
          <p:nvPr/>
        </p:nvSpPr>
        <p:spPr>
          <a:xfrm>
            <a:off x="163080" y="4968720"/>
            <a:ext cx="843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also define Tempboats using union!  (How?)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4200" y="5653080"/>
            <a:ext cx="8933760" cy="519120"/>
            <a:chOff x="124200" y="5653080"/>
            <a:chExt cx="8933760" cy="519120"/>
          </a:xfrm>
        </p:grpSpPr>
        <p:sp>
          <p:nvSpPr>
            <p:cNvPr id="173" name=""/>
            <p:cNvSpPr/>
            <p:nvPr/>
          </p:nvSpPr>
          <p:spPr>
            <a:xfrm>
              <a:off x="124200" y="5653080"/>
              <a:ext cx="8933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5400"/>
                </a:buClr>
                <a:buSzPct val="75000"/>
                <a:buFont typeface="Monotype Sort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 </a:t>
              </a:r>
              <a:r>
                <a:rPr b="0" lang="en-US" sz="2800" spc="-1" strike="noStrike">
                  <a:solidFill>
                    <a:srgbClr val="005400"/>
                  </a:solidFill>
                  <a:latin typeface="Book Antiqua"/>
                </a:rPr>
                <a:t>What happens if       is replaced by       in this query?</a:t>
              </a:r>
              <a:endParaRPr b="0" lang="en-US" sz="28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3352680" y="5781600"/>
                  <a:ext cx="83052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Ú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172200" y="5781600"/>
                  <a:ext cx="59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Ù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ind sailors who’ve reserved a re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 a green boat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revious approach won’t work!  Must identify sailors who’ve reserved red boats, sailors who’ve reserved green boats, then find the intersection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(note that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is a key for Sailors)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6200" y="3713040"/>
                <a:ext cx="8639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empred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or</m:t>
                        </m:r>
                        <m:r>
                          <m:t xml:space="preserve">=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Boat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821520" y="4892760"/>
            <a:ext cx="27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28600" y="5557680"/>
                <a:ext cx="7670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empred</m:t>
                    </m:r>
                    <m:r>
                      <m:t xml:space="preserve">Ç</m:t>
                    </m:r>
                    <m:r>
                      <m:rPr>
                        <m:lit/>
                        <m:nor/>
                      </m:rPr>
                      <m:t xml:space="preserve">Tempgree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22240" y="5472000"/>
            <a:ext cx="26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920" y="4567320"/>
                <a:ext cx="87627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empgreen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or</m:t>
                        </m:r>
                        <m:r>
                          <m:t xml:space="preserve">=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green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Boat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relational model has rigorously defined query languages that are simple and powerfu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al algebra is operational; useful as internal representation for query evaluation plan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al calculus is non-operational, and users define queries in terms of what they want, not in terms of how to compute it. 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Declarativenes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ral ways of expressing a given query; a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quer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optimiz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should choose the most efficient versio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y language able to express all relational algebra queries is said to be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relationally complete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Query Languag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9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Query languages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llow manipulation and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retrieval of data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rom a databas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al model supports simple, powerful QL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rong formal foundation based on logic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ows for much optimiz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y Languages </a:t>
            </a: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!=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programming languages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QLs not expected to be “Turing complete”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QLs not intended to be used for complex calcula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QLs support easy, efficient access to large data se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ormal Relational Query Languag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wo mathematical Query Languages form the basis for “real” languages (e.g. SQL), and for implementation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elational Algebra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or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operation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very useful for representing execution plan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elational Calculu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ets users describe what they want, rather than how to compute it.  (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Non-operational,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eclarativ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451800" y="5548320"/>
            <a:ext cx="7443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438e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Book Antiqua"/>
              </a:rPr>
              <a:t>  </a:t>
            </a:r>
            <a:r>
              <a:rPr b="0" i="1" lang="en-US" sz="2800" spc="-1" strike="noStrike">
                <a:solidFill>
                  <a:srgbClr val="438e00"/>
                </a:solidFill>
                <a:latin typeface="Book Antiqua"/>
              </a:rPr>
              <a:t>Understanding Relational Algebra is key to 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38e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38e00"/>
                </a:solidFill>
                <a:latin typeface="Book Antiqua"/>
              </a:rPr>
              <a:t>  </a:t>
            </a:r>
            <a:r>
              <a:rPr b="0" i="1" lang="en-US" sz="2800" spc="-1" strike="noStrike">
                <a:solidFill>
                  <a:srgbClr val="438e00"/>
                </a:solidFill>
                <a:latin typeface="Book Antiqua"/>
              </a:rPr>
              <a:t>understanding SQL, query processing!</a:t>
            </a:r>
            <a:r>
              <a:rPr b="0" i="1" lang="en-US" sz="2400" spc="-1" strike="noStrike">
                <a:solidFill>
                  <a:srgbClr val="438e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eliminar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query is applied to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lation instanc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and the result of a query is also a relation instanc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chema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of inpu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lations for a query ar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fixed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but query will run regardless of instance!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chema for th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esul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f a given query is also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fix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! Determined by definition of query language construc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ositional vs. named-field notation: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ositional notation easier for formal definitions, named-field notation more readable.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oth used in Relational Algebra and SQ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Instanc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00600" y="1976400"/>
          <a:ext cx="415764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76400"/>
                    <a:ext cx="41576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00600" y="4216320"/>
          <a:ext cx="4321080" cy="22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216320"/>
                    <a:ext cx="432108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638680" y="330120"/>
          <a:ext cx="3327480" cy="16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330120"/>
                    <a:ext cx="33274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020920" y="366840"/>
            <a:ext cx="53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400"/>
                </a:solidFill>
                <a:latin typeface="Book Antiqua"/>
              </a:rPr>
              <a:t>R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47640" y="2120760"/>
            <a:ext cx="51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400"/>
                </a:solidFill>
                <a:latin typeface="Book Antiqua"/>
              </a:rPr>
              <a:t>S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49080" y="4253040"/>
            <a:ext cx="51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400"/>
                </a:solidFill>
                <a:latin typeface="Book Antiqua"/>
              </a:rPr>
              <a:t>S2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ilors” and “Reserves” relations for our exampl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e’ll use positional or named field notation, assume that names of fields in query results are `inherited’ from names of fields in query input rela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Algebra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8390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asic operation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elect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     )    Selects a subset of rows from rel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Projection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     )   Deletes unwanted columns from rel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Cross-produc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     )  Allows us to combine two rela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et-differenc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     )  Tuples in reln. 1, but not in reln. 2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Union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)  Tuples in reln. 1 and in reln. 2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dditional operation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tersection,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joi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division, renaming:  Not essential, but (very!) useful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nce each operation returns a relation,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operation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an b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ompose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! (Algebra is “closed”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71680" y="2133720"/>
                <a:ext cx="2151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14600" y="2540160"/>
                <a:ext cx="1981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71800" y="3530520"/>
                <a:ext cx="45720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2921040"/>
                <a:ext cx="1689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ojec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715000" y="406440"/>
          <a:ext cx="263700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06440"/>
                    <a:ext cx="263700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62720" y="2747880"/>
                <a:ext cx="3456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atin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6553080" y="4140360"/>
          <a:ext cx="1162080" cy="16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140360"/>
                    <a:ext cx="1162080" cy="16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400800" y="5816520"/>
                <a:ext cx="2087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g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tains only attributes that are i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projection lis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chema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f result contains exactly the fields in the projection list, with the same names that they had in the input rel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rojection operator has to eliminat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duplicat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!  (Why??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e: real systems typically don’t do duplicate elimination unless the user explicitly asks for it.  (Why not?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elec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257800" y="2205000"/>
                <a:ext cx="30099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ting</m:t>
                        </m:r>
                        <m:r>
                          <m:t xml:space="preserve">&gt;</m:t>
                        </m:r>
                        <m:r>
                          <m:t xml:space="preserve">8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0" name=""/>
          <p:cNvGraphicFramePr/>
          <p:nvPr/>
        </p:nvGraphicFramePr>
        <p:xfrm>
          <a:off x="4114800" y="558720"/>
          <a:ext cx="4624560" cy="16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58720"/>
                    <a:ext cx="462456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76920" y="3759120"/>
          <a:ext cx="303984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759120"/>
                    <a:ext cx="303984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2400" y="5587920"/>
                <a:ext cx="4805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atin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ting</m:t>
                        </m:r>
                        <m:r>
                          <m:t xml:space="preserve">&gt;</m:t>
                        </m:r>
                        <m:r>
                          <m:t xml:space="preserve">8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lects rows that satisfy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election condit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 duplicates in result!  (Why?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chema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f result identical to schema of input rel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esul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lation can be the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inpu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another relational algebra operation!  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Operato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omposition.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Union, Intersection, Set-Differenc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 of these operations take two input relations, which must be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union-compatible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me number of field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`Corresponding’ fields have the same typ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is th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chema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f result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48320" y="1168560"/>
          <a:ext cx="4394160" cy="28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168560"/>
                    <a:ext cx="439416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724280" y="4597560"/>
          <a:ext cx="425952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597560"/>
                    <a:ext cx="42595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72200" y="3830760"/>
                <a:ext cx="13032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1</m:t>
                    </m:r>
                    <m:r>
                      <m:t xml:space="preserve">ÈS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248520" y="5964120"/>
                <a:ext cx="1647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1</m:t>
                    </m:r>
                    <m:r>
                      <m:t xml:space="preserve">ÇS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228600" y="4897440"/>
          <a:ext cx="4254480" cy="11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897440"/>
                    <a:ext cx="425448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676520" y="5964120"/>
                <a:ext cx="1566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2T12:49:12Z</dcterms:created>
  <dc:creator/>
  <dc:description/>
  <dc:language>en-US</dc:language>
  <cp:lastModifiedBy>Donated by Intel</cp:lastModifiedBy>
  <cp:lastPrinted>1995-09-17T00:17:34Z</cp:lastPrinted>
  <dcterms:modified xsi:type="dcterms:W3CDTF">2000-01-20T17:56:47Z</dcterms:modified>
  <cp:revision>67</cp:revision>
  <dc:subject>Database Management Systems</dc:subject>
  <dc:title>Relational Algebra and Calculus </dc:title>
</cp:coreProperties>
</file>