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91120" cy="40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930480" y="0"/>
            <a:ext cx="300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911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29040" y="0"/>
            <a:ext cx="30114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29040" y="8626320"/>
            <a:ext cx="30114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8968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29040" y="0"/>
            <a:ext cx="30114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29040" y="8626320"/>
            <a:ext cx="30114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8968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1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3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"/>
          <p:cNvSpPr/>
          <p:nvPr/>
        </p:nvSpPr>
        <p:spPr>
          <a:xfrm>
            <a:off x="8321400" y="6473520"/>
            <a:ext cx="105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0795-D061-44E0-A267-EE264C3A982E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Views</a:t>
            </a:r>
            <a:br>
              <a:rPr sz="4000"/>
            </a:b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"/>
          <p:cNvSpPr/>
          <p:nvPr/>
        </p:nvSpPr>
        <p:spPr>
          <a:xfrm>
            <a:off x="1774800" y="4708440"/>
            <a:ext cx="56548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Defini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undamentally, a view is just a quer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query computes an output relation given one or more input relation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.name, S.logi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Students 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age=18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.name, E.c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tudents S, Enrolled 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sid=E.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E.grade=“A”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View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1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view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s just a relation, but we store a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definition (query)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rather than a set of tuple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9" name=""/>
          <p:cNvSpPr/>
          <p:nvPr/>
        </p:nvSpPr>
        <p:spPr>
          <a:xfrm>
            <a:off x="1092600" y="2874960"/>
            <a:ext cx="71049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CREATE  VIEW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YoungActiveStudents (name, grade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AS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SELECT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.name, E.grad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tudents S, Enrolled 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sid = E.sid and S.age&lt;21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8991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Views can be dropped using the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DROP VIEW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mmand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Uses for View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Views can be used to present necessary information (or a summary), while hiding details in underlying relation(s) (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security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Views also useful for maintaining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logical data independenc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when the conceptual schema change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n be used to precompute (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materializ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) results or partial results of common querie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Views vs. Rela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Logical distinction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Updates not always possib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to a view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hysical distinction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lations must be physically stored somewher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Views are either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omputed </a:t>
            </a:r>
            <a:r>
              <a:rPr b="0" i="1" lang="en-US" sz="2000" spc="-1" strike="noStrike" u="sng">
                <a:solidFill>
                  <a:srgbClr val="fc0128"/>
                </a:solidFill>
                <a:uFillTx/>
                <a:latin typeface="Book Antiqua"/>
              </a:rPr>
              <a:t>on-demand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(not indexable)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tored physically (</a:t>
            </a:r>
            <a:r>
              <a:rPr b="0" i="1" lang="en-US" sz="2000" spc="-1" strike="noStrike" u="sng">
                <a:solidFill>
                  <a:srgbClr val="fc0128"/>
                </a:solidFill>
                <a:uFillTx/>
                <a:latin typeface="Book Antiqua"/>
              </a:rPr>
              <a:t>materialized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) to enhance performance, and the DBA (or system) must manage the replication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view is just a quer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Views useful for security, logical data independence, performanc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tored logically (query modification required) or physically (materialized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View updates must be unambiguously mappable to base relation updates in order to be allowed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6T18:20:12Z</dcterms:created>
  <dc:creator>Scott Vandenberg</dc:creator>
  <dc:description/>
  <dc:language>en-US</dc:language>
  <cp:lastModifiedBy>Donated by Intel</cp:lastModifiedBy>
  <cp:lastPrinted>2000-01-18T22:17:55Z</cp:lastPrinted>
  <dcterms:modified xsi:type="dcterms:W3CDTF">2000-01-18T22:18:00Z</dcterms:modified>
  <cp:revision>71</cp:revision>
  <dc:subject/>
  <dc:title>Views</dc:title>
</cp:coreProperties>
</file>