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69408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393228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221DE-C9A5-4DF4-8180-E3C097ECD59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 type="sldImg"/>
          </p:nvPr>
        </p:nvSpPr>
        <p:spPr>
          <a:xfrm>
            <a:off x="1208160" y="687240"/>
            <a:ext cx="4524480" cy="339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Click to move the slide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932280" y="0"/>
            <a:ext cx="30081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54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30081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208160" y="687240"/>
            <a:ext cx="4524480" cy="339264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932280" y="0"/>
            <a:ext cx="30081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5400"/>
                </a:solidFill>
                <a:latin typeface="Times New Roman"/>
              </a:rPr>
              <a:t>28</a:t>
            </a:r>
            <a:endParaRPr b="0" lang="en-US" sz="10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0"/>
            <a:ext cx="30081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208160" y="687240"/>
            <a:ext cx="4524480" cy="33926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3932280" y="0"/>
            <a:ext cx="30081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54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30081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208160" y="687240"/>
            <a:ext cx="4524480" cy="33926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932280" y="0"/>
            <a:ext cx="30081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5400"/>
                </a:solidFill>
                <a:latin typeface="Times New Roman"/>
              </a:rPr>
              <a:t>22</a:t>
            </a:r>
            <a:endParaRPr b="0" lang="en-US" sz="10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30081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208160" y="687240"/>
            <a:ext cx="4524480" cy="33926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32280" y="0"/>
            <a:ext cx="30081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5400"/>
                </a:solidFill>
                <a:latin typeface="Times New Roman"/>
              </a:rPr>
              <a:t>24</a:t>
            </a:r>
            <a:endParaRPr b="0" lang="en-US" sz="10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30081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208160" y="687240"/>
            <a:ext cx="4524480" cy="33926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932280" y="0"/>
            <a:ext cx="30081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5400"/>
                </a:solidFill>
                <a:latin typeface="Times New Roman"/>
              </a:rPr>
              <a:t>23</a:t>
            </a:r>
            <a:endParaRPr b="0" lang="en-US" sz="10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0"/>
            <a:ext cx="30081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208160" y="687240"/>
            <a:ext cx="4524480" cy="33926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D044-CF88-4090-97F5-F6D597501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77724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838080" y="4110480"/>
            <a:ext cx="77724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7A4C-CCC6-4978-A3D3-1D46CDA9E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820760" y="198072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38080" y="411048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820760" y="411048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2B1D-7E25-487E-93CC-532116B89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250236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66080" y="1980720"/>
            <a:ext cx="250236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93720" y="1980720"/>
            <a:ext cx="250236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838080" y="4110480"/>
            <a:ext cx="250236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466080" y="4110480"/>
            <a:ext cx="250236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93720" y="4110480"/>
            <a:ext cx="250236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8B8C-5516-47F3-9FAC-B1B96723D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838080" y="1980720"/>
            <a:ext cx="7772400" cy="40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F137-C383-4BC9-8452-16D446109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777240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1181-F061-4DA7-89E1-D985BA23E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379260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20760" y="1980720"/>
            <a:ext cx="379260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AEE1-4B5B-468D-9F1F-66F3C4057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56A8-D986-423C-B37F-7DB212B2D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838080" y="41868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D9A4-9D20-413D-B8C2-50C4338A6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0760" y="1980720"/>
            <a:ext cx="379260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11048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6CAF-806F-4621-977D-73CB4AAD1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379260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20760" y="198072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820760" y="411048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59BD-545C-4A48-890A-F3A909B07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20760" y="198072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110480"/>
            <a:ext cx="77724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CA7F-015F-4A93-94A6-58F3C450A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54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54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54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54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54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43320-1F1A-405F-BE61-92B9EEACD90A}" type="slidenum">
              <a:rPr b="0" lang="en-US" sz="1400" spc="-1" strike="noStrike">
                <a:solidFill>
                  <a:srgbClr val="0054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80880" y="209520"/>
            <a:ext cx="1525680" cy="1525680"/>
            <a:chOff x="380880" y="209520"/>
            <a:chExt cx="1525680" cy="1525680"/>
          </a:xfrm>
        </p:grpSpPr>
        <p:sp>
          <p:nvSpPr>
            <p:cNvPr id="4" name=""/>
            <p:cNvSpPr/>
            <p:nvPr/>
          </p:nvSpPr>
          <p:spPr>
            <a:xfrm>
              <a:off x="533520" y="361800"/>
              <a:ext cx="1220760" cy="1220760"/>
            </a:xfrm>
            <a:custGeom>
              <a:avLst/>
              <a:gdLst/>
              <a:ahLst/>
              <a:rect l="l" t="t" r="r" b="b"/>
              <a:pathLst>
                <a:path w="769" h="769">
                  <a:moveTo>
                    <a:pt x="384" y="0"/>
                  </a:moveTo>
                  <a:lnTo>
                    <a:pt x="0" y="384"/>
                  </a:lnTo>
                  <a:lnTo>
                    <a:pt x="384" y="768"/>
                  </a:lnTo>
                  <a:lnTo>
                    <a:pt x="768" y="384"/>
                  </a:lnTo>
                  <a:lnTo>
                    <a:pt x="384" y="0"/>
                  </a:lnTo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grpSp>
          <p:nvGrpSpPr>
            <p:cNvPr id="5" name=""/>
            <p:cNvGrpSpPr/>
            <p:nvPr/>
          </p:nvGrpSpPr>
          <p:grpSpPr>
            <a:xfrm>
              <a:off x="380880" y="209520"/>
              <a:ext cx="1525680" cy="1525680"/>
              <a:chOff x="380880" y="209520"/>
              <a:chExt cx="1525680" cy="1525680"/>
            </a:xfrm>
          </p:grpSpPr>
          <p:sp>
            <p:nvSpPr>
              <p:cNvPr id="6" name=""/>
              <p:cNvSpPr/>
              <p:nvPr/>
            </p:nvSpPr>
            <p:spPr>
              <a:xfrm>
                <a:off x="1143000" y="209520"/>
                <a:ext cx="763560" cy="763560"/>
              </a:xfrm>
              <a:custGeom>
                <a:avLst/>
                <a:gdLst/>
                <a:ahLst/>
                <a:rect l="l" t="t" r="r" b="b"/>
                <a:pathLst>
                  <a:path w="481" h="481">
                    <a:moveTo>
                      <a:pt x="0" y="96"/>
                    </a:moveTo>
                    <a:lnTo>
                      <a:pt x="0" y="0"/>
                    </a:lnTo>
                    <a:lnTo>
                      <a:pt x="480" y="480"/>
                    </a:lnTo>
                    <a:lnTo>
                      <a:pt x="384" y="480"/>
                    </a:lnTo>
                    <a:lnTo>
                      <a:pt x="0" y="96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54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380880" y="209520"/>
                <a:ext cx="763560" cy="763560"/>
              </a:xfrm>
              <a:custGeom>
                <a:avLst/>
                <a:gdLst/>
                <a:ahLst/>
                <a:rect l="l" t="t" r="r" b="b"/>
                <a:pathLst>
                  <a:path w="481" h="481">
                    <a:moveTo>
                      <a:pt x="480" y="0"/>
                    </a:moveTo>
                    <a:lnTo>
                      <a:pt x="480" y="96"/>
                    </a:lnTo>
                    <a:lnTo>
                      <a:pt x="96" y="480"/>
                    </a:lnTo>
                    <a:lnTo>
                      <a:pt x="0" y="480"/>
                    </a:lnTo>
                    <a:lnTo>
                      <a:pt x="480" y="0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54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1143000" y="971640"/>
                <a:ext cx="763560" cy="763560"/>
              </a:xfrm>
              <a:custGeom>
                <a:avLst/>
                <a:gdLst/>
                <a:ahLst/>
                <a:rect l="l" t="t" r="r" b="b"/>
                <a:pathLst>
                  <a:path w="481" h="481">
                    <a:moveTo>
                      <a:pt x="384" y="0"/>
                    </a:moveTo>
                    <a:lnTo>
                      <a:pt x="480" y="0"/>
                    </a:lnTo>
                    <a:lnTo>
                      <a:pt x="0" y="480"/>
                    </a:lnTo>
                    <a:lnTo>
                      <a:pt x="0" y="384"/>
                    </a:lnTo>
                    <a:lnTo>
                      <a:pt x="384" y="0"/>
                    </a:lnTo>
                  </a:path>
                </a:pathLst>
              </a:custGeom>
              <a:solidFill>
                <a:srgbClr val="b9b9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54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80880" y="971640"/>
                <a:ext cx="763560" cy="763560"/>
              </a:xfrm>
              <a:custGeom>
                <a:avLst/>
                <a:gdLst/>
                <a:ahLst/>
                <a:rect l="l" t="t" r="r" b="b"/>
                <a:pathLst>
                  <a:path w="481" h="481">
                    <a:moveTo>
                      <a:pt x="96" y="0"/>
                    </a:moveTo>
                    <a:lnTo>
                      <a:pt x="480" y="384"/>
                    </a:lnTo>
                    <a:lnTo>
                      <a:pt x="480" y="480"/>
                    </a:lnTo>
                    <a:lnTo>
                      <a:pt x="0" y="0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54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38080" y="1980720"/>
            <a:ext cx="777240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2" marL="1143000" indent="-228600">
              <a:spcBef>
                <a:spcPts val="700"/>
              </a:spcBef>
              <a:buClr>
                <a:srgbClr val="0054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3" marL="1600200" indent="-228600">
              <a:spcBef>
                <a:spcPts val="700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4" marL="2057400" indent="-228600">
              <a:spcBef>
                <a:spcPts val="700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5" marL="2057400" indent="-228600">
              <a:spcBef>
                <a:spcPts val="700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6" marL="2057400" indent="-228600">
              <a:spcBef>
                <a:spcPts val="700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12" name=""/>
          <p:cNvSpPr/>
          <p:nvPr/>
        </p:nvSpPr>
        <p:spPr>
          <a:xfrm>
            <a:off x="8319600" y="6471720"/>
            <a:ext cx="105840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E7D1A-EAEB-4BB7-9142-5EAD323B204D}" type="slidenum">
              <a:rPr b="0" lang="en-US" sz="1400" spc="-1" strike="noStrike">
                <a:solidFill>
                  <a:srgbClr val="005400"/>
                </a:solidFill>
                <a:latin typeface="Book Antiqua"/>
              </a:rPr>
              <a:t>&lt;number&gt;</a:t>
            </a:fld>
            <a:endParaRPr b="0" lang="en-US" sz="1400" spc="-1" strike="noStrike">
              <a:solidFill>
                <a:srgbClr val="0054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Normalization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Problems with Decompositions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0" y="1676520"/>
            <a:ext cx="906768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There are three potential problems to consider: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713160" indent="-274320">
              <a:spcBef>
                <a:spcPts val="601"/>
              </a:spcBef>
              <a:buClr>
                <a:srgbClr val="005400"/>
              </a:buClr>
              <a:buFont typeface="Monotype Sorts" charset="2"/>
              <a:buChar char="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fc0128"/>
                </a:solidFill>
                <a:latin typeface="Book Antiqua"/>
              </a:rPr>
              <a:t>Some queries become more expensive.  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2" marL="1097280" indent="-219240">
              <a:spcBef>
                <a:spcPts val="601"/>
              </a:spcBef>
              <a:buClr>
                <a:srgbClr val="005400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e.g., find employee and department names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713160" indent="-274320">
              <a:spcBef>
                <a:spcPts val="601"/>
              </a:spcBef>
              <a:buClr>
                <a:srgbClr val="005400"/>
              </a:buClr>
              <a:buFont typeface="Monotype Sorts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fc0128"/>
                </a:solidFill>
                <a:latin typeface="Book Antiqua"/>
              </a:rPr>
              <a:t>Given instances of the decomposed relations, we may not be able to reconstruct the corresponding instance of the original relation!  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2" marL="1097280" indent="-219240">
              <a:spcBef>
                <a:spcPts val="601"/>
              </a:spcBef>
              <a:buClr>
                <a:srgbClr val="005400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First 3NF decomposition attempt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713160" indent="-274320">
              <a:spcBef>
                <a:spcPts val="601"/>
              </a:spcBef>
              <a:buClr>
                <a:srgbClr val="005400"/>
              </a:buClr>
              <a:buFont typeface="Monotype Sorts" charset="2"/>
              <a:buChar char="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fc0128"/>
                </a:solidFill>
                <a:latin typeface="Book Antiqua"/>
              </a:rPr>
              <a:t>Checking some dependencies may require joining the instances of the decomposed relations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2" marL="1097280" indent="-219240">
              <a:spcBef>
                <a:spcPts val="601"/>
              </a:spcBef>
              <a:buClr>
                <a:srgbClr val="005400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BCNF decomposition example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marL="329040" indent="-32904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c0128"/>
                </a:solidFill>
                <a:uFillTx/>
                <a:latin typeface="Book Antiqua"/>
              </a:rPr>
              <a:t>Tradeoff</a:t>
            </a:r>
            <a:r>
              <a:rPr b="0" lang="en-US" sz="2800" spc="-1" strike="noStrike">
                <a:solidFill>
                  <a:srgbClr val="fc0128"/>
                </a:solidFill>
                <a:latin typeface="Book Antiqua"/>
              </a:rPr>
              <a:t>:   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Must consider these issues vs. redundancy.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Summary of Schema Refinement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6320" y="1599840"/>
            <a:ext cx="89913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If a relation is in BCNF, it is free of redundancies that can be detected using FDs.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315360" indent="-31536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If a relation is not in BCNF, we can try to decompose it into a collection of BCNF relations: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683280" indent="-26280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Lossless-join, dependency preserving decomposition into BCNF </a:t>
            </a:r>
            <a:r>
              <a:rPr b="1" i="1" lang="en-US" sz="2400" spc="-1" strike="noStrike">
                <a:solidFill>
                  <a:srgbClr val="bc3700"/>
                </a:solidFill>
                <a:latin typeface="Book Antiqua"/>
              </a:rPr>
              <a:t>is not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always possible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683280" indent="-26280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Lossless-join decomposition into BCNF </a:t>
            </a:r>
            <a:r>
              <a:rPr b="1" i="1" lang="en-US" sz="2400" spc="-1" strike="noStrike">
                <a:solidFill>
                  <a:srgbClr val="bc3700"/>
                </a:solidFill>
                <a:latin typeface="Book Antiqua"/>
              </a:rPr>
              <a:t>is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always possible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683280" indent="-26280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Lossless-join, dependency preserving decomposition into 3NF </a:t>
            </a:r>
            <a:r>
              <a:rPr b="1" i="1" lang="en-US" sz="2400" spc="-1" strike="noStrike">
                <a:solidFill>
                  <a:srgbClr val="bc3700"/>
                </a:solidFill>
                <a:latin typeface="Book Antiqua"/>
              </a:rPr>
              <a:t>is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always possible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683280" indent="-26280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Decompositions should be carried out and/or re-examined while keeping </a:t>
            </a:r>
            <a:r>
              <a:rPr b="0" i="1" lang="en-US" sz="2400" spc="-1" strike="noStrike">
                <a:solidFill>
                  <a:srgbClr val="005400"/>
                </a:solidFill>
                <a:latin typeface="Book Antiqua"/>
              </a:rPr>
              <a:t>performance requirements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in mind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683280" indent="-26280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Various decompositions of a single schema are possible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Normal Forms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1751040"/>
            <a:ext cx="90676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If a relation is in a certain </a:t>
            </a:r>
            <a:r>
              <a:rPr b="0" i="1" lang="en-US" sz="2800" spc="-1" strike="noStrike">
                <a:solidFill>
                  <a:srgbClr val="fc0128"/>
                </a:solidFill>
                <a:latin typeface="Book Antiqua"/>
              </a:rPr>
              <a:t>normal form</a:t>
            </a:r>
            <a:r>
              <a:rPr b="0" lang="en-US" sz="2800" spc="-1" strike="noStrike">
                <a:solidFill>
                  <a:srgbClr val="fc0128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(</a:t>
            </a:r>
            <a:r>
              <a:rPr b="0" lang="en-US" sz="2800" spc="-1" strike="noStrike">
                <a:solidFill>
                  <a:srgbClr val="438e00"/>
                </a:solidFill>
                <a:latin typeface="Book Antiqua"/>
              </a:rPr>
              <a:t>BCNF, 3NF 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etc.), it is known that certain kinds of redundancies are avoided/minimized.  This can be used to help us decide whether decomposing the relation will help.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Role of FDs in detecting redundancy: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Consider a relation R with 3 attributes, ABC.  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2" marL="1143000" indent="-228600">
              <a:spcBef>
                <a:spcPts val="601"/>
              </a:spcBef>
              <a:buClr>
                <a:srgbClr val="005400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Book Antiqua"/>
              </a:rPr>
              <a:t>Given 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c0128"/>
                </a:solidFill>
                <a:latin typeface="Book Antiqua"/>
              </a:rPr>
              <a:t> BC:  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There is no redundancy here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2" marL="1143000" indent="-228600">
              <a:spcBef>
                <a:spcPts val="601"/>
              </a:spcBef>
              <a:buClr>
                <a:srgbClr val="005400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Book Antiqua"/>
              </a:rPr>
              <a:t>Add B       C:  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Several tuples could have the same B value, and if so, they’ll all have the same C value!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2209680" y="5029200"/>
                <a:ext cx="546120" cy="25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→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First Normal Form (1NF)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c3700"/>
                </a:solidFill>
                <a:latin typeface="Book Antiqua"/>
              </a:rPr>
              <a:t>1NF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:  Each field is an atomic (scalar) value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All relations are in first normal form (1NF)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Some definitions we’ll need to understand the other normal forms: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  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A </a:t>
            </a:r>
            <a:r>
              <a:rPr b="0" i="1" lang="en-US" sz="2400" spc="-1" strike="noStrike" u="sng">
                <a:solidFill>
                  <a:srgbClr val="bc3700"/>
                </a:solidFill>
                <a:uFillTx/>
                <a:latin typeface="Book Antiqua"/>
              </a:rPr>
              <a:t>prime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attribute is an attribute that is an element of one or more CKs for a relation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A </a:t>
            </a:r>
            <a:r>
              <a:rPr b="0" i="1" lang="en-US" sz="2400" spc="-1" strike="noStrike" u="sng">
                <a:solidFill>
                  <a:srgbClr val="bc3700"/>
                </a:solidFill>
                <a:uFillTx/>
                <a:latin typeface="Book Antiqua"/>
              </a:rPr>
              <a:t>trivial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FD is one in which the RHS is contained in the LHS (e.g., AB </a:t>
            </a:r>
            <a:r>
              <a:rPr b="0" lang="en-US" sz="2400" spc="-1" strike="noStrike">
                <a:solidFill>
                  <a:srgbClr val="0054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A or B </a:t>
            </a:r>
            <a:r>
              <a:rPr b="0" lang="en-US" sz="2400" spc="-1" strike="noStrike">
                <a:solidFill>
                  <a:srgbClr val="0054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B).  We will </a:t>
            </a:r>
            <a:r>
              <a:rPr b="0" i="1" lang="en-US" sz="2400" spc="-1" strike="noStrike">
                <a:solidFill>
                  <a:srgbClr val="005400"/>
                </a:solidFill>
                <a:latin typeface="Book Antiqua"/>
              </a:rPr>
              <a:t>ignore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such FDs in this lecture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Second Normal Form (2NF)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2120" y="2286000"/>
            <a:ext cx="7772400" cy="407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Relation R is in </a:t>
            </a:r>
            <a:r>
              <a:rPr b="0" lang="en-US" sz="2800" spc="-1" strike="noStrike">
                <a:solidFill>
                  <a:srgbClr val="fc0128"/>
                </a:solidFill>
                <a:latin typeface="Book Antiqua"/>
              </a:rPr>
              <a:t>2NF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 if, for all FDs X </a:t>
            </a:r>
            <a:r>
              <a:rPr b="0" lang="en-US" sz="2800" spc="-1" strike="noStrike">
                <a:solidFill>
                  <a:srgbClr val="0054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 A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A is prime, or 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X is </a:t>
            </a:r>
            <a:r>
              <a:rPr b="0" i="1" lang="en-US" sz="2400" spc="-1" strike="noStrike">
                <a:solidFill>
                  <a:srgbClr val="005400"/>
                </a:solidFill>
                <a:latin typeface="Book Antiqua"/>
              </a:rPr>
              <a:t>not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a </a:t>
            </a:r>
            <a:r>
              <a:rPr b="0" i="1" lang="en-US" sz="2400" spc="-1" strike="noStrike">
                <a:solidFill>
                  <a:srgbClr val="005400"/>
                </a:solidFill>
                <a:latin typeface="Book Antiqua"/>
              </a:rPr>
              <a:t>proper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subset of any CK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c0128"/>
                </a:solidFill>
                <a:uFillTx/>
                <a:latin typeface="Book Antiqua"/>
              </a:rPr>
              <a:t>Example</a:t>
            </a:r>
            <a:r>
              <a:rPr b="0" lang="en-US" sz="2800" spc="-1" strike="noStrike">
                <a:solidFill>
                  <a:srgbClr val="bc3700"/>
                </a:solidFill>
                <a:latin typeface="Book Antiqua"/>
              </a:rPr>
              <a:t>: </a:t>
            </a:r>
            <a:r>
              <a:rPr b="0" i="1" lang="en-US" sz="2800" spc="-1" strike="noStrike">
                <a:solidFill>
                  <a:srgbClr val="bc3700"/>
                </a:solidFill>
                <a:latin typeface="Book Antiqua"/>
              </a:rPr>
              <a:t>R = (part, wh, qty, wh-addr)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FDs: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{part, wh} </a:t>
            </a:r>
            <a:r>
              <a:rPr b="0" lang="en-US" sz="2400" spc="-1" strike="noStrike">
                <a:solidFill>
                  <a:srgbClr val="0054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qty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wh </a:t>
            </a:r>
            <a:r>
              <a:rPr b="0" lang="en-US" sz="2400" spc="-1" strike="noStrike">
                <a:solidFill>
                  <a:srgbClr val="0054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wh-addr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Is R in 2NF?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2NF (continued)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777240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No, it’s in 1NF only.  Only candidate key is {part, wh}, and second FD violates 2NF.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So what?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We’re storing wh-addr once for each part stored at that warehouse.  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Solution:  R1 (                           ) and 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 R2 (                           )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Are R1, R2 in 2NF?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Third Normal Form  (3NF)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06768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Relation R is in </a:t>
            </a:r>
            <a:r>
              <a:rPr b="0" lang="en-US" sz="2800" spc="-1" strike="noStrike">
                <a:solidFill>
                  <a:srgbClr val="fc0128"/>
                </a:solidFill>
                <a:latin typeface="Book Antiqua"/>
              </a:rPr>
              <a:t>3NF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 if, for all FDs X      A  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X is a superkey for R, or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A is prime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c0128"/>
                </a:solidFill>
                <a:uFillTx/>
                <a:latin typeface="Book Antiqua"/>
              </a:rPr>
              <a:t>Example</a:t>
            </a:r>
            <a:r>
              <a:rPr b="0" i="1" lang="en-US" sz="2800" spc="-1" strike="noStrike">
                <a:solidFill>
                  <a:srgbClr val="fc0128"/>
                </a:solidFill>
                <a:latin typeface="Book Antiqua"/>
              </a:rPr>
              <a:t>:  ED = (enum, ename, sal, dnum, dname, mgr)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FDs: 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enum </a:t>
            </a:r>
            <a:r>
              <a:rPr b="0" lang="en-US" sz="2400" spc="-1" strike="noStrike">
                <a:solidFill>
                  <a:srgbClr val="0054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ename, sal, dnum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dnum </a:t>
            </a:r>
            <a:r>
              <a:rPr b="0" lang="en-US" sz="2400" spc="-1" strike="noStrike">
                <a:solidFill>
                  <a:srgbClr val="0054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dname, mgr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Is ED in 2NF?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3NF?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The problem:                         stored for each employee in a department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6095880" y="1752480"/>
                <a:ext cx="546120" cy="25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→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3NF (continued)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777240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One solution: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646200" indent="-24840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Emp (enum, ename, sal, mgr) 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646200" indent="-24840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Dept (dnum, dname, mgr)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646200" indent="-24840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Removes the redundancy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646200" indent="-24840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A problem remains: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marL="298440" indent="-29844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This is an example of a lossy-join decomposition, which is avoidable in 3NF.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298440" indent="-29844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Use Emp1 (enum, ename, sal,         ) instead of Emp.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Boyce-Codd Normal Form  (BCNF)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0" y="1828440"/>
            <a:ext cx="9067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Relation R is in </a:t>
            </a:r>
            <a:r>
              <a:rPr b="0" lang="en-US" sz="2800" spc="-1" strike="noStrike">
                <a:solidFill>
                  <a:srgbClr val="fc0128"/>
                </a:solidFill>
                <a:latin typeface="Book Antiqua"/>
              </a:rPr>
              <a:t>BCNF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 if, for all FDs X      A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X is a superkey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Example:  R = (branch, cust, banker)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FDs: 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banker </a:t>
            </a:r>
            <a:r>
              <a:rPr b="0" lang="en-US" sz="2400" spc="-1" strike="noStrike">
                <a:solidFill>
                  <a:srgbClr val="0054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branch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cust, branch </a:t>
            </a:r>
            <a:r>
              <a:rPr b="0" lang="en-US" sz="2400" spc="-1" strike="noStrike">
                <a:solidFill>
                  <a:srgbClr val="0054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banker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Is R in 3NF?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BCNF?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Problems:  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Bankers must have at least one customer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Branch stored redundantly for each of a banker’s customers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6400800" y="1981080"/>
                <a:ext cx="546120" cy="25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→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BCNF (continued)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777240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Decomposition:  R1 (banker, branch) and R2 (cust, banker)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713160" indent="-27432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avoids redundancy and other problems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713160" indent="-27432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A problem remains: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marL="329040" indent="-32904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In this case, no dependency-preserving decomposition into BCNF is possible.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1-16T23:03:36Z</dcterms:created>
  <dc:creator/>
  <dc:description/>
  <dc:language>en-US</dc:language>
  <cp:lastModifiedBy>Donated by Intel</cp:lastModifiedBy>
  <cp:lastPrinted>2000-01-14T17:46:28Z</cp:lastPrinted>
  <dcterms:modified xsi:type="dcterms:W3CDTF">2000-01-14T17:46:34Z</dcterms:modified>
  <cp:revision>96</cp:revision>
  <dc:subject>Database Management Systems</dc:subject>
  <dc:title>Schema Refinement and Normalization</dc:title>
</cp:coreProperties>
</file>