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7EC1-813E-46D4-8F09-66FBA550446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A8EB-A590-4B7E-AD3F-95E6A3DAE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BB90-A8FB-4F38-8098-4FED52B6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BAB7-BDFE-4489-B2BA-806433444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66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372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66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372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47AA-859C-4864-BE1D-BE991132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866D-5EF4-4C9F-B798-FC8F75F0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0C95-B2B2-49F8-A0E2-A3F010F4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0631-7A9F-453C-B1E4-B6D71AFC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D602-F350-44BC-AFF5-63882642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41868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1BF5-8084-4F2E-A7D5-27FEAC82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524B-CADF-4A86-ABD7-3E52A1DE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723B-14BE-48E8-873F-6DE7A3E0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5CF6-6748-4498-AEA7-40E08126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0B49-E0CF-4F53-9081-43AF37576C91}" type="slidenum"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80880" y="209520"/>
            <a:ext cx="1525680" cy="1525680"/>
            <a:chOff x="380880" y="209520"/>
            <a:chExt cx="1525680" cy="1525680"/>
          </a:xfrm>
        </p:grpSpPr>
        <p:sp>
          <p:nvSpPr>
            <p:cNvPr id="4" name=""/>
            <p:cNvSpPr/>
            <p:nvPr/>
          </p:nvSpPr>
          <p:spPr>
            <a:xfrm>
              <a:off x="533520" y="361800"/>
              <a:ext cx="1220760" cy="1220760"/>
            </a:xfrm>
            <a:custGeom>
              <a:avLst/>
              <a:gdLst/>
              <a:ahLst/>
              <a:rect l="l" t="t" r="r" b="b"/>
              <a:pathLst>
                <a:path w="769" h="769">
                  <a:moveTo>
                    <a:pt x="384" y="0"/>
                  </a:moveTo>
                  <a:lnTo>
                    <a:pt x="0" y="384"/>
                  </a:lnTo>
                  <a:lnTo>
                    <a:pt x="384" y="768"/>
                  </a:lnTo>
                  <a:lnTo>
                    <a:pt x="768" y="384"/>
                  </a:lnTo>
                  <a:lnTo>
                    <a:pt x="384" y="0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380880" y="209520"/>
              <a:ext cx="1525680" cy="1525680"/>
              <a:chOff x="380880" y="209520"/>
              <a:chExt cx="1525680" cy="1525680"/>
            </a:xfrm>
          </p:grpSpPr>
          <p:sp>
            <p:nvSpPr>
              <p:cNvPr id="6" name=""/>
              <p:cNvSpPr/>
              <p:nvPr/>
            </p:nvSpPr>
            <p:spPr>
              <a:xfrm>
                <a:off x="114300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0" y="96"/>
                    </a:moveTo>
                    <a:lnTo>
                      <a:pt x="0" y="0"/>
                    </a:lnTo>
                    <a:lnTo>
                      <a:pt x="480" y="480"/>
                    </a:lnTo>
                    <a:lnTo>
                      <a:pt x="384" y="480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38088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480" y="0"/>
                    </a:moveTo>
                    <a:lnTo>
                      <a:pt x="480" y="96"/>
                    </a:lnTo>
                    <a:lnTo>
                      <a:pt x="96" y="480"/>
                    </a:lnTo>
                    <a:lnTo>
                      <a:pt x="0" y="480"/>
                    </a:lnTo>
                    <a:lnTo>
                      <a:pt x="48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300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384" y="0"/>
                    </a:moveTo>
                    <a:lnTo>
                      <a:pt x="480" y="0"/>
                    </a:lnTo>
                    <a:lnTo>
                      <a:pt x="0" y="480"/>
                    </a:lnTo>
                    <a:lnTo>
                      <a:pt x="0" y="384"/>
                    </a:lnTo>
                    <a:lnTo>
                      <a:pt x="384" y="0"/>
                    </a:ln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8088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96" y="0"/>
                    </a:moveTo>
                    <a:lnTo>
                      <a:pt x="480" y="384"/>
                    </a:lnTo>
                    <a:lnTo>
                      <a:pt x="480" y="480"/>
                    </a:ln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2" name=""/>
          <p:cNvSpPr/>
          <p:nvPr/>
        </p:nvSpPr>
        <p:spPr>
          <a:xfrm>
            <a:off x="8319600" y="6471720"/>
            <a:ext cx="1058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F085-CFA4-4F41-A69B-544CBD20F80D}" type="slidenum">
              <a:rPr b="0" lang="en-US" sz="1400" spc="-1" strike="noStrike">
                <a:solidFill>
                  <a:srgbClr val="0054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Functional Dependencie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ummary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917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E/R </a:t>
            </a:r>
            <a:r>
              <a:rPr b="0" lang="en-US" sz="2800" spc="-1" strike="noStrike">
                <a:solidFill>
                  <a:srgbClr val="0054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Relational translation can lead to relational schemas with </a:t>
            </a:r>
            <a:r>
              <a:rPr b="0" i="1" lang="en-US" sz="2800" spc="-1" strike="noStrike">
                <a:solidFill>
                  <a:srgbClr val="bc3700"/>
                </a:solidFill>
                <a:latin typeface="Book Antiqua"/>
              </a:rPr>
              <a:t>redundancy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(wasted space, anomalies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bc3700"/>
                </a:solidFill>
                <a:uFillTx/>
                <a:latin typeface="Book Antiqua"/>
              </a:rPr>
              <a:t>Functional dependencie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escribe connections among </a:t>
            </a:r>
            <a:r>
              <a:rPr b="0" i="1" lang="en-US" sz="2400" spc="-1" strike="noStrike">
                <a:solidFill>
                  <a:srgbClr val="bc3700"/>
                </a:solidFill>
                <a:latin typeface="Book Antiqua"/>
              </a:rPr>
              <a:t>attribute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llow us to </a:t>
            </a:r>
            <a:r>
              <a:rPr b="0" i="1" lang="en-US" sz="2400" spc="-1" strike="noStrike">
                <a:solidFill>
                  <a:srgbClr val="bc3700"/>
                </a:solidFill>
                <a:latin typeface="Book Antiqua"/>
              </a:rPr>
              <a:t>precisely describ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the redundancy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llow us to eliminate it algorithmically by </a:t>
            </a:r>
            <a:r>
              <a:rPr b="0" i="1" lang="en-US" sz="2400" spc="-1" strike="noStrike">
                <a:solidFill>
                  <a:srgbClr val="bc3700"/>
                </a:solidFill>
                <a:latin typeface="Book Antiqua"/>
              </a:rPr>
              <a:t>decomposing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the relation with the redundancy (more next time…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e can use given FDs to </a:t>
            </a:r>
            <a:r>
              <a:rPr b="0" i="1" lang="en-US" sz="2800" spc="-1" strike="noStrike">
                <a:solidFill>
                  <a:srgbClr val="bc3700"/>
                </a:solidFill>
                <a:latin typeface="Book Antiqua"/>
              </a:rPr>
              <a:t>deriv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others (closure of a set of dependencies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e can determine </a:t>
            </a:r>
            <a:r>
              <a:rPr b="0" i="1" lang="en-US" sz="2800" spc="-1" strike="noStrike">
                <a:solidFill>
                  <a:srgbClr val="bc3700"/>
                </a:solidFill>
                <a:latin typeface="Book Antiqua"/>
              </a:rPr>
              <a:t>candidate key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(attribute closure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Motivation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E/R </a:t>
            </a:r>
            <a:r>
              <a:rPr b="0" lang="en-US" sz="2800" spc="-1" strike="noStrike">
                <a:solidFill>
                  <a:srgbClr val="0054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Relational translation </a:t>
            </a:r>
            <a:r>
              <a:rPr b="0" i="1" lang="en-US" sz="2800" spc="-1" strike="noStrike">
                <a:solidFill>
                  <a:srgbClr val="bc3700"/>
                </a:solidFill>
                <a:latin typeface="Book Antiqua"/>
              </a:rPr>
              <a:t>problem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ften discover more “detailed” constraints after translation (upcoming example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ome relationships not easily captured in E/R diagrams: 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for a particular star and movie, there is exactly one studio: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ometimes attributes were misplaced in an E/R diagram (Section 15.3.3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1" name=""/>
          <p:cNvSpPr/>
          <p:nvPr/>
        </p:nvSpPr>
        <p:spPr>
          <a:xfrm>
            <a:off x="2743200" y="4267080"/>
            <a:ext cx="838080" cy="368280"/>
          </a:xfrm>
          <a:prstGeom prst="rect">
            <a:avLst/>
          </a:prstGeom>
          <a:noFill/>
          <a:ln w="324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Book Antiqua"/>
              </a:rPr>
              <a:t>Star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18720" y="4267080"/>
            <a:ext cx="631800" cy="368280"/>
          </a:xfrm>
          <a:prstGeom prst="rect">
            <a:avLst/>
          </a:prstGeom>
          <a:noFill/>
          <a:ln w="324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Book Antiqua"/>
              </a:rPr>
              <a:t>Film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3962520"/>
            <a:ext cx="1066680" cy="8380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Book Antiqua"/>
              </a:rPr>
              <a:t>Contracts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14800" y="5105520"/>
            <a:ext cx="914400" cy="368280"/>
          </a:xfrm>
          <a:prstGeom prst="rect">
            <a:avLst/>
          </a:prstGeom>
          <a:noFill/>
          <a:ln w="324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Book Antiqua"/>
              </a:rPr>
              <a:t>Studio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4343400"/>
            <a:ext cx="381240" cy="0"/>
          </a:xfrm>
          <a:prstGeom prst="line">
            <a:avLst/>
          </a:prstGeom>
          <a:ln w="1260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95680" y="4800600"/>
            <a:ext cx="0" cy="304920"/>
          </a:xfrm>
          <a:prstGeom prst="line">
            <a:avLst/>
          </a:prstGeom>
          <a:ln w="1260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343400"/>
            <a:ext cx="380880" cy="0"/>
          </a:xfrm>
          <a:prstGeom prst="line">
            <a:avLst/>
          </a:prstGeom>
          <a:ln w="1260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The Evils of Redundancy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8991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Redundancy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s at the root of these problem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98400" indent="-2685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Book Antiqua"/>
              </a:rPr>
              <a:t>redundant storage, insert/delete/update anomalie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22200" indent="-3222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ntegrity constraints, in particular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functional dependencie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, can be used to identify schemas with such problems and to suggest refinement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2200" indent="-3222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Main refinement technique: 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decomposition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(replacing ABCD with, say, AB and BCD, or ACD and ABD)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2200" indent="-3222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Decomposition should be used judiciously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98400" indent="-2685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s there a reason to decompose a relation?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98400" indent="-2685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hat problems (if any) does the decomposition cause?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Functional Dependencies (FDs)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8991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 </a:t>
            </a:r>
            <a:r>
              <a:rPr b="0" lang="en-US" sz="2800" spc="-1" strike="noStrike" u="sng">
                <a:solidFill>
                  <a:srgbClr val="005400"/>
                </a:solidFill>
                <a:uFillTx/>
                <a:latin typeface="Book Antiqua"/>
              </a:rPr>
              <a:t>functional dependency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X      Y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holds over relation R if, for every allowable instance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r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of R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90840" indent="-2656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(t1    r,  t2    r, t1.X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=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t2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.X)  implies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t1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.Y =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t2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.Y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90840" indent="-2656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.e., given two tuples in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 if the X values agree, then the Y values must also agree.  (X and Y are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set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of attributes.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18960" indent="-3189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n FD is a statement about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all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allowable relation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90840" indent="-2656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dentified by DBA based on semantics of application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90840" indent="-2656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Given some allowable instance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r1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of R, we can check if it violates some FD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f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 but we cannot tell if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f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holds over R!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18960" indent="-3189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K is a </a:t>
            </a:r>
            <a:r>
              <a:rPr b="0" i="1" lang="en-US" sz="2800" spc="-1" strike="noStrike">
                <a:solidFill>
                  <a:srgbClr val="bc3700"/>
                </a:solidFill>
                <a:latin typeface="Book Antiqua"/>
              </a:rPr>
              <a:t>candidate key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for R means that K      R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18960" indent="-3189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K      R means that K is a </a:t>
            </a:r>
            <a:r>
              <a:rPr b="0" i="1" lang="en-US" sz="2800" spc="-1" strike="noStrike">
                <a:solidFill>
                  <a:srgbClr val="bc3700"/>
                </a:solidFill>
                <a:latin typeface="Book Antiqua"/>
              </a:rPr>
              <a:t>superkey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724280" y="1722600"/>
                <a:ext cx="15606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143000" y="2666880"/>
                <a:ext cx="7732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057400" y="2666880"/>
                <a:ext cx="7732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400800" y="5638680"/>
                <a:ext cx="15778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85800" y="6172200"/>
                <a:ext cx="15606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Example:  Constraints on Entity Set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0676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onsider the relation schema for Hourly_Emp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Hourly_Emps (</a:t>
            </a:r>
            <a:r>
              <a:rPr b="0" i="1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ssn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, name, lot, rating, hrly_wage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hrs_worke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Notation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: 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e will denote this relation schema by listing the attributes:  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SNLRWH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his is really the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se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of attributes {S,N,L,R,W,H}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ometimes, we will refer to all attributes of a relation by using the relation name (e.g., Hourly_Emps for SNLRWH)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ome FDs on Hourly_Emp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ssn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is a candidate key: 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        SNLRWH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rating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determines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hrly_wages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: 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R       W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343400" y="5410080"/>
                <a:ext cx="15778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5257800" y="5837400"/>
                <a:ext cx="157788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Example (Contd.)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Problems due to R     W :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35480" indent="-2829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Update anomaly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: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an            we change W in just             the 1st  tuple of SNLRWH?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35480" indent="-2829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Insertion anomaly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: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hat if we want to record the fact that rating = 6 implies wages = 10?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35480" indent="-2829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Deletion anomaly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: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f we delete all employees with rating 5, we lose the information about the wage for rating 5! 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819520" y="1676520"/>
                <a:ext cx="15778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2" name=""/>
          <p:cNvGraphicFramePr/>
          <p:nvPr/>
        </p:nvGraphicFramePr>
        <p:xfrm>
          <a:off x="4048200" y="203040"/>
          <a:ext cx="5025960" cy="261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8200" y="203040"/>
                    <a:ext cx="5025960" cy="26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5319720" y="3048120"/>
          <a:ext cx="3822840" cy="2276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19720" y="3048120"/>
                    <a:ext cx="3822840" cy="22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7594560" y="5405400"/>
          <a:ext cx="1052640" cy="12985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94560" y="5405400"/>
                    <a:ext cx="1052640" cy="12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5104440" y="5334120"/>
            <a:ext cx="2242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Hourly_Emps2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55440" y="6308640"/>
            <a:ext cx="1145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Wages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Reasoning About FD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0676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Given some FDs, we can usually infer additional FD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S       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 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R        W 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mplies   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S        W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29040" indent="-329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n FD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f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is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implied by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 set of FDs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F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if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f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 holds whenever all FDs in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F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hold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=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closure of F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s the set of all FDs that are implied by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F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29040" indent="-329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rmstrong’s Axioms (X, Y, Z are sets of attributes)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438e00"/>
                </a:solidFill>
                <a:uFillTx/>
                <a:latin typeface="Book Antiqua"/>
              </a:rPr>
              <a:t>Reflexivity</a:t>
            </a:r>
            <a:r>
              <a:rPr b="0" lang="en-US" sz="2400" spc="-1" strike="noStrike">
                <a:solidFill>
                  <a:srgbClr val="438e00"/>
                </a:solidFill>
                <a:latin typeface="Book Antiqua"/>
              </a:rPr>
              <a:t>: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f  Y       X,  then   X        Y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438e00"/>
                </a:solidFill>
                <a:uFillTx/>
                <a:latin typeface="Book Antiqua"/>
              </a:rPr>
              <a:t>Augmentation</a:t>
            </a:r>
            <a:r>
              <a:rPr b="0" lang="en-US" sz="2400" spc="-1" strike="noStrike">
                <a:solidFill>
                  <a:srgbClr val="438e00"/>
                </a:solidFill>
                <a:latin typeface="Book Antiqua"/>
              </a:rPr>
              <a:t>: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f  X       Y,  then   XZ         YZ   for any Z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438e00"/>
                </a:solidFill>
                <a:uFillTx/>
                <a:latin typeface="Book Antiqua"/>
              </a:rPr>
              <a:t>Transitivity</a:t>
            </a:r>
            <a:r>
              <a:rPr b="0" lang="en-US" sz="2400" spc="-1" strike="noStrike">
                <a:solidFill>
                  <a:srgbClr val="438e00"/>
                </a:solidFill>
                <a:latin typeface="Book Antiqua"/>
              </a:rPr>
              <a:t>: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f  X       Y  and  Y        Z,  then   X        Z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29040" indent="-329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ese are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sound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and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complete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nference rules for FDs!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990720" y="2057400"/>
                <a:ext cx="15778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209680" y="2057400"/>
                <a:ext cx="15782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876920" y="2057400"/>
                <a:ext cx="15778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762120" y="3352680"/>
                <a:ext cx="83808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048120" y="4343400"/>
                <a:ext cx="14731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Í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029200" y="4343400"/>
                <a:ext cx="15778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429000" y="4770360"/>
                <a:ext cx="15778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715000" y="4770360"/>
                <a:ext cx="15778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124080" y="5227560"/>
                <a:ext cx="15782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952880" y="5227560"/>
                <a:ext cx="15782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010280" y="5227560"/>
                <a:ext cx="15782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Reasoning About FDs  (Contd.)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0676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ouple of additional rules (that follow from AA)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38e00"/>
                </a:solidFill>
                <a:latin typeface="Book Antiqua"/>
              </a:rPr>
              <a:t>Union</a:t>
            </a:r>
            <a:r>
              <a:rPr b="0" lang="en-US" sz="2400" spc="-1" strike="noStrike">
                <a:solidFill>
                  <a:srgbClr val="438e00"/>
                </a:solidFill>
                <a:latin typeface="Book Antiqua"/>
              </a:rPr>
              <a:t>: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f X       Y  and  X        Z,   then  X          YZ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38e00"/>
                </a:solidFill>
                <a:latin typeface="Book Antiqua"/>
              </a:rPr>
              <a:t>Decomposition</a:t>
            </a:r>
            <a:r>
              <a:rPr b="0" lang="en-US" sz="2400" spc="-1" strike="noStrike">
                <a:solidFill>
                  <a:srgbClr val="438e00"/>
                </a:solidFill>
                <a:latin typeface="Book Antiqua"/>
              </a:rPr>
              <a:t>: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f X         YZ,   then  X        Y  and  X        Z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Example:   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Contracts(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cid,sid,jid,did,pid,qty,value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)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, and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 is the key:  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C         CSJDPQV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Project purchases each part using single contract: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 JP        C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ept purchases at most one part from a supplier: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 SD        P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JP      C,  C       CSJDPQV   imply   JP       CSJDPQV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D      P   implies   SDJ      JP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DJ      JP,   JP      CSJDPQV   imply   SDJ       CSJDPQV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438280" y="2103480"/>
                <a:ext cx="15782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191120" y="2103480"/>
                <a:ext cx="15778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324480" y="2103480"/>
                <a:ext cx="15782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581280" y="2560680"/>
                <a:ext cx="15782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867280" y="2560680"/>
                <a:ext cx="15782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701120" y="2565360"/>
                <a:ext cx="135864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048120" y="3505320"/>
                <a:ext cx="157788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7996320" y="4008600"/>
                <a:ext cx="546120" cy="25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8072280" y="4465800"/>
                <a:ext cx="546120" cy="25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833400" y="4923000"/>
                <a:ext cx="546120" cy="25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128680" y="4923000"/>
                <a:ext cx="546120" cy="25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167520" y="4923000"/>
                <a:ext cx="546120" cy="25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985680" y="5456160"/>
                <a:ext cx="54612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957480" y="5456160"/>
                <a:ext cx="54612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062000" y="5989680"/>
                <a:ext cx="54612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585880" y="5989680"/>
                <a:ext cx="54612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6777000" y="5989680"/>
                <a:ext cx="54612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Reasoning About FDs  (Contd.)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0676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omputing the closure of a set of FDs can be expensive.  (Size of closure is exponential in # attrs!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Often, we just want to check if a given FD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X     Y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s in the closure of a set of FDs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F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.  An efficient check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ompute </a:t>
            </a: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attribute closure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f X (denoted        ) wrt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F: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108440" indent="-221400">
              <a:spcBef>
                <a:spcPts val="601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et of all attributes A such that X       A is in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108440" indent="-221400">
              <a:spcBef>
                <a:spcPts val="601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here is a linear time algorithm to compute this.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heck if Y is in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Does F = {A      B,  B      C,  C D      E }  imply  A      E?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.e, 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is  A      E  in the closure       ?  Equivalently, is E in       ?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391520" y="2666880"/>
                <a:ext cx="54612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172200" y="3378240"/>
                <a:ext cx="16765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710320" y="4008600"/>
                <a:ext cx="546120" cy="25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895480" y="4673520"/>
                <a:ext cx="17892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7086600" y="3835440"/>
                <a:ext cx="152388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8153280" y="5791320"/>
                <a:ext cx="6858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648320" y="5664240"/>
                <a:ext cx="152388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357280" y="5380200"/>
                <a:ext cx="546120" cy="25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576600" y="5380200"/>
                <a:ext cx="546120" cy="25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253120" y="5380200"/>
                <a:ext cx="546120" cy="25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767720" y="5380200"/>
                <a:ext cx="546120" cy="25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976400" y="5837400"/>
                <a:ext cx="546120" cy="25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16T23:03:36Z</dcterms:created>
  <dc:creator/>
  <dc:description/>
  <dc:language>en-US</dc:language>
  <cp:lastModifiedBy>Donated by Intel</cp:lastModifiedBy>
  <cp:lastPrinted>2000-01-11T19:43:24Z</cp:lastPrinted>
  <dcterms:modified xsi:type="dcterms:W3CDTF">2000-01-11T19:49:14Z</dcterms:modified>
  <cp:revision>94</cp:revision>
  <dc:subject>Database Management Systems</dc:subject>
  <dc:title>Functional Dependencies</dc:title>
</cp:coreProperties>
</file>