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480" y="0"/>
            <a:ext cx="300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3760" y="4313160"/>
            <a:ext cx="5091120" cy="40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slides for this text are organized into several modules. Each lecture contains about enough material for a 1.25 hour class period.  (The time estimate is very approximate--it will vary with the instructor, and lectures also differ in length; so use this as a rough guideline.)  This covers Lectures 1 and 2  (of 6) in Module (5)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1):  Introduction (DBMS, Relational Mode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2):  Storage and File Organizations (Disks, Buffering, Indexe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3):  Database Concepts (Relational Queries, DDL/ICs, Views and Securit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4):  Relational Implementation (Query Evaluation, Optimiz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5): Database Design (ER Model, Normalization, Physical Design, Tuning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6): Transaction Processing (Concurrency Control, Recover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7): Advanced Top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30480" y="0"/>
            <a:ext cx="300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3760" y="4313160"/>
            <a:ext cx="50911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30480" y="0"/>
            <a:ext cx="300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3760" y="4313160"/>
            <a:ext cx="50911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30480" y="0"/>
            <a:ext cx="300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3760" y="4313160"/>
            <a:ext cx="50911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30480" y="0"/>
            <a:ext cx="300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3760" y="4313160"/>
            <a:ext cx="50911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30480" y="0"/>
            <a:ext cx="300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3760" y="4313160"/>
            <a:ext cx="50911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"/>
          <p:cNvSpPr/>
          <p:nvPr/>
        </p:nvSpPr>
        <p:spPr>
          <a:xfrm>
            <a:off x="8321400" y="6473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B729-5306-44AF-A783-45AE3D02490C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lating E/R Diagrams into Relational Schemas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1774800" y="4708440"/>
            <a:ext cx="5654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Querying Multiple Rel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does the following query compute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7" name=""/>
          <p:cNvSpPr/>
          <p:nvPr/>
        </p:nvSpPr>
        <p:spPr>
          <a:xfrm>
            <a:off x="1759320" y="2271600"/>
            <a:ext cx="5093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name, E.ci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tudents S, Enrolled 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=E.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.grade=“A”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70600" y="5537160"/>
          <a:ext cx="289872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0600" y="5537160"/>
                    <a:ext cx="28987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029200" y="3581280"/>
          <a:ext cx="3489480" cy="183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581280"/>
                    <a:ext cx="34894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58640" y="3643200"/>
            <a:ext cx="434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iven the following instance of Enrolled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4000" y="562464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 get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181480"/>
            <a:ext cx="32004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/R to Relations:  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Entity se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l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M-N Relationship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lation (keys of related entities plus relationship attribute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1-M or M-1 Relationship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Table for entity with key constraint gets key of other table plus relationship attribut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1-1 Relationship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Table for one entity gets key of the other plus relationship attribut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owerful and natural relational query languages exis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resultant relational schema may have some nasty properties…. We’ll soon learn how to fix thes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360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lating Entity Se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693432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clude all attributes of the entity set and use the entity set’s key as the primary ke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40120" indent="-24012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Examp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The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Auth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tity se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81280"/>
            <a:ext cx="6477120" cy="222264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uthor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nam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30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hon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ddress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OB  DATE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name, phone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lating M-N Relationship Se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ttributes of the relation must include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ys for each participating entity set  (as foreign keys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40040" indent="-20772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set of attributes forms a 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 the relatio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 descriptive attribut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Ignore participation constraints for now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4559400" y="1371600"/>
            <a:ext cx="4583160" cy="447804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rote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bn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11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3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hone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one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A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isbn, name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hone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isbn)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Books (isbn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name, phone)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Authors (name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hone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Translating M-1 or 1-M Relationship Sets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65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y of unconstrained entity goes into relation for entity with the key constrai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scriptive attributes of relationship also go into relation for entity with the key constrai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Examp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Book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able and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“publish”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lationship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1252080" y="4114800"/>
            <a:ext cx="7220880" cy="22233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 Books (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isbn  CHAR(11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title  CHAR(2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ubname CHAR(25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ubdate  DATE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PRIMARY KEY  (isbn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(pubname) REFERENCES Publishers (name)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lating 1-1 Relationship Se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65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y of one entity goes into relation for other entity, along with the descriptive attributes of relationship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oice is up to DBA and is application-depende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Examp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Publishers, Editor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ables and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“edits”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lationship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962520"/>
            <a:ext cx="3581280" cy="191844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 Publishers (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name  CHAR(25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address  CHAR(2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URL CHAR(50), 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PRIMARY KEY (name)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3581280"/>
            <a:ext cx="4572000" cy="253332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Editors (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name CHAR(3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phone CHAR(2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pubname CHAR(25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hours INTEGER,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PRIMARY KEY (name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FOREIGN KEY (pubname)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REFERENCES Publishers (name)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)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articipation Constraint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pture using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NOT NUL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tity with the participation constraint also has a key constraint for the same relationship 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AN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 for the constrained entity contains a foreign key for the related ent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Exampl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Books-Publish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participation constraint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28520" indent="-205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Books (….pubname CHAR(25)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NOT NULL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, ….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Authors-Wro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participation constraint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28520" indent="-205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Needs an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ASSERTIO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TRIGGER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(later in course… needs SQL!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Publisher-Edit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participation constraint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28520" indent="-205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-design Publishers/Editors and use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NOT NULL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000" spc="-1" strike="noStrike" u="sng">
                <a:solidFill>
                  <a:srgbClr val="005400"/>
                </a:solidFill>
                <a:uFillTx/>
                <a:latin typeface="Book Antiqua"/>
              </a:rPr>
              <a:t>OR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use an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ASSERTIO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TRIGGER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lating Weak Entity Se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ak entity set and identifying relationship set are translated into a single tab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hen the owner (strong) entity is deleted, all owned weak entities must also be delet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1184040" y="3352680"/>
            <a:ext cx="7218720" cy="264924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pendents 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name  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CHAR(30)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dname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CHAR(2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age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aname, dname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FOREIGN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aname)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Authors(name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CASC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Query Languag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major strength of the relational model: supports simple, powerful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query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data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ies can be written intuitively, and the DBMS is responsible for efficient evaluat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key: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precise semantic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 relational queri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ws the optimizer to extensively re-order operations, and still ensure that the answer does not chang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SQL Query Languag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find all 18 year old students, we can writ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1338480" y="2819520"/>
            <a:ext cx="2409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*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age=18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2560" y="4419720"/>
            <a:ext cx="759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o find just names and logins, replace the first line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8120" y="4952880"/>
            <a:ext cx="289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name, logi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62520" y="2819520"/>
          <a:ext cx="4381560" cy="158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19520"/>
                    <a:ext cx="438156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8305920" y="2819520"/>
            <a:ext cx="0" cy="129528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0:12Z</dcterms:created>
  <dc:creator/>
  <dc:description/>
  <dc:language>en-US</dc:language>
  <cp:lastModifiedBy>Donated by Intel</cp:lastModifiedBy>
  <cp:lastPrinted>2000-01-10T17:39:35Z</cp:lastPrinted>
  <dcterms:modified xsi:type="dcterms:W3CDTF">2000-01-10T17:39:49Z</dcterms:modified>
  <cp:revision>72</cp:revision>
  <dc:subject>Database Management Systems</dc:subject>
  <dc:title>The Relational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594/99au/</vt:lpwstr>
  </property>
  <property fmtid="{D5CDD505-2E9C-101B-9397-08002B2CF9AE}" pid="9" name="LinkColor">
    <vt:r8>16711782</vt:r8>
  </property>
  <property fmtid="{D5CDD505-2E9C-101B-9397-08002B2CF9AE}" pid="10" name="MailAddress">
    <vt:lpwstr>vandenbe@cs.washington.edu</vt:lpwstr>
  </property>
  <property fmtid="{D5CDD505-2E9C-101B-9397-08002B2CF9AE}" pid="11" name="NavBtnPos">
    <vt:r8>1</vt:r8>
  </property>
  <property fmtid="{D5CDD505-2E9C-101B-9397-08002B2CF9AE}" pid="12" name="NetShow3.0FTPUser">
    <vt:lpwstr>Anonymous</vt:lpwstr>
  </property>
  <property fmtid="{D5CDD505-2E9C-101B-9397-08002B2CF9AE}" pid="13" name="NetShow3.0FtpURL">
    <vt:lpwstr>c:\3</vt:lpwstr>
  </property>
  <property fmtid="{D5CDD505-2E9C-101B-9397-08002B2CF9AE}" pid="14" name="NetShow3.0ImageHeight">
    <vt:r8>360</vt:r8>
  </property>
  <property fmtid="{D5CDD505-2E9C-101B-9397-08002B2CF9AE}" pid="15" name="NetShow3.0ImageQuality">
    <vt:r8>50</vt:r8>
  </property>
  <property fmtid="{D5CDD505-2E9C-101B-9397-08002B2CF9AE}" pid="16" name="NetShow3.0ImageType">
    <vt:r8>0</vt:r8>
  </property>
  <property fmtid="{D5CDD505-2E9C-101B-9397-08002B2CF9AE}" pid="17" name="NetShow3.0ImageWidth">
    <vt:r8>480</vt:r8>
  </property>
  <property fmtid="{D5CDD505-2E9C-101B-9397-08002B2CF9AE}" pid="18" name="NetShow3.0NSEFile">
    <vt:lpwstr>C:\WINDOWS\Desktop\DON'T DELETE (DL Stuff)\presenter_settings.NSE</vt:lpwstr>
  </property>
  <property fmtid="{D5CDD505-2E9C-101B-9397-08002B2CF9AE}" pid="19" name="NetShow3.0SubURL">
    <vt:lpwstr/>
  </property>
  <property fmtid="{D5CDD505-2E9C-101B-9397-08002B2CF9AE}" pid="20" name="Other">
    <vt:lpwstr/>
  </property>
  <property fmtid="{D5CDD505-2E9C-101B-9397-08002B2CF9AE}" pid="21" name="OutputDir">
    <vt:lpwstr>C:\WINDOWS\Desktop</vt:lpwstr>
  </property>
  <property fmtid="{D5CDD505-2E9C-101B-9397-08002B2CF9AE}" pid="22" name="ScreenSize">
    <vt:r8>4</vt:r8>
  </property>
  <property fmtid="{D5CDD505-2E9C-101B-9397-08002B2CF9AE}" pid="23" name="ScreenUsage">
    <vt:r8>3</vt:r8>
  </property>
  <property fmtid="{D5CDD505-2E9C-101B-9397-08002B2CF9AE}" pid="24" name="ShowNotes">
    <vt:bool>0</vt:bool>
  </property>
  <property fmtid="{D5CDD505-2E9C-101B-9397-08002B2CF9AE}" pid="25" name="TemplateType">
    <vt:r8>1</vt:r8>
  </property>
  <property fmtid="{D5CDD505-2E9C-101B-9397-08002B2CF9AE}" pid="26" name="TextColor">
    <vt:r8>0</vt:r8>
  </property>
  <property fmtid="{D5CDD505-2E9C-101B-9397-08002B2CF9AE}" pid="27" name="TransparentButton">
    <vt:r8>0</vt:r8>
  </property>
  <property fmtid="{D5CDD505-2E9C-101B-9397-08002B2CF9AE}" pid="28" name="UseBrowserColor">
    <vt:bool>1</vt:bool>
  </property>
  <property fmtid="{D5CDD505-2E9C-101B-9397-08002B2CF9AE}" pid="29" name="VisitedColor">
    <vt:r8>10040268</vt:r8>
  </property>
</Properties>
</file>