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23760" y="4312800"/>
            <a:ext cx="5091120" cy="40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30480" y="0"/>
            <a:ext cx="3009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30480" y="8626320"/>
            <a:ext cx="3009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23760" y="4312800"/>
            <a:ext cx="50911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930480" y="0"/>
            <a:ext cx="3009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30480" y="8626320"/>
            <a:ext cx="3009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23760" y="4312800"/>
            <a:ext cx="50911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930480" y="0"/>
            <a:ext cx="3009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30480" y="8626320"/>
            <a:ext cx="3009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23760" y="4312800"/>
            <a:ext cx="50911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930480" y="0"/>
            <a:ext cx="3009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30480" y="8626320"/>
            <a:ext cx="3009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23760" y="4312800"/>
            <a:ext cx="508968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930480" y="0"/>
            <a:ext cx="3009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30480" y="8626320"/>
            <a:ext cx="3009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23760" y="4312800"/>
            <a:ext cx="50911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930480" y="0"/>
            <a:ext cx="3009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30480" y="8626320"/>
            <a:ext cx="3009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23760" y="4312800"/>
            <a:ext cx="50911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930480" y="0"/>
            <a:ext cx="3009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30480" y="8626320"/>
            <a:ext cx="3009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23760" y="4312800"/>
            <a:ext cx="50911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30480" y="0"/>
            <a:ext cx="3009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30480" y="8626320"/>
            <a:ext cx="3009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23760" y="4312800"/>
            <a:ext cx="50911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929040" y="0"/>
            <a:ext cx="30114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29040" y="8626320"/>
            <a:ext cx="30114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30081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23760" y="4312800"/>
            <a:ext cx="50911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30480" y="0"/>
            <a:ext cx="3009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30480" y="8626320"/>
            <a:ext cx="3009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23760" y="4312800"/>
            <a:ext cx="50911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930480" y="0"/>
            <a:ext cx="3009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30480" y="8626320"/>
            <a:ext cx="3009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23760" y="4312800"/>
            <a:ext cx="50911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930480" y="0"/>
            <a:ext cx="3009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30480" y="8626320"/>
            <a:ext cx="3009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23760" y="4312800"/>
            <a:ext cx="50911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30480" y="0"/>
            <a:ext cx="3009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30480" y="8626320"/>
            <a:ext cx="3009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23760" y="4312800"/>
            <a:ext cx="50911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66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372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66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372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209520"/>
            <a:ext cx="1525680" cy="1525680"/>
            <a:chOff x="380880" y="209520"/>
            <a:chExt cx="1525680" cy="1525680"/>
          </a:xfrm>
        </p:grpSpPr>
        <p:sp>
          <p:nvSpPr>
            <p:cNvPr id="1" name=""/>
            <p:cNvSpPr/>
            <p:nvPr/>
          </p:nvSpPr>
          <p:spPr>
            <a:xfrm>
              <a:off x="533520" y="36180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209520"/>
              <a:ext cx="1525680" cy="1525680"/>
              <a:chOff x="380880" y="209520"/>
              <a:chExt cx="1525680" cy="1525680"/>
            </a:xfrm>
          </p:grpSpPr>
          <p:sp>
            <p:nvSpPr>
              <p:cNvPr id="3" name=""/>
              <p:cNvSpPr/>
              <p:nvPr/>
            </p:nvSpPr>
            <p:spPr>
              <a:xfrm>
                <a:off x="114300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14300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8088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" name=""/>
          <p:cNvSpPr/>
          <p:nvPr/>
        </p:nvSpPr>
        <p:spPr>
          <a:xfrm>
            <a:off x="8321400" y="6473520"/>
            <a:ext cx="10548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18ED-589D-4C09-858A-596D8D4C3C1E}" type="slidenum">
              <a:rPr b="0" lang="en-US" sz="1400" spc="-1" strike="noStrike">
                <a:solidFill>
                  <a:srgbClr val="0054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The Relational Model</a:t>
            </a:r>
            <a:br>
              <a:rPr sz="4000"/>
            </a:b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"/>
          <p:cNvSpPr/>
          <p:nvPr/>
        </p:nvSpPr>
        <p:spPr>
          <a:xfrm>
            <a:off x="1774800" y="4708440"/>
            <a:ext cx="56548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Foreign Keys in SQL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nly students listed in the Students relation should be allowed to enroll for course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8" name=""/>
          <p:cNvSpPr/>
          <p:nvPr/>
        </p:nvSpPr>
        <p:spPr>
          <a:xfrm>
            <a:off x="1282680" y="2577960"/>
            <a:ext cx="65530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Enrolled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20),  cid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(20)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 grade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2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PRIMARY KEY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,cid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FOREIGN KEY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)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REFERENCES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tudents (sid)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0" y="4745160"/>
          <a:ext cx="4519440" cy="169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4745160"/>
                    <a:ext cx="4519440" cy="16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38040" y="4503600"/>
          <a:ext cx="3489480" cy="1836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8040" y="4503600"/>
                    <a:ext cx="348948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3435480" y="4959360"/>
            <a:ext cx="1130040" cy="2919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11440" y="5334120"/>
            <a:ext cx="105408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435480" y="5403960"/>
            <a:ext cx="1130040" cy="6220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35480" y="5721480"/>
            <a:ext cx="1130040" cy="2156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6840" y="410040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Enrolled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13320" y="4329000"/>
            <a:ext cx="145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Student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Enforcing Referential Integrit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onsider Students and Enrolled; 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sid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in Enrolled is a foreign key that references Student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hat should be done if an Enrolled tuple with a non-existent student id is inserted? 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Reject it!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hat should be done if a Students tuple is deleted?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lso delete all Enrolled tuples that refer to it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isallow deletion of a Students tuple that is referred to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et sid in Enrolled tuples that refer to it to a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default si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In SQL, also: Set sid in Enrolled tuples that refer to it to a special placeholder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null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,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eaning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`unknown’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or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`inapplicable’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BA chooses one of these 4 options for every FK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milar if primary key of Students tuple is updated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ferential Integrity in SQL/92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QL/92 supports all 4 options on deletes and updat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efault is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NO ACTION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delete/update is rejecte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CASCAD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(also delete all tuples that refer to deleted tuple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SET NULL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/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 SET DEFAULT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ets foreign key value of referencing tuple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17" name=""/>
          <p:cNvSpPr/>
          <p:nvPr/>
        </p:nvSpPr>
        <p:spPr>
          <a:xfrm>
            <a:off x="4372200" y="1890720"/>
            <a:ext cx="432216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Enrolled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20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id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(20)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grade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2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PRIMARY KEY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,cid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FOREIGN KEY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REFERENCES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tudent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ON DELETE CASCADE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ON UPDATE SET DEFAULT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Where do ICs Come From?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Cs are based upon the semantics of the real-world enterprise that is being described in the database relations.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81160" indent="-2811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e can check a database instance to see if an IC is violated, but we can </a:t>
            </a:r>
            <a:r>
              <a:rPr b="0" lang="en-US" sz="2800" spc="-1" strike="noStrike">
                <a:solidFill>
                  <a:srgbClr val="cf0e30"/>
                </a:solidFill>
                <a:latin typeface="Book Antiqua"/>
              </a:rPr>
              <a:t>NEVER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infer that an IC is true by looking at an instanc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n IC is a statement about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all possible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stances!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rom example, we know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nam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is not a key, but the assertion that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si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is a key is given to u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81160" indent="-28116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Key and foreign key ICs are the most common; more general ICs supported too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lational Model: Summar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 tabular representation of data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imple and intuitive, currently the most widely used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tegrity constraints can be specified by the DBA, based on application semantics.  DBMS checks for violations. 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499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Two important ICs: primary and foreign keys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499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In addition, we </a:t>
            </a:r>
            <a:r>
              <a:rPr b="0" i="1" lang="en-US" sz="2000" spc="-1" strike="noStrike">
                <a:solidFill>
                  <a:srgbClr val="005400"/>
                </a:solidFill>
                <a:latin typeface="Book Antiqua"/>
              </a:rPr>
              <a:t>always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have domain constraints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Powerful and natural query languages exist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Guidelines to translate ER to relational model (next class…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Why Study the Relational Model? 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ost widely used model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Vendors: IBM, Informix, Microsoft, Oracle, Sybase, etc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Legacy systems” in older models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.G., IBM’s IMS (hierarchical model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cent competitor: object-oriented model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bjectStore, Versant, Ontos, O2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 synthesis emerging: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object-relational model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Informix UDS, UniSQL, Oracle, DB2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lational Database: Definition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f0e30"/>
                </a:solidFill>
                <a:latin typeface="Book Antiqua"/>
              </a:rPr>
              <a:t>Relational database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: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set of </a:t>
            </a:r>
            <a:r>
              <a:rPr b="0" i="1" lang="en-US" sz="2800" spc="-1" strike="noStrike">
                <a:solidFill>
                  <a:srgbClr val="bc3700"/>
                </a:solidFill>
                <a:latin typeface="Book Antiqua"/>
              </a:rPr>
              <a:t>relation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f0e30"/>
                </a:solidFill>
                <a:latin typeface="Book Antiqua"/>
              </a:rPr>
              <a:t>Relation: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made up of 2 part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f0e30"/>
                </a:solidFill>
                <a:latin typeface="Book Antiqua"/>
              </a:rPr>
              <a:t>Schema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pecifies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ame of relation, plus name and type of each column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0e30"/>
                </a:solidFill>
                <a:latin typeface="Book Antiqua"/>
              </a:rPr>
              <a:t>e.g. Students(</a:t>
            </a:r>
            <a:r>
              <a:rPr b="0" i="1" lang="en-US" sz="2000" spc="-1" strike="noStrike">
                <a:solidFill>
                  <a:srgbClr val="cf0e30"/>
                </a:solidFill>
                <a:latin typeface="Book Antiqua"/>
              </a:rPr>
              <a:t>sid</a:t>
            </a:r>
            <a:r>
              <a:rPr b="0" lang="en-US" sz="2000" spc="-1" strike="noStrike">
                <a:solidFill>
                  <a:srgbClr val="cf0e30"/>
                </a:solidFill>
                <a:latin typeface="Book Antiqua"/>
              </a:rPr>
              <a:t>: string, </a:t>
            </a:r>
            <a:r>
              <a:rPr b="0" i="1" lang="en-US" sz="2000" spc="-1" strike="noStrike">
                <a:solidFill>
                  <a:srgbClr val="cf0e30"/>
                </a:solidFill>
                <a:latin typeface="Book Antiqua"/>
              </a:rPr>
              <a:t>name</a:t>
            </a:r>
            <a:r>
              <a:rPr b="0" lang="en-US" sz="2000" spc="-1" strike="noStrike">
                <a:solidFill>
                  <a:srgbClr val="cf0e30"/>
                </a:solidFill>
                <a:latin typeface="Book Antiqua"/>
              </a:rPr>
              <a:t>: string, </a:t>
            </a:r>
            <a:r>
              <a:rPr b="0" i="1" lang="en-US" sz="2000" spc="-1" strike="noStrike">
                <a:solidFill>
                  <a:srgbClr val="cf0e30"/>
                </a:solidFill>
                <a:latin typeface="Book Antiqua"/>
              </a:rPr>
              <a:t>login</a:t>
            </a:r>
            <a:r>
              <a:rPr b="0" lang="en-US" sz="2000" spc="-1" strike="noStrike">
                <a:solidFill>
                  <a:srgbClr val="cf0e30"/>
                </a:solidFill>
                <a:latin typeface="Book Antiqua"/>
              </a:rPr>
              <a:t>: string,                        </a:t>
            </a:r>
            <a:r>
              <a:rPr b="0" i="1" lang="en-US" sz="2000" spc="-1" strike="noStrike">
                <a:solidFill>
                  <a:srgbClr val="cf0e30"/>
                </a:solidFill>
                <a:latin typeface="Book Antiqua"/>
              </a:rPr>
              <a:t>age</a:t>
            </a:r>
            <a:r>
              <a:rPr b="0" lang="en-US" sz="2000" spc="-1" strike="noStrike">
                <a:solidFill>
                  <a:srgbClr val="cf0e30"/>
                </a:solidFill>
                <a:latin typeface="Book Antiqua"/>
              </a:rPr>
              <a:t>: integer, </a:t>
            </a:r>
            <a:r>
              <a:rPr b="0" i="1" lang="en-US" sz="2000" spc="-1" strike="noStrike">
                <a:solidFill>
                  <a:srgbClr val="cf0e30"/>
                </a:solidFill>
                <a:latin typeface="Book Antiqua"/>
              </a:rPr>
              <a:t>gpa</a:t>
            </a:r>
            <a:r>
              <a:rPr b="0" lang="en-US" sz="2000" spc="-1" strike="noStrike">
                <a:solidFill>
                  <a:srgbClr val="cf0e30"/>
                </a:solidFill>
                <a:latin typeface="Book Antiqua"/>
              </a:rPr>
              <a:t>: real)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f0e30"/>
                </a:solidFill>
                <a:latin typeface="Book Antiqua"/>
              </a:rPr>
              <a:t>Instanc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: a </a:t>
            </a:r>
            <a:r>
              <a:rPr b="0" i="1" lang="en-US" sz="2400" spc="-1" strike="noStrike">
                <a:solidFill>
                  <a:srgbClr val="cf0e30"/>
                </a:solidFill>
                <a:latin typeface="Book Antiqua"/>
              </a:rPr>
              <a:t>table</a:t>
            </a: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,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with rows and columns. </a:t>
            </a:r>
            <a:br>
              <a:rPr sz="2400"/>
            </a:b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#Rows = </a:t>
            </a:r>
            <a:r>
              <a:rPr b="0" i="1" lang="en-US" sz="2400" spc="-1" strike="noStrike">
                <a:solidFill>
                  <a:srgbClr val="cf0e30"/>
                </a:solidFill>
                <a:latin typeface="Book Antiqua"/>
              </a:rPr>
              <a:t>cardinality</a:t>
            </a: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, #fields = </a:t>
            </a:r>
            <a:r>
              <a:rPr b="0" i="1" lang="en-US" sz="2400" spc="-1" strike="noStrike">
                <a:solidFill>
                  <a:srgbClr val="cf0e30"/>
                </a:solidFill>
                <a:latin typeface="Book Antiqua"/>
              </a:rPr>
              <a:t>degree / arity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an think of a relation as a </a:t>
            </a:r>
            <a:r>
              <a:rPr b="0" i="1" lang="en-US" sz="2800" spc="-1" strike="noStrike">
                <a:solidFill>
                  <a:srgbClr val="cf0e30"/>
                </a:solidFill>
                <a:latin typeface="Book Antiqua"/>
              </a:rPr>
              <a:t>set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f rows or </a:t>
            </a:r>
            <a:r>
              <a:rPr b="0" i="1" lang="en-US" sz="2800" spc="-1" strike="noStrike">
                <a:solidFill>
                  <a:srgbClr val="cf0e30"/>
                </a:solidFill>
                <a:latin typeface="Book Antiqua"/>
              </a:rPr>
              <a:t>tuples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(i.e., all rows are distinct)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olumns (attributes) are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single-valued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 Antiqua"/>
              </a:rPr>
              <a:t>Example Instance of Students Relation</a:t>
            </a:r>
            <a:endParaRPr b="0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57360" y="2079720"/>
          <a:ext cx="6456240" cy="246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7360" y="2079720"/>
                    <a:ext cx="645624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673200" y="4497480"/>
            <a:ext cx="763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54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ardinality = 3, degree = 5, all rows distinct</a:t>
            </a:r>
            <a:endParaRPr b="0" lang="en-US" sz="28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reating Relations in SQL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58676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reates the Students          relation. Observe that the        type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(domain)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f each field         is specified, and enforced by     the DBMS whenever tuples       are added or modified.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s another example, the   Enrolled table holds    information about courses       that students tak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1" name=""/>
          <p:cNvSpPr/>
          <p:nvPr/>
        </p:nvSpPr>
        <p:spPr>
          <a:xfrm>
            <a:off x="5384160" y="1816200"/>
            <a:ext cx="334980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 Students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(20)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ame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(20)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login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(10),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ge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INTEGE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gpa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REAL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 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5720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48006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040" y="4649760"/>
            <a:ext cx="3517920" cy="14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 Enrolled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(20)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id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(20)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grade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2)) 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Integrity Constraints (ICs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IC: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condition that must be true for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any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nstance of the database; e.g.,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domain constraint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Cs are specified when schema is defined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Cs are checked when relations are modified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legal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nstance of a relation is one that satisfies all specified ICs. 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BMS should allow only legal instanc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f the DBMS checks ICs, stored data is more faithful to real-world meaning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voids many data entry errors, too!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Primary Key Constraint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07732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uppose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sid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 are unique and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login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 are unique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74320" indent="-2743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set of fields is a </a:t>
            </a:r>
            <a:r>
              <a:rPr b="0" i="1" lang="en-US" sz="2800" spc="-1" strike="noStrike" u="sng">
                <a:solidFill>
                  <a:srgbClr val="cf0e30"/>
                </a:solidFill>
                <a:uFillTx/>
                <a:latin typeface="Book Antiqua"/>
              </a:rPr>
              <a:t>superkey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for a relation if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594360" indent="-2286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o two distinct tuples have the same values in all fields of the superkey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594360" indent="-2286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Example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74320" indent="-2743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superkey is a </a:t>
            </a:r>
            <a:r>
              <a:rPr b="0" i="1" lang="en-US" sz="2800" spc="-1" strike="noStrike" u="sng">
                <a:solidFill>
                  <a:srgbClr val="cf0e30"/>
                </a:solidFill>
                <a:uFillTx/>
                <a:latin typeface="Book Antiqua"/>
              </a:rPr>
              <a:t>(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candidate)</a:t>
            </a:r>
            <a:r>
              <a:rPr b="0" lang="en-US" sz="2800" spc="-1" strike="noStrike" u="sng">
                <a:solidFill>
                  <a:srgbClr val="005400"/>
                </a:solidFill>
                <a:uFillTx/>
                <a:latin typeface="Book Antiqua"/>
              </a:rPr>
              <a:t>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key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f 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594360" indent="-2286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o proper subset of it is a superkey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594360" indent="-2286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Example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74320" indent="-27432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f there’s &gt;1 candidate key for a relation, one of them is chosen (by DBA) to be the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primary key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594360" indent="-22860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Exampl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Primary and Candidate Keys in SQL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960" y="1447560"/>
            <a:ext cx="87627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Possibly many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candidate keys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(specified using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UNIQU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), one of which is chosen as the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primary key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87" name=""/>
          <p:cNvSpPr/>
          <p:nvPr/>
        </p:nvSpPr>
        <p:spPr>
          <a:xfrm>
            <a:off x="5314680" y="2425680"/>
            <a:ext cx="35755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Enrolled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20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id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(20)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grade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2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PRIMARY KEY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,cid) 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743200"/>
            <a:ext cx="51814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or a given student and course, there is a single grade.”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o two students have the same sid and no two students have the same login.  Furthermore, any other table wishing to reference a student should reference the sid field if possible.”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61120" y="4330800"/>
            <a:ext cx="32522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Student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20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login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(10)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gpa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REAL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…,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PRIMARY KEY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UNIQU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(login) 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Foreign Keys, Referential Integrit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Foreign key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: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t of fields in one relation that is used to `refer’ to a tuple in another (or the same) relation.  (Must correspond to primary key of the second relation.)  Like a `logical pointer’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Clr>
                <a:srgbClr val="0054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E.g. </a:t>
            </a:r>
            <a:r>
              <a:rPr b="0" i="1" lang="en-US" sz="2800" spc="-1" strike="noStrike">
                <a:solidFill>
                  <a:srgbClr val="cf0e30"/>
                </a:solidFill>
                <a:latin typeface="Book Antiqua"/>
              </a:rPr>
              <a:t>sid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is a foreign key referring to </a:t>
            </a:r>
            <a:r>
              <a:rPr b="0" lang="en-US" sz="2800" spc="-1" strike="noStrike">
                <a:solidFill>
                  <a:srgbClr val="cf0e30"/>
                </a:solidFill>
                <a:latin typeface="Book Antiqua"/>
              </a:rPr>
              <a:t>Student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nrolled(</a:t>
            </a:r>
            <a:r>
              <a:rPr b="0" i="1" lang="en-US" sz="2400" spc="-1" strike="noStrike">
                <a:solidFill>
                  <a:srgbClr val="cf0e30"/>
                </a:solidFill>
                <a:latin typeface="Book Antiqua"/>
              </a:rPr>
              <a:t>sid</a:t>
            </a: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: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tring,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ci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string,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grad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string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all foreign key constraints are enforced, 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referential integrity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is achieved, i.e., no dangling referenc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0054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an you name a data model w/o referential integrity?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119960" indent="-223920">
              <a:spcBef>
                <a:spcPts val="499"/>
              </a:spcBef>
              <a:buClr>
                <a:srgbClr val="0054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Links in HTML!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6T18:20:12Z</dcterms:created>
  <dc:creator/>
  <dc:description/>
  <dc:language>en-US</dc:language>
  <cp:lastModifiedBy>Donated by Intel</cp:lastModifiedBy>
  <cp:lastPrinted>2000-01-07T17:32:28Z</cp:lastPrinted>
  <dcterms:modified xsi:type="dcterms:W3CDTF">2000-01-07T17:32:36Z</dcterms:modified>
  <cp:revision>38</cp:revision>
  <dc:subject>Database Management Systems</dc:subject>
  <dc:title>The Relational Model</dc:title>
</cp:coreProperties>
</file>