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549-C0F1-4441-B9C9-18C7FE5C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9FF-38C6-4244-9E22-5D121D30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B4C-06E6-4BE4-9EEB-BC1340B1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F20-7FB5-401E-968E-0A101C45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93-5F02-428B-AFA7-4565BAB7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A13-FEC7-4EC5-9C79-DF19FDC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775-35C6-41E2-9351-97700BF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16F-4B89-4A61-BC8E-D911114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C5E-5223-4151-B9F6-4706597A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899-9D17-49F4-A610-CEB5F85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B74-D24C-404B-AAA3-0D906DB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0F8-CAC1-45A1-B39E-E413CC2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DD2-89B5-4D05-810D-A8D8CEBF1524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B950-CD7E-4F53-AA04-1460FDBE582A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SE444: REVIEW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urrent and Future DBMS Issu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w applications yield new techniqu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w techniques yield new applic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 “new” applications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ata warehous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-line analytical processing (OLAP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ata min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tributed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eterogeneous data and data integr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cientific/sequential/ordered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artial or approximate query answer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urrent and Future Issue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ctive DBs:  rule management (ICs and trigger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al-time DB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b-based DB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ML and semi-structured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atial and high-dimensional data (lots of column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al-purpose DBMS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gital Librari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eographic Information Syste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tc….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urrent and Future Issue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me “new” techniqu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kinds of indic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mproved B Tre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aster aggregation algorith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QP algorith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tter optimization techniqu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ata broadcast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eneric data model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aster sorting algorith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query languag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ductive DBMS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urrent and Future Issue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 databas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algebra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uery cost estim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w locking and commit protocol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in-memory databas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C/R techniques for non-relational setting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MS interfaces, visualization tool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MS development tool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tc…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BOTTOM LINE:  Lots of opportunities for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jobs, research, development, and fun 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SE444 in on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Log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E/R diagram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rmalized rel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Phys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files, buffering, and index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Log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Relational algebra and SQ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Phys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join methods, optimization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CC/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hoices affect correctness, performanc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Object Database</a:t>
            </a:r>
            <a:r>
              <a:rPr b="1" i="1" lang="en-US" sz="2800" spc="-1" strike="noStrike">
                <a:solidFill>
                  <a:srgbClr val="fc0128"/>
                </a:solidFill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xtend, improve rel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ODBMS, ORDBMS are converging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QL, SQL3 are converging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E/R mode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ntit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vs.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elationship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ttribut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or entities and relationship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Ke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weak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ntities (no foreign keys!!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rdinality constrain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articipation (key) constrain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ransl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rela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tity becomes rel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ship becomes relation iff it is many-man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ther relationships:  key of “parent” goes with “child”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Ds and Normal For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termin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andidate Ke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CK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field is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ri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f it is in some CK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1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All relations are in 1NF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2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For each FD X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57280" indent="-214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is prime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X is not a proper subset of any CK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3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For each FD X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57280" indent="-214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is a superkey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 is prime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(trivial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CN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For each FD X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57280" indent="-214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is a superkey 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O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X (trivial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-257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rmalize by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compos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 (ABC) to R1(AB) and R2 (BC), where B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 violates a NF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57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hysical DB Desig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File organization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heapfile, sorted file, hashed fil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isk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speed and physical characteristic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uffer poo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an vary in size; frame holds p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placement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olic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hoice is importan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dex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an speed up data acces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lustered vs. unclustere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imary vs. secondary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nse vs. spars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+ Trees are the most common:  log(N) search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Queries:  Logical Aspec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al Algebr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Joins kind of important too!!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General join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Equijoin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Natural join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formations for optimiz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Q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clarativ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al calculus + algebra + grouping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putationally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plet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uery execution:  relational algebra opera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Queries:  Physical Aspec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mplement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relational algebr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le scan vs. index lookup vs. binary search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xact-match vs. range queri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mpact of clustered vs. non-clustered indic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Join methods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lock-Oriented Nested Loops (good idea, if buffers avail.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dex Nested Loops (good idea, if index avail.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879840" indent="-17568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ort-Merge (good idea, if sorted or needs to be sorted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263880" indent="-263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ptimiza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cost estimates hard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arge space of physical, logical alternativ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une space by considering only left-deep pla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72040" indent="-219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ables pipelined execu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urrency Control and Recove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CID transaction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nforce CC&amp;R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trict 2P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“guarantees” serializability (C, I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adlocks possible (detect and abort a XACT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hantom tuples possible (fix with index locking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RI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guarantees XACTS are A, 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rite-ahead logg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 UNDO actions to allow complete replaying of histor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covery phases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37080" indent="-1872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alyze (rebuild main memory structures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937080" indent="-1872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DO (rebuild data in buffer frames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937080" indent="-1872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UNDO (abort uncommitted XACTS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773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RDBM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e.g. Oracle 8i) vs.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ODBM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e.g. O2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tructur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spec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llection-valued fiel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I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eely composable type constructor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ehavior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spects (method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dds new dimensions to RDBMS problem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QL3, OQL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tandar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emerging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>S. Vandenberg</dc:creator>
  <dc:description/>
  <dc:language>en-US</dc:language>
  <cp:lastModifiedBy>Donated by Intel</cp:lastModifiedBy>
  <cp:lastPrinted>2000-03-07T19:26:27Z</cp:lastPrinted>
  <dcterms:modified xsi:type="dcterms:W3CDTF">2000-03-07T19:26:30Z</dcterms:modified>
  <cp:revision>111</cp:revision>
  <dc:subject/>
  <dc:title>Review</dc:title>
</cp:coreProperties>
</file>