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4D8C-A8F4-4832-AEE4-C34315B69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1104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FAE1-A3E5-4614-B9FC-E960C119A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1104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820760" y="41104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28C3-0C44-41D1-B6CA-C8956B1D8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66080" y="19807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3720" y="19807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1104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66080" y="41104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93720" y="41104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8122-1F99-496C-BEEC-C516C6212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8359-AB39-4E7C-AE6C-88A4CF25F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BC69-C479-47A6-9517-94C1C17B3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204C-8BE9-461B-A9C3-EC9371B10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5082-7B9D-4C1E-A6EC-B1AB28B9E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8080" y="41868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A99E-B779-4270-B1CA-BBDB78B07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1104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ECBA-C14F-4177-8A3E-048E16479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820760" y="41104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8F44-D6B7-40E2-8B91-7190009C4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1104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6160-32F9-4756-A8A2-FE08A88C7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54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54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54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54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54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05C17-1AFA-4C4C-8FFC-402423F49B02}" type="slidenum">
              <a:rPr b="0" lang="en-US" sz="1400" spc="-1" strike="noStrike">
                <a:solidFill>
                  <a:srgbClr val="0054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80880" y="209520"/>
            <a:ext cx="1525680" cy="1525680"/>
            <a:chOff x="380880" y="209520"/>
            <a:chExt cx="1525680" cy="1525680"/>
          </a:xfrm>
        </p:grpSpPr>
        <p:sp>
          <p:nvSpPr>
            <p:cNvPr id="4" name=""/>
            <p:cNvSpPr/>
            <p:nvPr/>
          </p:nvSpPr>
          <p:spPr>
            <a:xfrm>
              <a:off x="533520" y="361800"/>
              <a:ext cx="1220760" cy="1220760"/>
            </a:xfrm>
            <a:custGeom>
              <a:avLst/>
              <a:gdLst/>
              <a:ahLst/>
              <a:rect l="l" t="t" r="r" b="b"/>
              <a:pathLst>
                <a:path w="769" h="769">
                  <a:moveTo>
                    <a:pt x="384" y="0"/>
                  </a:moveTo>
                  <a:lnTo>
                    <a:pt x="0" y="384"/>
                  </a:lnTo>
                  <a:lnTo>
                    <a:pt x="384" y="768"/>
                  </a:lnTo>
                  <a:lnTo>
                    <a:pt x="768" y="384"/>
                  </a:lnTo>
                  <a:lnTo>
                    <a:pt x="384" y="0"/>
                  </a:ln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grpSp>
          <p:nvGrpSpPr>
            <p:cNvPr id="5" name=""/>
            <p:cNvGrpSpPr/>
            <p:nvPr/>
          </p:nvGrpSpPr>
          <p:grpSpPr>
            <a:xfrm>
              <a:off x="380880" y="209520"/>
              <a:ext cx="1525680" cy="1525680"/>
              <a:chOff x="380880" y="209520"/>
              <a:chExt cx="1525680" cy="1525680"/>
            </a:xfrm>
          </p:grpSpPr>
          <p:sp>
            <p:nvSpPr>
              <p:cNvPr id="6" name=""/>
              <p:cNvSpPr/>
              <p:nvPr/>
            </p:nvSpPr>
            <p:spPr>
              <a:xfrm>
                <a:off x="1143000" y="20952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0" y="96"/>
                    </a:moveTo>
                    <a:lnTo>
                      <a:pt x="0" y="0"/>
                    </a:lnTo>
                    <a:lnTo>
                      <a:pt x="480" y="480"/>
                    </a:lnTo>
                    <a:lnTo>
                      <a:pt x="384" y="480"/>
                    </a:lnTo>
                    <a:lnTo>
                      <a:pt x="0" y="96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380880" y="20952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480" y="0"/>
                    </a:moveTo>
                    <a:lnTo>
                      <a:pt x="480" y="96"/>
                    </a:lnTo>
                    <a:lnTo>
                      <a:pt x="96" y="480"/>
                    </a:lnTo>
                    <a:lnTo>
                      <a:pt x="0" y="480"/>
                    </a:lnTo>
                    <a:lnTo>
                      <a:pt x="480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3000" y="97164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384" y="0"/>
                    </a:moveTo>
                    <a:lnTo>
                      <a:pt x="480" y="0"/>
                    </a:lnTo>
                    <a:lnTo>
                      <a:pt x="0" y="480"/>
                    </a:lnTo>
                    <a:lnTo>
                      <a:pt x="0" y="384"/>
                    </a:lnTo>
                    <a:lnTo>
                      <a:pt x="384" y="0"/>
                    </a:lnTo>
                  </a:path>
                </a:pathLst>
              </a:cu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80880" y="97164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96" y="0"/>
                    </a:moveTo>
                    <a:lnTo>
                      <a:pt x="480" y="384"/>
                    </a:lnTo>
                    <a:lnTo>
                      <a:pt x="480" y="480"/>
                    </a:ln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2" marL="1143000" indent="-228600">
              <a:spcBef>
                <a:spcPts val="700"/>
              </a:spcBef>
              <a:buClr>
                <a:srgbClr val="0054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3" marL="1600200" indent="-22860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4" marL="2057400" indent="-22860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5" marL="2057400" indent="-22860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6" marL="2057400" indent="-22860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12" name=""/>
          <p:cNvSpPr/>
          <p:nvPr/>
        </p:nvSpPr>
        <p:spPr>
          <a:xfrm>
            <a:off x="8319600" y="6471720"/>
            <a:ext cx="10584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25F77-8BA5-47D7-9E7B-8EC093994D64}" type="slidenum">
              <a:rPr b="0" lang="en-US" sz="1400" spc="-1" strike="noStrike">
                <a:solidFill>
                  <a:srgbClr val="0054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Object Database Queries:  OQL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Object Query Language (OQL)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07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Declarative (like SQL)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05280" indent="-3052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No updates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05280" indent="-3052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Computationally </a:t>
            </a:r>
            <a:r>
              <a:rPr b="1" lang="en-US" sz="2800" spc="-1" strike="noStrike">
                <a:solidFill>
                  <a:srgbClr val="fc0128"/>
                </a:solidFill>
                <a:latin typeface="Book Antiqua"/>
              </a:rPr>
              <a:t>in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complete (like SQL)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05280" indent="-3052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Query result:  Any object or value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05280" indent="-3052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Ad-hoc or embedded (like SQL)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05280" indent="-3052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Can invoke methods easily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05280" indent="-3052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All queries “start with” 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named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, top-level database objects (vs. relations, in SQL)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05280" indent="-3052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OQL is a freely 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composable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, functional language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Object identity and equalities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7772400" cy="407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270720" indent="-27072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Can </a:t>
            </a:r>
            <a:r>
              <a:rPr b="0" i="1" lang="en-US" sz="2800" spc="-1" strike="noStrike" u="sng">
                <a:solidFill>
                  <a:srgbClr val="005400"/>
                </a:solidFill>
                <a:uFillTx/>
                <a:latin typeface="Book Antiqua"/>
              </a:rPr>
              <a:t>compare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referenced objects in 3 ways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270720" indent="-27072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Two referenced objects are </a:t>
            </a: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identical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if both references are the same OID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270720" indent="-27072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Two referenced objects are </a:t>
            </a: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shallow equal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if the referenced objects contain the same values in all value (e.g. scalar) fields and identical references in object fields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270720" indent="-27072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Two referenced objects are </a:t>
            </a: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deep equal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if they contain the same values in all value fields and the objects they reference are also deep equa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270720" indent="-27072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ID </a:t>
            </a:r>
            <a:r>
              <a:rPr b="0" lang="en-US" sz="2800" spc="-1" strike="noStrike">
                <a:solidFill>
                  <a:srgbClr val="0054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shallow equal </a:t>
            </a:r>
            <a:r>
              <a:rPr b="0" lang="en-US" sz="2800" spc="-1" strike="noStrike">
                <a:solidFill>
                  <a:srgbClr val="0054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deep equa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OQL:  Summary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07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QL-like; </a:t>
            </a: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declarative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and </a:t>
            </a: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functiona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277560" indent="-27756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Freely composable:  clean semantics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277560" indent="-27756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No need for </a:t>
            </a: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having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or </a:t>
            </a: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order by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277560" indent="-27756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forall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and </a:t>
            </a: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exists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both available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277560" indent="-27756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Query processing/optimization techniques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01560" indent="-23148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c0128"/>
                </a:solidFill>
                <a:uFillTx/>
                <a:latin typeface="Book Antiqua"/>
              </a:rPr>
              <a:t>Algebras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can be defined: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2" marL="925560" indent="-185040">
              <a:spcBef>
                <a:spcPts val="499"/>
              </a:spcBef>
              <a:buClr>
                <a:srgbClr val="0054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Extended relational algebras</a:t>
            </a:r>
            <a:endParaRPr b="0" lang="en-US" sz="2000" spc="-1" strike="noStrike">
              <a:solidFill>
                <a:srgbClr val="005400"/>
              </a:solidFill>
              <a:latin typeface="Book Antiqua"/>
            </a:endParaRPr>
          </a:p>
          <a:p>
            <a:pPr lvl="2" marL="925560" indent="-185040">
              <a:spcBef>
                <a:spcPts val="499"/>
              </a:spcBef>
              <a:buClr>
                <a:srgbClr val="0054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New algebras</a:t>
            </a:r>
            <a:endParaRPr b="0" lang="en-US" sz="2000" spc="-1" strike="noStrike">
              <a:solidFill>
                <a:srgbClr val="005400"/>
              </a:solidFill>
              <a:latin typeface="Book Antiqua"/>
            </a:endParaRPr>
          </a:p>
          <a:p>
            <a:pPr lvl="1" marL="601560" indent="-23148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c0128"/>
                </a:solidFill>
                <a:uFillTx/>
                <a:latin typeface="Book Antiqua"/>
              </a:rPr>
              <a:t>Indexes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used (O2, for example)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01560" indent="-23148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Query Processing/Optimization research results slowly making their way into products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17T12:49:52Z</dcterms:created>
  <dc:creator>S. Vandenberg</dc:creator>
  <dc:description/>
  <dc:language>en-US</dc:language>
  <cp:lastModifiedBy>Donated by Intel</cp:lastModifiedBy>
  <cp:lastPrinted>1998-08-05T17:43:45Z</cp:lastPrinted>
  <dcterms:modified xsi:type="dcterms:W3CDTF">2000-03-02T19:16:37Z</dcterms:modified>
  <cp:revision>90</cp:revision>
  <dc:subject/>
  <dc:title>OQL</dc:title>
</cp:coreProperties>
</file>