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B30-84C0-4591-B2FB-48A219A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412-2E11-4B73-AE20-014A924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480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480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FD6-FB36-438F-934D-F545BED2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901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901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836-DFD3-4763-A765-8ACFD62D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991-C373-46BF-A86A-2CDDFC1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FB8-2F70-4C8B-ABF1-FFF02BB9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1CE-59A2-4082-82D8-343E3CB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052-EE0B-4837-92FC-5B218AE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84F-97C1-455F-AF37-D6E97B5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3AC-AB04-429D-A759-D061B4F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D2B-40AB-47EB-9CBD-3E3AD42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D51-D7FB-4641-9570-424EB31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8C4-834D-4815-947B-6B49CE4DA013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8D5A-D8E9-4DC0-B9A8-F4FC0FE3F382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s:  Logical Data Model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Exte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xten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a (unique, persistent) set containing (the OIDs of) every object of the class and its subclass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Option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or every clas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to rel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uilt in to OD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 some actual systems, must create and maintain “manually”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Key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an be specified for a class iff it has an exten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IDs can refer to an object anywhere in DB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bjects can be referenced from anywhere in DB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ertion or deletion of a reference can never violate referential integrit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sume automatically maintained exten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letion of a referenced object, defaul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ame as SQL-92:  disallow deletion from exte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ethods can enforce other delete semantic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scading delete, set NULL, or set defaul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amed DB Objec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se are th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oots of persistenc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y are the only way to access dat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us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rows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o examine all our data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art at a named DB object and follow OI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do some limited updates via browser also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’t do “real” queries in brows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’t “link” two existing objects in brows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QL queries (next class) must use named DB objects to retrieve any dat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ele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bject physically removed when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ll sources of its persistenc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re remove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us deleting a named DB object doesn’t physically remove object unless nothing else in DB references that objec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e solution:  reference coun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move object when reference count = 0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erformance problems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ensure that copying a ref. incrs. ref. cou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ed in early versions of O2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use periodic garbage collection instea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eletion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alternative (not available in O2):  Allow explicit object deletion at any tim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place the physical object with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ombston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mbstone is a special marker (similar to a NULL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en some object follows an OID to the deleted object, it encounters the tombston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reference that was just followed can be set to NULL or some default value or other action take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s approach can make implementation of SET NULL semantics, etc. much easier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voids th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angling referenc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problem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pplication Progra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sociated with an O2 schem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d for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on-object-specific task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equently-performed tasks that can’t or shouldn’t be coded as metho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asks that involve changing or examining more than one objec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xample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rompt for a department name and display i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play all departmen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ove an employee from one dept. to anoth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hysical Design:  Index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index named list, set, unique set objec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arch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ust b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atomic value (e.g. integer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OI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collection (list, set, unique set) of the abov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lements of an index path must all be tuples, not OIDs (except possibly the last element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ample indic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mpani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name, address.Country, address.city.nam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epartmen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emps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hysical Design:  Cluster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en an object becomes persistent, by default it is clustered near its paren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A can specify clusters based on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luster tre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ubsets of the schema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omposition graph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sorte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fined on classes or collection objec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ep cluster trees can impede performanc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xampl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luster Pers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/* all Person objects clustered */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cluster Department on (chair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/* Departments stored with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chair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;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emp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major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stored elsewhere */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lass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reflect behavior and complex structur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heritanc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provides new semantic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Metho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I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help enforce integrit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amed DB objects are “entry points” into DB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ethod, application language has same type system as DBMS 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hysical design options are numerou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ch of this also applies, in a modified way, to Object-Relational DBMSs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s: Advant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etter suited for many “new” applic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n-tabular data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arge or variable-sized objec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r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alistic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data structuring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Explicit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lationship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asier embedding in a host language (e.g. C++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Eas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design and querying (sometime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pport” for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rdered data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bject Databases: Disadvant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ot as established as relational technolog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y be overkill for some system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chema desig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not well understoo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Query process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still being researche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gical Object Database Desig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ill focus on O2, an OODBM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O features generally subsume OR featur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O2 is representativ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mostly ODMG-complia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ther OO/OR systems make other choic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do first-level logical design directl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e ODL or other OO modeling languag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an skip E/R entirel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e less level of translation (applause, please…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standards or theory for logical design (boo…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gical DB Design in O2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las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cept captur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 structure (typ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 behavior (methods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heritance (single and multi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ype exten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ny IC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ctual data created using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named DB objec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ike persistent global variables within a DB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ints of entry” into DB for browser, OQ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Application program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odel other aspect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Attribut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ndar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cala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yp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ger, char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really a multiset; allows duplicate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unique se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a “real” set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lis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indexable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bjec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upl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bject vs. tuple:  different semantics, storag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es” not always tuples !!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Method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del object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ehavior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ly way to access data of </a:t>
            </a: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privat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yp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sed to update an objec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also use browser directly if class is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public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ni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ethod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ike a C++ constructo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voked whenever a new object is create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ry handy for maintaining extent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 inherite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Inheritanc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Typ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structure) and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metho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behavior) are both inherited by subclasse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Excep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 “init” method not inherite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mantics:  substitutabilit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Examp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a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tuden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can appear wherever a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ers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llowed to appear (students are people too!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llection types can participate in inheritanc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ltiple Inheritanc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wo or more direct superclasses (e.g.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WorkStud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resolve naming conflicts (none in this cas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asses:  Inheritance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verrid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ethod, attribute definitions in a subclas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ype of redefined attribute must be subtype of inherited attribute’s typ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types in a redefined method signature must be subtypes of corresponding types in inherited metho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blem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ich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ire_emp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method is invoked on a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extDep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nknown until run-time: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late binding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5029200"/>
            <a:ext cx="5029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for (nextDept in Departments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nextDept-&gt;fire_emp;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2:49:52Z</dcterms:created>
  <dc:creator>S. Vandenberg</dc:creator>
  <dc:description/>
  <dc:language>en-US</dc:language>
  <cp:lastModifiedBy>Donated by Intel</cp:lastModifiedBy>
  <cp:lastPrinted>1998-08-05T17:43:45Z</cp:lastPrinted>
  <dcterms:modified xsi:type="dcterms:W3CDTF">2000-03-02T18:45:27Z</dcterms:modified>
  <cp:revision>148</cp:revision>
  <dc:subject/>
  <dc:title>Object Database Modeling</dc:title>
</cp:coreProperties>
</file>