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25B-39C7-4045-A97D-A549B145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504-FF06-4556-814C-D6B98498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ED1-ECCF-4A88-93E9-7051CE58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72A-DCE3-4488-8DC2-D5B6C14D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264-1ABB-4E8E-8808-548CECFA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C6D-1258-4F35-9468-91C96A1B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2CF-7600-42BD-BEBA-AFA76FDF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A85-1AD9-45BC-B439-D07C1318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965-E00D-468A-8CC9-BBD54CAA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99A-EE18-4630-BA52-8B004BD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568-84AB-4AC4-9773-911A4B9D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AC2-08EF-4BEB-84C9-3DA784EE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A2D0-FFE8-47E5-8839-9CD9ECAAC1B1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30DD-15B0-461F-8C85-6A956937089A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bject Databases:  Introduc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urrent Produc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ome OR features supported in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racle 8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BM DB2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formix UD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niSQ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ome OODBMS product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O2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bjectStor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bjectivit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Versant, Jasmine, Titanium, Poet, …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hy OO?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lational Systems are limited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Structura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restrictions on data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issing semantics (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value-base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relationships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Linguistic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limitations (SQL and Algebra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L community’s OO work is appealing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ore “realistic” data structur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xplicit relationships and behavior modeling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ighter” interface between DBMS and P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ew applications: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D, OIS, hypertext, geograph. data, multimedia, medical data, music, hierarchical data, ..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ODBMS Featur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mplex Objects (set, tuple, list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ID (value-independent, permanent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ows explicit (vs. value-based) relationship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ncapsulation (overriding it?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ethods (behavior) model ICs as part of data mode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asses/Types (maintain extents?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ubclasses (multiple superclasses?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Late binding for overridden method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uring-complete host languag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ODBMS Features (cont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amless type extensibility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ersistence enforced by system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Handle large DBs (indexing, buffering, etc.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currency suppor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covery suppor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ust provide a simple (declarative, optimizable)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query languag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parate constraint mechanisms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Views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olution 1: Object-Oriented DBM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Idea: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ake an OO language like C++, add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persistence, collections, queries, …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Courier New"/>
              </a:rPr>
              <a:t>class frame {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5400"/>
                </a:solidFill>
                <a:latin typeface="Courier New"/>
              </a:rPr>
              <a:t>int frameno;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5400"/>
                </a:solidFill>
                <a:latin typeface="Courier New"/>
              </a:rPr>
              <a:t>jpeg *image;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5400"/>
                </a:solidFill>
                <a:latin typeface="Courier New"/>
              </a:rPr>
              <a:t>int category;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persistent</a:t>
            </a:r>
            <a:r>
              <a:rPr b="1" lang="en-US" sz="2400" spc="-1" strike="noStrike">
                <a:solidFill>
                  <a:srgbClr val="0054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set </a:t>
            </a:r>
            <a:r>
              <a:rPr b="1" lang="en-US" sz="2400" spc="-1" strike="noStrike">
                <a:solidFill>
                  <a:srgbClr val="005400"/>
                </a:solidFill>
                <a:latin typeface="Courier New"/>
              </a:rPr>
              <a:t>&lt;frame *&gt; frames;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00"/>
                </a:solidFill>
                <a:latin typeface="Courier New"/>
              </a:rPr>
              <a:t>foreach (frame *f, frames)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5400"/>
                </a:solidFill>
                <a:latin typeface="Courier New"/>
              </a:rPr>
              <a:t>return f-&gt;image-&gt;thumbnail();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50200" indent="-250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hut down the program.  Start it up again.  Persistent vars (e.g. frames) retain values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2" name=""/>
          <p:cNvSpPr/>
          <p:nvPr/>
        </p:nvSpPr>
        <p:spPr>
          <a:xfrm>
            <a:off x="1073160" y="2139840"/>
            <a:ext cx="6464160" cy="34164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ODBMS applica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ODBMSs good for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complex data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sier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integratio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with application cod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tegrated modeling of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behavio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nd structur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roblem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ack of backward compatibilit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ome argue it’s back to the network data mode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andards still emerging (ODMG,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OQ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any built from ground up, vs. C++ plus..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modest success in the marketplac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olution 2: Object-Relationa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Idea: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dd OO features to the type system of SQL.  I.e., “plain old SQL”, but..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lumns can be of new types (ADTs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ser-defined methods on ADT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lumns can be of complex typ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ference types and “deref”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heritanc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ld SQL schemas </a:t>
            </a:r>
            <a:r>
              <a:rPr b="1" lang="en-US" sz="2400" spc="-1" strike="noStrike">
                <a:solidFill>
                  <a:srgbClr val="005400"/>
                </a:solidFill>
                <a:latin typeface="Book Antiqua"/>
              </a:rPr>
              <a:t>still work!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(backwards compatibility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any relational vendors moving this way (SQL3). Big business!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tonebraker’s Application Matrix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2673360" y="2521080"/>
            <a:ext cx="4559400" cy="212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25146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358128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42200" y="1889280"/>
            <a:ext cx="163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e00"/>
                </a:solidFill>
                <a:latin typeface="Book Antiqua"/>
              </a:rPr>
              <a:t>No Query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1890720"/>
            <a:ext cx="111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e00"/>
                </a:solidFill>
                <a:latin typeface="Book Antiqua"/>
              </a:rPr>
              <a:t>Query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6360" y="2728800"/>
            <a:ext cx="231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e00"/>
                </a:solidFill>
                <a:latin typeface="Book Antiqua"/>
              </a:rPr>
              <a:t>Complex Data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600" y="3873600"/>
            <a:ext cx="201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e00"/>
                </a:solidFill>
                <a:latin typeface="Book Antiqua"/>
              </a:rPr>
              <a:t>Simple Data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22840" y="3870360"/>
            <a:ext cx="178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File System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8480" y="2803680"/>
            <a:ext cx="152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OODBM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03240" y="3873600"/>
            <a:ext cx="123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DBM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0600" y="2805120"/>
            <a:ext cx="147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ORDBM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63400" y="5119560"/>
            <a:ext cx="6558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sis:  Most applications will move to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upper right.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O/ORDBMS offers many new featur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23880" indent="-23976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ut not clear how to use them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23880" indent="-23976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chema design techniques not well understood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23880" indent="-23976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Query processing techniques still in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research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phas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960120" indent="-19188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moving target for OO/OR DBAs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rediction: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You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will use an OO/ORDBMS in the futur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82" name=""/>
          <p:cNvSpPr/>
          <p:nvPr/>
        </p:nvSpPr>
        <p:spPr>
          <a:xfrm>
            <a:off x="6026040" y="5873760"/>
            <a:ext cx="825480" cy="825480"/>
          </a:xfrm>
          <a:prstGeom prst="ellipse">
            <a:avLst/>
          </a:prstGeom>
          <a:solidFill>
            <a:srgbClr val="d9f41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8400" y="6095880"/>
            <a:ext cx="5662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421" y="15706"/>
                </a:moveTo>
                <a:arcTo wR="10800" hR="10800" stAng="1621173" swAng="8893803"/>
                <a:lnTo>
                  <a:pt x="10800" y="10800"/>
                </a:lnTo>
                <a:close/>
              </a:path>
              <a:path fill="none" w="21600" h="21600">
                <a:moveTo>
                  <a:pt x="20421" y="15706"/>
                </a:moveTo>
                <a:arcTo wR="10800" hR="10800" stAng="1621173" swAng="8893803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6616080" y="6401160"/>
            <a:ext cx="1652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63" y="16972"/>
                </a:moveTo>
                <a:arcTo wR="10800" hR="10800" stAng="2091268" swAng="8494152"/>
                <a:lnTo>
                  <a:pt x="10800" y="10800"/>
                </a:lnTo>
                <a:close/>
              </a:path>
              <a:path fill="none" w="21600" h="21600">
                <a:moveTo>
                  <a:pt x="19663" y="16972"/>
                </a:moveTo>
                <a:arcTo wR="10800" hR="10800" stAng="2091268" swAng="8494152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7T12:49:52Z</dcterms:created>
  <dc:creator>S. Vandenberg</dc:creator>
  <dc:description/>
  <dc:language>en-US</dc:language>
  <cp:lastModifiedBy>Donated by Intel</cp:lastModifiedBy>
  <cp:lastPrinted>2000-03-02T19:03:52Z</cp:lastPrinted>
  <dcterms:modified xsi:type="dcterms:W3CDTF">2000-03-02T19:03:55Z</dcterms:modified>
  <cp:revision>64</cp:revision>
  <dc:subject/>
  <dc:title>OODBMS Intro.</dc:title>
</cp:coreProperties>
</file>