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902-769C-4ECB-AE0B-61384316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360-8B04-4B40-904A-C0BCC5D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C05-A58D-4206-AAED-D24FC521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79F-12E3-47E7-AC32-42F930A8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081-E201-4520-9A63-7E35C47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275-F26A-4F32-8B8B-00534D3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100-7A62-46DF-AAC1-0DC954F2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030-92F6-467D-9EB1-8484FE9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655-9150-429B-BF3A-D62B82E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E7C-6586-4FCC-9F08-82F4511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FD0-87D0-409F-928B-3EA9A0DD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3C9-5B74-4BB3-BB21-A97568D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349-CFD8-437B-9C70-27AE8F54C737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AFF-78E7-4A5E-BEA7-5C01F93294A4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covery II:  Surviving Aborts and System Crash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covery: The UNDO Phas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ToUn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=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{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|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a lastLSN of a “loser” Xact}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Repea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oose largest LSN among ToUndo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is LSN is a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L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donextLSN==NUL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17000" indent="-203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rite an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cord for this Xac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is LSN is a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L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an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donextLSN != NUL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17000" indent="-203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d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donext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o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Undo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lse this LSN is an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pda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 Undo the update, write a CLR, ad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rev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o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Undo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Until </a:t>
            </a: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ToUndo</a:t>
            </a: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 is emp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of Recove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4181040" y="2095560"/>
            <a:ext cx="2672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begin_checkpoin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end_checkpoin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: T1 writes P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 T2 writes P3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1 abor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LR: Undo T1 LSN 1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1 En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: T3 writes P1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: T2 writes P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RASH, RESTAR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1828800"/>
            <a:ext cx="0" cy="41148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5486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343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505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2362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31280" y="1508040"/>
            <a:ext cx="207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LSN         LOG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81960" y="2093760"/>
            <a:ext cx="8053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0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0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1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2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3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4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4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5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6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85840" y="5791320"/>
            <a:ext cx="305280" cy="228600"/>
            <a:chOff x="3885840" y="5791320"/>
            <a:chExt cx="305280" cy="228600"/>
          </a:xfrm>
        </p:grpSpPr>
        <p:sp>
          <p:nvSpPr>
            <p:cNvPr id="191" name=""/>
            <p:cNvSpPr/>
            <p:nvPr/>
          </p:nvSpPr>
          <p:spPr>
            <a:xfrm>
              <a:off x="3886200" y="57913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885840" y="57913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1880" y="2982960"/>
            <a:ext cx="208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act Tabl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rty Page Tabl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lushed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137160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7600" y="5241960"/>
            <a:ext cx="132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Undo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55480" y="2948040"/>
            <a:ext cx="11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LSNs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58000" y="31240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720" y="3276720"/>
            <a:ext cx="259056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1905120"/>
            <a:ext cx="1676520" cy="914400"/>
            <a:chOff x="685800" y="1905120"/>
            <a:chExt cx="1676520" cy="914400"/>
          </a:xfrm>
        </p:grpSpPr>
        <p:sp>
          <p:nvSpPr>
            <p:cNvPr id="200" name=""/>
            <p:cNvSpPr/>
            <p:nvPr/>
          </p:nvSpPr>
          <p:spPr>
            <a:xfrm>
              <a:off x="1083240" y="219564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RAM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85800" y="1905120"/>
              <a:ext cx="1676520" cy="914400"/>
              <a:chOff x="685800" y="1905120"/>
              <a:chExt cx="1676520" cy="914400"/>
            </a:xfrm>
          </p:grpSpPr>
          <p:sp>
            <p:nvSpPr>
              <p:cNvPr id="202" name=""/>
              <p:cNvSpPr/>
              <p:nvPr/>
            </p:nvSpPr>
            <p:spPr>
              <a:xfrm>
                <a:off x="692280" y="1976400"/>
                <a:ext cx="1617480" cy="836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8580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7616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86688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95724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104760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13832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22868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1320480" y="1905120"/>
                <a:ext cx="442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1411200" y="1905120"/>
                <a:ext cx="4464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501920" y="1905120"/>
                <a:ext cx="442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591920" y="1905120"/>
                <a:ext cx="442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682640" y="1905120"/>
                <a:ext cx="4464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77336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186372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95408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4480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13516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22552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31624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316240" y="2754360"/>
                <a:ext cx="4608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8360" y="2041560"/>
                <a:ext cx="1527120" cy="70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886200" y="27432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963960"/>
            <a:ext cx="60948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37" y="5"/>
                </a:moveTo>
                <a:arcTo wR="10800" hR="10800" stAng="-5292605" swAng="10692605"/>
                <a:lnTo>
                  <a:pt x="10800" y="10800"/>
                </a:lnTo>
                <a:close/>
              </a:path>
              <a:path fill="none" w="21600" h="21600">
                <a:moveTo>
                  <a:pt x="11137" y="5"/>
                </a:moveTo>
                <a:arcTo wR="10800" hR="10800" stAng="-5292605" swAng="1069260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6200"/>
            <a:ext cx="213300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49" y="5393"/>
                </a:moveTo>
                <a:arcTo wR="10800" hR="10800" stAng="-1802482" swAng="7202482"/>
                <a:lnTo>
                  <a:pt x="10800" y="10800"/>
                </a:lnTo>
                <a:close/>
              </a:path>
              <a:path fill="none" w="21600" h="21600">
                <a:moveTo>
                  <a:pt x="20149" y="5393"/>
                </a:moveTo>
                <a:arcTo wR="10800" hR="10800" stAng="-1802482" swAng="7202482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5920" y="3543480"/>
            <a:ext cx="761760" cy="20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34" y="199"/>
                </a:moveTo>
                <a:arcTo wR="10800" hR="10800" stAng="-6061660" swAng="11461660"/>
                <a:lnTo>
                  <a:pt x="10800" y="10800"/>
                </a:lnTo>
                <a:close/>
              </a:path>
              <a:path fill="none" w="21600" h="21600">
                <a:moveTo>
                  <a:pt x="8734" y="199"/>
                </a:moveTo>
                <a:arcTo wR="10800" hR="10800" stAng="-6061660" swAng="1146166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162560" y="3352680"/>
            <a:ext cx="144756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: Crash During Restart!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4072680" y="1789200"/>
            <a:ext cx="429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begin_checkpoint, end_checkpoin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: T1 writes P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 T2 writes P3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1 abor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LR: Undo T1 LSN 10, T1 En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: T3 writes P1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pdate: T2 writes P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ASH, RESTAR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LR: Undo T2 LSN 6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LR: Undo T3 LSN 50, T3 en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ASH, RESTAR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LR: Undo T2 LSN 20, T2 en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905120"/>
            <a:ext cx="0" cy="4495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6400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5638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5181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419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4038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3657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276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438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057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31280" y="1508040"/>
            <a:ext cx="207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LSN         LOG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65760" y="1789200"/>
            <a:ext cx="904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00,0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1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2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3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40,4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5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6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70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80,8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90,95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47242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962160" y="47242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58672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62160" y="58672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880" y="2982960"/>
            <a:ext cx="208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act Tabl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rty Page Tabl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lushed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137160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600" y="5241960"/>
            <a:ext cx="132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Undo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1800" y="2795760"/>
            <a:ext cx="156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nextLSN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7848360" y="31240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1905120"/>
            <a:ext cx="1676520" cy="914400"/>
            <a:chOff x="685800" y="1905120"/>
            <a:chExt cx="1676520" cy="914400"/>
          </a:xfrm>
        </p:grpSpPr>
        <p:sp>
          <p:nvSpPr>
            <p:cNvPr id="257" name=""/>
            <p:cNvSpPr/>
            <p:nvPr/>
          </p:nvSpPr>
          <p:spPr>
            <a:xfrm>
              <a:off x="1083240" y="219564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RAM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85800" y="1905120"/>
              <a:ext cx="1676520" cy="914400"/>
              <a:chOff x="685800" y="1905120"/>
              <a:chExt cx="1676520" cy="914400"/>
            </a:xfrm>
          </p:grpSpPr>
          <p:sp>
            <p:nvSpPr>
              <p:cNvPr id="259" name=""/>
              <p:cNvSpPr/>
              <p:nvPr/>
            </p:nvSpPr>
            <p:spPr>
              <a:xfrm>
                <a:off x="692280" y="1976400"/>
                <a:ext cx="1617480" cy="836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8580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7616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86688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95724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04760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13832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2868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1320480" y="1905120"/>
                <a:ext cx="442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411200" y="1905120"/>
                <a:ext cx="4464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501920" y="1905120"/>
                <a:ext cx="442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1591920" y="1905120"/>
                <a:ext cx="442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1682640" y="1905120"/>
                <a:ext cx="4464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177336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86372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95408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04480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13516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22552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316240" y="1905120"/>
                <a:ext cx="4608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316240" y="2754360"/>
                <a:ext cx="4608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8360" y="2041560"/>
                <a:ext cx="1527120" cy="70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5801760" y="2744640"/>
            <a:ext cx="19717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79" y="323"/>
                </a:moveTo>
                <a:arcTo wR="10800" hR="10800" stAng="-6242581" swAng="11648112"/>
                <a:lnTo>
                  <a:pt x="10800" y="10800"/>
                </a:lnTo>
                <a:close/>
              </a:path>
              <a:path fill="none" w="21600" h="21600">
                <a:moveTo>
                  <a:pt x="8179" y="323"/>
                </a:moveTo>
                <a:arcTo wR="10800" hR="10800" stAng="-6242581" swAng="11648112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dditional Crash Issu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happens if system crashes during Analysis?  During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ow do you limit the amount of work i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lush asynchronously in the backgroun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atch for “hot spots”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ow do you limit the amount of work i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oid long-running Xac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of Logging/Recove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ecovery Manag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guarantees Atomicity &amp; Durabili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 WAL to allow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EAL/NO-FORCE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/o sacrificing correctnes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SNs identify log records; linked into backwards chains per transaction (via prevLSN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ageLSN allows comparison of data page and log record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, Cont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heckpointing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 quick way to limit the amount of log to scan on recovery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overy works in 3 phas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nalysis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ward from checkpoin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do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ward from oldest recLS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do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ackward from end to first LSN of oldest Xact alive at crash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pon Undo, write CLR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do “repeats history”: Simplifies the logic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Big Picture:  What’s Stored Wher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809880" y="1854360"/>
            <a:ext cx="1296720" cy="1269360"/>
            <a:chOff x="3809880" y="1854360"/>
            <a:chExt cx="1296720" cy="1269360"/>
          </a:xfrm>
        </p:grpSpPr>
        <p:sp>
          <p:nvSpPr>
            <p:cNvPr id="56" name=""/>
            <p:cNvSpPr/>
            <p:nvPr/>
          </p:nvSpPr>
          <p:spPr>
            <a:xfrm>
              <a:off x="3835440" y="1854360"/>
              <a:ext cx="1244520" cy="164880"/>
            </a:xfrm>
            <a:prstGeom prst="ellipse">
              <a:avLst/>
            </a:prstGeom>
            <a:noFill/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1936800"/>
              <a:ext cx="0" cy="9716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1936800"/>
              <a:ext cx="0" cy="9716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11680" y="2692800"/>
              <a:ext cx="12949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749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749448"/>
                </a:path>
              </a:pathLst>
            </a:custGeom>
            <a:noFill/>
            <a:ln cap="rnd"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111920" y="2271600"/>
            <a:ext cx="61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DB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33240" y="3306600"/>
            <a:ext cx="2161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ata page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each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with a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page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04080" y="3002040"/>
            <a:ext cx="257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Arial"/>
              </a:rPr>
              <a:t>Xact Tabl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Arial"/>
              </a:rPr>
              <a:t>Dirty Page Tabl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Arial"/>
              </a:rPr>
              <a:t>flushedLS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54640" y="1900080"/>
            <a:ext cx="1617840" cy="8366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4852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33888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42924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45600" y="21193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AM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51996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61032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0068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79140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83200" y="182880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973920" y="182844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064280" y="1828440"/>
            <a:ext cx="446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154640" y="182880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245000" y="182880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3572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42644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51680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60716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9788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78824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87860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878600" y="26780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64480" y="3168720"/>
            <a:ext cx="1686240" cy="2568960"/>
            <a:chOff x="1464480" y="3168720"/>
            <a:chExt cx="1686240" cy="2568960"/>
          </a:xfrm>
        </p:grpSpPr>
        <p:sp>
          <p:nvSpPr>
            <p:cNvPr id="86" name=""/>
            <p:cNvSpPr/>
            <p:nvPr/>
          </p:nvSpPr>
          <p:spPr>
            <a:xfrm>
              <a:off x="1464840" y="3168720"/>
              <a:ext cx="117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vLS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66640" y="3479760"/>
              <a:ext cx="60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ID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65560" y="3790800"/>
              <a:ext cx="66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65920" y="44085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65560" y="4097160"/>
              <a:ext cx="100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geID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65920" y="4718160"/>
              <a:ext cx="80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64480" y="5025960"/>
              <a:ext cx="1686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-imag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64840" y="5340240"/>
              <a:ext cx="147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-imag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75600" y="2797200"/>
            <a:ext cx="196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LogRecord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8520" y="4352760"/>
            <a:ext cx="0" cy="43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298520" y="4168440"/>
            <a:ext cx="185760" cy="18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298520" y="5343480"/>
            <a:ext cx="185760" cy="18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44560" y="1905120"/>
            <a:ext cx="2050560" cy="686880"/>
            <a:chOff x="844560" y="1905120"/>
            <a:chExt cx="2050560" cy="686880"/>
          </a:xfrm>
        </p:grpSpPr>
        <p:sp>
          <p:nvSpPr>
            <p:cNvPr id="99" name=""/>
            <p:cNvSpPr/>
            <p:nvPr/>
          </p:nvSpPr>
          <p:spPr>
            <a:xfrm>
              <a:off x="1095480" y="1905120"/>
              <a:ext cx="1628640" cy="68580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4560" y="1911240"/>
              <a:ext cx="501480" cy="67320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480" y="1905120"/>
              <a:ext cx="162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5480" y="2590920"/>
              <a:ext cx="162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53120" y="1906200"/>
              <a:ext cx="3420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99" y="12"/>
                  </a:moveTo>
                  <a:arcTo wR="10800" hR="10800" stAng="-5240958" swAng="10640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99" y="12"/>
                  </a:moveTo>
                  <a:arcTo wR="10800" hR="10800" stAng="-5240958" swAng="10640958"/>
                </a:path>
              </a:pathLst>
            </a:custGeom>
            <a:solidFill>
              <a:srgbClr val="438e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30240" y="2009880"/>
              <a:ext cx="330120" cy="476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15920" y="2106720"/>
              <a:ext cx="158760" cy="282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300720" y="1965240"/>
            <a:ext cx="1527120" cy="7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760" y="2041560"/>
            <a:ext cx="8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Book Antiqua"/>
              </a:rPr>
              <a:t>LOG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7600" y="4861080"/>
            <a:ext cx="221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ster recor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371600"/>
            <a:ext cx="0" cy="495288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1371600"/>
            <a:ext cx="0" cy="495288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imple Transaction Abor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now, consider an explicit abort of a Xac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crash involv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want to “play back” the log in reverse order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g updates of the Xac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e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ast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Xact from Xact tab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follow chain of log records backward via th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rev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iel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efore starting UNDO, write an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Abor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og recor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08440" indent="-2214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or recovering from crash during UNDO!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bort, cont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381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perform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must have a lock on data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problem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efore restoring old value of a page, write a CLR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You continue logging while you UNDO!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LR has one extra field: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donextLS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51560" indent="-2102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Points to the next LSN to undo (i.e. the prevLSN of the record we’re currently undoing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LRs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nev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Undone (but they might be Redone when repeating history: guarantees Atomicity!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t end of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write an “end” log recor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02160" y="152280"/>
          <a:ext cx="134640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2160" y="152280"/>
                    <a:ext cx="13464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491240" y="228600"/>
          <a:ext cx="134640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240" y="228600"/>
                    <a:ext cx="13464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696080" y="1752480"/>
            <a:ext cx="230400" cy="15408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752480"/>
            <a:ext cx="3429000" cy="1526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190512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6520" y="1003320"/>
            <a:ext cx="888840" cy="888840"/>
          </a:xfrm>
          <a:prstGeom prst="ellipse">
            <a:avLst/>
          </a:prstGeom>
          <a:solidFill>
            <a:srgbClr val="438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630760" y="585720"/>
          <a:ext cx="107496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0760" y="585720"/>
                    <a:ext cx="10749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769608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17524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96080" y="17524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34120" y="1752480"/>
            <a:ext cx="15228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752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2680" y="114948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44960" y="13017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3412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action Commi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rit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mmi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cord to lo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ll log records up to Xact’s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lastLS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flush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uarantees tha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flushedLSN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lastLS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e that log flushes are sequential, synchronous writes to dis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ny log records per log pa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mmit() retur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rit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end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ord to lo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rash Recovery: Big Pictur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3732120" y="1981080"/>
            <a:ext cx="541044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art from 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heckpoin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found vi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mast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cord).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ree phases.  Need to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gure out which Xacts committed since checkpoint, which failed (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alysi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DO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al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ction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repeat history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Book Antiqua"/>
              </a:rPr>
              <a:t>UNDO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ffects of failed Xact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1752480"/>
            <a:ext cx="0" cy="4191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120" y="1736640"/>
            <a:ext cx="1675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Book Antiqua"/>
              </a:rPr>
              <a:t>Oldest log rec. of Xact active at crash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680" y="2955960"/>
            <a:ext cx="1674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Book Antiqua"/>
              </a:rPr>
              <a:t>Smallest recLSN in dirty page table after Analysis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9880" y="5089680"/>
            <a:ext cx="16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Book Antiqua"/>
              </a:rPr>
              <a:t>Last chkpt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6200" y="5775480"/>
            <a:ext cx="167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Book Antiqua"/>
              </a:rPr>
              <a:t>CRASH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286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657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52578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257800"/>
            <a:ext cx="0" cy="7621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3657600"/>
            <a:ext cx="0" cy="23623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2286000"/>
            <a:ext cx="0" cy="3733920"/>
          </a:xfrm>
          <a:prstGeom prst="line">
            <a:avLst/>
          </a:prstGeom>
          <a:ln w="507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520" y="6156360"/>
            <a:ext cx="38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32040" y="6157800"/>
            <a:ext cx="37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89240" y="6157800"/>
            <a:ext cx="40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covery: The Analysis Phas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onstruct state at checkpoin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ia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nd_checkpoi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cor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can log forward from checkpoin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cord: Remove Xact from Xact tab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ther records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dd Xact to Xact table, se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astLSN=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change Xact status on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mmi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pda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cord: If P not in Dirty Page Table,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dd P to D.P.T., set it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cLSN=LS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covery: The REDO Phas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repeat Histor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o reconstruct state at crash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apply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all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pdates (even of aborted Xacts!), redo CLR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can forward from log rec containing smallest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ecLS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D.P.T. For each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L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r update log rec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LS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DO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he action unless we can verify that the change has already been written to disk, i.e.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ffected page is not in the Dirty Page Table, o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ffected page is in D.P.T., but ha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cLSN &gt; LSN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age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in DB)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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S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o REDO An Ac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9960" y="1752120"/>
            <a:ext cx="76215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apply logged ac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t pageLSN to LSN.  No additional logging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 of CLRs ensures that no change (including a change made during Undo) is ever carried out twice on the disk copy of an objec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kes it possible to record changes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logicall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e.g., increment by 1) instead of physically (i.e., before and after images of affected bytes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4:47:28Z</dcterms:created>
  <dc:creator/>
  <dc:description/>
  <dc:language>en-US</dc:language>
  <cp:lastModifiedBy>Donated by Intel</cp:lastModifiedBy>
  <cp:lastPrinted>1998-08-05T17:44:17Z</cp:lastPrinted>
  <dcterms:modified xsi:type="dcterms:W3CDTF">2000-02-25T22:32:08Z</dcterms:modified>
  <cp:revision>23</cp:revision>
  <dc:subject>Transaction Processing</dc:subject>
  <dc:title>Logging and Recovery</dc:title>
</cp:coreProperties>
</file>