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D8AE58-C23C-4A19-9EAA-97B09928E96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Img"/>
          </p:nvPr>
        </p:nvSpPr>
        <p:spPr>
          <a:xfrm>
            <a:off x="1209600" y="687240"/>
            <a:ext cx="4523040" cy="339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33720" y="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Book Antiqua"/>
              </a:rPr>
              <a:t>7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09600" y="687240"/>
            <a:ext cx="4523040" cy="3392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CBA-743D-4541-9A39-C2DFB9C4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CA1-A5D4-41DF-8EF6-8067B756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7D4C-C2F5-4E5F-A114-D7BB2ACE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C50-A55D-44E5-8269-FBF290C6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BE48-15A5-4444-8A52-5FEBBEEA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069-6BF5-4754-9700-747AE7A8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E66-EF60-40A2-A53F-B9627D74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B686-8469-4E53-BAE2-E6BF0D68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0CBA-807D-43ED-92AB-A4447A4E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F63-C6F9-45A4-BFEF-86CD3139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92CB-6681-4E52-9E7E-0F071B1D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442-91F1-4532-BB37-10F9E280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5FF1-6A8A-4B35-B94D-07C94CEDD3D4}" type="slidenum">
              <a:rPr b="0" lang="en-US" sz="1400" spc="-1" strike="noStrike">
                <a:solidFill>
                  <a:srgbClr val="005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4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6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" name=""/>
          <p:cNvSpPr/>
          <p:nvPr/>
        </p:nvSpPr>
        <p:spPr>
          <a:xfrm>
            <a:off x="8319600" y="6471720"/>
            <a:ext cx="1058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5B0C-E98B-45E6-AA0C-D37BD28A2018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covery I:  The Log and Write-Ahead Logging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Log Record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0" y="1523520"/>
            <a:ext cx="457056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ossible log record type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9480" indent="-3394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e00"/>
                </a:solidFill>
                <a:latin typeface="Book Antiqua"/>
              </a:rPr>
              <a:t>Updat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9480" indent="-3394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e00"/>
                </a:solidFill>
                <a:latin typeface="Book Antiqua"/>
              </a:rPr>
              <a:t>Commi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9480" indent="-3394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e00"/>
                </a:solidFill>
                <a:latin typeface="Book Antiqua"/>
              </a:rPr>
              <a:t>Abor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9480" indent="-3394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e00"/>
                </a:solidFill>
                <a:latin typeface="Book Antiqua"/>
              </a:rPr>
              <a:t>End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(signifies end of commit or abort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9480" indent="-3394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Compensation Log Records (CLRs)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35480" indent="-282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or UNDO action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039040" y="2516040"/>
            <a:ext cx="1980720" cy="3131640"/>
            <a:chOff x="2039040" y="2516040"/>
            <a:chExt cx="1980720" cy="3131640"/>
          </a:xfrm>
        </p:grpSpPr>
        <p:sp>
          <p:nvSpPr>
            <p:cNvPr id="187" name=""/>
            <p:cNvSpPr/>
            <p:nvPr/>
          </p:nvSpPr>
          <p:spPr>
            <a:xfrm>
              <a:off x="2040840" y="2516040"/>
              <a:ext cx="136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vLSN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39760" y="289872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ID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39760" y="3279600"/>
              <a:ext cx="761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39760" y="404172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0120" y="3660840"/>
              <a:ext cx="1166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geID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39400" y="4424400"/>
              <a:ext cx="931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39400" y="4805280"/>
              <a:ext cx="198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fore-image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39040" y="5189400"/>
              <a:ext cx="172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fter-image</a:t>
              </a:r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447840" y="1981080"/>
            <a:ext cx="3220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LogRecord fields: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405432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28800" y="474012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1752480" y="466380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752480" y="458784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828800" y="38253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1828440" y="5273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0080" y="4114800"/>
            <a:ext cx="1274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8e00"/>
                </a:solidFill>
                <a:latin typeface="Book Antiqua"/>
              </a:rPr>
              <a:t>update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record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only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Other Log-Related Stat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0773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Transaction Table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ne entry per active Xact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ntains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XID, status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running/committed/aborted), and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lastLS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Dirty Page Table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ne entry per dirty page in buffer pool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ntains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recLS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-- the LSN of the log record which </a:t>
            </a:r>
            <a:r>
              <a:rPr b="1" i="1" lang="en-US" sz="2400" spc="-1" strike="noStrike" u="sng">
                <a:solidFill>
                  <a:srgbClr val="005400"/>
                </a:solidFill>
                <a:uFillTx/>
                <a:latin typeface="Book Antiqua"/>
              </a:rPr>
              <a:t>first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aused the page to be dirty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Normal Execution of a Xac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3059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ries of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read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&amp;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write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, followed by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commi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or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abort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e will assume that write is atomic on disk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In practice, additional details to deal with non-atomic writes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Strict 2PL.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TEAL, NO-FORCE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buffer management, with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Write-Ahead Logging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heckpointing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eriodically, the DBMS creates a </a:t>
            </a:r>
            <a:r>
              <a:rPr b="0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checkpoint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, in order to minimize the time taken to recover in the event of a system crash.  Write to log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31440" indent="-2426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begin_checkpoin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cord:  Indicates when chkpt bega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31440" indent="-2426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end_checkpoin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cord:  Contains current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Xact tabl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nd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dirty page tabl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  This is a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`fuzzy checkpoint’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971280" indent="-19404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Other Xacts continue to run; so these tables accurate only as of the time of the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begin_checkpoint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record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2" marL="971280" indent="-19404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No attempt to force dirty pages to disk; effectiveness of checkpoint limited by oldest unwritten change to a dirty page. (So it’s a good idea to periodically flush dirty pages to disk!)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631440" indent="-2426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tore LSN of chkpt record in a safe place (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master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ecord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he Big Picture:  What’s Stored Wher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809880" y="1854360"/>
            <a:ext cx="1296720" cy="1269360"/>
            <a:chOff x="3809880" y="1854360"/>
            <a:chExt cx="1296720" cy="1269360"/>
          </a:xfrm>
        </p:grpSpPr>
        <p:sp>
          <p:nvSpPr>
            <p:cNvPr id="219" name=""/>
            <p:cNvSpPr/>
            <p:nvPr/>
          </p:nvSpPr>
          <p:spPr>
            <a:xfrm>
              <a:off x="3835440" y="1854360"/>
              <a:ext cx="1244520" cy="164880"/>
            </a:xfrm>
            <a:prstGeom prst="ellipse">
              <a:avLst/>
            </a:prstGeom>
            <a:noFill/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880" y="1936800"/>
              <a:ext cx="0" cy="97164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05520" y="1936800"/>
              <a:ext cx="0" cy="97164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11680" y="2692800"/>
              <a:ext cx="129492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7494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749448"/>
                </a:path>
              </a:pathLst>
            </a:custGeom>
            <a:noFill/>
            <a:ln cap="rnd"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111920" y="2271600"/>
            <a:ext cx="614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Book Antiqua"/>
              </a:rPr>
              <a:t>DB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33240" y="3306600"/>
            <a:ext cx="21618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ata page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f0e30"/>
                </a:solidFill>
                <a:latin typeface="Arial"/>
              </a:rPr>
              <a:t>each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0e3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f0e30"/>
                </a:solidFill>
                <a:latin typeface="Arial"/>
              </a:rPr>
              <a:t>with a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0e3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f0e30"/>
                </a:solidFill>
                <a:latin typeface="Arial"/>
              </a:rPr>
              <a:t>pageLSN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04080" y="3002040"/>
            <a:ext cx="257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6900"/>
                </a:solidFill>
                <a:latin typeface="Arial"/>
              </a:rPr>
              <a:t>Xact Table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LSN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6900"/>
                </a:solidFill>
                <a:latin typeface="Arial"/>
              </a:rPr>
              <a:t>Dirty Page Table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LSN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6900"/>
                </a:solidFill>
                <a:latin typeface="Arial"/>
              </a:rPr>
              <a:t>flushedLSN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4640" y="1900080"/>
            <a:ext cx="1617840" cy="836640"/>
          </a:xfrm>
          <a:prstGeom prst="rect">
            <a:avLst/>
          </a:prstGeom>
          <a:solidFill>
            <a:srgbClr val="f6bf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248520" y="182844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338880" y="182844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429240" y="182880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45600" y="21193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AM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519960" y="182880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610320" y="182844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700680" y="182844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791400" y="182880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883200" y="1828800"/>
            <a:ext cx="442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973920" y="1828440"/>
            <a:ext cx="442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7064280" y="1828440"/>
            <a:ext cx="4464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154640" y="1828800"/>
            <a:ext cx="442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245000" y="1828800"/>
            <a:ext cx="442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335720" y="182844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7426440" y="182844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516800" y="182880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607160" y="182880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97880" y="182844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788240" y="182880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7878600" y="182880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878600" y="2678040"/>
            <a:ext cx="460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464480" y="3168720"/>
            <a:ext cx="1686240" cy="2568960"/>
            <a:chOff x="1464480" y="3168720"/>
            <a:chExt cx="1686240" cy="2568960"/>
          </a:xfrm>
        </p:grpSpPr>
        <p:sp>
          <p:nvSpPr>
            <p:cNvPr id="249" name=""/>
            <p:cNvSpPr/>
            <p:nvPr/>
          </p:nvSpPr>
          <p:spPr>
            <a:xfrm>
              <a:off x="1464840" y="3168720"/>
              <a:ext cx="117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evLSN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66640" y="3479760"/>
              <a:ext cx="608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ID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65560" y="3790800"/>
              <a:ext cx="666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65920" y="44085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65560" y="4097160"/>
              <a:ext cx="1006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geID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65920" y="4718160"/>
              <a:ext cx="806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64480" y="5025960"/>
              <a:ext cx="1686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fore-image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64840" y="5340240"/>
              <a:ext cx="147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fter-image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975600" y="2797200"/>
            <a:ext cx="1960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8e00"/>
                </a:solidFill>
                <a:latin typeface="Arial"/>
              </a:rPr>
              <a:t>LogRecord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8520" y="4352760"/>
            <a:ext cx="0" cy="43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298520" y="4168440"/>
            <a:ext cx="185760" cy="18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1298520" y="5343480"/>
            <a:ext cx="185760" cy="18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844560" y="1905120"/>
            <a:ext cx="2050560" cy="686880"/>
            <a:chOff x="844560" y="1905120"/>
            <a:chExt cx="2050560" cy="686880"/>
          </a:xfrm>
        </p:grpSpPr>
        <p:sp>
          <p:nvSpPr>
            <p:cNvPr id="262" name=""/>
            <p:cNvSpPr/>
            <p:nvPr/>
          </p:nvSpPr>
          <p:spPr>
            <a:xfrm>
              <a:off x="1095480" y="1905120"/>
              <a:ext cx="1628640" cy="68580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4560" y="1911240"/>
              <a:ext cx="501480" cy="67320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95480" y="1905120"/>
              <a:ext cx="162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95480" y="2590920"/>
              <a:ext cx="162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53120" y="1906200"/>
              <a:ext cx="3420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299" y="12"/>
                  </a:moveTo>
                  <a:arcTo wR="10800" hR="10800" stAng="-5240958" swAng="10640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299" y="12"/>
                  </a:moveTo>
                  <a:arcTo wR="10800" hR="10800" stAng="-5240958" swAng="10640958"/>
                </a:path>
              </a:pathLst>
            </a:custGeom>
            <a:solidFill>
              <a:srgbClr val="438e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30240" y="2009880"/>
              <a:ext cx="330120" cy="476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15920" y="2106720"/>
              <a:ext cx="158760" cy="282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300720" y="1965240"/>
            <a:ext cx="1527120" cy="7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6760" y="2041560"/>
            <a:ext cx="80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Book Antiqua"/>
              </a:rPr>
              <a:t>LOG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87600" y="4861080"/>
            <a:ext cx="221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aster record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00400" y="1371600"/>
            <a:ext cx="0" cy="4952880"/>
          </a:xfrm>
          <a:prstGeom prst="line">
            <a:avLst/>
          </a:prstGeom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1371600"/>
            <a:ext cx="0" cy="4952880"/>
          </a:xfrm>
          <a:prstGeom prst="line">
            <a:avLst/>
          </a:prstGeom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view: The ACID properti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Book Antiqua"/>
              </a:rPr>
              <a:t>A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tomicity: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All actions in the Xact happen, or none happe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Book Antiqua"/>
              </a:rPr>
              <a:t>C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onsistency: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f each Xact is consistent, and the DB starts consistent, it ends up consistent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c0128"/>
                </a:solidFill>
                <a:latin typeface="Book Antiqua"/>
              </a:rPr>
              <a:t>I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solation: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Execution of one Xact is isolated from that of other Xact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Book Antiqua"/>
              </a:rPr>
              <a:t>D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urability: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f a Xact commits, its effects persist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e </a:t>
            </a:r>
            <a:r>
              <a:rPr b="1" lang="en-US" sz="2400" spc="-1" strike="noStrike">
                <a:solidFill>
                  <a:srgbClr val="fc0128"/>
                </a:solidFill>
                <a:latin typeface="Book Antiqua"/>
              </a:rPr>
              <a:t>Recovery Manage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guarantees Atomicity &amp; Durability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Motivation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tomicity: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ransactions may abort (“Rollback”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urability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hat if DBMS stops running?  (Causes?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67" name=""/>
          <p:cNvSpPr/>
          <p:nvPr/>
        </p:nvSpPr>
        <p:spPr>
          <a:xfrm>
            <a:off x="7953120" y="4033800"/>
            <a:ext cx="110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Book Antiqua"/>
              </a:rPr>
              <a:t>crash!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809880"/>
            <a:ext cx="44956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esired Behavior after system restarts: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T1, T2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&amp;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T3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hould be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durable.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T4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&amp; 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T5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hould be 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aborte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(effects not seen).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88920" y="4371840"/>
            <a:ext cx="528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1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2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3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4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5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29360" y="4564080"/>
            <a:ext cx="11872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2760" y="4865760"/>
            <a:ext cx="11858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7560" y="5248440"/>
            <a:ext cx="11872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97600" y="5621400"/>
            <a:ext cx="344160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29560" y="5934240"/>
            <a:ext cx="81288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542440" y="4552920"/>
            <a:ext cx="0" cy="1623960"/>
          </a:xfrm>
          <a:prstGeom prst="line">
            <a:avLst/>
          </a:prstGeom>
          <a:ln w="507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29360" y="4505400"/>
            <a:ext cx="0" cy="120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16640" y="4505400"/>
            <a:ext cx="0" cy="120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2760" y="4805280"/>
            <a:ext cx="0" cy="119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78600" y="4805280"/>
            <a:ext cx="0" cy="119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67560" y="5187960"/>
            <a:ext cx="0" cy="120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854840" y="5187960"/>
            <a:ext cx="0" cy="120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19560" y="5560920"/>
            <a:ext cx="0" cy="120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29560" y="5872320"/>
            <a:ext cx="0" cy="120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02160" y="3968640"/>
            <a:ext cx="4483080" cy="227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Assumptio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ncurrency control is in effect.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Strict 2PL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in particular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Updates are happening “in place”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.e., data is overwritten on (deleted from) the disk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simple scheme to guarantee Atomicity &amp; Durability?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Handling the Buffer Pool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Forc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every write to disk at commit time?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oor response tim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But provides durability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Stea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buffer-pool frames from uncommitted Xacts?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not, poor throughput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so, how can we ensure atomicity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3" name=""/>
          <p:cNvSpPr/>
          <p:nvPr/>
        </p:nvSpPr>
        <p:spPr>
          <a:xfrm>
            <a:off x="6100920" y="2825640"/>
            <a:ext cx="2806560" cy="227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37640" y="3156120"/>
            <a:ext cx="878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5fb"/>
                </a:solidFill>
                <a:latin typeface="Arial"/>
              </a:rPr>
              <a:t>Force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55680" y="445140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5fb"/>
                </a:solidFill>
                <a:latin typeface="Arial"/>
              </a:rPr>
              <a:t>No Force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51680" y="2471760"/>
            <a:ext cx="120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8e00"/>
                </a:solidFill>
                <a:latin typeface="Arial"/>
              </a:rPr>
              <a:t>No Steal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828560" y="2473200"/>
            <a:ext cx="793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8e00"/>
                </a:solidFill>
                <a:latin typeface="Arial"/>
              </a:rPr>
              <a:t>Steal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440" y="39625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42360" y="28195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06480" y="3184560"/>
            <a:ext cx="108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rivial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50280" y="3968640"/>
            <a:ext cx="1358640" cy="1130400"/>
          </a:xfrm>
          <a:prstGeom prst="rect">
            <a:avLst/>
          </a:prstGeom>
          <a:gradFill rotWithShape="0">
            <a:gsLst>
              <a:gs pos="0">
                <a:srgbClr val="394b49"/>
              </a:gs>
              <a:gs pos="50000">
                <a:srgbClr val="c0fef9"/>
              </a:gs>
              <a:gs pos="100000">
                <a:srgbClr val="394b4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01040" y="4327560"/>
            <a:ext cx="130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red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More on Steal and Forc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STEAL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(why enforcing Atomicity is hard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c3700"/>
                </a:solidFill>
                <a:latin typeface="Book Antiqua"/>
              </a:rPr>
              <a:t>To steal frame F: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urrent page in F (say P) is written to disk; some Xact holds lock on P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28520" indent="-20556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at if the Xact with the lock on P aborts?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2" marL="1028520" indent="-20556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Must remember the old value of P at steal time (to support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UNDO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ing the write to page P)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marL="308520" indent="-3085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NO FORCE</a:t>
            </a:r>
            <a:r>
              <a:rPr b="1" lang="en-US" sz="24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(why enforcing Durability is hard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hat if system crashes before a modified page is written to disk?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8520" indent="-2570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rite as little as possible, in a convenient place, at commit time,to support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REDO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g modification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Basic Idea: Logging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0773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cord REDO and UNDO information, for every update, in a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log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35480" indent="-282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equential writes to log (put it on a separate disk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35480" indent="-282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inimal info (diff) written to log, so multiple updates fit in a single log pag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9480" indent="-3394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Log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: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n ordered list of REDO/UNDO action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35480" indent="-282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og record contains: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&lt;XID, pageID, offset, length, old data, new data&gt;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35480" indent="-2829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nd additional control info (which we’ll see soon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16440" y="728640"/>
            <a:ext cx="1771920" cy="46368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6407280" y="914400"/>
            <a:ext cx="1821960" cy="534600"/>
            <a:chOff x="6407280" y="914400"/>
            <a:chExt cx="1821960" cy="534600"/>
          </a:xfrm>
        </p:grpSpPr>
        <p:sp>
          <p:nvSpPr>
            <p:cNvPr id="113" name=""/>
            <p:cNvSpPr/>
            <p:nvPr/>
          </p:nvSpPr>
          <p:spPr>
            <a:xfrm>
              <a:off x="6629400" y="914400"/>
              <a:ext cx="1447920" cy="53352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07280" y="920880"/>
              <a:ext cx="444240" cy="520560"/>
            </a:xfrm>
            <a:prstGeom prst="ellipse">
              <a:avLst/>
            </a:prstGeom>
            <a:solidFill>
              <a:srgbClr val="438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29400" y="91440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29400" y="144792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25040" y="915480"/>
              <a:ext cx="304200" cy="53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2" y="15"/>
                  </a:moveTo>
                  <a:arcTo wR="10800" hR="10800" stAng="-5221112" swAng="10621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2" y="15"/>
                  </a:moveTo>
                  <a:arcTo wR="10800" hR="10800" stAng="-5221112" swAng="10621112"/>
                </a:path>
              </a:pathLst>
            </a:custGeom>
            <a:solidFill>
              <a:srgbClr val="438e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83240" y="996840"/>
              <a:ext cx="29232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59560" y="1073160"/>
              <a:ext cx="13968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Write-Ahead Logging (WAL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 </a:t>
            </a:r>
            <a:r>
              <a:rPr b="0" lang="en-US" sz="2800" spc="-1" strike="noStrike">
                <a:solidFill>
                  <a:srgbClr val="0000ff"/>
                </a:solidFill>
                <a:latin typeface="Book Antiqua"/>
              </a:rPr>
              <a:t>Write-Ahead Logging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Protocol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Font typeface="Wingdings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ust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forc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the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log recor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for an update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befo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the corresponding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data pag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gets to disk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Font typeface="Wingdings" charset="2"/>
              <a:buChar char="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ust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write all log record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for a Xact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before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commit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#1 guarantees Atomicit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#2 guarantees Durabilit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xactly how is logging (and recovery!) done?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e’ll study the ARIES algorithm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WAL &amp; the Log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ach log record has a unique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Log Sequence Number (LSN).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SNs always increasing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ach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data page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ntains a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pageLSN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e LSN of the most recent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log record                                        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or an update to that pag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ystem keeps track of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flushedLSN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e max LSN flushed so far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WAL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: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Befor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a page is written,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pageLSN </a:t>
            </a:r>
            <a:r>
              <a:rPr b="0" lang="en-US" sz="2400" spc="-1" strike="noStrike">
                <a:solidFill>
                  <a:srgbClr val="bc3700"/>
                </a:solidFill>
                <a:latin typeface="Symbol"/>
                <a:ea typeface="Symbol"/>
              </a:rPr>
              <a:t>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flushedLSN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502160" y="158760"/>
            <a:ext cx="4483080" cy="1282680"/>
            <a:chOff x="4502160" y="158760"/>
            <a:chExt cx="4483080" cy="1282680"/>
          </a:xfrm>
        </p:grpSpPr>
        <p:sp>
          <p:nvSpPr>
            <p:cNvPr id="129" name=""/>
            <p:cNvSpPr/>
            <p:nvPr/>
          </p:nvSpPr>
          <p:spPr>
            <a:xfrm>
              <a:off x="4715640" y="944640"/>
              <a:ext cx="77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Book Antiqua"/>
                </a:rPr>
                <a:t>LSNs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6095880" y="235080"/>
              <a:ext cx="610920" cy="755280"/>
              <a:chOff x="6095880" y="235080"/>
              <a:chExt cx="610920" cy="75528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6095880" y="235080"/>
                <a:ext cx="610920" cy="755280"/>
                <a:chOff x="6095880" y="235080"/>
                <a:chExt cx="610920" cy="7552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6102360" y="235080"/>
                  <a:ext cx="596880" cy="1141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54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095880" y="291960"/>
                  <a:ext cx="0" cy="57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54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705720" y="291960"/>
                  <a:ext cx="0" cy="57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54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097680" y="736560"/>
                  <a:ext cx="609120" cy="25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07570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075703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54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6138720" y="452520"/>
                <a:ext cx="5371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5400"/>
                    </a:solidFill>
                    <a:latin typeface="Book Antiqua"/>
                  </a:rPr>
                  <a:t>DB</a:t>
                </a:r>
                <a:endParaRPr b="0" lang="en-US" sz="20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5817240" y="944640"/>
              <a:ext cx="1375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Book Antiqua"/>
                </a:rPr>
                <a:t>pageLSNs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98600" y="492120"/>
              <a:ext cx="736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Book Antiqua"/>
                </a:rPr>
                <a:t>RAM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7466040" y="304920"/>
              <a:ext cx="1296720" cy="685800"/>
              <a:chOff x="7466040" y="304920"/>
              <a:chExt cx="1296720" cy="685800"/>
            </a:xfrm>
          </p:grpSpPr>
          <p:sp>
            <p:nvSpPr>
              <p:cNvPr id="140" name=""/>
              <p:cNvSpPr/>
              <p:nvPr/>
            </p:nvSpPr>
            <p:spPr>
              <a:xfrm>
                <a:off x="7472520" y="360360"/>
                <a:ext cx="1249200" cy="623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7466040" y="304920"/>
                <a:ext cx="34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535880" y="304920"/>
                <a:ext cx="363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605360" y="304920"/>
                <a:ext cx="363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7675200" y="304920"/>
                <a:ext cx="363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7745400" y="304920"/>
                <a:ext cx="363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7815240" y="304920"/>
                <a:ext cx="363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7886520" y="304920"/>
                <a:ext cx="34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7956360" y="304920"/>
                <a:ext cx="34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8028000" y="304920"/>
                <a:ext cx="334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8097840" y="304920"/>
                <a:ext cx="334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8167320" y="304920"/>
                <a:ext cx="334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8237160" y="304920"/>
                <a:ext cx="34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8307360" y="304920"/>
                <a:ext cx="34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8377200" y="304920"/>
                <a:ext cx="367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8447040" y="304920"/>
                <a:ext cx="367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8516880" y="304920"/>
                <a:ext cx="367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8586720" y="304920"/>
                <a:ext cx="367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8656560" y="304920"/>
                <a:ext cx="367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8727840" y="304920"/>
                <a:ext cx="34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8727840" y="941400"/>
                <a:ext cx="3492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507440" y="407880"/>
                <a:ext cx="1179360" cy="527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7354080" y="944640"/>
              <a:ext cx="1542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Book Antiqua"/>
                </a:rPr>
                <a:t>flushedLSN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02160" y="158760"/>
              <a:ext cx="4483080" cy="1282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578480" y="457200"/>
              <a:ext cx="1059840" cy="382320"/>
              <a:chOff x="4578480" y="457200"/>
              <a:chExt cx="1059840" cy="382320"/>
            </a:xfrm>
          </p:grpSpPr>
          <p:sp>
            <p:nvSpPr>
              <p:cNvPr id="165" name=""/>
              <p:cNvSpPr/>
              <p:nvPr/>
            </p:nvSpPr>
            <p:spPr>
              <a:xfrm>
                <a:off x="4705200" y="457200"/>
                <a:ext cx="844560" cy="380880"/>
              </a:xfrm>
              <a:prstGeom prst="rect">
                <a:avLst/>
              </a:prstGeom>
              <a:solidFill>
                <a:srgbClr val="43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78480" y="463680"/>
                <a:ext cx="253800" cy="368280"/>
              </a:xfrm>
              <a:prstGeom prst="ellipse">
                <a:avLst/>
              </a:prstGeom>
              <a:solidFill>
                <a:srgbClr val="438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705200" y="457200"/>
                <a:ext cx="84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05200" y="838080"/>
                <a:ext cx="84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460840" y="458640"/>
                <a:ext cx="177480" cy="380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185" y="7"/>
                    </a:moveTo>
                    <a:arcTo wR="10800" hR="10800" stAng="-5277275" swAng="1067727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185" y="7"/>
                    </a:moveTo>
                    <a:arcTo wR="10800" hR="10800" stAng="-5277275" swAng="10677275"/>
                  </a:path>
                </a:pathLst>
              </a:custGeom>
              <a:solidFill>
                <a:srgbClr val="438e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622760" y="517680"/>
                <a:ext cx="165240" cy="260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667400" y="571680"/>
                <a:ext cx="7596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8540640" y="1835280"/>
            <a:ext cx="368280" cy="2654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40640" y="4502160"/>
            <a:ext cx="368280" cy="10540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194520" y="4799160"/>
            <a:ext cx="1190520" cy="1671480"/>
            <a:chOff x="6194520" y="4799160"/>
            <a:chExt cx="1190520" cy="1671480"/>
          </a:xfrm>
        </p:grpSpPr>
        <p:sp>
          <p:nvSpPr>
            <p:cNvPr id="175" name=""/>
            <p:cNvSpPr/>
            <p:nvPr/>
          </p:nvSpPr>
          <p:spPr>
            <a:xfrm>
              <a:off x="6254640" y="4807080"/>
              <a:ext cx="1130400" cy="1663560"/>
            </a:xfrm>
            <a:prstGeom prst="rect">
              <a:avLst/>
            </a:prstGeom>
            <a:noFill/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94520" y="4799160"/>
              <a:ext cx="1073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f0e30"/>
                  </a:solidFill>
                  <a:latin typeface="Book Antiqua"/>
                </a:rPr>
                <a:t>pageLSN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781680" y="4495680"/>
            <a:ext cx="167652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38880" y="3962160"/>
            <a:ext cx="1295640" cy="990360"/>
          </a:xfrm>
          <a:prstGeom prst="line">
            <a:avLst/>
          </a:prstGeom>
          <a:ln w="25560">
            <a:solidFill>
              <a:srgbClr val="bc3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10040" y="2109960"/>
            <a:ext cx="1870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7a5"/>
                </a:solidFill>
                <a:latin typeface="Book Antiqua"/>
              </a:rPr>
              <a:t>Log records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7a5"/>
                </a:solidFill>
                <a:latin typeface="Book Antiqua"/>
              </a:rPr>
              <a:t>flushed to disk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57680" y="4853160"/>
            <a:ext cx="124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“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Log tail”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in RAM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16560" y="5721480"/>
            <a:ext cx="673200" cy="67284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bc37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7T14:47:28Z</dcterms:created>
  <dc:creator/>
  <dc:description/>
  <dc:language>en-US</dc:language>
  <cp:lastModifiedBy>Donated by Intel</cp:lastModifiedBy>
  <cp:lastPrinted>2000-02-25T22:32:50Z</cp:lastPrinted>
  <dcterms:modified xsi:type="dcterms:W3CDTF">2000-02-25T22:32:54Z</dcterms:modified>
  <cp:revision>24</cp:revision>
  <dc:subject>Transaction Processing</dc:subject>
  <dc:title>Logging and Recovery</dc:title>
</cp:coreProperties>
</file>