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00C-A346-407A-960E-9B3F6D12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B77-0DC2-4A39-A637-E631CF1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A39-49CC-4B0A-BFD1-C91F6D07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1DA-CC98-4E82-A712-DED61B95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0B6-F7F9-4D42-A6FE-A6F9FAA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4E3-3016-42D0-8769-FD99D4E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C7A-586D-4D7E-993B-475920A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3BF-4D4D-4A34-83FD-0576FBF6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34B-B69B-4186-9B6C-09B4177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974-959B-4F19-8E42-E38709C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EB8-0DE6-484A-9FF0-7342A58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1C-D5ED-49E3-A3F0-DA825CB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E4D9-ADDB-4D96-8907-0F602F058638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E0C-EE30-49B7-ABE4-9D59FCE141DB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currency Control II:  Locking and Isolation Level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of Concurrency Contro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currency control key to a DBM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ore than just mutexe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ransactions and the ACID properti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 &amp; I are handled by concurrency control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&amp; D coming soon with logging &amp; recover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flicts arise when two Xacts access the same object, and one of the Xacts is modifying i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rial execution is our model of correctnes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, cont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rializability allows us to “simulate” serial execution with better performance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2PL: A simple mechanism to get serializabili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rict 2PL also gives us recoverability, AC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ock manager module automates 2PL so that only the access methods worry about i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ck table is a big main-mem hash tab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adlocks are possible, and typically a deadlock detector is used to solve the problem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, cont.:  SQL-92 suppor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2120" y="1755720"/>
          <a:ext cx="8734680" cy="48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755720"/>
                    <a:ext cx="873468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ocking: A Technique for C. C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currency control usually done vi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lock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ock info maintained by 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“lock manager”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ores (XID, RID, Mode) triple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is a simplistic view; suffices for now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ode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{S,X}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ck compatibility table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a Xact can’t get a lock, it is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spended on 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ait que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172200" y="4191120"/>
            <a:ext cx="2120760" cy="2143080"/>
            <a:chOff x="6172200" y="4191120"/>
            <a:chExt cx="2120760" cy="2143080"/>
          </a:xfrm>
        </p:grpSpPr>
        <p:grpSp>
          <p:nvGrpSpPr>
            <p:cNvPr id="57" name=""/>
            <p:cNvGrpSpPr/>
            <p:nvPr/>
          </p:nvGrpSpPr>
          <p:grpSpPr>
            <a:xfrm>
              <a:off x="6172200" y="4213440"/>
              <a:ext cx="2120760" cy="2120760"/>
              <a:chOff x="6172200" y="4213440"/>
              <a:chExt cx="2120760" cy="2120760"/>
            </a:xfrm>
          </p:grpSpPr>
          <p:sp>
            <p:nvSpPr>
              <p:cNvPr id="58" name=""/>
              <p:cNvSpPr/>
              <p:nvPr/>
            </p:nvSpPr>
            <p:spPr>
              <a:xfrm>
                <a:off x="6172200" y="4213440"/>
                <a:ext cx="2120760" cy="2120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21344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72200" y="4746600"/>
                <a:ext cx="52056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72200" y="528012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2200" y="581364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705360" y="4213440"/>
                <a:ext cx="52092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705360" y="4746600"/>
                <a:ext cx="52092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5360" y="5280120"/>
                <a:ext cx="52092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05360" y="5813640"/>
                <a:ext cx="52092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238880" y="421344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238880" y="4746600"/>
                <a:ext cx="52056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238880" y="528012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38880" y="581364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2400" y="421344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772400" y="4746600"/>
                <a:ext cx="52056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72400" y="528012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772400" y="5813640"/>
                <a:ext cx="520560" cy="520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761520" y="4192560"/>
              <a:ext cx="380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--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87120" y="419112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S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36480" y="4191120"/>
              <a:ext cx="36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28000" y="4802400"/>
              <a:ext cx="380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--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20440" y="533412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S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36280" y="5867640"/>
              <a:ext cx="36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9000" y="4800600"/>
              <a:ext cx="34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Symbol"/>
                  <a:ea typeface="Symbol"/>
                </a:rPr>
                <a:t>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59000" y="5334120"/>
              <a:ext cx="34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Symbol"/>
                  <a:ea typeface="Symbol"/>
                </a:rPr>
                <a:t>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59000" y="5867640"/>
              <a:ext cx="34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Symbol"/>
                  <a:ea typeface="Symbol"/>
                </a:rPr>
                <a:t>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92520" y="4800600"/>
              <a:ext cx="34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Symbol"/>
                  <a:ea typeface="Symbol"/>
                </a:rPr>
                <a:t>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26040" y="4800600"/>
              <a:ext cx="34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Symbol"/>
                  <a:ea typeface="Symbol"/>
                </a:rPr>
                <a:t>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92520" y="5334120"/>
              <a:ext cx="34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Symbol"/>
                  <a:ea typeface="Symbol"/>
                </a:rPr>
                <a:t>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248520" y="3733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LOCK REQUESTE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191120"/>
            <a:ext cx="45720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L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O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C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K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H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L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ook Antiqua"/>
              </a:rPr>
              <a:t>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wo-Phase Locking (2PL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2P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 wants to read an object, first obtains an S loc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 wants to modify an object, first obtains X loc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 releases any lock, it can acquir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no new lock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ocks are automatically obtained by DBM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Guarante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rializability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y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53040" y="5288040"/>
            <a:ext cx="1997280" cy="1464120"/>
            <a:chOff x="5153040" y="5288040"/>
            <a:chExt cx="1997280" cy="1464120"/>
          </a:xfrm>
        </p:grpSpPr>
        <p:sp>
          <p:nvSpPr>
            <p:cNvPr id="94" name=""/>
            <p:cNvSpPr/>
            <p:nvPr/>
          </p:nvSpPr>
          <p:spPr>
            <a:xfrm>
              <a:off x="6377040" y="6354720"/>
              <a:ext cx="77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im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53040" y="5288040"/>
              <a:ext cx="784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# of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locks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943600" y="4495680"/>
            <a:ext cx="2363760" cy="1830600"/>
            <a:chOff x="5943600" y="4495680"/>
            <a:chExt cx="2363760" cy="1830600"/>
          </a:xfrm>
        </p:grpSpPr>
        <p:sp>
          <p:nvSpPr>
            <p:cNvPr id="97" name=""/>
            <p:cNvSpPr/>
            <p:nvPr/>
          </p:nvSpPr>
          <p:spPr>
            <a:xfrm>
              <a:off x="5943600" y="48006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632448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4800600"/>
              <a:ext cx="2363760" cy="1525680"/>
            </a:xfrm>
            <a:custGeom>
              <a:avLst/>
              <a:gdLst/>
              <a:ahLst/>
              <a:rect l="l" t="t" r="r" b="b"/>
              <a:pathLst>
                <a:path w="1489" h="961">
                  <a:moveTo>
                    <a:pt x="0" y="960"/>
                  </a:moveTo>
                  <a:lnTo>
                    <a:pt x="165" y="640"/>
                  </a:lnTo>
                  <a:lnTo>
                    <a:pt x="413" y="400"/>
                  </a:lnTo>
                  <a:lnTo>
                    <a:pt x="578" y="80"/>
                  </a:lnTo>
                  <a:lnTo>
                    <a:pt x="826" y="0"/>
                  </a:lnTo>
                  <a:lnTo>
                    <a:pt x="909" y="80"/>
                  </a:lnTo>
                  <a:lnTo>
                    <a:pt x="1074" y="400"/>
                  </a:lnTo>
                  <a:lnTo>
                    <a:pt x="1157" y="720"/>
                  </a:lnTo>
                  <a:lnTo>
                    <a:pt x="1179" y="720"/>
                  </a:lnTo>
                  <a:lnTo>
                    <a:pt x="1198" y="720"/>
                  </a:lnTo>
                  <a:lnTo>
                    <a:pt x="1405" y="880"/>
                  </a:lnTo>
                  <a:lnTo>
                    <a:pt x="1488" y="960"/>
                  </a:lnTo>
                </a:path>
              </a:pathLst>
            </a:custGeom>
            <a:noFill/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46800" y="44956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97000" y="4602240"/>
            <a:ext cx="5300640" cy="2003400"/>
            <a:chOff x="3897000" y="4602240"/>
            <a:chExt cx="5300640" cy="2003400"/>
          </a:xfrm>
        </p:grpSpPr>
        <p:sp>
          <p:nvSpPr>
            <p:cNvPr id="102" name=""/>
            <p:cNvSpPr/>
            <p:nvPr/>
          </p:nvSpPr>
          <p:spPr>
            <a:xfrm>
              <a:off x="7238880" y="4919760"/>
              <a:ext cx="514440" cy="681120"/>
            </a:xfrm>
            <a:custGeom>
              <a:avLst/>
              <a:gdLst/>
              <a:ahLst/>
              <a:rect l="l" t="t" r="r" b="b"/>
              <a:pathLst>
                <a:path w="324" h="429">
                  <a:moveTo>
                    <a:pt x="323" y="0"/>
                  </a:moveTo>
                  <a:lnTo>
                    <a:pt x="78" y="219"/>
                  </a:lnTo>
                  <a:lnTo>
                    <a:pt x="104" y="219"/>
                  </a:lnTo>
                  <a:lnTo>
                    <a:pt x="125" y="219"/>
                  </a:lnTo>
                  <a:lnTo>
                    <a:pt x="141" y="219"/>
                  </a:lnTo>
                  <a:lnTo>
                    <a:pt x="203" y="245"/>
                  </a:lnTo>
                  <a:lnTo>
                    <a:pt x="193" y="256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4920" y="4602240"/>
              <a:ext cx="1321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Book Antiqua"/>
                </a:rPr>
                <a:t>lock point</a:t>
              </a:r>
              <a:endParaRPr b="0" lang="en-US" sz="18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34040" y="5722920"/>
              <a:ext cx="1028520" cy="547560"/>
            </a:xfrm>
            <a:custGeom>
              <a:avLst/>
              <a:gdLst/>
              <a:ahLst/>
              <a:rect l="l" t="t" r="r" b="b"/>
              <a:pathLst>
                <a:path w="648" h="345">
                  <a:moveTo>
                    <a:pt x="0" y="344"/>
                  </a:moveTo>
                  <a:lnTo>
                    <a:pt x="346" y="157"/>
                  </a:lnTo>
                  <a:lnTo>
                    <a:pt x="291" y="311"/>
                  </a:lnTo>
                  <a:lnTo>
                    <a:pt x="301" y="306"/>
                  </a:lnTo>
                  <a:lnTo>
                    <a:pt x="314" y="283"/>
                  </a:lnTo>
                  <a:lnTo>
                    <a:pt x="647" y="0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7000" y="6238800"/>
              <a:ext cx="178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Book Antiqua"/>
                </a:rPr>
                <a:t>growing phase</a:t>
              </a:r>
              <a:endParaRPr b="0" lang="en-US" sz="18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47360" y="5691240"/>
              <a:ext cx="1250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Book Antiqua"/>
                </a:rPr>
                <a:t>shrinking</a:t>
              </a:r>
              <a:endParaRPr b="0" lang="en-US" sz="1800" spc="-1" strike="noStrike">
                <a:solidFill>
                  <a:srgbClr val="005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Book Antiqua"/>
                </a:rPr>
                <a:t>   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Book Antiqua"/>
                </a:rPr>
                <a:t>phase</a:t>
              </a:r>
              <a:endParaRPr b="0" lang="en-US" sz="18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00840" y="5616720"/>
              <a:ext cx="474840" cy="282600"/>
            </a:xfrm>
            <a:custGeom>
              <a:avLst/>
              <a:gdLst/>
              <a:ahLst/>
              <a:rect l="l" t="t" r="r" b="b"/>
              <a:pathLst>
                <a:path w="299" h="178">
                  <a:moveTo>
                    <a:pt x="298" y="67"/>
                  </a:moveTo>
                  <a:lnTo>
                    <a:pt x="240" y="0"/>
                  </a:lnTo>
                  <a:lnTo>
                    <a:pt x="126" y="10"/>
                  </a:lnTo>
                  <a:lnTo>
                    <a:pt x="6" y="52"/>
                  </a:lnTo>
                  <a:lnTo>
                    <a:pt x="110" y="78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trict 2P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trict 2P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 wants to read an object, first obtains an S loc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 wants to modify an object, first obtains X loc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Hold all locks until end of transac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Guarantees serializability, and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ACA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too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us ensure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coverabilit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00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63244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4795920"/>
            <a:ext cx="1314360" cy="1530360"/>
          </a:xfrm>
          <a:custGeom>
            <a:avLst/>
            <a:gdLst/>
            <a:ahLst/>
            <a:rect l="l" t="t" r="r" b="b"/>
            <a:pathLst>
              <a:path w="828" h="964">
                <a:moveTo>
                  <a:pt x="0" y="963"/>
                </a:moveTo>
                <a:lnTo>
                  <a:pt x="165" y="643"/>
                </a:lnTo>
                <a:lnTo>
                  <a:pt x="413" y="403"/>
                </a:lnTo>
                <a:lnTo>
                  <a:pt x="578" y="83"/>
                </a:lnTo>
                <a:lnTo>
                  <a:pt x="821" y="0"/>
                </a:lnTo>
                <a:lnTo>
                  <a:pt x="821" y="136"/>
                </a:lnTo>
                <a:lnTo>
                  <a:pt x="816" y="381"/>
                </a:lnTo>
                <a:lnTo>
                  <a:pt x="816" y="741"/>
                </a:lnTo>
                <a:lnTo>
                  <a:pt x="821" y="783"/>
                </a:lnTo>
                <a:lnTo>
                  <a:pt x="821" y="861"/>
                </a:lnTo>
                <a:lnTo>
                  <a:pt x="821" y="918"/>
                </a:lnTo>
                <a:lnTo>
                  <a:pt x="827" y="959"/>
                </a:lnTo>
              </a:path>
            </a:pathLst>
          </a:custGeom>
          <a:noFill/>
          <a:ln cap="rnd" w="12600">
            <a:solidFill>
              <a:srgbClr val="bc3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46800" y="44956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53040" y="5288040"/>
            <a:ext cx="1997280" cy="1464120"/>
            <a:chOff x="5153040" y="5288040"/>
            <a:chExt cx="1997280" cy="1464120"/>
          </a:xfrm>
        </p:grpSpPr>
        <p:sp>
          <p:nvSpPr>
            <p:cNvPr id="117" name=""/>
            <p:cNvSpPr/>
            <p:nvPr/>
          </p:nvSpPr>
          <p:spPr>
            <a:xfrm>
              <a:off x="6377040" y="6354720"/>
              <a:ext cx="77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im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3040" y="5288040"/>
              <a:ext cx="784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# of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locks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ecedence Graph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Precedenc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or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erializabilit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graph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de for each committed Xac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rc from Ti to Tj if an action of Ti precedes and conflicts with an action of Tj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1 transfers $100 from A to B, T2 adds 6%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A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A), 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A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A), 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), R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), W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B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157640" y="5356080"/>
            <a:ext cx="573840" cy="567000"/>
            <a:chOff x="4157640" y="5356080"/>
            <a:chExt cx="573840" cy="567000"/>
          </a:xfrm>
        </p:grpSpPr>
        <p:sp>
          <p:nvSpPr>
            <p:cNvPr id="124" name=""/>
            <p:cNvSpPr/>
            <p:nvPr/>
          </p:nvSpPr>
          <p:spPr>
            <a:xfrm>
              <a:off x="4157640" y="5356080"/>
              <a:ext cx="566640" cy="567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3360" y="5411880"/>
              <a:ext cx="52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T1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445000" y="5383080"/>
            <a:ext cx="573840" cy="567000"/>
            <a:chOff x="5445000" y="5383080"/>
            <a:chExt cx="573840" cy="567000"/>
          </a:xfrm>
        </p:grpSpPr>
        <p:sp>
          <p:nvSpPr>
            <p:cNvPr id="127" name=""/>
            <p:cNvSpPr/>
            <p:nvPr/>
          </p:nvSpPr>
          <p:spPr>
            <a:xfrm>
              <a:off x="5445000" y="5383080"/>
              <a:ext cx="567000" cy="567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0720" y="5437080"/>
              <a:ext cx="52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T2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360000">
            <a:off x="4596120" y="5198400"/>
            <a:ext cx="102492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1"/>
                </a:moveTo>
                <a:arcTo wR="10800" hR="10800" stAng="-10781163" swAng="9448169"/>
                <a:lnTo>
                  <a:pt x="10800" y="10800"/>
                </a:lnTo>
                <a:close/>
              </a:path>
              <a:path fill="none" w="21600" h="21600">
                <a:moveTo>
                  <a:pt x="0" y="10741"/>
                </a:moveTo>
                <a:arcTo wR="10800" hR="10800" stAng="-10781163" swAng="9448169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440000">
            <a:off x="4627800" y="5562720"/>
            <a:ext cx="102312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5" y="6734"/>
                </a:moveTo>
                <a:arcTo wR="10800" hR="10800" stAng="-9472877" swAng="9454011"/>
                <a:lnTo>
                  <a:pt x="10800" y="10800"/>
                </a:lnTo>
                <a:close/>
              </a:path>
              <a:path fill="none" w="21600" h="21600">
                <a:moveTo>
                  <a:pt x="795" y="6734"/>
                </a:moveTo>
                <a:arcTo wR="10800" hR="10800" stAng="-9472877" swAng="9454011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flict Serializabil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2 schedules are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nflict equivalent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y have the same lists of actions, an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pair of conflicting actions is ordered in the same wa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chedule is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onflict serializabl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it is conflict equivalent to a serial schedu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No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ome serializable schedules are not conflict serializable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nother No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Some consistent schedules are not serializable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nflict Serializability &amp; Graph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heorem 1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chedule is conflict serializable iff its precedence graph is acyclic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heorem 2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2PL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nsures that the precedence graph will be acyclic!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trict 2PL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mproves on this by avoiding cascading aborts, avoiding problems with “undo” in the presence of WW conflicts, and ensuring recoverable schedu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ynamic Databas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we relax the assumption that the DB is a fixed collection of objects, even Strict 2PL will not ensure serializabilit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1 locks all pages containing sailor records with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1, and finds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oldes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 (say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71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xt, T2 inserts a new sailor;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1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96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2 also deletes oldest sailor with rating = 2 (and, say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80), and commi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1 now locks all pages containing sailor records with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2, and finds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oldes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say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63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 consistent DB state where T1 is “correct”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Problem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1 implicitly assumes that it has locked the set of all sailor records with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= 1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ssumption only holds if no sailor records are added while T1 is executing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sailor with rating 1, age 96 is a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hantom tup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eed some mechanism to enforce this assumption.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Index locking, predicate locking, or table locking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xample shows that conflict serializability guarantees serializability only if the set of objects is fixed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2:49:52Z</dcterms:created>
  <dc:creator/>
  <dc:description/>
  <dc:language>en-US</dc:language>
  <cp:lastModifiedBy>Donated by Intel</cp:lastModifiedBy>
  <cp:lastPrinted>1998-08-05T17:43:45Z</cp:lastPrinted>
  <dcterms:modified xsi:type="dcterms:W3CDTF">2000-02-24T20:32:23Z</dcterms:modified>
  <cp:revision>54</cp:revision>
  <dc:subject/>
  <dc:title>Concurrency Control</dc:title>
</cp:coreProperties>
</file>