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E657-036D-4D8B-9CAB-FC7DF34D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CEE7-3E61-4AF3-A379-19221F7D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F9B6-2DDB-4530-8603-38D83BBF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66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372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66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372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26D8-0BE9-47B2-9791-87D106F3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32A4-6050-4DCC-A4FD-566B9E79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618E-08D5-4E5E-919A-16C286F7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A098-2D9D-4948-AA45-EA089451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50C0-39F4-4889-9B53-4A549D86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41868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6A65-AD1E-41F9-B93F-5D9E6CF3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22E4-118F-4F98-A998-903E51E8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CBF5-8CAE-4B9D-9B58-456F9074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6EAC-5768-40B2-B8A6-E378DF7D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AB42-51F7-4E41-93D0-2C525648A6A1}" type="slidenum"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80880" y="209520"/>
            <a:ext cx="1525680" cy="1525680"/>
            <a:chOff x="380880" y="209520"/>
            <a:chExt cx="1525680" cy="1525680"/>
          </a:xfrm>
        </p:grpSpPr>
        <p:sp>
          <p:nvSpPr>
            <p:cNvPr id="4" name=""/>
            <p:cNvSpPr/>
            <p:nvPr/>
          </p:nvSpPr>
          <p:spPr>
            <a:xfrm>
              <a:off x="533520" y="361800"/>
              <a:ext cx="1220760" cy="1220760"/>
            </a:xfrm>
            <a:custGeom>
              <a:avLst/>
              <a:gdLst/>
              <a:ahLst/>
              <a:rect l="l" t="t" r="r" b="b"/>
              <a:pathLst>
                <a:path w="769" h="769">
                  <a:moveTo>
                    <a:pt x="384" y="0"/>
                  </a:moveTo>
                  <a:lnTo>
                    <a:pt x="0" y="384"/>
                  </a:lnTo>
                  <a:lnTo>
                    <a:pt x="384" y="768"/>
                  </a:lnTo>
                  <a:lnTo>
                    <a:pt x="768" y="384"/>
                  </a:lnTo>
                  <a:lnTo>
                    <a:pt x="384" y="0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380880" y="209520"/>
              <a:ext cx="1525680" cy="1525680"/>
              <a:chOff x="380880" y="209520"/>
              <a:chExt cx="1525680" cy="1525680"/>
            </a:xfrm>
          </p:grpSpPr>
          <p:sp>
            <p:nvSpPr>
              <p:cNvPr id="6" name=""/>
              <p:cNvSpPr/>
              <p:nvPr/>
            </p:nvSpPr>
            <p:spPr>
              <a:xfrm>
                <a:off x="114300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0" y="96"/>
                    </a:moveTo>
                    <a:lnTo>
                      <a:pt x="0" y="0"/>
                    </a:lnTo>
                    <a:lnTo>
                      <a:pt x="480" y="480"/>
                    </a:lnTo>
                    <a:lnTo>
                      <a:pt x="384" y="480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38088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480" y="0"/>
                    </a:moveTo>
                    <a:lnTo>
                      <a:pt x="480" y="96"/>
                    </a:lnTo>
                    <a:lnTo>
                      <a:pt x="96" y="480"/>
                    </a:lnTo>
                    <a:lnTo>
                      <a:pt x="0" y="480"/>
                    </a:lnTo>
                    <a:lnTo>
                      <a:pt x="48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300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384" y="0"/>
                    </a:moveTo>
                    <a:lnTo>
                      <a:pt x="480" y="0"/>
                    </a:lnTo>
                    <a:lnTo>
                      <a:pt x="0" y="480"/>
                    </a:lnTo>
                    <a:lnTo>
                      <a:pt x="0" y="384"/>
                    </a:lnTo>
                    <a:lnTo>
                      <a:pt x="384" y="0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8088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96" y="0"/>
                    </a:moveTo>
                    <a:lnTo>
                      <a:pt x="480" y="384"/>
                    </a:lnTo>
                    <a:lnTo>
                      <a:pt x="480" y="480"/>
                    </a:ln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2" name=""/>
          <p:cNvSpPr/>
          <p:nvPr/>
        </p:nvSpPr>
        <p:spPr>
          <a:xfrm>
            <a:off x="8319600" y="6471720"/>
            <a:ext cx="1058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7AD0-65EB-4BDD-A97B-FCC5AC92C917}" type="slidenum">
              <a:rPr b="0" lang="en-US" sz="1400" spc="-1" strike="noStrike">
                <a:solidFill>
                  <a:srgbClr val="0054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oncurrency Control I:  Transactions, Schedules, Anomalie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Now, Aborted Transaction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Serializable schedul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: Equivalent to a serial schedule of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committed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Xact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s if aborted Xacts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never happened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wo Issue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How does one undo the effects of a xact?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e’ll cover this in logging/recovery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hat if another Xact sees these effects??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Must undo that Xact as well!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ascading Abort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bort of T1 requires abort of T2!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53760" indent="-2512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Cascading Abort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hat about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WW conflict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&amp; aborts?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53760" indent="-2512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2 overwrites a value that T1 write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53760" indent="-2512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1 aborts: its “remembered” values are restored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53760" indent="-2512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Lose T2’s write!  We will see how to solve this, too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n </a:t>
            </a:r>
            <a:r>
              <a:rPr b="0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ACA (avoids cascading abort)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                             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chedule is one in which cascading abort cannot arise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53760" indent="-2512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 Xact only reads data from committed Xact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91480" y="58680"/>
          <a:ext cx="2176200" cy="36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1480" y="58680"/>
                    <a:ext cx="2176200" cy="36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Recoverable Schedule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30556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bort of T1 requires abort of T2!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But T2 has already committed!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 </a:t>
            </a:r>
            <a:r>
              <a:rPr b="0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recoverabl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schedule is one in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  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hich this cannot happen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.e., a Xact commits only after all the Xacts it reads from commit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CA implies Recoverable (but not vice-versa!)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Real systems typically ensure that only recoverable schedules arise (through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locking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)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91480" y="58680"/>
          <a:ext cx="2176200" cy="387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1480" y="58680"/>
                    <a:ext cx="2176200" cy="38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Why Have Concurrent Processes?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47560" y="2028960"/>
            <a:ext cx="814392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Better transaction throughput, response time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Done via better utilization of resource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hile one process is doing a disk read, another can be using the CPU or reading another disk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Bookman Old Style"/>
              </a:rPr>
              <a:t>DANGER DANGER!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 Concurrency could lead to incorrectness!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Must carefully manage concurrent data acces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here’s (much!) more here than the usual OS tricks!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Transaction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1976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Basic concurrency/recovery concept: a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transaction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 (Xact)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 sequence of many actions which are considered to be one atomic unit of work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DBMS “actions”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(disk) reads, (disk) write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pecial actions: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commit, abort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0" i="1" lang="en-US" sz="4000" spc="-1" strike="noStrike">
                <a:solidFill>
                  <a:srgbClr val="fc0128"/>
                </a:solidFill>
                <a:latin typeface="Book Antiqua"/>
              </a:rPr>
              <a:t>ACID</a:t>
            </a: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 Propertie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Book Antiqua"/>
              </a:rPr>
              <a:t>A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omicity: All actions in the Xact happen, or none happen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Book Antiqua"/>
              </a:rPr>
              <a:t>C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nsistency: If each Xact is consistent, and the DB starts consistent, it ends up consistent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c0128"/>
                </a:solidFill>
                <a:latin typeface="Book Antiqua"/>
              </a:rPr>
              <a:t>I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olation: Execution of one Xact is isolated from that of other Xact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Book Antiqua"/>
              </a:rPr>
              <a:t>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urability: If a Xact commits, its effects persist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Passing the ACID Test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Concurrency Contro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Guarantees Consistency and Isolation, given Atomicity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Logging and Recovery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Guarantees Atomicity and Durability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e’ll do C. C. first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hat problems could arise?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hat is acceptable behavior?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How do we guarantee acceptable behavior?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chedule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670572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Schedul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: An interleaving of actions from a set of Xacts, where the actions of any 1 Xact are in the original order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76080" indent="-2599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Represents some actual sequence of database action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76080" indent="-2599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Example: R</a:t>
            </a:r>
            <a:r>
              <a:rPr b="0" lang="en-US" sz="2400" spc="-1" strike="noStrike" baseline="-25000">
                <a:solidFill>
                  <a:srgbClr val="005400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A), W</a:t>
            </a:r>
            <a:r>
              <a:rPr b="0" lang="en-US" sz="2400" spc="-1" strike="noStrike" baseline="-25000">
                <a:solidFill>
                  <a:srgbClr val="005400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A), R</a:t>
            </a:r>
            <a:r>
              <a:rPr b="0" lang="en-US" sz="2400" spc="-1" strike="noStrike" baseline="-25000">
                <a:solidFill>
                  <a:srgbClr val="005400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B), W</a:t>
            </a:r>
            <a:r>
              <a:rPr b="0" lang="en-US" sz="2400" spc="-1" strike="noStrike" baseline="-25000">
                <a:solidFill>
                  <a:srgbClr val="005400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B), R</a:t>
            </a:r>
            <a:r>
              <a:rPr b="0" lang="en-US" sz="2400" spc="-1" strike="noStrike" baseline="-25000">
                <a:solidFill>
                  <a:srgbClr val="005400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C), W</a:t>
            </a:r>
            <a:r>
              <a:rPr b="0" lang="en-US" sz="2400" spc="-1" strike="noStrike" baseline="-25000">
                <a:solidFill>
                  <a:srgbClr val="005400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C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76080" indent="-2599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n a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complet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schedule, each Xact ends in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commi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or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abor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12120" indent="-3121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nitial State + Schedule </a:t>
            </a:r>
            <a:r>
              <a:rPr b="0" lang="en-US" sz="2800" spc="-1" strike="noStrike">
                <a:solidFill>
                  <a:srgbClr val="0054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Final State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934320" y="177840"/>
          <a:ext cx="2133360" cy="53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77840"/>
                    <a:ext cx="2133360" cy="53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Acceptable Schedule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4582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One sensible “isolated, consistent” schedule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39000" indent="-2455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Run Xacts one at a time, in a serie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39000" indent="-2455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his is called a 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serial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schedule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39000" indent="-2455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NOTE: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Different serial schedules can have different final states;  all are “OK” -- DBMS makes no guarantees about the order in which concurrently submitted Xacts are executed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94840" indent="-2948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Serializabl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schedule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39000" indent="-2455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Final state is what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som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serial schedule would have produced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39000" indent="-2455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borted Xacts are not part of schedule; ignore them for now (they are made to `disappear’ by using logging)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erializability Violation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32920" y="2014560"/>
            <a:ext cx="57150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wo actions may </a:t>
            </a:r>
            <a:r>
              <a:rPr b="0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conflict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when 2 xacts access the same item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90840" indent="-2656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W-R conflic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 T2 reads something T1 wrote; T1 </a:t>
            </a:r>
            <a:r>
              <a:rPr b="0" i="1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still active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90840" indent="-2656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R-W and W-W conflicts:     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imilar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18960" indent="-3189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WR conflict (dirty read)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90840" indent="-2656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Result is not equal to any serial execution!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90840" indent="-2656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2 reads what T1 wrote, but it shouldn’t have!!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508800" y="1028880"/>
          <a:ext cx="2550960" cy="582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08800" y="1028880"/>
                    <a:ext cx="255096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473880" y="79200"/>
            <a:ext cx="13111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transfer $100 from A to B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69160" y="79200"/>
            <a:ext cx="13114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add 6% interest to A &amp; B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7759800" y="138240"/>
            <a:ext cx="0" cy="838080"/>
          </a:xfrm>
          <a:prstGeom prst="line">
            <a:avLst/>
          </a:prstGeom>
          <a:ln w="1260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91320" y="2590920"/>
            <a:ext cx="1060200" cy="687240"/>
          </a:xfrm>
          <a:custGeom>
            <a:avLst/>
            <a:gdLst/>
            <a:ahLst/>
            <a:rect l="l" t="t" r="r" b="b"/>
            <a:pathLst>
              <a:path w="668" h="433">
                <a:moveTo>
                  <a:pt x="0" y="432"/>
                </a:moveTo>
                <a:lnTo>
                  <a:pt x="230" y="172"/>
                </a:lnTo>
                <a:lnTo>
                  <a:pt x="399" y="0"/>
                </a:lnTo>
                <a:lnTo>
                  <a:pt x="412" y="245"/>
                </a:lnTo>
                <a:lnTo>
                  <a:pt x="424" y="231"/>
                </a:lnTo>
                <a:lnTo>
                  <a:pt x="667" y="6"/>
                </a:lnTo>
              </a:path>
            </a:pathLst>
          </a:custGeom>
          <a:noFill/>
          <a:ln cap="rnd" w="12600">
            <a:solidFill>
              <a:srgbClr val="3333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00760" y="3397320"/>
            <a:ext cx="1622160" cy="1007280"/>
          </a:xfrm>
          <a:prstGeom prst="rect">
            <a:avLst/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Book Antiqua"/>
              </a:rPr>
              <a:t>Database is inconsistent!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More Conflict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57280" y="1690200"/>
            <a:ext cx="8337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RW Conflicts (Unrepeatable Read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586800" indent="-2257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2 overwrites what T1 read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586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586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586800" indent="-2257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gain, not equivalent to a serial execution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70720" indent="-2707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WW Conflicts (Lost Update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586800" indent="-2257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2 overwrites what T1 wrote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586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586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586800" indent="-2257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Usually occurs with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RW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or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W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anomalie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902880" indent="-180360"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Unless you have “blind writes” (as here).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666880"/>
            <a:ext cx="6934320" cy="820440"/>
          </a:xfrm>
          <a:prstGeom prst="rect">
            <a:avLst/>
          </a:prstGeom>
          <a:noFill/>
          <a:ln w="1260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1: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R(A),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R(A), C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2: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R(A), W(A), C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4952880"/>
            <a:ext cx="6934320" cy="820440"/>
          </a:xfrm>
          <a:prstGeom prst="rect">
            <a:avLst/>
          </a:prstGeom>
          <a:noFill/>
          <a:ln w="1260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1: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(A),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W(B), C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2: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(A), W(B), C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17T12:49:52Z</dcterms:created>
  <dc:creator/>
  <dc:description/>
  <dc:language>en-US</dc:language>
  <cp:lastModifiedBy>Donated by Intel</cp:lastModifiedBy>
  <cp:lastPrinted>2000-02-23T17:33:35Z</cp:lastPrinted>
  <dcterms:modified xsi:type="dcterms:W3CDTF">2000-02-23T17:33:39Z</dcterms:modified>
  <cp:revision>54</cp:revision>
  <dc:subject/>
  <dc:title>Concurrency Control</dc:title>
</cp:coreProperties>
</file>