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3EAF-7293-40BC-A141-1FFD4833DC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8DC-9076-4E2B-A7B0-C7F8930B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925-94CA-4E12-BD45-137AFB86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E77-0417-4D5A-8600-D32957F5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D4D-CAF4-4F35-A397-21E945EE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797-2BB0-4973-98F9-4C75917E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24A-9989-4853-8A5C-C56F7B75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C48-A4AA-4D08-8F2E-A9E46EF0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65C-67EE-47AD-BFFC-BC2B441F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69E-0E32-4F01-A898-2C88B6CB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6F4-3CFA-49B7-9620-CB056B9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8C9-076C-499F-887C-4DE9FFAE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4AD-9186-4407-B5CA-DEEBF7F8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AEA7-662D-428C-BB6C-98A3DB354CC3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4F1A-EFFB-4D49-A6FB-F4BF65848B54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Query Optimization II:  Size Estimation and Plan Gener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ass1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ailor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+ tree matches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ating&gt;5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                              and is probably cheapest.  However,                             if this selection is expected to                               retrieve a lot of tuples, and index is              unclustered, file scan may be cheaper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994320" indent="-19872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till, B+ tree plan kept (because tuples are in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rating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order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serv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+ tree o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matches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bid=500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; cheapest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3179880" y="131760"/>
            <a:ext cx="2982960" cy="161712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5400"/>
                </a:solidFill>
                <a:uFillTx/>
                <a:latin typeface="Book Antiqua"/>
              </a:rPr>
              <a:t>Sailors: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B+ tree on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rating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Hash on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s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5400"/>
                </a:solidFill>
                <a:uFillTx/>
                <a:latin typeface="Book Antiqua"/>
              </a:rPr>
              <a:t>Reserves: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B+ tree on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bi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480" y="4479840"/>
            <a:ext cx="88549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ass 2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 consider each plan retained from Pass 1 as the outer, and consider how to join it with the (only) other relation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e.g., </a:t>
            </a:r>
            <a:r>
              <a:rPr b="0" i="1" lang="en-US" sz="2000" spc="-1" strike="noStrike">
                <a:solidFill>
                  <a:srgbClr val="fc0128"/>
                </a:solidFill>
                <a:latin typeface="Book Antiqua"/>
              </a:rPr>
              <a:t>Reserves as outer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Hash index can be used to get Sailors tuples 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hat satisfy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= outer tuple’s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value.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392880" y="233280"/>
            <a:ext cx="2320560" cy="3509280"/>
            <a:chOff x="6392880" y="233280"/>
            <a:chExt cx="2320560" cy="3509280"/>
          </a:xfrm>
        </p:grpSpPr>
        <p:sp>
          <p:nvSpPr>
            <p:cNvPr id="187" name=""/>
            <p:cNvSpPr/>
            <p:nvPr/>
          </p:nvSpPr>
          <p:spPr>
            <a:xfrm>
              <a:off x="6534000" y="2405160"/>
              <a:ext cx="76320" cy="164880"/>
            </a:xfrm>
            <a:custGeom>
              <a:avLst/>
              <a:gdLst/>
              <a:ahLst/>
              <a:rect l="l" t="t" r="r" b="b"/>
              <a:pathLst>
                <a:path w="48" h="104">
                  <a:moveTo>
                    <a:pt x="47" y="52"/>
                  </a:moveTo>
                  <a:lnTo>
                    <a:pt x="40" y="15"/>
                  </a:lnTo>
                  <a:lnTo>
                    <a:pt x="24" y="0"/>
                  </a:lnTo>
                  <a:lnTo>
                    <a:pt x="7" y="15"/>
                  </a:lnTo>
                  <a:lnTo>
                    <a:pt x="0" y="52"/>
                  </a:lnTo>
                  <a:lnTo>
                    <a:pt x="7" y="88"/>
                  </a:lnTo>
                  <a:lnTo>
                    <a:pt x="24" y="103"/>
                  </a:lnTo>
                  <a:lnTo>
                    <a:pt x="40" y="88"/>
                  </a:lnTo>
                  <a:lnTo>
                    <a:pt x="47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70720" y="2408400"/>
              <a:ext cx="66600" cy="1440"/>
            </a:xfrm>
            <a:custGeom>
              <a:avLst/>
              <a:gdLst/>
              <a:ahLst/>
              <a:rect l="l" t="t" r="r" b="b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95960" y="250920"/>
              <a:ext cx="1800" cy="180720"/>
            </a:xfrm>
            <a:custGeom>
              <a:avLst/>
              <a:gdLst/>
              <a:ahLst/>
              <a:rect l="l" t="t" r="r" b="b"/>
              <a:pathLst>
                <a:path w="1" h="114">
                  <a:moveTo>
                    <a:pt x="0" y="0"/>
                  </a:moveTo>
                  <a:lnTo>
                    <a:pt x="0" y="1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9960" y="250920"/>
              <a:ext cx="1800" cy="180720"/>
            </a:xfrm>
            <a:custGeom>
              <a:avLst/>
              <a:gdLst/>
              <a:ahLst/>
              <a:rect l="l" t="t" r="r" b="b"/>
              <a:pathLst>
                <a:path w="1" h="114">
                  <a:moveTo>
                    <a:pt x="0" y="0"/>
                  </a:moveTo>
                  <a:lnTo>
                    <a:pt x="0" y="1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67520" y="233280"/>
              <a:ext cx="109440" cy="1800"/>
            </a:xfrm>
            <a:custGeom>
              <a:avLst/>
              <a:gdLst/>
              <a:ahLst/>
              <a:rect l="l" t="t" r="r" b="b"/>
              <a:pathLst>
                <a:path w="69" h="1">
                  <a:moveTo>
                    <a:pt x="0" y="0"/>
                  </a:moveTo>
                  <a:lnTo>
                    <a:pt x="6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59680" y="139392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78560" y="1393920"/>
              <a:ext cx="180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9680" y="1393920"/>
              <a:ext cx="220680" cy="13320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0" y="0"/>
                  </a:moveTo>
                  <a:lnTo>
                    <a:pt x="138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59680" y="1393920"/>
              <a:ext cx="220680" cy="13320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0" y="83"/>
                  </a:moveTo>
                  <a:lnTo>
                    <a:pt x="138" y="0"/>
                  </a:lnTo>
                  <a:lnTo>
                    <a:pt x="0" y="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86720" y="1933560"/>
              <a:ext cx="422280" cy="378000"/>
            </a:xfrm>
            <a:custGeom>
              <a:avLst/>
              <a:gdLst/>
              <a:ahLst/>
              <a:rect l="l" t="t" r="r" b="b"/>
              <a:pathLst>
                <a:path w="266" h="238">
                  <a:moveTo>
                    <a:pt x="0" y="237"/>
                  </a:moveTo>
                  <a:lnTo>
                    <a:pt x="265" y="0"/>
                  </a:lnTo>
                  <a:lnTo>
                    <a:pt x="0" y="2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9480" y="1933560"/>
              <a:ext cx="428760" cy="378000"/>
            </a:xfrm>
            <a:custGeom>
              <a:avLst/>
              <a:gdLst/>
              <a:ahLst/>
              <a:rect l="l" t="t" r="r" b="b"/>
              <a:pathLst>
                <a:path w="270" h="238">
                  <a:moveTo>
                    <a:pt x="0" y="0"/>
                  </a:moveTo>
                  <a:lnTo>
                    <a:pt x="269" y="23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69120" y="639720"/>
              <a:ext cx="1800" cy="593640"/>
            </a:xfrm>
            <a:custGeom>
              <a:avLst/>
              <a:gdLst/>
              <a:ahLst/>
              <a:rect l="l" t="t" r="r" b="b"/>
              <a:pathLst>
                <a:path w="1" h="374">
                  <a:moveTo>
                    <a:pt x="0" y="0"/>
                  </a:moveTo>
                  <a:lnTo>
                    <a:pt x="0" y="37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39000" y="2744640"/>
              <a:ext cx="1800" cy="543240"/>
            </a:xfrm>
            <a:custGeom>
              <a:avLst/>
              <a:gdLst/>
              <a:ahLst/>
              <a:rect l="l" t="t" r="r" b="b"/>
              <a:pathLst>
                <a:path w="1" h="342">
                  <a:moveTo>
                    <a:pt x="0" y="0"/>
                  </a:move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8200" y="2413080"/>
              <a:ext cx="73080" cy="163440"/>
            </a:xfrm>
            <a:custGeom>
              <a:avLst/>
              <a:gdLst/>
              <a:ahLst/>
              <a:rect l="l" t="t" r="r" b="b"/>
              <a:pathLst>
                <a:path w="46" h="103">
                  <a:moveTo>
                    <a:pt x="45" y="51"/>
                  </a:moveTo>
                  <a:lnTo>
                    <a:pt x="38" y="14"/>
                  </a:lnTo>
                  <a:lnTo>
                    <a:pt x="23" y="0"/>
                  </a:lnTo>
                  <a:lnTo>
                    <a:pt x="7" y="14"/>
                  </a:lnTo>
                  <a:lnTo>
                    <a:pt x="0" y="51"/>
                  </a:lnTo>
                  <a:lnTo>
                    <a:pt x="7" y="87"/>
                  </a:lnTo>
                  <a:lnTo>
                    <a:pt x="23" y="102"/>
                  </a:lnTo>
                  <a:lnTo>
                    <a:pt x="38" y="87"/>
                  </a:lnTo>
                  <a:lnTo>
                    <a:pt x="45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93120" y="2427120"/>
              <a:ext cx="66600" cy="1800"/>
            </a:xfrm>
            <a:custGeom>
              <a:avLst/>
              <a:gdLst/>
              <a:ahLst/>
              <a:rect l="l" t="t" r="r" b="b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42080" y="2778120"/>
              <a:ext cx="1800" cy="542880"/>
            </a:xfrm>
            <a:custGeom>
              <a:avLst/>
              <a:gdLst/>
              <a:ahLst/>
              <a:rect l="l" t="t" r="r" b="b"/>
              <a:pathLst>
                <a:path w="1" h="342">
                  <a:moveTo>
                    <a:pt x="0" y="0"/>
                  </a:move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2880" y="339084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61080" y="338940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1000" y="165420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42640" y="2479680"/>
              <a:ext cx="1056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62160" y="2471760"/>
              <a:ext cx="1151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92720" y="36180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067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y optimization is an important task in a relational DBM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ypically optimize 1 “select…” (query block) at a tim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ust understand optimization in order to understand the performance impact of a given database design (relations, indexes) on a workload (set of queries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wo parts to optimizing a quer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sider a set of alternative pla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74240" indent="-2145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Must prune search space; typically, left-deep plans only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estimate cost of each plan that is consider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74240" indent="-2145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Must estimate size of result and cost for each plan node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1074240" indent="-2145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Key issues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: Statistics, indexes, operator implementation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ize Estimation and Reduction Factor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sider a query block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ximum # tuples in result is the product of the cardinalities of relations in th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laus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duction factor (RF)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sociated with each</a:t>
            </a:r>
            <a:r>
              <a:rPr b="0" lang="en-US" sz="2800" spc="-1" strike="noStrike">
                <a:solidFill>
                  <a:srgbClr val="3365fb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3365fb"/>
                </a:solidFill>
                <a:latin typeface="Book Antiqua"/>
              </a:rPr>
              <a:t>term</a:t>
            </a:r>
            <a:r>
              <a:rPr b="0" lang="en-US" sz="2800" spc="-1" strike="noStrike">
                <a:solidFill>
                  <a:srgbClr val="3365fb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flects the impact of th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term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 reducing result size. 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sul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ardinalit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= Max # tuples  *  product of all RF’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mplici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assump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hat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term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are independent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erm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ol=valu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as RF =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1/NKeys(I)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iven index I o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o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erm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ol1=col2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as RF =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1/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MAX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(NKeys(I1), NKeys(I2)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05600" indent="-2714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erm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col&gt;valu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as RF =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(High(I)-value)/(High(I)-Low(I)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1198440"/>
            <a:ext cx="4583160" cy="118980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attribute lis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relation list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</a:rPr>
              <a:t>  term1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...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</a:rPr>
              <a:t>termk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sult Size Estimation (cont’d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lec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se reduction factors, logic, probabilit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ten use histograms, other statistic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ojection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gnore duplicate elimination (done last, if needed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uple size is reduced </a:t>
            </a:r>
            <a:r>
              <a:rPr b="0" lang="en-US" sz="2400" spc="-1" strike="noStrike">
                <a:solidFill>
                  <a:srgbClr val="0054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ewer pages for resul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Joins:  like selections, plu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Use candidate key informatio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hould consider “dangling” tuple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Algebra Equivalenc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llow us to choose different join orders and to `push’ selections and projections ahead of joi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lection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                                                        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Cascad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0" y="2535120"/>
                <a:ext cx="55119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Ù</m:t>
                        </m:r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sSub>
                      <m:e>
                        <m:r>
                          <m:t xml:space="preserve">ºs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286000" y="31194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d>
                    <m:sSub>
                      <m:e>
                        <m:r>
                          <m:t xml:space="preserve">ºs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7094160" y="3139920"/>
            <a:ext cx="192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Commut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00" y="3825720"/>
            <a:ext cx="235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rojections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09920" y="3718080"/>
                <a:ext cx="48132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sSub>
                      <m:e>
                        <m:r>
                          <m:t xml:space="preserve">ºp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311600" y="3824280"/>
            <a:ext cx="170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(Cascade)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840" y="4587840"/>
            <a:ext cx="136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Joins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29360" y="4648320"/>
            <a:ext cx="422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R</a:t>
            </a:r>
            <a:r>
              <a:rPr b="1" i="1" lang="en-US" sz="28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(S     T) </a:t>
            </a:r>
            <a:r>
              <a:rPr b="0" i="1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(R</a:t>
            </a:r>
            <a:r>
              <a:rPr b="1" i="1" lang="en-US" sz="28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)      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89680" y="45100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(Associative)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89280" y="5272200"/>
            <a:ext cx="12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88040" y="5257800"/>
            <a:ext cx="285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(R     S) </a:t>
            </a:r>
            <a:r>
              <a:rPr b="0" i="1" lang="en-US" sz="2800" spc="-1" strike="noStrike">
                <a:solidFill>
                  <a:srgbClr val="0054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(S     R) 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74080" y="5119560"/>
            <a:ext cx="192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(Commute)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905120" y="4648320"/>
                <a:ext cx="533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191120" y="4648320"/>
                <a:ext cx="533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66880" y="46483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952880" y="46483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57400" y="525780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505320" y="525780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More Equivalenc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16761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projection commutes with a selection that only uses attributes retained by the projectio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lection between attributes of the two arguments of a cross-product converts cross-product to a joi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A selection on just attributes of R commutes with          R     S.   (i.e.,  </a:t>
            </a:r>
            <a:r>
              <a:rPr b="0" lang="en-US" sz="2800" spc="-1" strike="noStrike">
                <a:solidFill>
                  <a:srgbClr val="60c9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(R      S)     </a:t>
            </a:r>
            <a:r>
              <a:rPr b="0" lang="en-US" sz="2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60c9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(R)      S 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ilarly, if a projection follows a join R     S, we can `push’ it by retaining only attributes of R (and S) that are needed for the join or are kept by the projectio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867280" y="39625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352680" y="39625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85800" y="39625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781680" y="44956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am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serve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lt;</m:t>
                    </m:r>
                    <m:r>
                      <m:rPr>
                        <m:lit/>
                        <m:nor/>
                      </m:rPr>
                      <m:t xml:space="preserve">Sailor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umeration of Alternative Pla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re are two main cas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ingle-relation pla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Multiple-relation pla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queries over a single relation, queries consist of a combination of selects, projects, and aggregate op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available access path (file scan / index) is considered, and the one with the least estimated cost is chose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different operations are essentially carried out together (e.g., if an index is used for a selection, projection is done for each retrieved tuple, and the resulting tuples ar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pipelin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nto the aggregate computation)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Queries Over Multiple Rel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undamental decision in System R: 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only left-deep join trees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re consider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s the number of joins increases, the number of alternative plans grows rapidly;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we need to restrict the search spac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eft-deep trees allow us to generate all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fully pipeline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lan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17000" indent="-2034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termediate results not written to temporary fil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17000" indent="-203400">
              <a:spcBef>
                <a:spcPts val="601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 all left-deep trees are fully pipelined (e.g., SM join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75800" y="4648320"/>
            <a:ext cx="4402800" cy="1965960"/>
            <a:chOff x="4375800" y="4648320"/>
            <a:chExt cx="4402800" cy="1965960"/>
          </a:xfrm>
        </p:grpSpPr>
        <p:sp>
          <p:nvSpPr>
            <p:cNvPr id="105" name=""/>
            <p:cNvSpPr/>
            <p:nvPr/>
          </p:nvSpPr>
          <p:spPr>
            <a:xfrm>
              <a:off x="4925880" y="5748480"/>
              <a:ext cx="180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6520" y="574848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5880" y="5748480"/>
              <a:ext cx="26208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0"/>
                  </a:moveTo>
                  <a:lnTo>
                    <a:pt x="164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25880" y="5748480"/>
              <a:ext cx="26208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65"/>
                  </a:moveTo>
                  <a:lnTo>
                    <a:pt x="164" y="0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11880" y="5240160"/>
              <a:ext cx="1440" cy="10332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73600" y="5240160"/>
              <a:ext cx="1800" cy="10332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880" y="5240160"/>
              <a:ext cx="263520" cy="103320"/>
            </a:xfrm>
            <a:custGeom>
              <a:avLst/>
              <a:gdLst/>
              <a:ahLst/>
              <a:rect l="l" t="t" r="r" b="b"/>
              <a:pathLst>
                <a:path w="166" h="65">
                  <a:moveTo>
                    <a:pt x="0" y="0"/>
                  </a:moveTo>
                  <a:lnTo>
                    <a:pt x="165" y="6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1880" y="5240160"/>
              <a:ext cx="263520" cy="103320"/>
            </a:xfrm>
            <a:custGeom>
              <a:avLst/>
              <a:gdLst/>
              <a:ahLst/>
              <a:rect l="l" t="t" r="r" b="b"/>
              <a:pathLst>
                <a:path w="166" h="65">
                  <a:moveTo>
                    <a:pt x="0" y="64"/>
                  </a:moveTo>
                  <a:lnTo>
                    <a:pt x="165" y="0"/>
                  </a:ln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18040" y="4665600"/>
              <a:ext cx="180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8680" y="466560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18040" y="4665600"/>
              <a:ext cx="26208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0"/>
                  </a:moveTo>
                  <a:lnTo>
                    <a:pt x="164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18040" y="4665600"/>
              <a:ext cx="26208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65"/>
                  </a:moveTo>
                  <a:lnTo>
                    <a:pt x="164" y="0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53000" y="4802040"/>
              <a:ext cx="482760" cy="398520"/>
            </a:xfrm>
            <a:custGeom>
              <a:avLst/>
              <a:gdLst/>
              <a:ahLst/>
              <a:rect l="l" t="t" r="r" b="b"/>
              <a:pathLst>
                <a:path w="304" h="251">
                  <a:moveTo>
                    <a:pt x="0" y="250"/>
                  </a:moveTo>
                  <a:lnTo>
                    <a:pt x="303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1880" y="4811760"/>
              <a:ext cx="401760" cy="33480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0" y="0"/>
                  </a:moveTo>
                  <a:lnTo>
                    <a:pt x="252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57640" y="5342040"/>
              <a:ext cx="484200" cy="398520"/>
            </a:xfrm>
            <a:custGeom>
              <a:avLst/>
              <a:gdLst/>
              <a:ahLst/>
              <a:rect l="l" t="t" r="r" b="b"/>
              <a:pathLst>
                <a:path w="305" h="251">
                  <a:moveTo>
                    <a:pt x="0" y="250"/>
                  </a:moveTo>
                  <a:lnTo>
                    <a:pt x="304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48320" y="5351400"/>
              <a:ext cx="401760" cy="33516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0" y="0"/>
                  </a:moveTo>
                  <a:lnTo>
                    <a:pt x="252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872320"/>
              <a:ext cx="484200" cy="396720"/>
            </a:xfrm>
            <a:custGeom>
              <a:avLst/>
              <a:gdLst/>
              <a:ahLst/>
              <a:rect l="l" t="t" r="r" b="b"/>
              <a:pathLst>
                <a:path w="305" h="250">
                  <a:moveTo>
                    <a:pt x="0" y="249"/>
                  </a:moveTo>
                  <a:lnTo>
                    <a:pt x="304" y="0"/>
                  </a:lnTo>
                  <a:lnTo>
                    <a:pt x="0" y="2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62680" y="5881680"/>
              <a:ext cx="403200" cy="334800"/>
            </a:xfrm>
            <a:custGeom>
              <a:avLst/>
              <a:gdLst/>
              <a:ahLst/>
              <a:rect l="l" t="t" r="r" b="b"/>
              <a:pathLst>
                <a:path w="254" h="211">
                  <a:moveTo>
                    <a:pt x="0" y="0"/>
                  </a:moveTo>
                  <a:lnTo>
                    <a:pt x="253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83640" y="5764320"/>
              <a:ext cx="1440" cy="10620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43920" y="5764320"/>
              <a:ext cx="1440" cy="10620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83640" y="5764320"/>
              <a:ext cx="261720" cy="10620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0" y="0"/>
                  </a:moveTo>
                  <a:lnTo>
                    <a:pt x="164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83640" y="5764320"/>
              <a:ext cx="261720" cy="10620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0" y="66"/>
                  </a:moveTo>
                  <a:lnTo>
                    <a:pt x="164" y="0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53440" y="522288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3720" y="522288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3440" y="5222880"/>
              <a:ext cx="26172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0"/>
                  </a:moveTo>
                  <a:lnTo>
                    <a:pt x="164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53440" y="5222880"/>
              <a:ext cx="26172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65"/>
                  </a:moveTo>
                  <a:lnTo>
                    <a:pt x="164" y="0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58160" y="464832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20240" y="464832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58160" y="464832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0" y="0"/>
                  </a:moveTo>
                  <a:lnTo>
                    <a:pt x="165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58160" y="464832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0" y="65"/>
                  </a:moveTo>
                  <a:lnTo>
                    <a:pt x="165" y="0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91320" y="4784760"/>
              <a:ext cx="484200" cy="398520"/>
            </a:xfrm>
            <a:custGeom>
              <a:avLst/>
              <a:gdLst/>
              <a:ahLst/>
              <a:rect l="l" t="t" r="r" b="b"/>
              <a:pathLst>
                <a:path w="305" h="251">
                  <a:moveTo>
                    <a:pt x="0" y="250"/>
                  </a:moveTo>
                  <a:lnTo>
                    <a:pt x="304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3440" y="4794120"/>
              <a:ext cx="401760" cy="33516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0" y="0"/>
                  </a:moveTo>
                  <a:lnTo>
                    <a:pt x="252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7120" y="5346720"/>
              <a:ext cx="482760" cy="398520"/>
            </a:xfrm>
            <a:custGeom>
              <a:avLst/>
              <a:gdLst/>
              <a:ahLst/>
              <a:rect l="l" t="t" r="r" b="b"/>
              <a:pathLst>
                <a:path w="304" h="251">
                  <a:moveTo>
                    <a:pt x="0" y="250"/>
                  </a:moveTo>
                  <a:lnTo>
                    <a:pt x="303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7800" y="5357880"/>
              <a:ext cx="401760" cy="333360"/>
            </a:xfrm>
            <a:custGeom>
              <a:avLst/>
              <a:gdLst/>
              <a:ahLst/>
              <a:rect l="l" t="t" r="r" b="b"/>
              <a:pathLst>
                <a:path w="253" h="210">
                  <a:moveTo>
                    <a:pt x="0" y="0"/>
                  </a:moveTo>
                  <a:lnTo>
                    <a:pt x="252" y="20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1200" y="5886360"/>
              <a:ext cx="482400" cy="398520"/>
            </a:xfrm>
            <a:custGeom>
              <a:avLst/>
              <a:gdLst/>
              <a:ahLst/>
              <a:rect l="l" t="t" r="r" b="b"/>
              <a:pathLst>
                <a:path w="304" h="251">
                  <a:moveTo>
                    <a:pt x="0" y="250"/>
                  </a:moveTo>
                  <a:lnTo>
                    <a:pt x="303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21520" y="5896080"/>
              <a:ext cx="401760" cy="33480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0" y="0"/>
                  </a:moveTo>
                  <a:lnTo>
                    <a:pt x="252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45640" y="623736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75800" y="624852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41000" y="568008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6480" y="515304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04840" y="625140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34640" y="626256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45840" y="573732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36600" y="513720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47240" y="4648320"/>
            <a:ext cx="4155480" cy="1890000"/>
            <a:chOff x="147240" y="4648320"/>
            <a:chExt cx="4155480" cy="1890000"/>
          </a:xfrm>
        </p:grpSpPr>
        <p:sp>
          <p:nvSpPr>
            <p:cNvPr id="150" name=""/>
            <p:cNvSpPr/>
            <p:nvPr/>
          </p:nvSpPr>
          <p:spPr>
            <a:xfrm>
              <a:off x="3247920" y="5459400"/>
              <a:ext cx="1800" cy="13968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0"/>
                  </a:move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86040" y="5459400"/>
              <a:ext cx="1800" cy="13968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0"/>
                  </a:move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7920" y="5459400"/>
              <a:ext cx="439920" cy="139680"/>
            </a:xfrm>
            <a:custGeom>
              <a:avLst/>
              <a:gdLst/>
              <a:ahLst/>
              <a:rect l="l" t="t" r="r" b="b"/>
              <a:pathLst>
                <a:path w="277" h="88">
                  <a:moveTo>
                    <a:pt x="0" y="0"/>
                  </a:moveTo>
                  <a:lnTo>
                    <a:pt x="276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7920" y="5459400"/>
              <a:ext cx="439920" cy="139680"/>
            </a:xfrm>
            <a:custGeom>
              <a:avLst/>
              <a:gdLst/>
              <a:ahLst/>
              <a:rect l="l" t="t" r="r" b="b"/>
              <a:pathLst>
                <a:path w="277" h="88">
                  <a:moveTo>
                    <a:pt x="0" y="87"/>
                  </a:moveTo>
                  <a:lnTo>
                    <a:pt x="276" y="0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76560" y="4648320"/>
              <a:ext cx="1440" cy="141120"/>
            </a:xfrm>
            <a:custGeom>
              <a:avLst/>
              <a:gdLst/>
              <a:ahLst/>
              <a:rect l="l" t="t" r="r" b="b"/>
              <a:pathLst>
                <a:path w="1" h="89">
                  <a:moveTo>
                    <a:pt x="0" y="0"/>
                  </a:move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14680" y="4648320"/>
              <a:ext cx="1440" cy="141120"/>
            </a:xfrm>
            <a:custGeom>
              <a:avLst/>
              <a:gdLst/>
              <a:ahLst/>
              <a:rect l="l" t="t" r="r" b="b"/>
              <a:pathLst>
                <a:path w="1" h="89">
                  <a:moveTo>
                    <a:pt x="0" y="0"/>
                  </a:move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6560" y="4648320"/>
              <a:ext cx="439560" cy="141120"/>
            </a:xfrm>
            <a:custGeom>
              <a:avLst/>
              <a:gdLst/>
              <a:ahLst/>
              <a:rect l="l" t="t" r="r" b="b"/>
              <a:pathLst>
                <a:path w="277" h="89">
                  <a:moveTo>
                    <a:pt x="0" y="0"/>
                  </a:moveTo>
                  <a:lnTo>
                    <a:pt x="276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6560" y="4648320"/>
              <a:ext cx="439560" cy="141120"/>
            </a:xfrm>
            <a:custGeom>
              <a:avLst/>
              <a:gdLst/>
              <a:ahLst/>
              <a:rect l="l" t="t" r="r" b="b"/>
              <a:pathLst>
                <a:path w="277" h="89">
                  <a:moveTo>
                    <a:pt x="0" y="88"/>
                  </a:moveTo>
                  <a:lnTo>
                    <a:pt x="276" y="0"/>
                  </a:lnTo>
                  <a:lnTo>
                    <a:pt x="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55720" y="5583240"/>
              <a:ext cx="806760" cy="531720"/>
            </a:xfrm>
            <a:custGeom>
              <a:avLst/>
              <a:gdLst/>
              <a:ahLst/>
              <a:rect l="l" t="t" r="r" b="b"/>
              <a:pathLst>
                <a:path w="508" h="335">
                  <a:moveTo>
                    <a:pt x="0" y="334"/>
                  </a:moveTo>
                  <a:lnTo>
                    <a:pt x="507" y="0"/>
                  </a:lnTo>
                  <a:lnTo>
                    <a:pt x="0" y="3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76520" y="5597640"/>
              <a:ext cx="669960" cy="446040"/>
            </a:xfrm>
            <a:custGeom>
              <a:avLst/>
              <a:gdLst/>
              <a:ahLst/>
              <a:rect l="l" t="t" r="r" b="b"/>
              <a:pathLst>
                <a:path w="422" h="281">
                  <a:moveTo>
                    <a:pt x="0" y="0"/>
                  </a:moveTo>
                  <a:lnTo>
                    <a:pt x="421" y="28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01880" y="5440320"/>
              <a:ext cx="1440" cy="13968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0"/>
                  </a:move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1440" y="5440320"/>
              <a:ext cx="1440" cy="13968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0"/>
                  </a:move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01880" y="5440320"/>
              <a:ext cx="441000" cy="139680"/>
            </a:xfrm>
            <a:custGeom>
              <a:avLst/>
              <a:gdLst/>
              <a:ahLst/>
              <a:rect l="l" t="t" r="r" b="b"/>
              <a:pathLst>
                <a:path w="278" h="88">
                  <a:moveTo>
                    <a:pt x="0" y="0"/>
                  </a:moveTo>
                  <a:lnTo>
                    <a:pt x="277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01880" y="5440320"/>
              <a:ext cx="441000" cy="139680"/>
            </a:xfrm>
            <a:custGeom>
              <a:avLst/>
              <a:gdLst/>
              <a:ahLst/>
              <a:rect l="l" t="t" r="r" b="b"/>
              <a:pathLst>
                <a:path w="278" h="88">
                  <a:moveTo>
                    <a:pt x="0" y="87"/>
                  </a:moveTo>
                  <a:lnTo>
                    <a:pt x="277" y="0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920" y="5603760"/>
              <a:ext cx="807840" cy="530280"/>
            </a:xfrm>
            <a:custGeom>
              <a:avLst/>
              <a:gdLst/>
              <a:ahLst/>
              <a:rect l="l" t="t" r="r" b="b"/>
              <a:pathLst>
                <a:path w="509" h="334">
                  <a:moveTo>
                    <a:pt x="0" y="333"/>
                  </a:moveTo>
                  <a:lnTo>
                    <a:pt x="508" y="0"/>
                  </a:lnTo>
                  <a:lnTo>
                    <a:pt x="0" y="3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33360" y="5616720"/>
              <a:ext cx="669960" cy="447480"/>
            </a:xfrm>
            <a:custGeom>
              <a:avLst/>
              <a:gdLst/>
              <a:ahLst/>
              <a:rect l="l" t="t" r="r" b="b"/>
              <a:pathLst>
                <a:path w="422" h="282">
                  <a:moveTo>
                    <a:pt x="0" y="0"/>
                  </a:moveTo>
                  <a:lnTo>
                    <a:pt x="421" y="28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6600" y="4853160"/>
              <a:ext cx="1158840" cy="520560"/>
            </a:xfrm>
            <a:custGeom>
              <a:avLst/>
              <a:gdLst/>
              <a:ahLst/>
              <a:rect l="l" t="t" r="r" b="b"/>
              <a:pathLst>
                <a:path w="730" h="328">
                  <a:moveTo>
                    <a:pt x="0" y="327"/>
                  </a:moveTo>
                  <a:lnTo>
                    <a:pt x="729" y="0"/>
                  </a:lnTo>
                  <a:lnTo>
                    <a:pt x="0" y="3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08400" y="4853160"/>
              <a:ext cx="1038240" cy="520560"/>
            </a:xfrm>
            <a:custGeom>
              <a:avLst/>
              <a:gdLst/>
              <a:ahLst/>
              <a:rect l="l" t="t" r="r" b="b"/>
              <a:pathLst>
                <a:path w="654" h="328">
                  <a:moveTo>
                    <a:pt x="0" y="0"/>
                  </a:moveTo>
                  <a:lnTo>
                    <a:pt x="653" y="32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49080" y="62024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71520" y="617076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1200" y="61736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7240" y="61880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umeration of Left-Deep Pla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eft-deep plans differ only in the order of relations, the access method for each relation, and the join method for each joi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numerated using N passes (if N relations joined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ass 1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nd best 1-relation plan for each relatio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ass 2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nd best way to join result of each 1-relation plan (as outer) to another relation.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(All 2-relation plans.)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Pass N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nd best way to join result of a (N-1)-relation plan (as outer) to the Nth relation. 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(All N-relation plans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each subset of relations, retain onl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eapest plan overall, plu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eapest plan for each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interesting order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 the tupl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umeration of Plans (Contd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ORDER BY, GROUP B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, aggregate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tc. handled as a final step, using either an `interestingly ordered’ plan or an additional sorting operator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N-1 way plan is not combined with an additional relation unless there is a join condition between them, unless all predicates i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ERE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ave been used up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.e.,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avoid Cartesian products if possibl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 spite of pruning plan space, this approach is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till exponenti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 the # of tabl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01:08:42Z</dcterms:created>
  <dc:creator/>
  <dc:description/>
  <dc:language>en-US</dc:language>
  <cp:lastModifiedBy>Donated by Intel</cp:lastModifiedBy>
  <cp:lastPrinted>1995-11-15T12:57:38Z</cp:lastPrinted>
  <dcterms:modified xsi:type="dcterms:W3CDTF">2000-02-15T18:29:56Z</dcterms:modified>
  <cp:revision>32</cp:revision>
  <dc:subject>Database Management Systems</dc:subject>
  <dc:title>Relational Query Optimization II</dc:title>
</cp:coreProperties>
</file>