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35FD-1057-44D5-BAD6-829C3C23EA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05F-F8DE-4B4C-8E41-168A2809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FBD-9093-4A11-BB86-3CC372E8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4B1-7B10-46F6-AB13-06029B63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37F-D4C7-4D5F-BA9B-5B5898F1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0D7-3053-40A3-8244-E7447649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9EA-FA89-480F-9144-CE318D6B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AD3-177D-4D1B-8F53-A720475D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52A-5C4B-40D2-A017-0CD460EC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F31-4BA9-4BC0-9953-9942E093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3B9-E287-44C4-900F-DAD98F93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7FD-7D5C-49DA-A824-524C3EF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72D-C03A-4919-9E63-8B127398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ABF1-CB85-4C46-8495-0C4DB10C82B6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F3E6-9785-41E5-A2E7-3054D86AC3AE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Query Optimization I:  Cost Estima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verview of Query Optimiza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Plan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: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Tree of RA ops, with choice of alg for each op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operator typically implemented using a `pull’ interface: when an operator is `pulled’ for its next output tuple(s), it `pulls’ on its input(s) and computes them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wo main issu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or a given query,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what plans are consider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51560" indent="-21024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lgorithm to search plan space for cheapest (estimated) plan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ow is the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ost of a plan estimat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Ideally: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ant to find best plan. 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Practically: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void worst plans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will study the System R approach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Highlights of System R Optimizer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9913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mpact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ost widely used currently; works well for &lt; 10 joi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ost estimation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pproximate art at bes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atistics, maintained in system catalogs, used to estimate cost of operations and result siz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nsiders combination of CPU and I/O cos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Plan Space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oo large, must be prun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nly the space of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left-deep plans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s consider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85760" indent="-21708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Left-deep plans allow output of each operator to be </a:t>
            </a:r>
            <a:r>
              <a:rPr b="0" i="1" lang="en-US" sz="2000" spc="-1" strike="noStrike" u="sng">
                <a:solidFill>
                  <a:srgbClr val="fc0128"/>
                </a:solidFill>
                <a:uFillTx/>
                <a:latin typeface="Book Antiqua"/>
              </a:rPr>
              <a:t>pipelined</a:t>
            </a:r>
            <a:r>
              <a:rPr b="0" i="1" lang="en-US" sz="20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to the next operator without storing it in a temporary relation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rtesian products avoided when possibl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Motivating Exampl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2895120"/>
            <a:ext cx="5105520" cy="36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ost:  1000 + 1000 * 500 I/O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y no means the worst plan!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isses several opportunities: selections could have been `pushed’ earlier, no use is made of any available indexes, etc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Goal of optimization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o find more efficient plans that compute the same answer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1" name=""/>
          <p:cNvSpPr/>
          <p:nvPr/>
        </p:nvSpPr>
        <p:spPr>
          <a:xfrm>
            <a:off x="2148480" y="1200240"/>
            <a:ext cx="4083840" cy="155556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Reserves R, Sailor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R.sid=S.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.bid=100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.rating&gt;5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468840" y="130320"/>
            <a:ext cx="2597760" cy="3018600"/>
            <a:chOff x="6468840" y="130320"/>
            <a:chExt cx="2597760" cy="3018600"/>
          </a:xfrm>
        </p:grpSpPr>
        <p:sp>
          <p:nvSpPr>
            <p:cNvPr id="73" name=""/>
            <p:cNvSpPr/>
            <p:nvPr/>
          </p:nvSpPr>
          <p:spPr>
            <a:xfrm>
              <a:off x="6853320" y="950760"/>
              <a:ext cx="108000" cy="13968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67" y="43"/>
                  </a:moveTo>
                  <a:lnTo>
                    <a:pt x="58" y="13"/>
                  </a:lnTo>
                  <a:lnTo>
                    <a:pt x="34" y="0"/>
                  </a:lnTo>
                  <a:lnTo>
                    <a:pt x="10" y="13"/>
                  </a:lnTo>
                  <a:lnTo>
                    <a:pt x="0" y="43"/>
                  </a:lnTo>
                  <a:lnTo>
                    <a:pt x="10" y="74"/>
                  </a:lnTo>
                  <a:lnTo>
                    <a:pt x="34" y="87"/>
                  </a:lnTo>
                  <a:lnTo>
                    <a:pt x="58" y="74"/>
                  </a:lnTo>
                  <a:lnTo>
                    <a:pt x="67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07320" y="965160"/>
              <a:ext cx="9828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58120" y="142920"/>
              <a:ext cx="144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40560" y="142920"/>
              <a:ext cx="180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18520" y="13032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0" y="0"/>
                  </a:move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67560" y="1909800"/>
              <a:ext cx="180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896240" y="1909800"/>
              <a:ext cx="144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67560" y="1909800"/>
              <a:ext cx="330120" cy="111240"/>
            </a:xfrm>
            <a:custGeom>
              <a:avLst/>
              <a:gdLst/>
              <a:ahLst/>
              <a:rect l="l" t="t" r="r" b="b"/>
              <a:pathLst>
                <a:path w="208" h="70">
                  <a:moveTo>
                    <a:pt x="0" y="0"/>
                  </a:moveTo>
                  <a:lnTo>
                    <a:pt x="207" y="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67560" y="1909800"/>
              <a:ext cx="330120" cy="111240"/>
            </a:xfrm>
            <a:custGeom>
              <a:avLst/>
              <a:gdLst/>
              <a:ahLst/>
              <a:rect l="l" t="t" r="r" b="b"/>
              <a:pathLst>
                <a:path w="208" h="70">
                  <a:moveTo>
                    <a:pt x="0" y="69"/>
                  </a:moveTo>
                  <a:lnTo>
                    <a:pt x="207" y="0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04160" y="2360520"/>
              <a:ext cx="633240" cy="317520"/>
            </a:xfrm>
            <a:custGeom>
              <a:avLst/>
              <a:gdLst/>
              <a:ahLst/>
              <a:rect l="l" t="t" r="r" b="b"/>
              <a:pathLst>
                <a:path w="399" h="200">
                  <a:moveTo>
                    <a:pt x="0" y="199"/>
                  </a:moveTo>
                  <a:lnTo>
                    <a:pt x="398" y="0"/>
                  </a:lnTo>
                  <a:lnTo>
                    <a:pt x="0" y="1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69240" y="2360520"/>
              <a:ext cx="647640" cy="317520"/>
            </a:xfrm>
            <a:custGeom>
              <a:avLst/>
              <a:gdLst/>
              <a:ahLst/>
              <a:rect l="l" t="t" r="r" b="b"/>
              <a:pathLst>
                <a:path w="408" h="200">
                  <a:moveTo>
                    <a:pt x="0" y="0"/>
                  </a:moveTo>
                  <a:lnTo>
                    <a:pt x="407" y="1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34240" y="1279440"/>
              <a:ext cx="1800" cy="49536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34240" y="458640"/>
              <a:ext cx="1800" cy="454320"/>
            </a:xfrm>
            <a:custGeom>
              <a:avLst/>
              <a:gdLst/>
              <a:ahLst/>
              <a:rect l="l" t="t" r="r" b="b"/>
              <a:pathLst>
                <a:path w="1" h="286">
                  <a:moveTo>
                    <a:pt x="0" y="0"/>
                  </a:move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04000" y="1003320"/>
              <a:ext cx="71640" cy="147600"/>
            </a:xfrm>
            <a:custGeom>
              <a:avLst/>
              <a:gdLst/>
              <a:ahLst/>
              <a:rect l="l" t="t" r="r" b="b"/>
              <a:pathLst>
                <a:path w="45" h="93">
                  <a:moveTo>
                    <a:pt x="0" y="92"/>
                  </a:moveTo>
                  <a:lnTo>
                    <a:pt x="44" y="0"/>
                  </a:lnTo>
                  <a:lnTo>
                    <a:pt x="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73840" y="1014480"/>
              <a:ext cx="68400" cy="136440"/>
            </a:xfrm>
            <a:custGeom>
              <a:avLst/>
              <a:gdLst/>
              <a:ahLst/>
              <a:rect l="l" t="t" r="r" b="b"/>
              <a:pathLst>
                <a:path w="43" h="86">
                  <a:moveTo>
                    <a:pt x="0" y="0"/>
                  </a:moveTo>
                  <a:lnTo>
                    <a:pt x="42" y="8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68840" y="279720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60840" y="278280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87200" y="213192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7560" y="104760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3680" y="102060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1320" y="23976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790880" y="3265560"/>
            <a:ext cx="4052520" cy="3388680"/>
            <a:chOff x="4790880" y="3265560"/>
            <a:chExt cx="4052520" cy="3388680"/>
          </a:xfrm>
        </p:grpSpPr>
        <p:sp>
          <p:nvSpPr>
            <p:cNvPr id="95" name=""/>
            <p:cNvSpPr/>
            <p:nvPr/>
          </p:nvSpPr>
          <p:spPr>
            <a:xfrm>
              <a:off x="5189400" y="4267080"/>
              <a:ext cx="11592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72" y="50"/>
                  </a:moveTo>
                  <a:lnTo>
                    <a:pt x="62" y="15"/>
                  </a:lnTo>
                  <a:lnTo>
                    <a:pt x="36" y="0"/>
                  </a:lnTo>
                  <a:lnTo>
                    <a:pt x="11" y="15"/>
                  </a:lnTo>
                  <a:lnTo>
                    <a:pt x="0" y="50"/>
                  </a:lnTo>
                  <a:lnTo>
                    <a:pt x="11" y="84"/>
                  </a:lnTo>
                  <a:lnTo>
                    <a:pt x="36" y="99"/>
                  </a:lnTo>
                  <a:lnTo>
                    <a:pt x="62" y="84"/>
                  </a:lnTo>
                  <a:lnTo>
                    <a:pt x="72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48440" y="428472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27680" y="33544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15160" y="335448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86280" y="3338640"/>
              <a:ext cx="174960" cy="144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5040" y="535140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2800" y="535140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5040" y="535140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5040" y="535140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49960" y="586260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5800" y="5862600"/>
              <a:ext cx="68436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21440" y="4638600"/>
              <a:ext cx="1440" cy="56052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21440" y="371160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76800" y="435132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62840" y="4363920"/>
              <a:ext cx="7596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90880" y="630252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78280" y="628668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63240" y="556092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85160" y="433692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3480" y="430380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80600" y="342252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04840" y="5246640"/>
              <a:ext cx="23385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Page Nested Loops)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08720" y="4272120"/>
              <a:ext cx="1347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n-the-fly)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7040" y="3265560"/>
              <a:ext cx="1347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n-the-fly)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776200" y="136440"/>
            <a:ext cx="137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A Tree: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71440" y="3352680"/>
            <a:ext cx="89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Plan: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200400"/>
            <a:ext cx="3200400" cy="0"/>
          </a:xfrm>
          <a:prstGeom prst="line">
            <a:avLst/>
          </a:prstGeom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lternative Plan 1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(No Indexes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0676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Book Antiqua"/>
              </a:rPr>
              <a:t>Main difference: 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push selec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ith 5 buffers,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ost of plan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can Reserves (1000) + write temp T1 (10 pages, if we have 100 boats, uniform distribution)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can Sailors (500) + write temp T2 (250 pages, if we have 10 ratings)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ort T1 (2*2*10), sort T2 (2*3*250), merge (10+250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Total:  3560 page I/Os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If we used BNL join,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join cost = 10+4*250,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total cost = 2770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If we `push’ projection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T1 has only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T2 only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nd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nam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T1 fits in 3 pages, cost of BNL drops to under 250 pages,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total &lt; 2000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18880" y="162000"/>
            <a:ext cx="4394160" cy="2820240"/>
            <a:chOff x="4718880" y="162000"/>
            <a:chExt cx="4394160" cy="2820240"/>
          </a:xfrm>
        </p:grpSpPr>
        <p:sp>
          <p:nvSpPr>
            <p:cNvPr id="127" name=""/>
            <p:cNvSpPr/>
            <p:nvPr/>
          </p:nvSpPr>
          <p:spPr>
            <a:xfrm>
              <a:off x="5715000" y="200016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2" y="37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7"/>
                  </a:lnTo>
                  <a:lnTo>
                    <a:pt x="9" y="64"/>
                  </a:lnTo>
                  <a:lnTo>
                    <a:pt x="31" y="74"/>
                  </a:lnTo>
                  <a:lnTo>
                    <a:pt x="53" y="64"/>
                  </a:lnTo>
                  <a:lnTo>
                    <a:pt x="62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64320" y="200988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92960" y="28260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67480" y="28260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56240" y="270000"/>
              <a:ext cx="149400" cy="1440"/>
            </a:xfrm>
            <a:custGeom>
              <a:avLst/>
              <a:gdLst/>
              <a:ahLst/>
              <a:rect l="l" t="t" r="r" b="b"/>
              <a:pathLst>
                <a:path w="94" h="1">
                  <a:moveTo>
                    <a:pt x="0" y="0"/>
                  </a:moveTo>
                  <a:lnTo>
                    <a:pt x="9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16800" y="120024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2000" y="120024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16800" y="120024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0"/>
                  </a:moveTo>
                  <a:lnTo>
                    <a:pt x="186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16800" y="120024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61"/>
                  </a:moveTo>
                  <a:lnTo>
                    <a:pt x="186" y="0"/>
                  </a:lnTo>
                  <a:lnTo>
                    <a:pt x="0" y="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08840" y="1593720"/>
              <a:ext cx="569880" cy="274680"/>
            </a:xfrm>
            <a:custGeom>
              <a:avLst/>
              <a:gdLst/>
              <a:ahLst/>
              <a:rect l="l" t="t" r="r" b="b"/>
              <a:pathLst>
                <a:path w="359" h="173">
                  <a:moveTo>
                    <a:pt x="0" y="172"/>
                  </a:moveTo>
                  <a:lnTo>
                    <a:pt x="358" y="0"/>
                  </a:lnTo>
                  <a:lnTo>
                    <a:pt x="0" y="1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86440" y="1593720"/>
              <a:ext cx="581040" cy="274680"/>
            </a:xfrm>
            <a:custGeom>
              <a:avLst/>
              <a:gdLst/>
              <a:ahLst/>
              <a:rect l="l" t="t" r="r" b="b"/>
              <a:pathLst>
                <a:path w="366" h="173">
                  <a:moveTo>
                    <a:pt x="0" y="0"/>
                  </a:moveTo>
                  <a:lnTo>
                    <a:pt x="365" y="17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15360" y="2225520"/>
              <a:ext cx="1440" cy="432000"/>
            </a:xfrm>
            <a:custGeom>
              <a:avLst/>
              <a:gdLst/>
              <a:ahLst/>
              <a:rect l="l" t="t" r="r" b="b"/>
              <a:pathLst>
                <a:path w="1" h="272">
                  <a:moveTo>
                    <a:pt x="0" y="0"/>
                  </a:moveTo>
                  <a:lnTo>
                    <a:pt x="0" y="27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51800" y="654120"/>
              <a:ext cx="144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34120" y="1974960"/>
              <a:ext cx="100080" cy="12204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62" y="38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8"/>
                  </a:lnTo>
                  <a:lnTo>
                    <a:pt x="9" y="65"/>
                  </a:lnTo>
                  <a:lnTo>
                    <a:pt x="31" y="76"/>
                  </a:lnTo>
                  <a:lnTo>
                    <a:pt x="53" y="65"/>
                  </a:lnTo>
                  <a:lnTo>
                    <a:pt x="62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83440" y="198612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72120" y="2236680"/>
              <a:ext cx="1800" cy="430200"/>
            </a:xfrm>
            <a:custGeom>
              <a:avLst/>
              <a:gdLst/>
              <a:ahLst/>
              <a:rect l="l" t="t" r="r" b="b"/>
              <a:pathLst>
                <a:path w="1" h="271">
                  <a:moveTo>
                    <a:pt x="0" y="0"/>
                  </a:moveTo>
                  <a:lnTo>
                    <a:pt x="0" y="27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30760" y="261792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89560" y="263052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5800" y="134604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78720" y="202392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22840" y="31896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64280" y="162000"/>
              <a:ext cx="1347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n-the-fly)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3720" y="200016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18880" y="182880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9600" y="2000160"/>
              <a:ext cx="10108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 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8880" y="216540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1)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7280" y="181944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28360" y="1986120"/>
              <a:ext cx="9514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7280" y="215100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2)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88760" y="1104840"/>
              <a:ext cx="19742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ort-Merge Join)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lternative Plan 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(With Indexes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ith clustered index on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bid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f Reserves, we get 100,000/100 =  1000 tuples on 1000/100 = 10 pag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L with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pipelining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(outer is not materialized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61" name=""/>
          <p:cNvSpPr/>
          <p:nvPr/>
        </p:nvSpPr>
        <p:spPr>
          <a:xfrm>
            <a:off x="-218160" y="4633920"/>
            <a:ext cx="905184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cision not to push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ating&gt;5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efore the join is based on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vailability of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ndex on Sailors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ost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election of Reserves tuples (10 I/Os); for each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get matching Sailors tuple (1000*1.2); total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1210 I/Os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109440" y="3871800"/>
            <a:ext cx="762192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Join column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a key for Sailors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t most one matching tuple, unclustered index on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OK.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360" y="3505320"/>
            <a:ext cx="7253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Projecting out unnecessary fields from outer doesn’t help.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81840" y="1789200"/>
            <a:ext cx="1440" cy="88920"/>
          </a:xfrm>
          <a:custGeom>
            <a:avLst/>
            <a:gdLst/>
            <a:ahLst/>
            <a:rect l="l" t="t" r="r" b="b"/>
            <a:pathLst>
              <a:path w="1" h="56">
                <a:moveTo>
                  <a:pt x="0" y="0"/>
                </a:moveTo>
                <a:lnTo>
                  <a:pt x="0" y="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4360" y="1789200"/>
            <a:ext cx="1440" cy="88920"/>
          </a:xfrm>
          <a:custGeom>
            <a:avLst/>
            <a:gdLst/>
            <a:ahLst/>
            <a:rect l="l" t="t" r="r" b="b"/>
            <a:pathLst>
              <a:path w="1" h="56">
                <a:moveTo>
                  <a:pt x="0" y="0"/>
                </a:moveTo>
                <a:lnTo>
                  <a:pt x="0" y="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1840" y="1789200"/>
            <a:ext cx="183960" cy="88920"/>
          </a:xfrm>
          <a:custGeom>
            <a:avLst/>
            <a:gdLst/>
            <a:ahLst/>
            <a:rect l="l" t="t" r="r" b="b"/>
            <a:pathLst>
              <a:path w="116" h="56">
                <a:moveTo>
                  <a:pt x="0" y="0"/>
                </a:moveTo>
                <a:lnTo>
                  <a:pt x="115" y="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1840" y="1789200"/>
            <a:ext cx="183960" cy="88920"/>
          </a:xfrm>
          <a:custGeom>
            <a:avLst/>
            <a:gdLst/>
            <a:ahLst/>
            <a:rect l="l" t="t" r="r" b="b"/>
            <a:pathLst>
              <a:path w="116" h="56">
                <a:moveTo>
                  <a:pt x="0" y="55"/>
                </a:moveTo>
                <a:lnTo>
                  <a:pt x="115" y="0"/>
                </a:lnTo>
                <a:lnTo>
                  <a:pt x="0" y="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69000" y="2146320"/>
            <a:ext cx="351000" cy="25092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0" y="157"/>
                </a:moveTo>
                <a:lnTo>
                  <a:pt x="220" y="0"/>
                </a:lnTo>
                <a:lnTo>
                  <a:pt x="0" y="15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49960" y="2146320"/>
            <a:ext cx="360360" cy="250920"/>
          </a:xfrm>
          <a:custGeom>
            <a:avLst/>
            <a:gdLst/>
            <a:ahLst/>
            <a:rect l="l" t="t" r="r" b="b"/>
            <a:pathLst>
              <a:path w="227" h="158">
                <a:moveTo>
                  <a:pt x="0" y="0"/>
                </a:moveTo>
                <a:lnTo>
                  <a:pt x="226" y="1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72200" y="501480"/>
            <a:ext cx="180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0" y="2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66080" y="1290600"/>
            <a:ext cx="1440" cy="358920"/>
          </a:xfrm>
          <a:custGeom>
            <a:avLst/>
            <a:gdLst/>
            <a:ahLst/>
            <a:rect l="l" t="t" r="r" b="b"/>
            <a:pathLst>
              <a:path w="1" h="226">
                <a:moveTo>
                  <a:pt x="0" y="0"/>
                </a:moveTo>
                <a:lnTo>
                  <a:pt x="0" y="22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0" y="206280"/>
            <a:ext cx="1800" cy="120600"/>
          </a:xfrm>
          <a:custGeom>
            <a:avLst/>
            <a:gdLst/>
            <a:ahLst/>
            <a:rect l="l" t="t" r="r" b="b"/>
            <a:pathLst>
              <a:path w="1" h="76">
                <a:moveTo>
                  <a:pt x="0" y="0"/>
                </a:moveTo>
                <a:lnTo>
                  <a:pt x="0" y="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89680" y="206280"/>
            <a:ext cx="1800" cy="120600"/>
          </a:xfrm>
          <a:custGeom>
            <a:avLst/>
            <a:gdLst/>
            <a:ahLst/>
            <a:rect l="l" t="t" r="r" b="b"/>
            <a:pathLst>
              <a:path w="1" h="76">
                <a:moveTo>
                  <a:pt x="0" y="0"/>
                </a:moveTo>
                <a:lnTo>
                  <a:pt x="0" y="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21640" y="196920"/>
            <a:ext cx="91800" cy="1440"/>
          </a:xfrm>
          <a:custGeom>
            <a:avLst/>
            <a:gdLst/>
            <a:ahLst/>
            <a:rect l="l" t="t" r="r" b="b"/>
            <a:pathLst>
              <a:path w="58" h="1">
                <a:moveTo>
                  <a:pt x="0" y="0"/>
                </a:moveTo>
                <a:lnTo>
                  <a:pt x="57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37480" y="957240"/>
            <a:ext cx="61920" cy="109440"/>
          </a:xfrm>
          <a:custGeom>
            <a:avLst/>
            <a:gdLst/>
            <a:ahLst/>
            <a:rect l="l" t="t" r="r" b="b"/>
            <a:pathLst>
              <a:path w="39" h="69">
                <a:moveTo>
                  <a:pt x="38" y="34"/>
                </a:moveTo>
                <a:lnTo>
                  <a:pt x="33" y="10"/>
                </a:lnTo>
                <a:lnTo>
                  <a:pt x="19" y="0"/>
                </a:lnTo>
                <a:lnTo>
                  <a:pt x="5" y="10"/>
                </a:lnTo>
                <a:lnTo>
                  <a:pt x="0" y="34"/>
                </a:lnTo>
                <a:lnTo>
                  <a:pt x="5" y="58"/>
                </a:lnTo>
                <a:lnTo>
                  <a:pt x="19" y="68"/>
                </a:lnTo>
                <a:lnTo>
                  <a:pt x="33" y="58"/>
                </a:lnTo>
                <a:lnTo>
                  <a:pt x="38" y="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65920" y="966960"/>
            <a:ext cx="57240" cy="1440"/>
          </a:xfrm>
          <a:custGeom>
            <a:avLst/>
            <a:gdLst/>
            <a:ahLst/>
            <a:rect l="l" t="t" r="r" b="b"/>
            <a:pathLst>
              <a:path w="36" h="1">
                <a:moveTo>
                  <a:pt x="0" y="0"/>
                </a:moveTo>
                <a:lnTo>
                  <a:pt x="3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53160" y="2774880"/>
            <a:ext cx="1800" cy="389160"/>
          </a:xfrm>
          <a:custGeom>
            <a:avLst/>
            <a:gdLst/>
            <a:ahLst/>
            <a:rect l="l" t="t" r="r" b="b"/>
            <a:pathLst>
              <a:path w="1" h="245">
                <a:moveTo>
                  <a:pt x="0" y="0"/>
                </a:moveTo>
                <a:lnTo>
                  <a:pt x="0" y="2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38520" y="3201840"/>
            <a:ext cx="86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s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67680" y="2529000"/>
            <a:ext cx="69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ilors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88800" y="1852560"/>
            <a:ext cx="715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d=sid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29960" y="2543040"/>
            <a:ext cx="800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d=100 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26320" y="249120"/>
            <a:ext cx="66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ame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19960" y="136440"/>
            <a:ext cx="100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n-the-fly)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26680" y="984240"/>
            <a:ext cx="867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ng &gt; 5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69480" y="2400480"/>
            <a:ext cx="91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se hash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6160" y="2550960"/>
            <a:ext cx="86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; do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18440" y="2514600"/>
            <a:ext cx="64800" cy="111240"/>
          </a:xfrm>
          <a:custGeom>
            <a:avLst/>
            <a:gdLst/>
            <a:ahLst/>
            <a:rect l="l" t="t" r="r" b="b"/>
            <a:pathLst>
              <a:path w="41" h="70">
                <a:moveTo>
                  <a:pt x="40" y="34"/>
                </a:moveTo>
                <a:lnTo>
                  <a:pt x="34" y="10"/>
                </a:lnTo>
                <a:lnTo>
                  <a:pt x="20" y="0"/>
                </a:lnTo>
                <a:lnTo>
                  <a:pt x="6" y="10"/>
                </a:lnTo>
                <a:lnTo>
                  <a:pt x="0" y="34"/>
                </a:lnTo>
                <a:lnTo>
                  <a:pt x="6" y="59"/>
                </a:lnTo>
                <a:lnTo>
                  <a:pt x="20" y="69"/>
                </a:lnTo>
                <a:lnTo>
                  <a:pt x="34" y="59"/>
                </a:lnTo>
                <a:lnTo>
                  <a:pt x="40" y="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50120" y="2525760"/>
            <a:ext cx="58680" cy="144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6680" y="2705040"/>
            <a:ext cx="82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write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5960" y="2854440"/>
            <a:ext cx="82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 to 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7040" y="3005280"/>
            <a:ext cx="59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)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74240" y="1684440"/>
            <a:ext cx="1728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ndex Nested Loops,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74960" y="1838160"/>
            <a:ext cx="1346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pipelining )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55040" y="912960"/>
            <a:ext cx="100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n-the-fly)</a:t>
            </a:r>
            <a:endParaRPr b="0" lang="en-US" sz="12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ost Estima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r each plan considered, must estimate cost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estimat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cos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f each operation in plan tre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97280" indent="-21924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Depends on input cardinalities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1097280" indent="-21924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e’ve already discussed how to estimate the cost of operations (sequential scan, index scan, joins, etc.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estimat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ize of resul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or each operation in tree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97280" indent="-21924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Use information about the input relations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1097280" indent="-21924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or selections and joins, assume independence of predicates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’ll discuss the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System R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st estimation approach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Very inexact, but works ok in practic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ore sophisticated techniques known now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tatistics and Catalog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eed information about the relations and indexes involved.  </a:t>
            </a:r>
            <a:r>
              <a:rPr b="1" i="1" lang="en-US" sz="2800" spc="-1" strike="noStrike">
                <a:solidFill>
                  <a:srgbClr val="fc0128"/>
                </a:solidFill>
                <a:latin typeface="Book Antiqua"/>
              </a:rPr>
              <a:t>Catalogs</a:t>
            </a:r>
            <a:r>
              <a:rPr b="1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ypically contain at least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# tuples (NTuples)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d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# pages (NPages)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or each rela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# distinct key values (NKeys)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d NPages for each index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Index height, low/high key values (Low/High)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or each tree index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talogs updated periodicall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pdating whenever data changes is too expensive; lots of approximation anyway, so slight inconsistency o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ore detailed information (e.g., histograms of the values in some field) are usually stor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r each operation in a RA Tree, many implementations are possibl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st (in I/Os) of each operation can be computed using statistics from DB catalog relations and by estimating result sizes (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next tim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 for operation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ipelining used whenever possible (avoids putting intermediate results to disk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any RA Trees exist for a given query (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next tim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how to </a:t>
            </a:r>
            <a:r>
              <a:rPr b="0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generat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hem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4T01:08:42Z</dcterms:created>
  <dc:creator/>
  <dc:description/>
  <dc:language>en-US</dc:language>
  <cp:lastModifiedBy>Donated by Intel</cp:lastModifiedBy>
  <cp:lastPrinted>1995-11-15T12:57:38Z</cp:lastPrinted>
  <dcterms:modified xsi:type="dcterms:W3CDTF">2000-02-15T18:35:48Z</dcterms:modified>
  <cp:revision>39</cp:revision>
  <dc:subject>Database Management Systems</dc:subject>
  <dc:title>Relational Query Optimization</dc:title>
</cp:coreProperties>
</file>