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9C31-B79A-42C4-B848-6045FD744A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0D5-7C86-4E39-8042-01ECF499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236-06DB-49E1-8D1C-E14DB8F3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AC8-31CE-4FE3-8021-9BECE458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D69-4D91-48D1-88E6-34BEE783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84D-7538-4B21-9D1E-54627B9E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F9D-D4D1-423D-9F3A-DE3C64E5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BC3-1BF8-49E5-8F38-659BE7A1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961-F4B9-4125-9422-0BA997C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88D-A682-4E8F-AEF9-34E954A1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DC8-00C8-4937-9862-E181FBF8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B13-6A68-48DB-83B6-8D71E1A6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C95-8B66-49F7-8218-956A5977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3F73-73B8-46C8-AF2F-0C6465C426D2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2932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22A2-7048-4F55-B1C2-CFC269C57281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mplementation of Relational Operations:  Joi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 of Sort-Merge Joi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067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ost:  M log M + N log N + (M+N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cost of scanning, M+N, could be M*N (very unlikely!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ith 35, 100, or 300 buffer pages, both Reserves and Sailors can be sorted in 2 passes; total join cost: 7500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320" y="1778040"/>
          <a:ext cx="432108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78040"/>
                    <a:ext cx="432108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262400" y="1092240"/>
          <a:ext cx="4789440" cy="34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2400" y="1092240"/>
                    <a:ext cx="478944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228200" y="6308640"/>
            <a:ext cx="434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BNL cost:  2500 to 15000 I/O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mpact of Buffering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several operations are executing concurrently, estimating the number of available buffer pages is guesswork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peated access patterns interact with buffer replacement polic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.g., Inner relation is scanned repeatedly in Simple Nested Loop Join.  With enough buffer pages to hold inner, replacement policy does not matter.  Otherwise, MRU is best, LRU is worst 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equential flooding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oes replacement policy matter for Block Nested Loops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about Index Nested Loops? Sort-Merge Join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ny join algorithms exist, with tradeoff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Simple N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Brainless.  We read in pages, not tupl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Page-oriented N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Block-oriented NL with block size = 1 for both relation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Block-oriented N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Read in multiple pages of outer relatio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Index N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Like Page-oriented NL, but use index to “probe” inner relation for each outer tupl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Sort-Merge joi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great if things already sorted (or need to be later on…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ust consider available alternatives for each operation in a query and choose best one based on system statistics (relation sizes, distributions, buffer pool size, etc.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chema for Examp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0676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milar to old schema;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rnam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dded for variation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serv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tuple is 40 bytes long,  100 tuples per page, 1000 pag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ailor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tuple is 50 bytes long,  80 tuples per page, 500 pages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3" name=""/>
          <p:cNvSpPr/>
          <p:nvPr/>
        </p:nvSpPr>
        <p:spPr>
          <a:xfrm>
            <a:off x="400680" y="1814400"/>
            <a:ext cx="87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ailors (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sid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: integ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na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tring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ating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integer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g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real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serves (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sid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: integer,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bid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: integer,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day</a:t>
            </a: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: dat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na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tring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Equality Joins With One Join Column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067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 algebra: R       S.  Common!  Must be carefully optimized.  R      S is large; so, R     S followed by a selection is inefficien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ssume: M tuples in R, p</a:t>
            </a:r>
            <a:r>
              <a:rPr b="0" lang="en-US" sz="2800" spc="-1" strike="noStrike" baseline="-25000">
                <a:solidFill>
                  <a:srgbClr val="005400"/>
                </a:solidFill>
                <a:latin typeface="Book Antiqua"/>
              </a:rPr>
              <a:t>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uples per page, N tuples in S, p</a:t>
            </a:r>
            <a:r>
              <a:rPr b="0" lang="en-US" sz="2800" spc="-1" strike="noStrike" baseline="-25000">
                <a:solidFill>
                  <a:srgbClr val="005400"/>
                </a:solidFill>
                <a:latin typeface="Book Antiqua"/>
              </a:rPr>
              <a:t>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uples per pag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 our examples, R is Reserves and S is Sailor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Cost metric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# of I/Os.  We will ignore output cost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2108520" y="1130400"/>
            <a:ext cx="4559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*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Reserves R1, Sailors S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R1.sid=S1.si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22520" y="2728800"/>
                <a:ext cx="5475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42040" y="2728800"/>
                <a:ext cx="5475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438280" y="23623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imple Nested Loops Joi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2819160"/>
            <a:ext cx="89913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each tuple in th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oute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elation R, we scan the entir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inne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elation S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ost:  M +  p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* M * N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=  1000 + 100*1000*500  I/O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age-oriented Nested Loops join:  For each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pag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R, get each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pag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S, and write out matching pairs of tuples &lt;r, s&gt;, where r is in R-page and S is in S-pag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ost:  M + M*N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= 1000 + 1000*500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smaller relation (S) is outer, cost = 500 + 500*1000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6" name=""/>
          <p:cNvSpPr/>
          <p:nvPr/>
        </p:nvSpPr>
        <p:spPr>
          <a:xfrm>
            <a:off x="1723320" y="1479600"/>
            <a:ext cx="6694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foreach tuple r in R do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foreach tuple s in S do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if r</a:t>
            </a:r>
            <a:r>
              <a:rPr b="0" lang="en-US" sz="2400" spc="-1" strike="noStrike" baseline="-10000">
                <a:solidFill>
                  <a:srgbClr val="bc37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== s</a:t>
            </a:r>
            <a:r>
              <a:rPr b="0" lang="en-US" sz="2400" spc="-1" strike="noStrike" baseline="-10000">
                <a:solidFill>
                  <a:srgbClr val="bc3700"/>
                </a:solidFill>
                <a:latin typeface="Book Antiqua"/>
              </a:rPr>
              <a:t>j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then add &lt;r, s&gt; to result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Block Nested Loops Joi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se one page as an input buffer for scanning the inner S, one page as the output buffer, and use all remaining pages to hold ``block’’ of outer R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For each matching tuple r in R-block, s in S-page, add      &lt;r, s&gt; to result.  Then read next R-block, scan S, etc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822320" y="4197240"/>
            <a:ext cx="844560" cy="2027160"/>
            <a:chOff x="1822320" y="4197240"/>
            <a:chExt cx="844560" cy="2027160"/>
          </a:xfrm>
        </p:grpSpPr>
        <p:sp>
          <p:nvSpPr>
            <p:cNvPr id="82" name=""/>
            <p:cNvSpPr/>
            <p:nvPr/>
          </p:nvSpPr>
          <p:spPr>
            <a:xfrm>
              <a:off x="1835280" y="4197240"/>
              <a:ext cx="8254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8800" y="4267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66880" y="4267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22320" y="5983560"/>
              <a:ext cx="83808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901960" y="4044960"/>
            <a:ext cx="341640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63880" y="4502160"/>
            <a:ext cx="29196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63880" y="4959360"/>
            <a:ext cx="29196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5721480"/>
            <a:ext cx="291960" cy="291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62280" y="515304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11440" y="4578480"/>
            <a:ext cx="21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7760" y="46544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4960" y="46544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53200" y="446580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7960" y="46544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1440" y="5568840"/>
            <a:ext cx="2923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6560" y="55688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800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7150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715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6560" y="384336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67600" y="4037040"/>
            <a:ext cx="236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R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k &lt; B-1 pages)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34440" y="5869080"/>
            <a:ext cx="1731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9560" y="586584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02920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699240" y="4197240"/>
            <a:ext cx="858600" cy="2027160"/>
            <a:chOff x="6699240" y="4197240"/>
            <a:chExt cx="858600" cy="2027160"/>
          </a:xfrm>
        </p:grpSpPr>
        <p:grpSp>
          <p:nvGrpSpPr>
            <p:cNvPr id="107" name=""/>
            <p:cNvGrpSpPr/>
            <p:nvPr/>
          </p:nvGrpSpPr>
          <p:grpSpPr>
            <a:xfrm>
              <a:off x="6699240" y="4197240"/>
              <a:ext cx="844560" cy="2027160"/>
              <a:chOff x="6699240" y="4197240"/>
              <a:chExt cx="844560" cy="2027160"/>
            </a:xfrm>
          </p:grpSpPr>
          <p:sp>
            <p:nvSpPr>
              <p:cNvPr id="108" name=""/>
              <p:cNvSpPr/>
              <p:nvPr/>
            </p:nvSpPr>
            <p:spPr>
              <a:xfrm>
                <a:off x="6711840" y="4197240"/>
                <a:ext cx="82548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0572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4380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99240" y="5983560"/>
                <a:ext cx="83772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7016760" y="4502160"/>
              <a:ext cx="291960" cy="29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4959360"/>
              <a:ext cx="291960" cy="291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16760" y="5721480"/>
              <a:ext cx="291960" cy="291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15160" y="515160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66960" y="384192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s of Block Nested Loop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ost:  Scan of outer +  #outer blocks * scan of inner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#outer blocks =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ith Reserves (R) as outer, and 100 pages of R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st of scanning R is 1000 I/Os;  a total of 10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block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er block of R, we scan Sailors (S);  10*500 I/O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space for just 90 pages of R, we would scan S 12 tim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ith 100-page block of Sailors as outer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st of scanning S is 500 I/Os; a total of 5 block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er block of S, we scan Reserves;   5*1000 I/O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ith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equential reads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sidered, analysis changes:  may be best to divide buffers evenly between R and 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124080" y="1935000"/>
                <a:ext cx="586764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pages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ut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locksize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dex Nested Loops Joi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there is an index on the join column of one relation (say S), can make it the inner and exploit the index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ost:  M + ( (M*p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) * cost of finding matching S tuples)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each R tuple, cost of probing S index is about 1.2 for hash index, 2-4 for B+ tree.  Cost of then finding S tuples (assuming Alt. (2) or (3) for data entries) depends on clustering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lustered index:  1 I/O (typical), unclustered: up to 1 I/O per matching S tupl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2" name=""/>
          <p:cNvSpPr/>
          <p:nvPr/>
        </p:nvSpPr>
        <p:spPr>
          <a:xfrm>
            <a:off x="1618560" y="1401840"/>
            <a:ext cx="6221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foreach tuple r in R do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foreach tuple s in S where r</a:t>
            </a:r>
            <a:r>
              <a:rPr b="0" lang="en-US" sz="2400" spc="-1" strike="noStrike" baseline="-10000">
                <a:solidFill>
                  <a:srgbClr val="bc37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== s</a:t>
            </a:r>
            <a:r>
              <a:rPr b="0" lang="en-US" sz="2400" spc="-1" strike="noStrike" baseline="-10000">
                <a:solidFill>
                  <a:srgbClr val="bc3700"/>
                </a:solidFill>
                <a:latin typeface="Book Antiqua"/>
              </a:rPr>
              <a:t>j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do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add &lt;r, s&gt; to result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s of Index Nested Loop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Hash-index (Alt. 2) on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Sailors (as inner)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can Reserves:  1000 page I/Os, 100*1000 tupl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each Reserves tuple:  1.2 I/Os to get data entry in index, plus 1 I/O to get (the exactly one) matching Sailors tuple.  Total:  220,000 I/O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Hash-index (Alt. 2) on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Reserves (as inner)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can Sailors:  500 page I/Os, 80*500 tupl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each Sailors tuple:  1.2 I/Os to find index page with data entries, plus cost of retrieving matching Reserves tuples.  Assuming uniform distribution, 2.5 reservations per sailor (100,000 / 40,000).  Cost of retrieving them  is 1 or 2.5 I/Os depending on whether the index is cluster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ort-Merge Join  (R    S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067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ort R and S on the join column, then scan them to do a ``merge’’ (on join column), and output result tupl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Advance scan of R until current R-tuple &gt;= current S tuple, then advance scan of S until current S-tuple &gt;= current R tuple; do this until current R tuple = current S tupl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At this point, all R tuples with same value in R.i (</a:t>
            </a:r>
            <a:r>
              <a:rPr b="0" i="1" lang="en-US" sz="2400" spc="-1" strike="noStrike">
                <a:solidFill>
                  <a:srgbClr val="bc3700"/>
                </a:solidFill>
                <a:latin typeface="Book Antiqua"/>
              </a:rPr>
              <a:t>current R group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) and all S tuples with same value in S.j (</a:t>
            </a:r>
            <a:r>
              <a:rPr b="0" i="1" lang="en-US" sz="2400" spc="-1" strike="noStrike">
                <a:solidFill>
                  <a:srgbClr val="bc3700"/>
                </a:solidFill>
                <a:latin typeface="Book Antiqua"/>
              </a:rPr>
              <a:t>current S group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)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match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;  output &lt;r, s&gt; for all pairs of such tupl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Then resume scanning R and 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 is scanned once; each S group is scanned once per matching R tuple.  (Multiple scans of an S group are likely to find needed pages in buffer.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5034600" y="106668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=j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029200" y="68580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4T01:17:30Z</dcterms:created>
  <dc:creator/>
  <dc:description/>
  <dc:language>en-US</dc:language>
  <cp:lastModifiedBy>Kristin Bennett</cp:lastModifiedBy>
  <cp:lastPrinted>1995-09-17T00:17:34Z</cp:lastPrinted>
  <dcterms:modified xsi:type="dcterms:W3CDTF">2000-02-11T21:59:19Z</dcterms:modified>
  <cp:revision>39</cp:revision>
  <dc:subject>Database Management Systems</dc:subject>
  <dc:title>Join Implemen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594/99au/</vt:lpwstr>
  </property>
  <property fmtid="{D5CDD505-2E9C-101B-9397-08002B2CF9AE}" pid="9" name="LinkColor">
    <vt:r8>16711782</vt:r8>
  </property>
  <property fmtid="{D5CDD505-2E9C-101B-9397-08002B2CF9AE}" pid="10" name="MailAddress">
    <vt:lpwstr>vandenbe@cs.washington.edu</vt:lpwstr>
  </property>
  <property fmtid="{D5CDD505-2E9C-101B-9397-08002B2CF9AE}" pid="11" name="NavBtnPos">
    <vt:r8>1</vt:r8>
  </property>
  <property fmtid="{D5CDD505-2E9C-101B-9397-08002B2CF9AE}" pid="12" name="NetShow3.0FTPUser">
    <vt:lpwstr>Anonymous</vt:lpwstr>
  </property>
  <property fmtid="{D5CDD505-2E9C-101B-9397-08002B2CF9AE}" pid="13" name="NetShow3.0FtpURL">
    <vt:lpwstr>c:\9</vt:lpwstr>
  </property>
  <property fmtid="{D5CDD505-2E9C-101B-9397-08002B2CF9AE}" pid="14" name="NetShow3.0ImageHeight">
    <vt:r8>360</vt:r8>
  </property>
  <property fmtid="{D5CDD505-2E9C-101B-9397-08002B2CF9AE}" pid="15" name="NetShow3.0ImageQuality">
    <vt:r8>50</vt:r8>
  </property>
  <property fmtid="{D5CDD505-2E9C-101B-9397-08002B2CF9AE}" pid="16" name="NetShow3.0ImageType">
    <vt:r8>0</vt:r8>
  </property>
  <property fmtid="{D5CDD505-2E9C-101B-9397-08002B2CF9AE}" pid="17" name="NetShow3.0ImageWidth">
    <vt:r8>480</vt:r8>
  </property>
  <property fmtid="{D5CDD505-2E9C-101B-9397-08002B2CF9AE}" pid="18" name="NetShow3.0NSEFile">
    <vt:lpwstr>C:\WINDOWS\Desktop\DON'T DELETE (DL Stuff)\presenter_settings.NSE</vt:lpwstr>
  </property>
  <property fmtid="{D5CDD505-2E9C-101B-9397-08002B2CF9AE}" pid="19" name="NetShow3.0SubURL">
    <vt:lpwstr/>
  </property>
  <property fmtid="{D5CDD505-2E9C-101B-9397-08002B2CF9AE}" pid="20" name="Other">
    <vt:lpwstr/>
  </property>
  <property fmtid="{D5CDD505-2E9C-101B-9397-08002B2CF9AE}" pid="21" name="OutputDir">
    <vt:lpwstr>C:\WINDOWS\Desktop</vt:lpwstr>
  </property>
  <property fmtid="{D5CDD505-2E9C-101B-9397-08002B2CF9AE}" pid="22" name="ScreenSize">
    <vt:r8>4</vt:r8>
  </property>
  <property fmtid="{D5CDD505-2E9C-101B-9397-08002B2CF9AE}" pid="23" name="ScreenUsage">
    <vt:r8>3</vt:r8>
  </property>
  <property fmtid="{D5CDD505-2E9C-101B-9397-08002B2CF9AE}" pid="24" name="ShowNotes">
    <vt:bool>0</vt:bool>
  </property>
  <property fmtid="{D5CDD505-2E9C-101B-9397-08002B2CF9AE}" pid="25" name="TemplateType">
    <vt:r8>1</vt:r8>
  </property>
  <property fmtid="{D5CDD505-2E9C-101B-9397-08002B2CF9AE}" pid="26" name="TextColor">
    <vt:r8>0</vt:r8>
  </property>
  <property fmtid="{D5CDD505-2E9C-101B-9397-08002B2CF9AE}" pid="27" name="TransparentButton">
    <vt:r8>0</vt:r8>
  </property>
  <property fmtid="{D5CDD505-2E9C-101B-9397-08002B2CF9AE}" pid="28" name="UseBrowserColor">
    <vt:bool>1</vt:bool>
  </property>
  <property fmtid="{D5CDD505-2E9C-101B-9397-08002B2CF9AE}" pid="29" name="VisitedColor">
    <vt:r8>10040268</vt:r8>
  </property>
</Properties>
</file>