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21FB-199A-4740-9896-105CC86AB5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055-F39A-4F56-9794-7132AEC9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91C-E367-44FE-AE2A-2467B8B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F36-5121-4F44-AFE5-A2A2426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8ED-A2FB-4BF6-8D6C-A7E5DD41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17C-F461-4E38-9A64-8A96E9A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EB5-20F3-4080-B790-202C528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E76-426B-4CF9-B011-948138F2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EBF-1312-4FD8-BD7C-41DBDE2F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F1E-43A5-41AA-AA8B-8356371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070-C364-4224-B267-3095F870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FB2-F4A7-4AD9-968E-1A70598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097-5918-40BD-B577-24FA27B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C62A-C9F3-496D-95BF-7C572EC4E63F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2932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2582-371F-41DE-BB84-89F9D63A704D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mplementation of Relational Operations:  Selec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Oper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will consider how to implemen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elec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     )    Selects a subset of rows from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Join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     )  Allows us to combine two rel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nce each op returns a relation, ops can b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mpose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!  After we cover the operations, we will discuss how to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ptimize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ies formed by composing them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895480"/>
                <a:ext cx="2151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23880" y="32767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chema for Examp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067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to old schema;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na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dded for variatio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serv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tuple is 40 bytes long,  100 tuples per page, 1000 p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ailor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tuple is 50 bytes long,  80 tuples per page, 500 page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400680" y="1814400"/>
            <a:ext cx="87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s (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integer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real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serves (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bid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day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dat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imple Selec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the form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ze of result approximated as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ize of R * reduction facto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;  we will consider how to estimate reduction factors later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ith no index, unsorted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st essentially scan the whole relation;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st is M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#pages in R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ith an index on selection attribute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 index to find qualifying data entries, then retrieve corresponding data records.  (Hash index useful only for equality selections.)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4" name=""/>
          <p:cNvSpPr/>
          <p:nvPr/>
        </p:nvSpPr>
        <p:spPr>
          <a:xfrm>
            <a:off x="5362920" y="208080"/>
            <a:ext cx="3388680" cy="118980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Reserves 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R.rname &lt; ‘C%’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666880" y="1757520"/>
                <a:ext cx="48261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attr</m:t>
                        </m:r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14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Using an Index for Selec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st depends on # of qualifying tuples and cluster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st of finding qualifying data entries (typically small) plus cost of retrieving records (could be large w/o clustering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example, assuming uniform distribution of names, about 10% of tuples qualify (100 pages, 10000 tuples).  With a clustered index, cost is little more than 100 I/Os; if unclustered, up to 10000 I/O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Important refinement for unclustered indexe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1. Find qualifying data entri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2. Sort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 of the data records to be retriev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3. Fetch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 in order.  This ensures that each data page is looked at just once (though # of such pages likely to be higher than with clustering)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General Selection Cond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ch selection conditions are first converted to </a:t>
            </a:r>
            <a:r>
              <a:rPr b="0" i="1" lang="en-US" sz="2800" spc="-1" strike="noStrike" u="sng">
                <a:solidFill>
                  <a:srgbClr val="bc3700"/>
                </a:solidFill>
                <a:uFillTx/>
                <a:latin typeface="Book Antiqua"/>
              </a:rPr>
              <a:t>conjunctive normal form </a:t>
            </a:r>
            <a:r>
              <a:rPr b="0" lang="en-US" sz="2800" spc="-1" strike="noStrike" u="sng">
                <a:solidFill>
                  <a:srgbClr val="bc3700"/>
                </a:solidFill>
                <a:uFillTx/>
                <a:latin typeface="Book Antiqua"/>
              </a:rPr>
              <a:t>(CNF)</a:t>
            </a:r>
            <a:r>
              <a:rPr b="0" lang="en-US" sz="2800" spc="-1" strike="noStrike">
                <a:solidFill>
                  <a:srgbClr val="bc3700"/>
                </a:solidFill>
                <a:latin typeface="Book Antiqua"/>
              </a:rPr>
              <a:t>:                      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(day&lt;8/9/94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bid=5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sid=3 )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AND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    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     (rname=‘Paul’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bid=5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sid=3)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only discuss the case with no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 (a conjunction of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term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the form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attr </a:t>
            </a:r>
            <a:r>
              <a:rPr b="1" i="1" lang="en-US" sz="2800" spc="-1" strike="noStrike">
                <a:solidFill>
                  <a:srgbClr val="005400"/>
                </a:solidFill>
                <a:latin typeface="Book Antiqua"/>
              </a:rPr>
              <a:t>op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val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index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match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a conjunction of) terms that involve only attributes in a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refix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the search ke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dex on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lt;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a, b, c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gt;  matches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a=5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AND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b= 3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but no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b=3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620640" y="1687680"/>
            <a:ext cx="824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(day&lt;8/9/94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AND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rname=‘Paul’)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bid=5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sid=3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41868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wo Approaches to General Selec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c3700"/>
                </a:solidFill>
                <a:uFillTx/>
                <a:latin typeface="Book Antiqua"/>
              </a:rPr>
              <a:t>First approach:</a:t>
            </a:r>
            <a:r>
              <a:rPr b="0" lang="en-US" sz="2800" spc="-1" strike="noStrike">
                <a:solidFill>
                  <a:srgbClr val="bc37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nd th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most selective access path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retrieve tuples using it, and apply any remaining terms that don’t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match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he index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Most selective access path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index or file scan that we estimate will require the fewest page I/O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erms that match this index reduce the number of tuple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etriev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; other terms are used to discard some retrieved tuples, but do not affect number of tuples/pages fetch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ay&lt;8/9/94 AND bid=5 AND sid=3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 B+ tree index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da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be used; then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id=5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=3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be checked for each retrieved tuple.  Similarly, a hash index on &lt;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id, 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&gt; could be used;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ay&lt;8/9/94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must then be checked.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tersection of Rid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c3700"/>
                </a:solidFill>
                <a:uFillTx/>
                <a:latin typeface="Book Antiqua"/>
              </a:rPr>
              <a:t>Second approach</a:t>
            </a:r>
            <a:r>
              <a:rPr b="0" lang="en-US" sz="2800" spc="-1" strike="noStrike">
                <a:solidFill>
                  <a:srgbClr val="bc37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if we have 2 or more matching indexes that use Alternatives (2) or (3) for data entries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et sets of rids of data records using each matching index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n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inters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es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ets of rid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we’ll discuss intersection soon!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trieve the records and apply any remaining term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ay&lt;8/9/94 AND bid=5 AND sid=3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f we have a B+ tree index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a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an index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both using Alternative (2), we can retrieve rids of records satisfy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ay&lt;8/9/94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ing the first, rids of recs satisfy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=3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using the second, intersect, retrieve records and check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id=5.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virtue of relational DBMSs: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queries are composed of a few basic operator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; the implementation of these operators can be carefully tuned (and it is important to do this!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alternative implementation techniques for each operator; no universally superior technique for most operator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Selection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le scan:  always work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dex:  if one matches a condition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junctive queries:  can be difficult; use UNION or bitmap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01:17:30Z</dcterms:created>
  <dc:creator/>
  <dc:description/>
  <dc:language>en-US</dc:language>
  <cp:lastModifiedBy>Kristin Bennett</cp:lastModifiedBy>
  <cp:lastPrinted>1995-09-17T00:17:34Z</cp:lastPrinted>
  <dcterms:modified xsi:type="dcterms:W3CDTF">2000-02-11T00:44:37Z</dcterms:modified>
  <cp:revision>37</cp:revision>
  <dc:subject>Database Management Systems</dc:subject>
  <dc:title>Implementation of Relational Oper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594/99au/</vt:lpwstr>
  </property>
  <property fmtid="{D5CDD505-2E9C-101B-9397-08002B2CF9AE}" pid="9" name="LinkColor">
    <vt:r8>16711782</vt:r8>
  </property>
  <property fmtid="{D5CDD505-2E9C-101B-9397-08002B2CF9AE}" pid="10" name="MailAddress">
    <vt:lpwstr>vandenbe@cs.washington.edu</vt:lpwstr>
  </property>
  <property fmtid="{D5CDD505-2E9C-101B-9397-08002B2CF9AE}" pid="11" name="NavBtnPos">
    <vt:r8>1</vt:r8>
  </property>
  <property fmtid="{D5CDD505-2E9C-101B-9397-08002B2CF9AE}" pid="12" name="NetShow3.0FTPUser">
    <vt:lpwstr>Anonymous</vt:lpwstr>
  </property>
  <property fmtid="{D5CDD505-2E9C-101B-9397-08002B2CF9AE}" pid="13" name="NetShow3.0FtpURL">
    <vt:lpwstr>c:\9</vt:lpwstr>
  </property>
  <property fmtid="{D5CDD505-2E9C-101B-9397-08002B2CF9AE}" pid="14" name="NetShow3.0ImageHeight">
    <vt:r8>360</vt:r8>
  </property>
  <property fmtid="{D5CDD505-2E9C-101B-9397-08002B2CF9AE}" pid="15" name="NetShow3.0ImageQuality">
    <vt:r8>50</vt:r8>
  </property>
  <property fmtid="{D5CDD505-2E9C-101B-9397-08002B2CF9AE}" pid="16" name="NetShow3.0ImageType">
    <vt:r8>0</vt:r8>
  </property>
  <property fmtid="{D5CDD505-2E9C-101B-9397-08002B2CF9AE}" pid="17" name="NetShow3.0ImageWidth">
    <vt:r8>480</vt:r8>
  </property>
  <property fmtid="{D5CDD505-2E9C-101B-9397-08002B2CF9AE}" pid="18" name="NetShow3.0NSEFile">
    <vt:lpwstr>C:\WINDOWS\Desktop\DON'T DELETE (DL Stuff)\presenter_settings.NSE</vt:lpwstr>
  </property>
  <property fmtid="{D5CDD505-2E9C-101B-9397-08002B2CF9AE}" pid="19" name="NetShow3.0SubURL">
    <vt:lpwstr/>
  </property>
  <property fmtid="{D5CDD505-2E9C-101B-9397-08002B2CF9AE}" pid="20" name="Other">
    <vt:lpwstr/>
  </property>
  <property fmtid="{D5CDD505-2E9C-101B-9397-08002B2CF9AE}" pid="21" name="OutputDir">
    <vt:lpwstr>C:\WINDOWS\Desktop</vt:lpwstr>
  </property>
  <property fmtid="{D5CDD505-2E9C-101B-9397-08002B2CF9AE}" pid="22" name="ScreenSize">
    <vt:r8>4</vt:r8>
  </property>
  <property fmtid="{D5CDD505-2E9C-101B-9397-08002B2CF9AE}" pid="23" name="ScreenUsage">
    <vt:r8>3</vt:r8>
  </property>
  <property fmtid="{D5CDD505-2E9C-101B-9397-08002B2CF9AE}" pid="24" name="ShowNotes">
    <vt:bool>0</vt:bool>
  </property>
  <property fmtid="{D5CDD505-2E9C-101B-9397-08002B2CF9AE}" pid="25" name="TemplateType">
    <vt:r8>1</vt:r8>
  </property>
  <property fmtid="{D5CDD505-2E9C-101B-9397-08002B2CF9AE}" pid="26" name="TextColor">
    <vt:r8>0</vt:r8>
  </property>
  <property fmtid="{D5CDD505-2E9C-101B-9397-08002B2CF9AE}" pid="27" name="TransparentButton">
    <vt:r8>0</vt:r8>
  </property>
  <property fmtid="{D5CDD505-2E9C-101B-9397-08002B2CF9AE}" pid="28" name="UseBrowserColor">
    <vt:bool>1</vt:bool>
  </property>
  <property fmtid="{D5CDD505-2E9C-101B-9397-08002B2CF9AE}" pid="29" name="VisitedColor">
    <vt:r8>10040268</vt:r8>
  </property>
</Properties>
</file>