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9220-709D-4F0E-89AF-CFEA5E9B52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-14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14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14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14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-14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-14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-14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FB9-1F3A-462F-A64E-B6CEC487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A411-1C90-4734-8024-E290AABB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087-B046-4C64-A768-FD01ADA1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F56-C2BC-433F-B516-159F663C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369-7889-4013-94D1-F8115FBF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2F5-2113-412D-BAB4-001859AD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AB0-7978-4A95-ADF9-603D5781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710-4C37-4829-9EF4-CE1187BA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0A2-4325-4C46-9A80-B86A0756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561-092A-4485-96B0-99306072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0D6-79F2-4347-816E-90F83E82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3C0-9945-4A43-A71F-65DC1B5C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EC94-6FA0-4E34-9DE3-4657EDD306C4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2932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1335-BC9F-49F6-BD70-B129FE77046F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File Organizations and Indic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any alternative file organizations exist, each appropriate in some situation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dex is a collection of data entries plus a way to quickly find entries with given search key valu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have several indexes on a given file of data records, each with a different search ke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dexes can be classified as clustered vs. unclustered, primary vs. secondary, and dense vs. sparse.  Differences have important consequences for utility/performanc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Unordered (Heap) Fil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mplest file structure: contains records in no particular order; default in many system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s file grows and shrinks, disk pages are allocated and de-allocate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o support record-level operations, we must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keep track of the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page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n a fil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keep track of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free spac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n pag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keep track of the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ecord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on a pag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re are many alternatives for keeping track of thi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Alternative File Organiza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any alternatives exist,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each ideal for some situation , and not so good in other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Heap files: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uitable when typical access is a file scan retrieving all record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Sorted Files: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est if records must be retrieved in some order, or only a `range’ of records is need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Hashed Files: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ood for equality selection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ile is a collection of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buckets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.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ucket =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primary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pag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plus zero or more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overflow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page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Hashing function</a:t>
            </a:r>
            <a:r>
              <a:rPr b="1" i="1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h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1" lang="en-US" sz="2400" spc="-1" strike="noStrike">
                <a:solidFill>
                  <a:srgbClr val="005400"/>
                </a:solidFill>
                <a:latin typeface="Book Antiqua"/>
              </a:rPr>
              <a:t>h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 = bucket in which record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belongs. </a:t>
            </a:r>
            <a:r>
              <a:rPr b="1" lang="en-US" sz="2400" spc="-1" strike="noStrike">
                <a:solidFill>
                  <a:srgbClr val="005400"/>
                </a:solidFill>
                <a:latin typeface="Book Antiqua"/>
              </a:rPr>
              <a:t>h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looks at only the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search field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of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Clustered Files: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uples from &gt; 1 relation stored together to speed up joins (later….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Index Motiva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Heap file allows us to retrieve record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y specifying the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rid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r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y scanning all records sequentiall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ometimes, we want to retrieve records by specifying the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values in one or more field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e.g.,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ind all students in the “CS” departmen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ind all students with a gpa &gt; 3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Index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re structured files that enable us to answer such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value-based queries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fficientl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Index Defini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index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n a file speeds up selections on the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search key fields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r the index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earch key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s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no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the same as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key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et of fields that uniquely identify a record in a relation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 index contains a collection of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data entri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and supports efficient retrieval of all data entries </a:t>
            </a:r>
            <a:r>
              <a:rPr b="1" lang="en-US" sz="2800" spc="-1" strike="noStrike">
                <a:solidFill>
                  <a:srgbClr val="005400"/>
                </a:solidFill>
                <a:latin typeface="Book Antiqua"/>
              </a:rPr>
              <a:t>k*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ith a given search key value </a:t>
            </a:r>
            <a:r>
              <a:rPr b="1" lang="en-US" sz="2800" spc="-1" strike="noStrike">
                <a:solidFill>
                  <a:srgbClr val="005400"/>
                </a:solidFill>
                <a:latin typeface="Book Antiqua"/>
              </a:rPr>
              <a:t>k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Alternatives for Data Entry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k* 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in Index</a:t>
            </a:r>
            <a:endParaRPr b="0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ree alternativ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Monotype Sort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Data record with key value</a:t>
            </a: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 k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Monotype Sort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&lt;</a:t>
            </a: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k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, rid of data record with search key value</a:t>
            </a: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 k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&gt;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Monotype Sort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&lt;</a:t>
            </a: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k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, list of rids of data records with search key </a:t>
            </a: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k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&gt;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hoice of alternative for data entries is orthogonal to the indexing technique used to locate data entries with a given key value </a:t>
            </a:r>
            <a:r>
              <a:rPr b="1" lang="en-US" sz="2800" spc="-1" strike="noStrike">
                <a:solidFill>
                  <a:srgbClr val="005400"/>
                </a:solidFill>
                <a:latin typeface="Book Antiqua"/>
              </a:rPr>
              <a:t>k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xamples of indexing techniques: B+ trees, hash-based structur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ypically, index contains auxiliary information that directs searches to the desired data entri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Index Classifica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1536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Primary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vs.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secondary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search key contains primary key, then called primary index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Uniqu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ndex:  Search key contains a candidate ke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Clustered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vs.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unclustered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order of data records is the same as, or `close to’, order of data entries, then called clustered index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relation can be clustered on at most one search ke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st of retrieving data records through index varies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greatly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ased on whether index is clustered or not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90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ustered vs. Unclustered Index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89913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uppose that the data records are stored in a Heap fil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o build clustered index, first sort the Heap file (with some free space on each page for future inserts). 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verflow pages may be needed for inserts.  (Thus, order of data recs is `close to’, but not identical to, the sort order.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160" y="6095880"/>
            <a:ext cx="39816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9640" y="609588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36680" y="6095880"/>
            <a:ext cx="39996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609588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95440" y="609588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22480" y="609588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1320" y="609588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1480" y="501480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41480" y="404028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49400" y="404028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16040" y="3954600"/>
            <a:ext cx="33516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52560" y="3992400"/>
            <a:ext cx="9864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3880" y="527364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90440" y="5392800"/>
            <a:ext cx="7488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90440" y="5411880"/>
            <a:ext cx="28116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39280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0160" y="5273640"/>
            <a:ext cx="46800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6720" y="539280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36720" y="541188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94040" y="539280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49320" y="4995720"/>
            <a:ext cx="189000" cy="27972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49320" y="5200560"/>
            <a:ext cx="60480" cy="7488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1640" y="4995720"/>
            <a:ext cx="1800" cy="27972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4360" y="519912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9080" y="527364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97240" y="539280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97240" y="541188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54200" y="539280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4800" y="4995720"/>
            <a:ext cx="189000" cy="27972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05120" y="5200560"/>
            <a:ext cx="58680" cy="7488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000" y="5595840"/>
            <a:ext cx="37440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000" y="6033960"/>
            <a:ext cx="6012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120" y="5595840"/>
            <a:ext cx="28116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8120" y="6031080"/>
            <a:ext cx="52560" cy="7452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6360" y="5595840"/>
            <a:ext cx="18864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6360" y="602928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1080" y="5595840"/>
            <a:ext cx="4788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1960" y="602928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17680" y="5595840"/>
            <a:ext cx="144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98600" y="6031080"/>
            <a:ext cx="38160" cy="7452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61960" y="5595840"/>
            <a:ext cx="4932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84280" y="602928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09840" y="5595840"/>
            <a:ext cx="9360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71760" y="6027840"/>
            <a:ext cx="3780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5920" y="5595840"/>
            <a:ext cx="14112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57440" y="602784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74800" y="559584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76560" y="6037200"/>
            <a:ext cx="6660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68760" y="5595840"/>
            <a:ext cx="51408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14800" y="6039000"/>
            <a:ext cx="6804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09880" y="5595840"/>
            <a:ext cx="55872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00560" y="6040440"/>
            <a:ext cx="6804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559584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6320" y="604188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34960" y="4071960"/>
            <a:ext cx="112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entries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5680" y="5268960"/>
            <a:ext cx="105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34600" y="4224240"/>
            <a:ext cx="142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 search for 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57760" y="4038480"/>
            <a:ext cx="169920" cy="148140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bc3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57760" y="6114960"/>
            <a:ext cx="169920" cy="557280"/>
          </a:xfrm>
          <a:custGeom>
            <a:avLst/>
            <a:gdLst/>
            <a:ahLst/>
            <a:rect l="l" t="t" r="r" b="b"/>
            <a:pathLst>
              <a:path w="107" h="351">
                <a:moveTo>
                  <a:pt x="0" y="0"/>
                </a:moveTo>
                <a:lnTo>
                  <a:pt x="106" y="0"/>
                </a:lnTo>
                <a:lnTo>
                  <a:pt x="106" y="350"/>
                </a:lnTo>
                <a:lnTo>
                  <a:pt x="0" y="3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61400" y="5549760"/>
            <a:ext cx="99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c3700"/>
                </a:solidFill>
                <a:latin typeface="Arial"/>
              </a:rPr>
              <a:t>(Index File)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37720" y="579276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38e00"/>
                </a:solidFill>
                <a:latin typeface="Arial"/>
              </a:rPr>
              <a:t>(Data file)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1600" y="6431040"/>
            <a:ext cx="1169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38e00"/>
                </a:solidFill>
                <a:latin typeface="Arial"/>
              </a:rPr>
              <a:t>Data Records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35320" y="4363920"/>
            <a:ext cx="104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37400" y="611676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92800" y="6116760"/>
            <a:ext cx="34452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51800" y="6116760"/>
            <a:ext cx="33804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07200" y="6116760"/>
            <a:ext cx="33984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61160" y="6116760"/>
            <a:ext cx="34632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16920" y="611676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74120" y="611676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92960" y="4948200"/>
            <a:ext cx="1490400" cy="180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92960" y="3902040"/>
            <a:ext cx="785880" cy="104796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77040" y="3902040"/>
            <a:ext cx="712800" cy="104796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86520" y="3809880"/>
            <a:ext cx="292320" cy="9396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96040" y="3851280"/>
            <a:ext cx="82800" cy="5256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34040" y="5229360"/>
            <a:ext cx="40500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37240" y="5356080"/>
            <a:ext cx="6372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37240" y="5380200"/>
            <a:ext cx="241560" cy="144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3640" y="535608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77000" y="522936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78760" y="535608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78760" y="5380200"/>
            <a:ext cx="201600" cy="144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18440" y="535608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16640" y="493236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6640" y="515304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77160" y="4932360"/>
            <a:ext cx="144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62760" y="5151600"/>
            <a:ext cx="30240" cy="7920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62760" y="522936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62960" y="535608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62960" y="5380200"/>
            <a:ext cx="201600" cy="144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97960" y="535608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905600" y="493236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15400" y="515304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3640" y="557532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30960" y="5994360"/>
            <a:ext cx="4428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9600" y="557532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89600" y="604980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92800" y="557532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94640" y="6059520"/>
            <a:ext cx="6480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3000" y="5575320"/>
            <a:ext cx="28224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3000" y="599904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16640" y="5575320"/>
            <a:ext cx="140832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56560" y="6031080"/>
            <a:ext cx="68400" cy="4284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3640" y="557532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3640" y="601488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94360" y="557532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02560" y="603396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94360" y="5575320"/>
            <a:ext cx="16524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4360" y="604188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20000" y="557532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84960" y="6000840"/>
            <a:ext cx="5724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21400" y="557532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21400" y="6059520"/>
            <a:ext cx="5904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24760" y="557532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96200" y="604836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05600" y="5575320"/>
            <a:ext cx="24156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905600" y="5997600"/>
            <a:ext cx="4788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85320" y="5575320"/>
            <a:ext cx="144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167680" y="6045120"/>
            <a:ext cx="3636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5791320"/>
            <a:ext cx="8839440" cy="0"/>
          </a:xfrm>
          <a:prstGeom prst="line">
            <a:avLst/>
          </a:prstGeom>
          <a:ln w="1260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64480" y="5267160"/>
            <a:ext cx="105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07440" y="6429240"/>
            <a:ext cx="1169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38e00"/>
                </a:solidFill>
                <a:latin typeface="Arial"/>
              </a:rPr>
              <a:t>Data Records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3960" y="421488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78720" y="4137120"/>
            <a:ext cx="1465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Index Classification (Contd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Dense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vs.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parse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there is at least one data entry per  search key value (in some data record), then dens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Every sparse index is clustered!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parse indexes are smaller; however, some useful optimizations are based on dense indexes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17" name=""/>
          <p:cNvSpPr/>
          <p:nvPr/>
        </p:nvSpPr>
        <p:spPr>
          <a:xfrm>
            <a:off x="5894280" y="2368440"/>
            <a:ext cx="1177920" cy="708120"/>
          </a:xfrm>
          <a:custGeom>
            <a:avLst/>
            <a:gdLst/>
            <a:ahLst/>
            <a:rect l="l" t="t" r="r" b="b"/>
            <a:pathLst>
              <a:path w="742" h="446">
                <a:moveTo>
                  <a:pt x="0" y="445"/>
                </a:moveTo>
                <a:lnTo>
                  <a:pt x="0" y="0"/>
                </a:lnTo>
                <a:lnTo>
                  <a:pt x="741" y="0"/>
                </a:lnTo>
                <a:lnTo>
                  <a:pt x="741" y="445"/>
                </a:lnTo>
                <a:lnTo>
                  <a:pt x="0" y="4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94280" y="2604960"/>
            <a:ext cx="1177920" cy="1800"/>
          </a:xfrm>
          <a:custGeom>
            <a:avLst/>
            <a:gdLst/>
            <a:ahLst/>
            <a:rect l="l" t="t" r="r" b="b"/>
            <a:pathLst>
              <a:path w="742" h="1">
                <a:moveTo>
                  <a:pt x="0" y="0"/>
                </a:moveTo>
                <a:lnTo>
                  <a:pt x="74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94280" y="2840040"/>
            <a:ext cx="1177920" cy="1440"/>
          </a:xfrm>
          <a:custGeom>
            <a:avLst/>
            <a:gdLst/>
            <a:ahLst/>
            <a:rect l="l" t="t" r="r" b="b"/>
            <a:pathLst>
              <a:path w="742" h="1">
                <a:moveTo>
                  <a:pt x="0" y="0"/>
                </a:moveTo>
                <a:lnTo>
                  <a:pt x="74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02200" y="3314880"/>
            <a:ext cx="1177920" cy="707760"/>
          </a:xfrm>
          <a:custGeom>
            <a:avLst/>
            <a:gdLst/>
            <a:ahLst/>
            <a:rect l="l" t="t" r="r" b="b"/>
            <a:pathLst>
              <a:path w="742" h="446">
                <a:moveTo>
                  <a:pt x="0" y="445"/>
                </a:moveTo>
                <a:lnTo>
                  <a:pt x="0" y="0"/>
                </a:lnTo>
                <a:lnTo>
                  <a:pt x="741" y="0"/>
                </a:lnTo>
                <a:lnTo>
                  <a:pt x="741" y="445"/>
                </a:lnTo>
                <a:lnTo>
                  <a:pt x="0" y="4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02200" y="3549600"/>
            <a:ext cx="1177920" cy="1800"/>
          </a:xfrm>
          <a:custGeom>
            <a:avLst/>
            <a:gdLst/>
            <a:ahLst/>
            <a:rect l="l" t="t" r="r" b="b"/>
            <a:pathLst>
              <a:path w="742" h="1">
                <a:moveTo>
                  <a:pt x="0" y="0"/>
                </a:moveTo>
                <a:lnTo>
                  <a:pt x="74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02200" y="3784680"/>
            <a:ext cx="1177920" cy="1440"/>
          </a:xfrm>
          <a:custGeom>
            <a:avLst/>
            <a:gdLst/>
            <a:ahLst/>
            <a:rect l="l" t="t" r="r" b="b"/>
            <a:pathLst>
              <a:path w="742" h="1">
                <a:moveTo>
                  <a:pt x="0" y="0"/>
                </a:moveTo>
                <a:lnTo>
                  <a:pt x="74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02200" y="4254480"/>
            <a:ext cx="1177920" cy="708120"/>
          </a:xfrm>
          <a:custGeom>
            <a:avLst/>
            <a:gdLst/>
            <a:ahLst/>
            <a:rect l="l" t="t" r="r" b="b"/>
            <a:pathLst>
              <a:path w="742" h="446">
                <a:moveTo>
                  <a:pt x="0" y="445"/>
                </a:moveTo>
                <a:lnTo>
                  <a:pt x="0" y="0"/>
                </a:lnTo>
                <a:lnTo>
                  <a:pt x="741" y="0"/>
                </a:lnTo>
                <a:lnTo>
                  <a:pt x="741" y="445"/>
                </a:lnTo>
                <a:lnTo>
                  <a:pt x="0" y="4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02200" y="4491000"/>
            <a:ext cx="1177920" cy="1800"/>
          </a:xfrm>
          <a:custGeom>
            <a:avLst/>
            <a:gdLst/>
            <a:ahLst/>
            <a:rect l="l" t="t" r="r" b="b"/>
            <a:pathLst>
              <a:path w="742" h="1">
                <a:moveTo>
                  <a:pt x="0" y="0"/>
                </a:moveTo>
                <a:lnTo>
                  <a:pt x="74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02200" y="4726080"/>
            <a:ext cx="1177920" cy="1440"/>
          </a:xfrm>
          <a:custGeom>
            <a:avLst/>
            <a:gdLst/>
            <a:ahLst/>
            <a:rect l="l" t="t" r="r" b="b"/>
            <a:pathLst>
              <a:path w="742" h="1">
                <a:moveTo>
                  <a:pt x="0" y="0"/>
                </a:moveTo>
                <a:lnTo>
                  <a:pt x="74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87840" y="3075120"/>
            <a:ext cx="588960" cy="942840"/>
          </a:xfrm>
          <a:custGeom>
            <a:avLst/>
            <a:gdLst/>
            <a:ahLst/>
            <a:rect l="l" t="t" r="r" b="b"/>
            <a:pathLst>
              <a:path w="371" h="594">
                <a:moveTo>
                  <a:pt x="0" y="593"/>
                </a:moveTo>
                <a:lnTo>
                  <a:pt x="0" y="0"/>
                </a:lnTo>
                <a:lnTo>
                  <a:pt x="370" y="0"/>
                </a:lnTo>
                <a:lnTo>
                  <a:pt x="370" y="593"/>
                </a:lnTo>
                <a:lnTo>
                  <a:pt x="0" y="59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87840" y="3309840"/>
            <a:ext cx="588960" cy="1800"/>
          </a:xfrm>
          <a:custGeom>
            <a:avLst/>
            <a:gdLst/>
            <a:ahLst/>
            <a:rect l="l" t="t" r="r" b="b"/>
            <a:pathLst>
              <a:path w="371" h="1">
                <a:moveTo>
                  <a:pt x="0" y="0"/>
                </a:moveTo>
                <a:lnTo>
                  <a:pt x="37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87840" y="3546360"/>
            <a:ext cx="588960" cy="1800"/>
          </a:xfrm>
          <a:custGeom>
            <a:avLst/>
            <a:gdLst/>
            <a:ahLst/>
            <a:rect l="l" t="t" r="r" b="b"/>
            <a:pathLst>
              <a:path w="371" h="1">
                <a:moveTo>
                  <a:pt x="0" y="0"/>
                </a:moveTo>
                <a:lnTo>
                  <a:pt x="37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87840" y="3781440"/>
            <a:ext cx="588960" cy="1440"/>
          </a:xfrm>
          <a:custGeom>
            <a:avLst/>
            <a:gdLst/>
            <a:ahLst/>
            <a:rect l="l" t="t" r="r" b="b"/>
            <a:pathLst>
              <a:path w="371" h="1">
                <a:moveTo>
                  <a:pt x="0" y="0"/>
                </a:moveTo>
                <a:lnTo>
                  <a:pt x="37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08920" y="2502000"/>
            <a:ext cx="590400" cy="944640"/>
          </a:xfrm>
          <a:custGeom>
            <a:avLst/>
            <a:gdLst/>
            <a:ahLst/>
            <a:rect l="l" t="t" r="r" b="b"/>
            <a:pathLst>
              <a:path w="372" h="595">
                <a:moveTo>
                  <a:pt x="0" y="594"/>
                </a:moveTo>
                <a:lnTo>
                  <a:pt x="0" y="0"/>
                </a:lnTo>
                <a:lnTo>
                  <a:pt x="371" y="0"/>
                </a:lnTo>
                <a:lnTo>
                  <a:pt x="371" y="594"/>
                </a:lnTo>
                <a:lnTo>
                  <a:pt x="0" y="5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08920" y="2736720"/>
            <a:ext cx="590400" cy="1800"/>
          </a:xfrm>
          <a:custGeom>
            <a:avLst/>
            <a:gdLst/>
            <a:ahLst/>
            <a:rect l="l" t="t" r="r" b="b"/>
            <a:pathLst>
              <a:path w="372" h="1">
                <a:moveTo>
                  <a:pt x="0" y="0"/>
                </a:moveTo>
                <a:lnTo>
                  <a:pt x="37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8920" y="2973240"/>
            <a:ext cx="590400" cy="1800"/>
          </a:xfrm>
          <a:custGeom>
            <a:avLst/>
            <a:gdLst/>
            <a:ahLst/>
            <a:rect l="l" t="t" r="r" b="b"/>
            <a:pathLst>
              <a:path w="372" h="1">
                <a:moveTo>
                  <a:pt x="0" y="0"/>
                </a:moveTo>
                <a:lnTo>
                  <a:pt x="37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08920" y="3208320"/>
            <a:ext cx="590400" cy="1440"/>
          </a:xfrm>
          <a:custGeom>
            <a:avLst/>
            <a:gdLst/>
            <a:ahLst/>
            <a:rect l="l" t="t" r="r" b="b"/>
            <a:pathLst>
              <a:path w="372" h="1">
                <a:moveTo>
                  <a:pt x="0" y="0"/>
                </a:moveTo>
                <a:lnTo>
                  <a:pt x="37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16840" y="3672000"/>
            <a:ext cx="590760" cy="941400"/>
          </a:xfrm>
          <a:custGeom>
            <a:avLst/>
            <a:gdLst/>
            <a:ahLst/>
            <a:rect l="l" t="t" r="r" b="b"/>
            <a:pathLst>
              <a:path w="372" h="593">
                <a:moveTo>
                  <a:pt x="0" y="592"/>
                </a:moveTo>
                <a:lnTo>
                  <a:pt x="0" y="0"/>
                </a:lnTo>
                <a:lnTo>
                  <a:pt x="371" y="0"/>
                </a:lnTo>
                <a:lnTo>
                  <a:pt x="371" y="592"/>
                </a:lnTo>
                <a:lnTo>
                  <a:pt x="0" y="5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16840" y="3906720"/>
            <a:ext cx="590760" cy="1800"/>
          </a:xfrm>
          <a:custGeom>
            <a:avLst/>
            <a:gdLst/>
            <a:ahLst/>
            <a:rect l="l" t="t" r="r" b="b"/>
            <a:pathLst>
              <a:path w="372" h="1">
                <a:moveTo>
                  <a:pt x="0" y="0"/>
                </a:moveTo>
                <a:lnTo>
                  <a:pt x="37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16840" y="4141800"/>
            <a:ext cx="590760" cy="1440"/>
          </a:xfrm>
          <a:custGeom>
            <a:avLst/>
            <a:gdLst/>
            <a:ahLst/>
            <a:rect l="l" t="t" r="r" b="b"/>
            <a:pathLst>
              <a:path w="372" h="1">
                <a:moveTo>
                  <a:pt x="0" y="0"/>
                </a:moveTo>
                <a:lnTo>
                  <a:pt x="37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016840" y="4376880"/>
            <a:ext cx="590760" cy="1440"/>
          </a:xfrm>
          <a:custGeom>
            <a:avLst/>
            <a:gdLst/>
            <a:ahLst/>
            <a:rect l="l" t="t" r="r" b="b"/>
            <a:pathLst>
              <a:path w="372" h="1">
                <a:moveTo>
                  <a:pt x="0" y="0"/>
                </a:moveTo>
                <a:lnTo>
                  <a:pt x="37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35600" y="2298600"/>
            <a:ext cx="1308240" cy="2719440"/>
          </a:xfrm>
          <a:custGeom>
            <a:avLst/>
            <a:gdLst/>
            <a:ahLst/>
            <a:rect l="l" t="t" r="r" b="b"/>
            <a:pathLst>
              <a:path w="824" h="1713">
                <a:moveTo>
                  <a:pt x="0" y="1712"/>
                </a:moveTo>
                <a:lnTo>
                  <a:pt x="0" y="0"/>
                </a:lnTo>
                <a:lnTo>
                  <a:pt x="823" y="0"/>
                </a:lnTo>
                <a:lnTo>
                  <a:pt x="823" y="1712"/>
                </a:lnTo>
                <a:lnTo>
                  <a:pt x="0" y="1712"/>
                </a:lnTo>
              </a:path>
            </a:pathLst>
          </a:custGeom>
          <a:noFill/>
          <a:ln cap="rnd" w="12600">
            <a:solidFill>
              <a:srgbClr val="438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29160" y="3005280"/>
            <a:ext cx="696960" cy="1071360"/>
          </a:xfrm>
          <a:custGeom>
            <a:avLst/>
            <a:gdLst/>
            <a:ahLst/>
            <a:rect l="l" t="t" r="r" b="b"/>
            <a:pathLst>
              <a:path w="439" h="675">
                <a:moveTo>
                  <a:pt x="0" y="674"/>
                </a:moveTo>
                <a:lnTo>
                  <a:pt x="0" y="0"/>
                </a:lnTo>
                <a:lnTo>
                  <a:pt x="438" y="0"/>
                </a:lnTo>
                <a:lnTo>
                  <a:pt x="438" y="674"/>
                </a:lnTo>
                <a:lnTo>
                  <a:pt x="0" y="674"/>
                </a:lnTo>
              </a:path>
            </a:pathLst>
          </a:custGeom>
          <a:noFill/>
          <a:ln cap="rnd" w="12600">
            <a:solidFill>
              <a:srgbClr val="bc3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53480" y="2440080"/>
            <a:ext cx="696960" cy="2225520"/>
          </a:xfrm>
          <a:custGeom>
            <a:avLst/>
            <a:gdLst/>
            <a:ahLst/>
            <a:rect l="l" t="t" r="r" b="b"/>
            <a:pathLst>
              <a:path w="439" h="1402">
                <a:moveTo>
                  <a:pt x="0" y="1401"/>
                </a:moveTo>
                <a:lnTo>
                  <a:pt x="0" y="0"/>
                </a:lnTo>
                <a:lnTo>
                  <a:pt x="438" y="0"/>
                </a:lnTo>
                <a:lnTo>
                  <a:pt x="438" y="1401"/>
                </a:lnTo>
                <a:lnTo>
                  <a:pt x="0" y="1401"/>
                </a:lnTo>
              </a:path>
            </a:pathLst>
          </a:custGeom>
          <a:noFill/>
          <a:ln cap="rnd" w="12600">
            <a:solidFill>
              <a:srgbClr val="bc3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083360" y="2416320"/>
            <a:ext cx="1049400" cy="2155680"/>
            <a:chOff x="7083360" y="2416320"/>
            <a:chExt cx="1049400" cy="2155680"/>
          </a:xfrm>
        </p:grpSpPr>
        <p:sp>
          <p:nvSpPr>
            <p:cNvPr id="242" name=""/>
            <p:cNvSpPr/>
            <p:nvPr/>
          </p:nvSpPr>
          <p:spPr>
            <a:xfrm>
              <a:off x="7105680" y="2592360"/>
              <a:ext cx="1027080" cy="979560"/>
            </a:xfrm>
            <a:custGeom>
              <a:avLst/>
              <a:gdLst/>
              <a:ahLst/>
              <a:rect l="l" t="t" r="r" b="b"/>
              <a:pathLst>
                <a:path w="647" h="617">
                  <a:moveTo>
                    <a:pt x="646" y="0"/>
                  </a:moveTo>
                  <a:lnTo>
                    <a:pt x="0" y="616"/>
                  </a:lnTo>
                  <a:lnTo>
                    <a:pt x="646" y="0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05680" y="3502080"/>
              <a:ext cx="73080" cy="6984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5" y="17"/>
                  </a:moveTo>
                  <a:lnTo>
                    <a:pt x="0" y="43"/>
                  </a:lnTo>
                  <a:lnTo>
                    <a:pt x="28" y="0"/>
                  </a:lnTo>
                  <a:lnTo>
                    <a:pt x="45" y="17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83360" y="2416320"/>
              <a:ext cx="1049400" cy="425160"/>
            </a:xfrm>
            <a:custGeom>
              <a:avLst/>
              <a:gdLst/>
              <a:ahLst/>
              <a:rect l="l" t="t" r="r" b="b"/>
              <a:pathLst>
                <a:path w="661" h="268">
                  <a:moveTo>
                    <a:pt x="660" y="267"/>
                  </a:moveTo>
                  <a:lnTo>
                    <a:pt x="0" y="0"/>
                  </a:lnTo>
                  <a:lnTo>
                    <a:pt x="660" y="267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83360" y="2416320"/>
              <a:ext cx="81000" cy="489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41" y="30"/>
                  </a:moveTo>
                  <a:lnTo>
                    <a:pt x="0" y="0"/>
                  </a:lnTo>
                  <a:lnTo>
                    <a:pt x="50" y="7"/>
                  </a:lnTo>
                  <a:lnTo>
                    <a:pt x="41" y="30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94520" y="2944800"/>
              <a:ext cx="1014480" cy="120600"/>
            </a:xfrm>
            <a:custGeom>
              <a:avLst/>
              <a:gdLst/>
              <a:ahLst/>
              <a:rect l="l" t="t" r="r" b="b"/>
              <a:pathLst>
                <a:path w="639" h="76">
                  <a:moveTo>
                    <a:pt x="638" y="75"/>
                  </a:moveTo>
                  <a:lnTo>
                    <a:pt x="0" y="0"/>
                  </a:lnTo>
                  <a:lnTo>
                    <a:pt x="638" y="75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4520" y="2933640"/>
              <a:ext cx="82440" cy="4284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48" y="26"/>
                  </a:moveTo>
                  <a:lnTo>
                    <a:pt x="0" y="7"/>
                  </a:lnTo>
                  <a:lnTo>
                    <a:pt x="51" y="0"/>
                  </a:lnTo>
                  <a:lnTo>
                    <a:pt x="48" y="26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94520" y="2709720"/>
              <a:ext cx="1025640" cy="590760"/>
            </a:xfrm>
            <a:custGeom>
              <a:avLst/>
              <a:gdLst/>
              <a:ahLst/>
              <a:rect l="l" t="t" r="r" b="b"/>
              <a:pathLst>
                <a:path w="646" h="372">
                  <a:moveTo>
                    <a:pt x="645" y="371"/>
                  </a:moveTo>
                  <a:lnTo>
                    <a:pt x="0" y="0"/>
                  </a:lnTo>
                  <a:lnTo>
                    <a:pt x="645" y="371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94520" y="2709720"/>
              <a:ext cx="79560" cy="590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37" y="36"/>
                  </a:moveTo>
                  <a:lnTo>
                    <a:pt x="0" y="0"/>
                  </a:lnTo>
                  <a:lnTo>
                    <a:pt x="49" y="14"/>
                  </a:lnTo>
                  <a:lnTo>
                    <a:pt x="37" y="36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18280" y="3768840"/>
              <a:ext cx="1001880" cy="144360"/>
            </a:xfrm>
            <a:custGeom>
              <a:avLst/>
              <a:gdLst/>
              <a:ahLst/>
              <a:rect l="l" t="t" r="r" b="b"/>
              <a:pathLst>
                <a:path w="631" h="91">
                  <a:moveTo>
                    <a:pt x="630" y="0"/>
                  </a:moveTo>
                  <a:lnTo>
                    <a:pt x="0" y="90"/>
                  </a:lnTo>
                  <a:lnTo>
                    <a:pt x="630" y="0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18280" y="3879720"/>
              <a:ext cx="82800" cy="4140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51" y="25"/>
                  </a:moveTo>
                  <a:lnTo>
                    <a:pt x="0" y="20"/>
                  </a:lnTo>
                  <a:lnTo>
                    <a:pt x="48" y="0"/>
                  </a:lnTo>
                  <a:lnTo>
                    <a:pt x="51" y="25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05680" y="4003560"/>
              <a:ext cx="1014480" cy="319320"/>
            </a:xfrm>
            <a:custGeom>
              <a:avLst/>
              <a:gdLst/>
              <a:ahLst/>
              <a:rect l="l" t="t" r="r" b="b"/>
              <a:pathLst>
                <a:path w="639" h="201">
                  <a:moveTo>
                    <a:pt x="638" y="0"/>
                  </a:moveTo>
                  <a:lnTo>
                    <a:pt x="0" y="200"/>
                  </a:lnTo>
                  <a:lnTo>
                    <a:pt x="638" y="0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05680" y="4280040"/>
              <a:ext cx="84240" cy="4284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2" y="23"/>
                  </a:moveTo>
                  <a:lnTo>
                    <a:pt x="0" y="26"/>
                  </a:lnTo>
                  <a:lnTo>
                    <a:pt x="45" y="0"/>
                  </a:lnTo>
                  <a:lnTo>
                    <a:pt x="52" y="23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94520" y="4240080"/>
              <a:ext cx="1038240" cy="331920"/>
            </a:xfrm>
            <a:custGeom>
              <a:avLst/>
              <a:gdLst/>
              <a:ahLst/>
              <a:rect l="l" t="t" r="r" b="b"/>
              <a:pathLst>
                <a:path w="654" h="209">
                  <a:moveTo>
                    <a:pt x="653" y="0"/>
                  </a:moveTo>
                  <a:lnTo>
                    <a:pt x="0" y="208"/>
                  </a:lnTo>
                  <a:lnTo>
                    <a:pt x="653" y="0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94520" y="4527720"/>
              <a:ext cx="84240" cy="4428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2" y="23"/>
                  </a:moveTo>
                  <a:lnTo>
                    <a:pt x="0" y="27"/>
                  </a:lnTo>
                  <a:lnTo>
                    <a:pt x="44" y="0"/>
                  </a:lnTo>
                  <a:lnTo>
                    <a:pt x="52" y="23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94520" y="3403440"/>
              <a:ext cx="1025640" cy="1062360"/>
            </a:xfrm>
            <a:custGeom>
              <a:avLst/>
              <a:gdLst/>
              <a:ahLst/>
              <a:rect l="l" t="t" r="r" b="b"/>
              <a:pathLst>
                <a:path w="646" h="669">
                  <a:moveTo>
                    <a:pt x="645" y="668"/>
                  </a:moveTo>
                  <a:lnTo>
                    <a:pt x="0" y="0"/>
                  </a:lnTo>
                  <a:lnTo>
                    <a:pt x="645" y="668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94520" y="3403440"/>
              <a:ext cx="69840" cy="730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25" y="45"/>
                  </a:moveTo>
                  <a:lnTo>
                    <a:pt x="0" y="0"/>
                  </a:lnTo>
                  <a:lnTo>
                    <a:pt x="43" y="28"/>
                  </a:lnTo>
                  <a:lnTo>
                    <a:pt x="25" y="45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046840" y="2403360"/>
            <a:ext cx="825480" cy="1862280"/>
            <a:chOff x="5046840" y="2403360"/>
            <a:chExt cx="825480" cy="1862280"/>
          </a:xfrm>
        </p:grpSpPr>
        <p:sp>
          <p:nvSpPr>
            <p:cNvPr id="259" name=""/>
            <p:cNvSpPr/>
            <p:nvPr/>
          </p:nvSpPr>
          <p:spPr>
            <a:xfrm>
              <a:off x="5799240" y="240336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0" y="26"/>
                  </a:moveTo>
                  <a:lnTo>
                    <a:pt x="45" y="0"/>
                  </a:lnTo>
                  <a:lnTo>
                    <a:pt x="18" y="44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59440" y="3357720"/>
              <a:ext cx="812880" cy="58680"/>
            </a:xfrm>
            <a:custGeom>
              <a:avLst/>
              <a:gdLst/>
              <a:ahLst/>
              <a:rect l="l" t="t" r="r" b="b"/>
              <a:pathLst>
                <a:path w="512" h="37">
                  <a:moveTo>
                    <a:pt x="0" y="36"/>
                  </a:moveTo>
                  <a:lnTo>
                    <a:pt x="511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91320" y="3343320"/>
              <a:ext cx="81000" cy="41400"/>
            </a:xfrm>
            <a:custGeom>
              <a:avLst/>
              <a:gdLst/>
              <a:ahLst/>
              <a:rect l="l" t="t" r="r" b="b"/>
              <a:pathLst>
                <a:path w="51" h="26">
                  <a:moveTo>
                    <a:pt x="0" y="0"/>
                  </a:moveTo>
                  <a:lnTo>
                    <a:pt x="50" y="9"/>
                  </a:lnTo>
                  <a:lnTo>
                    <a:pt x="2" y="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46840" y="3652920"/>
              <a:ext cx="825480" cy="612720"/>
            </a:xfrm>
            <a:custGeom>
              <a:avLst/>
              <a:gdLst/>
              <a:ahLst/>
              <a:rect l="l" t="t" r="r" b="b"/>
              <a:pathLst>
                <a:path w="520" h="386">
                  <a:moveTo>
                    <a:pt x="0" y="0"/>
                  </a:moveTo>
                  <a:lnTo>
                    <a:pt x="519" y="38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96000" y="420048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15" y="0"/>
                  </a:moveTo>
                  <a:lnTo>
                    <a:pt x="47" y="40"/>
                  </a:lnTo>
                  <a:lnTo>
                    <a:pt x="0" y="2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9440" y="2403360"/>
              <a:ext cx="812880" cy="779400"/>
            </a:xfrm>
            <a:custGeom>
              <a:avLst/>
              <a:gdLst/>
              <a:ahLst/>
              <a:rect l="l" t="t" r="r" b="b"/>
              <a:pathLst>
                <a:path w="512" h="491">
                  <a:moveTo>
                    <a:pt x="0" y="490"/>
                  </a:moveTo>
                  <a:lnTo>
                    <a:pt x="511" y="0"/>
                  </a:lnTo>
                  <a:lnTo>
                    <a:pt x="0" y="490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908320" y="2362320"/>
            <a:ext cx="950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hby, 25, 3000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52960" y="4255920"/>
            <a:ext cx="92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ith, 44, 3000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36720" y="3084480"/>
            <a:ext cx="49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hby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58320" y="3335400"/>
            <a:ext cx="42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s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41760" y="3557520"/>
            <a:ext cx="470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11600" y="25081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21320" y="2757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18080" y="29908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24560" y="3711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30680" y="39211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29240" y="41623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37160" y="43941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76520" y="4862520"/>
            <a:ext cx="1137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c3700"/>
                </a:solidFill>
                <a:latin typeface="Arial"/>
              </a:rPr>
              <a:t>Sparse Index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09880" y="5027760"/>
            <a:ext cx="370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c3700"/>
                </a:solidFill>
                <a:latin typeface="Arial"/>
              </a:rPr>
              <a:t>on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97560" y="5194440"/>
            <a:ext cx="601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c37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18480" y="5116680"/>
            <a:ext cx="92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38e00"/>
                </a:solidFill>
                <a:latin typeface="Arial"/>
              </a:rPr>
              <a:t>Data File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813800" y="4862520"/>
            <a:ext cx="108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c3700"/>
                </a:solidFill>
                <a:latin typeface="Arial"/>
              </a:rPr>
              <a:t>Dense Index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46800" y="5027760"/>
            <a:ext cx="370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c3700"/>
                </a:solidFill>
                <a:latin typeface="Arial"/>
              </a:rPr>
              <a:t>on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090640" y="519444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c3700"/>
                </a:solidFill>
                <a:latin typeface="Arial"/>
              </a:rPr>
              <a:t>Age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18080" y="32162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68000" y="2843280"/>
            <a:ext cx="101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stow, 30, 2007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16240" y="2627280"/>
            <a:ext cx="88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su, 33, 4003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61600" y="3322800"/>
            <a:ext cx="88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s, 50, 5004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64120" y="4497480"/>
            <a:ext cx="910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cy, 44, 5004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84560" y="3557520"/>
            <a:ext cx="1001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niels, 22, 6003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27760" y="3786120"/>
            <a:ext cx="933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ones, 40, 6003</a:t>
            </a:r>
            <a:endParaRPr b="0" lang="en-US" sz="8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6T18:24:52Z</dcterms:created>
  <dc:creator/>
  <dc:description/>
  <dc:language>en-US</dc:language>
  <cp:lastModifiedBy>Kristin Bennett</cp:lastModifiedBy>
  <dcterms:modified xsi:type="dcterms:W3CDTF">2000-02-03T02:36:35Z</dcterms:modified>
  <cp:revision>53</cp:revision>
  <dc:subject>Database Management Systems</dc:subject>
  <dc:title>Files and Ind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594/99au/</vt:lpwstr>
  </property>
  <property fmtid="{D5CDD505-2E9C-101B-9397-08002B2CF9AE}" pid="9" name="LinkColor">
    <vt:r8>16711782</vt:r8>
  </property>
  <property fmtid="{D5CDD505-2E9C-101B-9397-08002B2CF9AE}" pid="10" name="MailAddress">
    <vt:lpwstr>vandenbe@cs.washington.edu</vt:lpwstr>
  </property>
  <property fmtid="{D5CDD505-2E9C-101B-9397-08002B2CF9AE}" pid="11" name="NavBtnPos">
    <vt:r8>1</vt:r8>
  </property>
  <property fmtid="{D5CDD505-2E9C-101B-9397-08002B2CF9AE}" pid="12" name="NetShow3.0FTPUser">
    <vt:lpwstr>Anonymous</vt:lpwstr>
  </property>
  <property fmtid="{D5CDD505-2E9C-101B-9397-08002B2CF9AE}" pid="13" name="NetShow3.0FtpURL">
    <vt:lpwstr>c:\7</vt:lpwstr>
  </property>
  <property fmtid="{D5CDD505-2E9C-101B-9397-08002B2CF9AE}" pid="14" name="NetShow3.0ImageHeight">
    <vt:r8>360</vt:r8>
  </property>
  <property fmtid="{D5CDD505-2E9C-101B-9397-08002B2CF9AE}" pid="15" name="NetShow3.0ImageQuality">
    <vt:r8>50</vt:r8>
  </property>
  <property fmtid="{D5CDD505-2E9C-101B-9397-08002B2CF9AE}" pid="16" name="NetShow3.0ImageType">
    <vt:r8>0</vt:r8>
  </property>
  <property fmtid="{D5CDD505-2E9C-101B-9397-08002B2CF9AE}" pid="17" name="NetShow3.0ImageWidth">
    <vt:r8>480</vt:r8>
  </property>
  <property fmtid="{D5CDD505-2E9C-101B-9397-08002B2CF9AE}" pid="18" name="NetShow3.0NSEFile">
    <vt:lpwstr>C:\WINDOWS\Desktop\DON'T DELETE (DL Stuff)\presenter_settings.NSE</vt:lpwstr>
  </property>
  <property fmtid="{D5CDD505-2E9C-101B-9397-08002B2CF9AE}" pid="19" name="NetShow3.0SubURL">
    <vt:lpwstr/>
  </property>
  <property fmtid="{D5CDD505-2E9C-101B-9397-08002B2CF9AE}" pid="20" name="Other">
    <vt:lpwstr/>
  </property>
  <property fmtid="{D5CDD505-2E9C-101B-9397-08002B2CF9AE}" pid="21" name="OutputDir">
    <vt:lpwstr>C:\WINDOWS\Desktop</vt:lpwstr>
  </property>
  <property fmtid="{D5CDD505-2E9C-101B-9397-08002B2CF9AE}" pid="22" name="ScreenSize">
    <vt:r8>4</vt:r8>
  </property>
  <property fmtid="{D5CDD505-2E9C-101B-9397-08002B2CF9AE}" pid="23" name="ScreenUsage">
    <vt:r8>3</vt:r8>
  </property>
  <property fmtid="{D5CDD505-2E9C-101B-9397-08002B2CF9AE}" pid="24" name="ShowNotes">
    <vt:bool>0</vt:bool>
  </property>
  <property fmtid="{D5CDD505-2E9C-101B-9397-08002B2CF9AE}" pid="25" name="TemplateType">
    <vt:r8>1</vt:r8>
  </property>
  <property fmtid="{D5CDD505-2E9C-101B-9397-08002B2CF9AE}" pid="26" name="TextColor">
    <vt:r8>0</vt:r8>
  </property>
  <property fmtid="{D5CDD505-2E9C-101B-9397-08002B2CF9AE}" pid="27" name="TransparentButton">
    <vt:r8>0</vt:r8>
  </property>
  <property fmtid="{D5CDD505-2E9C-101B-9397-08002B2CF9AE}" pid="28" name="UseBrowserColor">
    <vt:bool>1</vt:bool>
  </property>
  <property fmtid="{D5CDD505-2E9C-101B-9397-08002B2CF9AE}" pid="29" name="VisitedColor">
    <vt:r8>10040268</vt:r8>
  </property>
</Properties>
</file>