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4469-2778-4DB9-B371-27B96FB120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EDF-4314-4E48-96ED-388E5121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4F3-FED9-4A5D-ADD7-A1913AD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693-DD0D-4716-9BE3-7C6935C6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5B9-5F99-4D92-9ECF-2C1D9354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187-3340-4E50-B2A9-C2BD4243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279-2C0F-4659-8D0E-12B61BF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AD5-74CF-4488-85AD-6237CD7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128-87C9-4672-BE16-150B71F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87F-4569-40F3-B91E-1C65D76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C91-8370-4A4C-9093-A8C6EFF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035-33FD-40BF-A115-0B7E4B9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86E-E9A7-4C62-A708-588AB17B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C0B-255E-42D0-A99B-290571262038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2932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BB3-B96A-4D02-99F0-AD0E505A3EAA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Storing Data:  Disk Organization and I/O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2476080" y="5008680"/>
            <a:ext cx="414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Yea, from the table of my memory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I’ll wipe away all trivial fond records.”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-- Shakespeare, </a:t>
            </a:r>
            <a:r>
              <a:rPr b="0" i="1" lang="en-US" sz="1800" spc="-1" strike="noStrike">
                <a:solidFill>
                  <a:srgbClr val="005400"/>
                </a:solidFill>
                <a:latin typeface="Book Antiqua"/>
              </a:rPr>
              <a:t>Hamlet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en a Page is Requested ...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requested page is not in pool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34960" indent="-205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oose an unpinned frame for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placemen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; pin_count := 1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34960" indent="-205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 frame is dirty, write it to disk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34960" indent="-205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ad requested page into chosen fram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46960" indent="-246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ls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34960" indent="-205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crement pin_count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46960" indent="-2469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turn its addres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898560" y="4586400"/>
            <a:ext cx="12134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600" y="5486400"/>
            <a:ext cx="858636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If requests can be predicted (e.g., sequential scans)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ages can b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re-fetched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everal pages at a time!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re on Buffer Managemen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questor of page must unpin it, and indicate whether page has been modified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dirty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it is used for thi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age in pool may be requested many times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in cou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used.  A page is a candidate for replacement iff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pin cou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= 0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C &amp; recovery may entail additional I/O when a frame is chosen for replacement. (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Write-Ahead Log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rotocol; more later.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uffer Replacement Polic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rame is chosen for replacement by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placement polic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east-recently-used (LRU), Clock, MRU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licy can have big impact on # of I/O’s; depends on th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ccess pattern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Sequential flooding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asty situation caused by LRU + repeated sequential scan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# buffer frames &lt; # pages in fi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eans each page request causes an I/O.  MRU much better in this situation (but not in all situations, of course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iles of Record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age or block is OK when doing I/O, but higher levels of DBMS operate on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cor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an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files of recor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FIL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 A collection of pages, each containing a collection of records. Must support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sert/delete/modify recor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ad a particular record (specified us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ecord 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can all records (possibly with some conditions on the records to be retrieved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isk and File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isks provide cheap, non-volatile storag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andom access, but cost depends on location of page on disk; important to arrange data sequentially to minimiz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eek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otatio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lay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uffer manager brings pages into RAM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age stays in RAM until released by requestor(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ritten to disk when frame chosen for replacement (which is after all requestors release the page), or earlie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46200" indent="-2484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oice of frame to replace based on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replacement polic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98440" indent="-2984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le layer keeps track of pages in a file, and supports abstraction of a collection of record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isk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104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BMS stores information on (“hard”) disk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s has major implications for DBMS design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AD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fer data from disk to main memory (RAM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RITE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fer data from RAM to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oth are high-cost operations, relative to in-memory operations, so must be planned carefully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Why Not Store Everything in Main Memory?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Costs too much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$1000 will buy you over 128MB of RAM or 7.5GB of disk toda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Main memory is volatile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want data to be saved between runs.  (Obviously!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ypical storage hierarch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in memory (RAM) for currently used data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k for the main database (secondary storage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apes for archiving older versions of the data (tertiary storage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isk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ary storage device of choice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ain advantage over tapes: 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random acces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vs.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equenti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ata is stored and retrieved in units calle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isk block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r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pages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nlike RAM, time to retrieve a disk page varies depending upon location on disk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refore, relative placement of pages on disk has major impact on DBMS performance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omponents of a Disk 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759200" y="1792440"/>
            <a:ext cx="3149640" cy="1801800"/>
            <a:chOff x="4759200" y="1792440"/>
            <a:chExt cx="3149640" cy="1801800"/>
          </a:xfrm>
        </p:grpSpPr>
        <p:sp>
          <p:nvSpPr>
            <p:cNvPr id="76" name=""/>
            <p:cNvSpPr/>
            <p:nvPr/>
          </p:nvSpPr>
          <p:spPr>
            <a:xfrm>
              <a:off x="4759200" y="237960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59200" y="179244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732200" y="1062000"/>
            <a:ext cx="3176640" cy="4594320"/>
            <a:chOff x="4732200" y="1062000"/>
            <a:chExt cx="3176640" cy="4594320"/>
          </a:xfrm>
        </p:grpSpPr>
        <p:grpSp>
          <p:nvGrpSpPr>
            <p:cNvPr id="79" name=""/>
            <p:cNvGrpSpPr/>
            <p:nvPr/>
          </p:nvGrpSpPr>
          <p:grpSpPr>
            <a:xfrm>
              <a:off x="4732200" y="1739880"/>
              <a:ext cx="3176640" cy="3916440"/>
              <a:chOff x="4732200" y="1739880"/>
              <a:chExt cx="3176640" cy="39164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4759200" y="2327400"/>
                <a:ext cx="3149640" cy="1214280"/>
                <a:chOff x="4759200" y="2327400"/>
                <a:chExt cx="3149640" cy="1214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759200" y="23274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49920" y="24192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94280" y="25225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759200" y="1739880"/>
                <a:ext cx="3149640" cy="1216080"/>
                <a:chOff x="4759200" y="1739880"/>
                <a:chExt cx="3149640" cy="1216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759200" y="17398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49920" y="18320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994280" y="19368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5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4732200" y="44402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732200" y="4375080"/>
              <a:ext cx="3164040" cy="1216080"/>
              <a:chOff x="4732200" y="4375080"/>
              <a:chExt cx="3164040" cy="1216080"/>
            </a:xfrm>
          </p:grpSpPr>
          <p:sp>
            <p:nvSpPr>
              <p:cNvPr id="90" name=""/>
              <p:cNvSpPr/>
              <p:nvPr/>
            </p:nvSpPr>
            <p:spPr>
              <a:xfrm>
                <a:off x="4732200" y="43750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36960" y="44798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79880" y="45720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013440" y="1062000"/>
              <a:ext cx="681120" cy="3994200"/>
              <a:chOff x="6013440" y="1062000"/>
              <a:chExt cx="681120" cy="3994200"/>
            </a:xfrm>
          </p:grpSpPr>
          <p:sp>
            <p:nvSpPr>
              <p:cNvPr id="94" name=""/>
              <p:cNvSpPr/>
              <p:nvPr/>
            </p:nvSpPr>
            <p:spPr>
              <a:xfrm>
                <a:off x="6103800" y="12445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03800" y="10620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03800" y="35924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13440" y="13492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5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6600960" y="134928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5040" y="23274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5040" y="29401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5040" y="502776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5040" y="35020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45040" y="23270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29120" y="49896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29120" y="22874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29120" y="29145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89680" y="37814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72320" y="33051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72320" y="40892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49320" y="1662120"/>
            <a:ext cx="46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platters spin (say, 100rps)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8720" y="10540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7640" y="11890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119320"/>
            <a:ext cx="4114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arm assembly is moved in or out to position  a head on a desired track. Tracks under heads  make   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ylinder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imaginary!)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7320" y="137016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439880" y="3713040"/>
            <a:ext cx="1480320" cy="519480"/>
            <a:chOff x="4439880" y="3713040"/>
            <a:chExt cx="1480320" cy="519480"/>
          </a:xfrm>
        </p:grpSpPr>
        <p:sp>
          <p:nvSpPr>
            <p:cNvPr id="116" name=""/>
            <p:cNvSpPr/>
            <p:nvPr/>
          </p:nvSpPr>
          <p:spPr>
            <a:xfrm>
              <a:off x="4494240" y="37130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39880" y="39117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81760" y="4675320"/>
            <a:ext cx="1396800" cy="798480"/>
            <a:chOff x="3281760" y="4675320"/>
            <a:chExt cx="1396800" cy="798480"/>
          </a:xfrm>
        </p:grpSpPr>
        <p:sp>
          <p:nvSpPr>
            <p:cNvPr id="119" name=""/>
            <p:cNvSpPr/>
            <p:nvPr/>
          </p:nvSpPr>
          <p:spPr>
            <a:xfrm>
              <a:off x="3281760" y="51530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41840" y="46753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734000" y="15969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4098960"/>
            <a:ext cx="3216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ly one head reads/writes at any one time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226280" y="1260360"/>
            <a:ext cx="1291320" cy="792360"/>
            <a:chOff x="7226280" y="1260360"/>
            <a:chExt cx="1291320" cy="792360"/>
          </a:xfrm>
        </p:grpSpPr>
        <p:sp>
          <p:nvSpPr>
            <p:cNvPr id="124" name=""/>
            <p:cNvSpPr/>
            <p:nvPr/>
          </p:nvSpPr>
          <p:spPr>
            <a:xfrm>
              <a:off x="7316640" y="15685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226280" y="1260360"/>
              <a:ext cx="1291320" cy="701640"/>
              <a:chOff x="7226280" y="1260360"/>
              <a:chExt cx="1291320" cy="7016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58000" y="12603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26280" y="15685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7750080" y="21319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47240" y="21510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97640" y="21319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bc3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3240" y="20797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53197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Block siz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s a multiple             of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ctor siz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which is fixed)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ccessing a Disk P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ime to access (read/write) a disk block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eek tim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oving arms to position disk head on track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otational dela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aiting for block to rotate under hea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25560" indent="-1850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ften called “rotational latency”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ransfer tim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actually moving data to/from disk surfa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ek time and rotational delay dominat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ek time varies from about 1 to 20msec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otational delay varies from 0 to 10msec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1560" indent="-2314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fer rate is about 1msec per 4KB pag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7560" indent="-2775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ey to lower I/O cost: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reduce seek/rotation delays!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ardware vs. software solutions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rranging Pages on Disk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`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ext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’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lock concept: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locks on same track, followed b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locks on same cylinder, followed b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locks on adjacent cylinder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locks in a file should be arranged sequentially on disk (by `next’), to minimize seek and rotational dela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a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equential sca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re-fetching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ral pages at a time is a big win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isk Space Managemen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owest layer of DBMS software manages space on disk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Higher levels call upon this layer to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cate/de-allocate a pag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ad/write a page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e such “higher level” is the buffer manager, which receives a request to bring a page into memory and then, if needed, requests the disk space layer to read the page into the buffer poo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uffer Management in a DBM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Data must be in RAM for DBMS to operate on it!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185040" indent="-18504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Table of &lt;frame#, pageid&gt; pairs is maintain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36920" y="2409840"/>
            <a:ext cx="4230720" cy="1720800"/>
            <a:chOff x="2536920" y="2409840"/>
            <a:chExt cx="4230720" cy="1720800"/>
          </a:xfrm>
        </p:grpSpPr>
        <p:sp>
          <p:nvSpPr>
            <p:cNvPr id="150" name=""/>
            <p:cNvSpPr/>
            <p:nvPr/>
          </p:nvSpPr>
          <p:spPr>
            <a:xfrm>
              <a:off x="2549520" y="242244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3040" y="241632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35320" y="241632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30480" y="241632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4560" y="241632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16480" y="241632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6920" y="2960640"/>
              <a:ext cx="423072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6920" y="3579840"/>
              <a:ext cx="4230720" cy="0"/>
            </a:xfrm>
            <a:prstGeom prst="line">
              <a:avLst/>
            </a:prstGeom>
            <a:ln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6920" y="240984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24360" y="240984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8080" y="357984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24360" y="4708440"/>
            <a:ext cx="1317600" cy="689040"/>
            <a:chOff x="3924360" y="4708440"/>
            <a:chExt cx="1317600" cy="689040"/>
          </a:xfrm>
        </p:grpSpPr>
        <p:grpSp>
          <p:nvGrpSpPr>
            <p:cNvPr id="162" name=""/>
            <p:cNvGrpSpPr/>
            <p:nvPr/>
          </p:nvGrpSpPr>
          <p:grpSpPr>
            <a:xfrm>
              <a:off x="3924360" y="4708440"/>
              <a:ext cx="1317600" cy="689040"/>
              <a:chOff x="3924360" y="4708440"/>
              <a:chExt cx="1317600" cy="689040"/>
            </a:xfrm>
          </p:grpSpPr>
          <p:sp>
            <p:nvSpPr>
              <p:cNvPr id="163" name=""/>
              <p:cNvSpPr/>
              <p:nvPr/>
            </p:nvSpPr>
            <p:spPr>
              <a:xfrm>
                <a:off x="3936960" y="470844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36960" y="524340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24360" y="478620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41960" y="478620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240080" y="481500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54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96880" y="448164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120" y="410544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3480" y="460368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1960" y="258444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7120" y="286236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328140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3920" y="355608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18080" y="1792440"/>
            <a:ext cx="0" cy="549000"/>
          </a:xfrm>
          <a:prstGeom prst="line">
            <a:avLst/>
          </a:prstGeom>
          <a:ln w="25560">
            <a:solidFill>
              <a:srgbClr val="bc37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6080" y="135252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71400" y="211284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70360" y="441972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c37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03600" y="465768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37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37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bc37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8080" y="4154400"/>
            <a:ext cx="0" cy="549360"/>
          </a:xfrm>
          <a:prstGeom prst="line">
            <a:avLst/>
          </a:prstGeom>
          <a:ln w="25560">
            <a:solidFill>
              <a:srgbClr val="bc37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4:52Z</dcterms:created>
  <dc:creator/>
  <dc:description/>
  <dc:language>en-US</dc:language>
  <cp:lastModifiedBy>Kristin Bennett</cp:lastModifiedBy>
  <dcterms:modified xsi:type="dcterms:W3CDTF">2000-02-02T02:21:45Z</dcterms:modified>
  <cp:revision>55</cp:revision>
  <dc:subject>Database Management Systems</dc:subject>
  <dc:title>Storing Data: Disks and File Organiz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594/99au/</vt:lpwstr>
  </property>
  <property fmtid="{D5CDD505-2E9C-101B-9397-08002B2CF9AE}" pid="9" name="LinkColor">
    <vt:r8>16711782</vt:r8>
  </property>
  <property fmtid="{D5CDD505-2E9C-101B-9397-08002B2CF9AE}" pid="10" name="MailAddress">
    <vt:lpwstr>vandenbe@cs.washington.edu</vt:lpwstr>
  </property>
  <property fmtid="{D5CDD505-2E9C-101B-9397-08002B2CF9AE}" pid="11" name="NavBtnPos">
    <vt:r8>1</vt:r8>
  </property>
  <property fmtid="{D5CDD505-2E9C-101B-9397-08002B2CF9AE}" pid="12" name="NetShow3.0FTPUser">
    <vt:lpwstr>Anonymous</vt:lpwstr>
  </property>
  <property fmtid="{D5CDD505-2E9C-101B-9397-08002B2CF9AE}" pid="13" name="NetShow3.0FtpURL">
    <vt:lpwstr>c:\7</vt:lpwstr>
  </property>
  <property fmtid="{D5CDD505-2E9C-101B-9397-08002B2CF9AE}" pid="14" name="NetShow3.0ImageHeight">
    <vt:r8>360</vt:r8>
  </property>
  <property fmtid="{D5CDD505-2E9C-101B-9397-08002B2CF9AE}" pid="15" name="NetShow3.0ImageQuality">
    <vt:r8>50</vt:r8>
  </property>
  <property fmtid="{D5CDD505-2E9C-101B-9397-08002B2CF9AE}" pid="16" name="NetShow3.0ImageType">
    <vt:r8>0</vt:r8>
  </property>
  <property fmtid="{D5CDD505-2E9C-101B-9397-08002B2CF9AE}" pid="17" name="NetShow3.0ImageWidth">
    <vt:r8>480</vt:r8>
  </property>
  <property fmtid="{D5CDD505-2E9C-101B-9397-08002B2CF9AE}" pid="18" name="NetShow3.0NSEFile">
    <vt:lpwstr>C:\WINDOWS\Desktop\DON'T DELETE (DL Stuff)\presenter_settings.NSE</vt:lpwstr>
  </property>
  <property fmtid="{D5CDD505-2E9C-101B-9397-08002B2CF9AE}" pid="19" name="NetShow3.0SubURL">
    <vt:lpwstr/>
  </property>
  <property fmtid="{D5CDD505-2E9C-101B-9397-08002B2CF9AE}" pid="20" name="Other">
    <vt:lpwstr/>
  </property>
  <property fmtid="{D5CDD505-2E9C-101B-9397-08002B2CF9AE}" pid="21" name="OutputDir">
    <vt:lpwstr>C:\WINDOWS\Desktop</vt:lpwstr>
  </property>
  <property fmtid="{D5CDD505-2E9C-101B-9397-08002B2CF9AE}" pid="22" name="ScreenSize">
    <vt:r8>4</vt:r8>
  </property>
  <property fmtid="{D5CDD505-2E9C-101B-9397-08002B2CF9AE}" pid="23" name="ScreenUsage">
    <vt:r8>3</vt:r8>
  </property>
  <property fmtid="{D5CDD505-2E9C-101B-9397-08002B2CF9AE}" pid="24" name="ShowNotes">
    <vt:bool>0</vt:bool>
  </property>
  <property fmtid="{D5CDD505-2E9C-101B-9397-08002B2CF9AE}" pid="25" name="TemplateType">
    <vt:r8>1</vt:r8>
  </property>
  <property fmtid="{D5CDD505-2E9C-101B-9397-08002B2CF9AE}" pid="26" name="TextColor">
    <vt:r8>0</vt:r8>
  </property>
  <property fmtid="{D5CDD505-2E9C-101B-9397-08002B2CF9AE}" pid="27" name="TransparentButton">
    <vt:r8>0</vt:r8>
  </property>
  <property fmtid="{D5CDD505-2E9C-101B-9397-08002B2CF9AE}" pid="28" name="UseBrowserColor">
    <vt:bool>1</vt:bool>
  </property>
  <property fmtid="{D5CDD505-2E9C-101B-9397-08002B2CF9AE}" pid="29" name="VisitedColor">
    <vt:r8>10040268</vt:r8>
  </property>
</Properties>
</file>