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14FB-0021-4507-BE0A-EAB1762C5B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7C9-D847-4142-B1F0-4292FD0D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33E-3129-499E-8E3F-5C6B2542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BBE-4A21-4CB8-A092-87206B5E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ADB-E77B-47B8-9883-74506877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D34-4E53-4739-BCE1-30408194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397-CECA-4CA7-9E63-6AF9E956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D6C-B5A1-447B-AE1E-78747334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253-85A3-4493-8ACE-65D3FCFD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3C0-F3DA-4F10-AB51-92FE96D1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A83-A91E-420A-A22D-EA424233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53F-FB8C-4B88-84F3-7E5EB77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93A-2699-4928-8F6A-8D0A300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4C32-6ACB-4069-A7C4-CFD92A92972C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8EED-AF74-4521-B5DA-B0A1597DBD4D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QL Tables and Constraints Exampl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Databas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hockey leagu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with rinks, teams, and player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ink (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na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phone, capacity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eam (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tname, cit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color, wins, losses, tie, rname FK references Rink(name)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layer (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name, num, pos, tname, tcity, FK (tname, tcity) references Team (tname, city))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ll relations are in BCNF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only FDs ar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PK</a:t>
            </a:r>
            <a:r>
              <a:rPr b="0" lang="en-US" sz="2800" spc="-1" strike="noStrike">
                <a:solidFill>
                  <a:srgbClr val="fc0128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all other field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onstrain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All players with uniform number 9 must be goali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Unpreserved Dependenc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uppose the users now decide that all rinks in the same city have the same capacit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ity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capacit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ile trying to remain calm, you realize that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is FD doesn’t exist in any single relation, so a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join is required to check i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ach time we add or change a capacity valu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1600" indent="-2916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tradeoff: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xpensive to check, bu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y not be checked often enough to justify creating a dependency-preserving decomposi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c3700"/>
                </a:solidFill>
                <a:uFillTx/>
                <a:latin typeface="Book Antiqua"/>
              </a:rPr>
              <a:t>Key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an be specified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ith the attribute, for single-field key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t end of “create table” statement (all keys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 a separate “alter table” statements (all keys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heck” constraints very usefu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c3700"/>
                </a:solidFill>
                <a:uFillTx/>
                <a:latin typeface="Book Antiqua"/>
              </a:rPr>
              <a:t>SQL Server: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can only involve one relatio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c3700"/>
                </a:solidFill>
                <a:uFillTx/>
                <a:latin typeface="Book Antiqua"/>
              </a:rPr>
              <a:t>SQL Standard: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more genera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riggers, assertions for IC (FD) enforcemen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c3700"/>
                </a:solidFill>
                <a:uFillTx/>
                <a:latin typeface="Book Antiqua"/>
              </a:rPr>
              <a:t>SQL Serv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doesn’t support assertion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be careful, in general, with trigger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7T00:47:06Z</dcterms:created>
  <dc:creator>Scott Vandenberg</dc:creator>
  <dc:description/>
  <dc:language>en-US</dc:language>
  <cp:lastModifiedBy>Donated by Intel</cp:lastModifiedBy>
  <cp:lastPrinted>2000-01-31T17:59:38Z</cp:lastPrinted>
  <dcterms:modified xsi:type="dcterms:W3CDTF">2000-01-31T17:59:44Z</dcterms:modified>
  <cp:revision>84</cp:revision>
  <dc:subject>Database Management Systems</dc:subject>
  <dc:title>SQL &amp; Constraints</dc:title>
</cp:coreProperties>
</file>