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8EC-39FC-4BCB-913D-046F4EF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3BF-C846-4215-ACDC-3C08613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AE2-18A6-4CF2-9EAE-08AE1AA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D24-E02C-49AD-BB1A-BCF05D5C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859-C3E8-45FC-B0FF-C097398F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E31-DD76-485C-8B95-D072AE4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C9C-72BF-4AFD-8861-C536339E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DC0-7678-40C5-8CA2-547BD94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B8E-DFB9-4740-9AFA-DD511B0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ABF-040B-43A7-9A17-5AC9923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392-BE35-4CDD-848C-1768E6B8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FB1-DC18-4E7C-8934-5CF1541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D9B-C385-4438-AF5C-8D6E546B9CAE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43A-6C00-4D8C-A1A0-5616E80933A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QL:  The Query Language (Part III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GROUP BY </a:t>
            </a: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HAVING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 far, we’ve applied aggregate operators to all (qualifying) tuples.  Sometimes, we want to apply them to each of several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group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tup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ind the age of the youngest sailor for each rating lev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general, we don’t know how many rating levels exist, and what the rating values for these levels ar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uppose we know that rating values go from 1 to 10; we can write 10 queries that look like this (!)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4815360" y="5546880"/>
            <a:ext cx="302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LECT  MIN (S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ERE  S.rating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3880" y="5776920"/>
            <a:ext cx="273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1, 2, ... , 10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Queries With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GROUP BY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AVING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3504960"/>
            <a:ext cx="89913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target-list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tains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(i) attribute name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ii) terms with aggregate operations (e.g.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IN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.ag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attribute list (i)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be a subset of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ing-lis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 Intuitively, each answer tuple corresponds to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se attributes must have a single value per group.  (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 set of tuples that have the same value for all attributes i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ing-lis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2187720" y="1425600"/>
            <a:ext cx="4371840" cy="192132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LECT        [DISTINCT]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arget-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     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-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WHERE      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qualificatio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GROUP B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ing-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HAVING    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group-qualificatio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eptual Evalu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480" y="19810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cross-product of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lation-lis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computed, tuples that fail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qualific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discarded, `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unnecessary’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ields are deleted, as befor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remaining tuples are partitioned into groups by the value of attributes in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grouping-lis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group-qualific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then applied to eliminate some group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e answer tuple is generated per qualifying group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the age of the youngest sailor with age    18, for each rating with at least 2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ch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sailors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388620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ly S.rating and S.age are mentioned in th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, GROUP B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HAV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clauses; other attributes `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unnecessar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’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2nd column of result is unnamed.  (Us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o name it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264240" y="1808280"/>
            <a:ext cx="4110840" cy="192132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rating,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S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age &gt;= 18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GROUP B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ratin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HAV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OUN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*) &gt; 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876920" y="1625760"/>
          <a:ext cx="411480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625760"/>
                    <a:ext cx="411480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800600" y="4419720"/>
          <a:ext cx="173988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419720"/>
                    <a:ext cx="17398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10280" y="5138640"/>
          <a:ext cx="182880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5138640"/>
                    <a:ext cx="18288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630120" y="6156360"/>
            <a:ext cx="229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nswer relatio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924680" y="533520"/>
                <a:ext cx="3794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³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For each red boat, find the number of reservations for this boat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Grouping over a join of three relatio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if we drop Sailors and the condition involving S.sid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654840" y="1890720"/>
            <a:ext cx="7521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B.bid,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OUN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*) AS rcoun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, Boats B,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sid=R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.bid=B.b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.color=‘red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GROUP B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.b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orting a Resul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ames, ages of Sailors, sorted by name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LECT sname, age                                                                         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ROM Sailors          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RDER B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nam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ame, ordered by age within a name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LECT sname, ag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ROM Sailor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RDER B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name, 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RDER BY clause evaluated las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ull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eld values in a tuple are sometimes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unknown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e.g., a rating has not been assigned) or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onexistent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e.g., no spouse’s name)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 provides a special marker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nul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such situ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presence of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mplicates many issues. E.g.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al operators needed to check if field is/is no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ul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&gt;8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rue or false whe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ul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?  What about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ND, OR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connectives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 need a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3-valued logic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true, false an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unknow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eaning of constructs must be defined carefully.  (e.g.,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lause eliminates rows that don’t evaluate to true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operators (in particular,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uter join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possible/need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ly complete; in fact, significantly more expressive power than relational algebra (aggregates, arithmetic, sorting, grouping, string matching…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ven queries that can be expressed in RA can often be expressed more naturally in SQ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ulls (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unknow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onexisten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 force a 3-valued logic and odd behavior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Be careful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2T19:06:00Z</dcterms:created>
  <dc:creator/>
  <dc:description/>
  <dc:language>en-US</dc:language>
  <cp:lastModifiedBy>Donated by Intel</cp:lastModifiedBy>
  <cp:lastPrinted>2000-01-28T17:32:08Z</cp:lastPrinted>
  <dcterms:modified xsi:type="dcterms:W3CDTF">2000-01-28T17:32:11Z</dcterms:modified>
  <cp:revision>38</cp:revision>
  <dc:subject>Database Management Systems</dc:subject>
  <dc:title>SQL Queries</dc:title>
</cp:coreProperties>
</file>