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8AE-BD8C-4E55-AB89-41AB3150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B76-C645-4AB3-938D-A9D45A55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0ED-B48A-4D59-ADE2-43A8A13E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099-DDFF-4C63-AE69-F61C1FBF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815-C013-4760-8BAE-4CDF9F44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241-8B27-4E75-AB90-067C1B4D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A1F-8966-42B2-A4D5-D95B45B2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64A-4A81-4AC9-A43C-63B89F79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54F-5D0B-4A31-A0B3-7452792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931-E91E-4090-BC7F-A21E6B74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15B-A89E-4482-B151-7A827551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107-9A85-4C39-A767-DB1A6670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1CCA-9AE5-4E58-9B91-2243934499DC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BFFC-B539-4FC6-87D4-5D0950E967A9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QL:  The Query Language (Part II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re ar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many way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o write a given query in SQL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arget-list syntax can includ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arithmetic, naming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t operations: 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UNION, EXCEPT, INTERSEC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ested queri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Uncorrelat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subquery can be executed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onc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Correlat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subquery executed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once per “outer” tupl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et comparison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semantics can be tricky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t’s just first-order predicate logic (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,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,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,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,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Aggregat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Useful, and not part of relational algebra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pressions and String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27432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llustrates use of arithmetic expressions and string pattern matching: 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Find triples (of ages of sailors and two fields defined by expressions) for sailors whose names begin and end with B and contain at least three character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A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d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=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re two ways to name fields in resul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LIK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s used for string matching. `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_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’ stands for any one character and `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%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’ stands for 0 or more arbitrary characters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1517760" y="1508040"/>
            <a:ext cx="652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age, age1=S.age-5, 2*S.ag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ge2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nam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LIK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‘B_%B’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Find sid’s of sailors who’ve reserved a re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a green boat</a:t>
            </a:r>
            <a:endParaRPr b="0" i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90296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UNI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Can be used to compute the union of any two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union-compati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ets of tuples (which are themselves the result of SQL queries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so available: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EXCEPT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What do we get if we replace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UNION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y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EXCEP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?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4290480" y="1508040"/>
            <a:ext cx="47239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S.s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ailors S, Boats B, Reserves R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WHER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S.sid=R.sid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R.bid=B.b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(B.color=‘red’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OR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B.color=‘green’)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352680"/>
            <a:ext cx="4435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.s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FROM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ailors S, Boats B, Reserves R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.sid=R.sid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R.bid=B.b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         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B.color=‘red’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UNION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.s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FROM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ailors S, Boats B, Reserves R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.sid=R.sid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R.bid=B.b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         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B.color=‘green’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14120"/>
            <a:ext cx="8839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Find sid’s of sailors who’ve reserved a re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a green boat</a:t>
            </a:r>
            <a:endParaRPr b="0" i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INTERSEC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be used to compute the intersection of any two 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union-compati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ets of tuples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cluded in the SQL/92 standard, but some systems don’t support i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ntrast symmetry of th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UNI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n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TERSEC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queries with how much the other versions differ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9" name=""/>
          <p:cNvSpPr/>
          <p:nvPr/>
        </p:nvSpPr>
        <p:spPr>
          <a:xfrm>
            <a:off x="3819240" y="1127160"/>
            <a:ext cx="51840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S.s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ailors S, Boats B1, Reserves R1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Boats B2, Reserves R2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WHER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S.sid=R1.sid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R1.bid=B1.b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.sid=R2.sid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R2.bid=B2.b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(B1.color=‘red’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B2.color=‘green’)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3505320"/>
            <a:ext cx="4435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.s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FROM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ailors S, Boats B, Reserves R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.sid=R.sid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R.bid=B.b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         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B.color=‘red’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INTERSECT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.s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FROM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ailors S, Boats B, Reserves R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.sid=R.sid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R.bid=B.b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         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B.color=‘green’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4400" y="3124080"/>
            <a:ext cx="148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Key field!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3276720"/>
            <a:ext cx="10666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76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769"/>
              </a:path>
            </a:pathLst>
          </a:custGeom>
          <a:noFill/>
          <a:ln cap="rnd"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78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Nested Queri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90676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very powerful feature of SQL:  a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lause can itself contain an SQL query!  (Actually, so can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nd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AVING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lauses.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o find sailors who’ve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no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reserved #103, us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T I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o understand semantics of nested queries, think of 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nested loops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evalua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For each Sailors tuple, check the qualification by computing the subquer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5" name=""/>
          <p:cNvSpPr/>
          <p:nvPr/>
        </p:nvSpPr>
        <p:spPr>
          <a:xfrm>
            <a:off x="1852920" y="1357200"/>
            <a:ext cx="5179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.snam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.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R.si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                       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Reserves R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                       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R.bid=103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19200" y="928800"/>
            <a:ext cx="793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Find names of sailors who’ve reserved boat #103: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78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Nested Queries with Correla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915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EXISTS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another set comparison operator, like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I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UNIQU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used, and * is replaced by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R.b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finds sailors with at most one reservation for boat #103.  (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NIQU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hecks for duplicate tuples; * denotes all attributes.  Why do we have to replace * by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R.b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?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llustrates why, in general, subquery must be re-computed for each Sailors tupl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>
            <a:off x="1290240" y="1279440"/>
            <a:ext cx="7242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.snam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   EXIST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(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*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   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Reserves R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   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R.bid=103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S.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=R.sid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85680" y="852480"/>
            <a:ext cx="793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Find names of sailors who’ve reserved boat #103: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280" y="1830240"/>
            <a:ext cx="67046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More on Set-Comparison Operator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’ve already seen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, EXISTS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d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NIQU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  Can also use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NOT IN, NOT EXISTS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d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NOT UNIQU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lso available: 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op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SOME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,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op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ALL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,  wher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op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nd sailors whose rating is greater than that of some sailor called Horatio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00400" y="3276720"/>
                <a:ext cx="22496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³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926640" y="4572000"/>
            <a:ext cx="73785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*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rating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&gt;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SOME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2.rating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                 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2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                 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2.sname=‘Horatio’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ggregate Operator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Significant extension of relational algebra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8" name=""/>
          <p:cNvSpPr/>
          <p:nvPr/>
        </p:nvSpPr>
        <p:spPr>
          <a:xfrm>
            <a:off x="5941080" y="54000"/>
            <a:ext cx="3021120" cy="228708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COUN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(*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COUN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( [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DISTINC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] A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SUM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( [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DISTINC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] A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AVG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( [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DISTINC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] A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MAX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(A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MIN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(A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680" y="3719520"/>
            <a:ext cx="284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 AVG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.age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rating=10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5040" y="2728800"/>
            <a:ext cx="247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 COUN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*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8680" y="5241960"/>
            <a:ext cx="3990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 AVG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DISTINC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.age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rating=10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80960" y="2955960"/>
            <a:ext cx="5671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rating= (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 MAX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2.rating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       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2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6400" y="2422440"/>
            <a:ext cx="20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ingle column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3480" y="1905120"/>
            <a:ext cx="30420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" y="5167440"/>
            <a:ext cx="4636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 COUN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DISTIN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.rating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.sname=‘Bob’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Find name and age of the oldest sailor(s)</a:t>
            </a: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441972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first query is illegal! (We’ll look into the reason a bit later, when we discuss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GROUP B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third query is equivalent to the second query, and is allowed in the SQL/92 standard, but is not supported in some system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88" name=""/>
          <p:cNvSpPr/>
          <p:nvPr/>
        </p:nvSpPr>
        <p:spPr>
          <a:xfrm>
            <a:off x="4771080" y="1432080"/>
            <a:ext cx="416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name,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MAX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(S.age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44880" y="2422440"/>
            <a:ext cx="4123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name, S.ag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age =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 MAX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2.age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2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9720" y="4556160"/>
            <a:ext cx="4039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name, S.ag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(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 MAX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2.age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ailors S2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= S.ag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2T19:06:00Z</dcterms:created>
  <dc:creator/>
  <dc:description/>
  <dc:language>en-US</dc:language>
  <cp:lastModifiedBy>Donated by Intel</cp:lastModifiedBy>
  <dcterms:modified xsi:type="dcterms:W3CDTF">2000-01-26T17:52:54Z</dcterms:modified>
  <cp:revision>40</cp:revision>
  <dc:subject>Database Management Systems</dc:subject>
  <dc:title>SQL Queries</dc:title>
</cp:coreProperties>
</file>