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73D-F391-4E04-920B-905F6212D9A7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520" y="1600200"/>
            <a:ext cx="772164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5400"/>
                </a:solidFill>
                <a:latin typeface="Book Antiqua"/>
              </a:rPr>
              <a:t>Introduction to Database Systems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5400"/>
                </a:solidFill>
                <a:latin typeface="Book Antiqua"/>
              </a:rPr>
              <a:t>CSE444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3120" y="4248000"/>
            <a:ext cx="6502320" cy="17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ructor: Scott Vandenberg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andenbe@cs.washington.edu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niversity of Washington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nter 2000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atabases make these folks happy ..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implementers (??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nd users and DBMS vendor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 application programmer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 smart webmaster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atabase administrator (DBA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signs logical /physical schema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ndles security and authoriz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ata availability, crash recovery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atabase tuning as needs evolv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956520" y="5943600"/>
            <a:ext cx="52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Must understand how a DBMS works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367320" y="2023920"/>
          <a:ext cx="262728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7320" y="2023920"/>
                    <a:ext cx="26272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tructure of a DB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81024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typical DBMS has a layered architectur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figure does not show the concurrency control and recovery componen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is one of several possible architectures; each system has its own vari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9" name="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8480" y="2127240"/>
            <a:ext cx="3263760" cy="4016520"/>
            <a:chOff x="4578480" y="2127240"/>
            <a:chExt cx="3263760" cy="4016520"/>
          </a:xfrm>
        </p:grpSpPr>
        <p:sp>
          <p:nvSpPr>
            <p:cNvPr id="121" name=""/>
            <p:cNvSpPr/>
            <p:nvPr/>
          </p:nvSpPr>
          <p:spPr>
            <a:xfrm>
              <a:off x="5029920" y="2127240"/>
              <a:ext cx="2360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160" y="2957400"/>
              <a:ext cx="251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35360" y="3467160"/>
              <a:ext cx="315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3280" y="4049640"/>
              <a:ext cx="241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99440" y="4575240"/>
              <a:ext cx="3026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7560" y="2131920"/>
              <a:ext cx="322236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8480" y="2895480"/>
              <a:ext cx="326376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8480" y="3429000"/>
              <a:ext cx="326376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8480" y="3886200"/>
              <a:ext cx="326376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8480" y="4495680"/>
              <a:ext cx="326376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1640" y="549900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5800" y="5564160"/>
              <a:ext cx="2880" cy="54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5591160"/>
              <a:ext cx="0" cy="49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1640" y="603252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27760" y="56926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5880" y="504180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931160" y="32004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3280" y="32068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31160" y="4800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77480" y="511200"/>
            <a:ext cx="1460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These layers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must consider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concurrency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control and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84160" y="1463760"/>
            <a:ext cx="9007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8100000" y="1472040"/>
            <a:ext cx="90108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29"/>
                </a:moveTo>
                <a:arcTo wR="10800" hR="10800" stAng="-10777284" swAng="5365179"/>
                <a:lnTo>
                  <a:pt x="10800" y="10800"/>
                </a:lnTo>
                <a:close/>
              </a:path>
              <a:path fill="none" w="21600" h="21600">
                <a:moveTo>
                  <a:pt x="0" y="10729"/>
                </a:moveTo>
                <a:arcTo wR="10800" hR="10800" stAng="-10777284" swAng="536517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8299440" y="43434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12772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used to maintain, query large datase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enefits include recovery from system crashes, concurrent access, quick application development, data integrity, and secur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vels of abstraction give data independe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DBMS typically has a layered architectur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As hold responsible jobs                                and ar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ell-pa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R&amp;D is one of the broadest,                                              most exciting areas in C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5880" y="4343400"/>
          <a:ext cx="266724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343400"/>
                    <a:ext cx="26672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at Is a Database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very large, integrated collection of data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dels real-worl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nterpris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tities (e.g., students, course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ships (e.g., Ken Griffey is taking CSE444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atabase Management System (DBMS)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 software package designed to store and manage databases easily and efficientl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13360" y="355680"/>
          <a:ext cx="1473120" cy="20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3360" y="355680"/>
                    <a:ext cx="1473120" cy="20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Use a DBMS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ata independence and efficient acces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duced application development tim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ata integrity and secur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niform data administration and acces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t access, recovery from crash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406440" y="4835520"/>
            <a:ext cx="20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630840" y="304920"/>
          <a:ext cx="91620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304920"/>
                    <a:ext cx="91620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Study Databases?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hift from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mput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formation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t the “low end”: scramble to webspace (a mess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t the “high end”: scientific applica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atasets increasing in diversity and volume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gital libraries, distance learning, Human Genome project, EOS project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..  need for DBMS explod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encompasses most of C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S, languages, theory, AI,  multimedia, logic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192800" y="289080"/>
          <a:ext cx="1874880" cy="22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289080"/>
                    <a:ext cx="187488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986960" y="35388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ata Model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ata model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 collection of concepts for describing data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chema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 description of a particular collection of data, using the a given data mod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al model of data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the most widely used model toda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in concept: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rela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basically a table with rows and colum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very relation has a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chema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which describes the columns, or field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evels of Abstra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ny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view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single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onceptual (logical) schema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hysical schema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Views describe how users see the data.                                       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onceptual schema defines logical structure using a data model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Physical schema describes the files and indices used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" y="5594400"/>
            <a:ext cx="822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Schemas are defined using DDL; data is modified/queried using DML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37440" y="3975120"/>
            <a:ext cx="1041120" cy="203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1600" y="4084560"/>
            <a:ext cx="2880" cy="9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7440" y="4889520"/>
            <a:ext cx="1041120" cy="203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4127400"/>
            <a:ext cx="0" cy="81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40480" y="3338640"/>
            <a:ext cx="254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sical Schema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2360" y="2652840"/>
            <a:ext cx="301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ceptual Schema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76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ew 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404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ew 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1112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ew 3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1800" y="1841400"/>
            <a:ext cx="10414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37440" y="184140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720" y="1841400"/>
            <a:ext cx="104148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99000" y="2679840"/>
            <a:ext cx="2793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27600" y="3365640"/>
            <a:ext cx="23367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8840" y="2216160"/>
            <a:ext cx="52092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613280" y="2216160"/>
            <a:ext cx="54612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054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: University Databas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61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Conceptual schema:                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tudents(sid: string, name: string, login: string,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: integer, gpa:real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urses(cid: string, cname:string, credits:integer)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Enrolled(sid:string, cid:string, grade:string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possible Physical Schem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s stored as unordered fil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dex on first column of Studen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External Schema (View)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urse_info(cid:string,enrollment:integer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ata Independenc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pplications insulated from how data is structured and stor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Logical data independenc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tects views from changes i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ogical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conceptual) structure of data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hysical data independenc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tects conceptual schema from changes i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hys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tructure of data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740880" y="5433840"/>
            <a:ext cx="761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ne of the most important benefits of using a DBMS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076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urrency Control and Recove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t execution of user programs             is essential for good DBMS perform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cause disk accesses are frequent, and relatively slow, it is important to keep the cpu humming by working on several user programs concurrentl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terleaving actions of different user programs can lead to inconsistency: e.g., check is cleared while account balance is being compu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ensures such problems don’t arise:  users can pretend they are using a single-user system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13:42Z</dcterms:created>
  <dc:creator/>
  <dc:description> </dc:description>
  <dc:language>en-US</dc:language>
  <cp:lastModifiedBy>Donated by Intel</cp:lastModifiedBy>
  <cp:lastPrinted>1999-09-24T20:27:07Z</cp:lastPrinted>
  <dcterms:modified xsi:type="dcterms:W3CDTF">1999-12-23T18:15:28Z</dcterms:modified>
  <cp:revision>20</cp:revision>
  <dc:subject>Database Management Systems</dc:subject>
  <dc:title>Introduction to Database Systems</dc:title>
</cp:coreProperties>
</file>