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2683-E6CE-408F-A1E6-ED75E81F5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31D8-6CB4-44C9-9C6A-D88E45F4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BD27-3CA3-451B-BD7B-03686664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9B9E-4442-457F-8DA7-7B2C07FB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1D9E-2CC9-4F83-A83F-8C80BB4AF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7CED-3AA2-4A3F-BEED-131ADB30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44E6-BF38-4DE2-B8CD-5E1A547C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EB5B-8A24-4446-836B-DF915C4B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EE4D-8F80-475C-A59D-9C56A0EF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DAB5-E64E-47EA-8A70-AA1ED7F7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8652-5A9E-44F7-A129-4F2AE5AF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F59A-5D67-42E2-AEA7-1EB96510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80AA-51BC-4444-A06A-6E20FC05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8FE0-4DBE-4236-97EE-E40C5FAB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0F8E-BE56-47E5-A057-23836418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6F04-F90D-433E-835F-3210A7962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CB6A-A343-45FC-BA2B-648D0B38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9C73-8CCF-4392-A816-CBCA97BE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2D38-A0B5-41F7-95E5-67B2CAA5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9E43-F6F2-4705-81CF-ECECB7C3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8DAA-10E6-4388-8F7A-4025BBE3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DCAD-1148-4493-B223-73DA0470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A727-5017-49AE-AF7F-C3D03871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CB2B-4F45-44FF-AB65-F76EA8C6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08BF-B68B-4980-B285-CD10935CD5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2193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81FD-D040-48FD-A57D-2F5486EC6F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FA6C-C766-4E71-B7B8-0CB971446A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B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5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2173680" y="5568480"/>
            <a:ext cx="173844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F990-D091-4690-B2CD-E2202EF188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B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47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2173680" y="5568480"/>
            <a:ext cx="173844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269A-872B-4909-9635-EE96B0202A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B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9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173680" y="5568480"/>
            <a:ext cx="173844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71BA-2D27-46AD-9545-DAEF87B979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B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1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2173680" y="5568480"/>
            <a:ext cx="173844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8AD5-CD9C-40F4-8BB8-EC5097D71E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B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3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173680" y="5568480"/>
            <a:ext cx="173844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7ABF-2152-4576-8212-5B7D264426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B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5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2173680" y="5568480"/>
            <a:ext cx="173844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82AF-047F-4DC4-9CCB-3898B0C553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B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07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2173680" y="5568480"/>
            <a:ext cx="173844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6D3F-DF4F-4B76-9D7D-977B292FAA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BFS analysi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edge is explored once from each end-point (at m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vertex is discovered by following a different 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cos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(m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where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# of ed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EB7E-2302-4164-9552-8C279DFA2F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Graph Search Application: Connected Component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 data structure that allows one to answer questions of the fo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vertice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re a path from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 : create array A such that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[u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mallest numbered vertex that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nected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reduces to whethe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[u]=A[v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7231-FE5A-4F82-AF58-856F22C2E2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Graph Search Application: Connected Component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=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(v)!=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ully-explor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(v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iscover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FS(v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[u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a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nd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if                                                                               end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cost: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(n+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vertex an each edge is touched a constant number of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also with D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96CF-AEA7-47C3-9398-1A12433E4B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Undirected Graph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171440" y="1590480"/>
            <a:ext cx="6238800" cy="5161680"/>
            <a:chOff x="1171440" y="1590480"/>
            <a:chExt cx="6238800" cy="5161680"/>
          </a:xfrm>
        </p:grpSpPr>
        <p:sp>
          <p:nvSpPr>
            <p:cNvPr id="88" name=""/>
            <p:cNvSpPr/>
            <p:nvPr/>
          </p:nvSpPr>
          <p:spPr>
            <a:xfrm rot="21535800">
              <a:off x="4375440" y="1594080"/>
              <a:ext cx="380880" cy="38124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21535800">
              <a:off x="3399120" y="2374560"/>
              <a:ext cx="381240" cy="38088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21535800">
              <a:off x="5917320" y="2556360"/>
              <a:ext cx="381240" cy="38088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21535800">
              <a:off x="3909960" y="5261040"/>
              <a:ext cx="381240" cy="38124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21535800">
              <a:off x="3891600" y="4271040"/>
              <a:ext cx="381240" cy="38088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21535800">
              <a:off x="2574000" y="3075840"/>
              <a:ext cx="380880" cy="38088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21535800">
              <a:off x="2595240" y="4218840"/>
              <a:ext cx="380880" cy="38088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1535800">
              <a:off x="2232720" y="5216400"/>
              <a:ext cx="380880" cy="38088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21535800">
              <a:off x="1174680" y="5693400"/>
              <a:ext cx="381240" cy="38088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21535800">
              <a:off x="1797120" y="6367680"/>
              <a:ext cx="380880" cy="38088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21535800">
              <a:off x="5936040" y="3546720"/>
              <a:ext cx="381240" cy="38088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21535800">
              <a:off x="7008480" y="3831480"/>
              <a:ext cx="380880" cy="38124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1535800">
              <a:off x="7025400" y="4745520"/>
              <a:ext cx="380880" cy="38124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3777840" y="1977480"/>
              <a:ext cx="677160" cy="47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2951280" y="2683080"/>
              <a:ext cx="450000" cy="38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29880" y="3457440"/>
              <a:ext cx="144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532600" y="4601880"/>
              <a:ext cx="142920" cy="53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1551960" y="5524560"/>
              <a:ext cx="682920" cy="16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83200" y="6072120"/>
              <a:ext cx="310680" cy="29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58480" y="3453480"/>
              <a:ext cx="1006200" cy="81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49640" y="4728960"/>
              <a:ext cx="828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58480" y="1895400"/>
              <a:ext cx="1157040" cy="74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51320" y="3012840"/>
              <a:ext cx="97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18000" y="3771720"/>
              <a:ext cx="612360" cy="14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165800" y="4289400"/>
              <a:ext cx="72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6302520" y="2933640"/>
              <a:ext cx="855000" cy="89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2022480" y="5673960"/>
              <a:ext cx="367920" cy="69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399680" y="3459960"/>
              <a:ext cx="1177920" cy="223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3782520" y="2675520"/>
              <a:ext cx="2135880" cy="11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4271040" y="2940840"/>
              <a:ext cx="1650240" cy="140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174760" y="5569560"/>
              <a:ext cx="1737720" cy="79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4673-FCBE-44E1-8AEB-A6A2B8DCE9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1600200" y="5029200"/>
            <a:ext cx="1143000" cy="1752480"/>
          </a:xfrm>
          <a:custGeom>
            <a:avLst/>
            <a:gdLst/>
            <a:ahLst/>
            <a:rect l="l" t="t" r="r" b="b"/>
            <a:pathLst>
              <a:path w="720" h="1104">
                <a:moveTo>
                  <a:pt x="720" y="144"/>
                </a:moveTo>
                <a:lnTo>
                  <a:pt x="432" y="0"/>
                </a:lnTo>
                <a:lnTo>
                  <a:pt x="0" y="1104"/>
                </a:lnTo>
                <a:lnTo>
                  <a:pt x="480" y="1104"/>
                </a:lnTo>
                <a:lnTo>
                  <a:pt x="720" y="14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990720" y="3962520"/>
            <a:ext cx="6629400" cy="2286000"/>
          </a:xfrm>
          <a:custGeom>
            <a:avLst/>
            <a:gdLst/>
            <a:ahLst/>
            <a:rect l="l" t="t" r="r" b="b"/>
            <a:pathLst>
              <a:path w="4176" h="1440">
                <a:moveTo>
                  <a:pt x="0" y="1056"/>
                </a:moveTo>
                <a:lnTo>
                  <a:pt x="144" y="1440"/>
                </a:lnTo>
                <a:lnTo>
                  <a:pt x="432" y="1344"/>
                </a:lnTo>
                <a:lnTo>
                  <a:pt x="816" y="432"/>
                </a:lnTo>
                <a:lnTo>
                  <a:pt x="2064" y="1152"/>
                </a:lnTo>
                <a:lnTo>
                  <a:pt x="4176" y="720"/>
                </a:lnTo>
                <a:lnTo>
                  <a:pt x="4128" y="384"/>
                </a:lnTo>
                <a:lnTo>
                  <a:pt x="1872" y="720"/>
                </a:lnTo>
                <a:lnTo>
                  <a:pt x="1056" y="0"/>
                </a:lnTo>
                <a:lnTo>
                  <a:pt x="0" y="100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2895480"/>
            <a:ext cx="5257800" cy="1905120"/>
          </a:xfrm>
          <a:custGeom>
            <a:avLst/>
            <a:gdLst/>
            <a:ahLst/>
            <a:rect l="l" t="t" r="r" b="b"/>
            <a:pathLst>
              <a:path w="3312" h="1200">
                <a:moveTo>
                  <a:pt x="96" y="0"/>
                </a:moveTo>
                <a:lnTo>
                  <a:pt x="0" y="336"/>
                </a:lnTo>
                <a:lnTo>
                  <a:pt x="1008" y="1200"/>
                </a:lnTo>
                <a:lnTo>
                  <a:pt x="2352" y="720"/>
                </a:lnTo>
                <a:lnTo>
                  <a:pt x="3264" y="912"/>
                </a:lnTo>
                <a:lnTo>
                  <a:pt x="3312" y="576"/>
                </a:lnTo>
                <a:lnTo>
                  <a:pt x="2016" y="240"/>
                </a:lnTo>
                <a:lnTo>
                  <a:pt x="1152" y="672"/>
                </a:lnTo>
                <a:lnTo>
                  <a:pt x="96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200400" y="2209680"/>
            <a:ext cx="3276720" cy="838440"/>
          </a:xfrm>
          <a:custGeom>
            <a:avLst/>
            <a:gdLst/>
            <a:ahLst/>
            <a:rect l="l" t="t" r="r" b="b"/>
            <a:pathLst>
              <a:path w="2064" h="528">
                <a:moveTo>
                  <a:pt x="0" y="0"/>
                </a:moveTo>
                <a:lnTo>
                  <a:pt x="48" y="432"/>
                </a:lnTo>
                <a:lnTo>
                  <a:pt x="2064" y="528"/>
                </a:lnTo>
                <a:lnTo>
                  <a:pt x="2016" y="144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BFS Application: Shortest Path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49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2173680" y="5568480"/>
            <a:ext cx="173844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145480" y="1493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517080" y="2483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774200" y="3885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583760" y="4617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478240" y="6141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673440" y="5896440"/>
            <a:ext cx="45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label by distances from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520" y="1614600"/>
            <a:ext cx="321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gives short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s from start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D192-0425-4E02-977C-02F0987608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epth-First Search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the first path you find as far as you can go, recording all the vertices you will need to explore further as you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ly implemented using recursive calls or a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CDBC-1D63-4CCA-97C0-080D472BD4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90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5BD6-2E1A-40DC-BFDA-4B04B25383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1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EA04-B44D-4AE5-B488-08E8300A88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52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83F3-D065-4F82-A473-E359B145755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3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077A-F7F6-40BD-AAE7-9D30CB979FF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4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837F-DB46-408C-B1FA-A5B2A41D06A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45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4C2F-A1DC-4ADF-800F-EEA6AC8A8BE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6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7905-B7CC-4B42-885B-97B94D43D12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07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BA31-8C49-4B06-B668-8ACE2B88D87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rected Graph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143000" y="1600200"/>
            <a:ext cx="6248520" cy="5105520"/>
            <a:chOff x="1143000" y="1600200"/>
            <a:chExt cx="6248520" cy="5105520"/>
          </a:xfrm>
        </p:grpSpPr>
        <p:sp>
          <p:nvSpPr>
            <p:cNvPr id="122" name=""/>
            <p:cNvSpPr/>
            <p:nvPr/>
          </p:nvSpPr>
          <p:spPr>
            <a:xfrm>
              <a:off x="4419720" y="1600200"/>
              <a:ext cx="380880" cy="38124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29000" y="2362320"/>
              <a:ext cx="381240" cy="38088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943600" y="2590920"/>
              <a:ext cx="381240" cy="38088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86200" y="5257800"/>
              <a:ext cx="381240" cy="38124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86200" y="4267440"/>
              <a:ext cx="381240" cy="38088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90920" y="3048120"/>
              <a:ext cx="380880" cy="38088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90920" y="4191120"/>
              <a:ext cx="380880" cy="38088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10040" y="5181840"/>
              <a:ext cx="380880" cy="38088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43000" y="5639040"/>
              <a:ext cx="381240" cy="38088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52840" y="6324840"/>
              <a:ext cx="380880" cy="38088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43600" y="3581640"/>
              <a:ext cx="381240" cy="38088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10640" y="3886200"/>
              <a:ext cx="380880" cy="38124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10640" y="4800600"/>
              <a:ext cx="380880" cy="381240"/>
            </a:xfrm>
            <a:prstGeom prst="ellipse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809880" y="1981440"/>
              <a:ext cx="6858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2971800" y="266724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43200" y="342900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2514600" y="4572000"/>
              <a:ext cx="1526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1523880" y="5486400"/>
              <a:ext cx="6858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920" y="601992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971800" y="3429000"/>
              <a:ext cx="99072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38840" y="47246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00600" y="1905120"/>
              <a:ext cx="11430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72200" y="304812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840" y="3810240"/>
              <a:ext cx="6094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2920" y="434340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6324840" y="2971800"/>
              <a:ext cx="83808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981440" y="5638680"/>
              <a:ext cx="3808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1371600" y="3428640"/>
              <a:ext cx="1219320" cy="221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3810240" y="2666880"/>
              <a:ext cx="21333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267440" y="2971800"/>
              <a:ext cx="167616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2133720" y="5562720"/>
              <a:ext cx="17524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3277-4332-495E-AD43-D7248447F4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8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7AC9-1141-4EA8-B1AE-46AAAB2157D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69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5249-AAEF-4E1E-877E-DE92DD60C32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0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B02E-5351-4CFB-AE24-AFD1E54A326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31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FC13-C6E0-41B1-8603-6C703AEF00D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62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8D61-32F2-47E2-AE97-66E44D1025A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93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CE63-24A4-4EE4-A750-99DB879A2DE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24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858B-A3EB-41C1-9F33-99BAA90A946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55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31BB-1B7A-4738-B433-884B174E801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86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DDBA-6418-4BBA-9183-B959C518025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17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33C6-55BE-4B56-AC6F-1B7C728293B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epresenting Graph  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G=(V,E)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 vertices,  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m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edg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ex se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V={v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...v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acency Matrix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[i,j]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(v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v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 i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st for presence or absence of ed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ct in packed binary form for larg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fficient for sparse gra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3555-ADFA-4A72-8657-5B2EDF4EE6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148" name=""/>
          <p:cNvGrpSpPr/>
          <p:nvPr/>
        </p:nvGrpSpPr>
        <p:grpSpPr>
          <a:xfrm>
            <a:off x="1169640" y="1590120"/>
            <a:ext cx="6239520" cy="5160240"/>
            <a:chOff x="1169640" y="1590120"/>
            <a:chExt cx="6239520" cy="5160240"/>
          </a:xfrm>
        </p:grpSpPr>
        <p:sp>
          <p:nvSpPr>
            <p:cNvPr id="1149" name=""/>
            <p:cNvSpPr/>
            <p:nvPr/>
          </p:nvSpPr>
          <p:spPr>
            <a:xfrm rot="21535800">
              <a:off x="4374720" y="1593720"/>
              <a:ext cx="381240" cy="3812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rot="21535800">
              <a:off x="3398400" y="2373480"/>
              <a:ext cx="38124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rot="21535800">
              <a:off x="5916240" y="2556000"/>
              <a:ext cx="38088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rot="21535800">
              <a:off x="3909600" y="5261040"/>
              <a:ext cx="38088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rot="21535800">
              <a:off x="3890520" y="4270320"/>
              <a:ext cx="38124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rot="21535800">
              <a:off x="2572920" y="3075120"/>
              <a:ext cx="38088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rot="21535800">
              <a:off x="2593440" y="4218120"/>
              <a:ext cx="38124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rot="21535800">
              <a:off x="2231640" y="5214960"/>
              <a:ext cx="38088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rot="21535800">
              <a:off x="1172880" y="5692680"/>
              <a:ext cx="380880" cy="3812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rot="21535800">
              <a:off x="1794960" y="6365880"/>
              <a:ext cx="38124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rot="21535800">
              <a:off x="5935320" y="3546360"/>
              <a:ext cx="380880" cy="3812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rot="21535800">
              <a:off x="7007040" y="3830760"/>
              <a:ext cx="38088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rot="21535800">
              <a:off x="7024320" y="4745160"/>
              <a:ext cx="38088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3777480" y="1976400"/>
              <a:ext cx="677160" cy="47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2949840" y="2681640"/>
              <a:ext cx="450000" cy="38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729520" y="3456000"/>
              <a:ext cx="14400" cy="76212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2532240" y="4600800"/>
              <a:ext cx="142560" cy="53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1550520" y="5522760"/>
              <a:ext cx="682920" cy="16524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481400" y="6070320"/>
              <a:ext cx="310680" cy="29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957760" y="3452760"/>
              <a:ext cx="1005840" cy="81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048560" y="4727520"/>
              <a:ext cx="8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758840" y="1895040"/>
              <a:ext cx="1156680" cy="74052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151320" y="3011400"/>
              <a:ext cx="100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316920" y="3771360"/>
              <a:ext cx="612360" cy="14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165440" y="4289400"/>
              <a:ext cx="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 flipV="1">
              <a:off x="6310080" y="2943000"/>
              <a:ext cx="846720" cy="8874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2021040" y="5672880"/>
              <a:ext cx="367920" cy="69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V="1">
              <a:off x="1398600" y="3459240"/>
              <a:ext cx="1177920" cy="22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 flipV="1">
              <a:off x="3781440" y="2675520"/>
              <a:ext cx="2135880" cy="11304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4270320" y="2940480"/>
              <a:ext cx="1650600" cy="140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E132-F650-405F-8472-18D7407AF74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Non-tree edg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non-tree edges join a vertex and its descendent in the DFS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ross ed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114800" y="4762440"/>
            <a:ext cx="990720" cy="10288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791320" y="4762440"/>
            <a:ext cx="1295280" cy="10288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3" name=""/>
          <p:cNvCxnSpPr>
            <a:endCxn id="1184" idx="1"/>
          </p:cNvCxnSpPr>
          <p:nvPr/>
        </p:nvCxnSpPr>
        <p:spPr>
          <a:xfrm flipV="1">
            <a:off x="4610160" y="3847680"/>
            <a:ext cx="938880" cy="91512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1185" name=""/>
          <p:cNvCxnSpPr>
            <a:endCxn id="1184" idx="3"/>
          </p:cNvCxnSpPr>
          <p:nvPr/>
        </p:nvCxnSpPr>
        <p:spPr>
          <a:xfrm flipH="1" flipV="1">
            <a:off x="5652360" y="3847680"/>
            <a:ext cx="786600" cy="90072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184" name=""/>
          <p:cNvSpPr/>
          <p:nvPr/>
        </p:nvSpPr>
        <p:spPr>
          <a:xfrm>
            <a:off x="5562720" y="3809880"/>
            <a:ext cx="75960" cy="74880"/>
          </a:xfrm>
          <a:prstGeom prst="rect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 flipV="1">
            <a:off x="4952880" y="5410080"/>
            <a:ext cx="1067040" cy="763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257800" y="5257800"/>
            <a:ext cx="290520" cy="3808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H="1">
            <a:off x="5257440" y="5257800"/>
            <a:ext cx="304920" cy="3808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095880" y="4267080"/>
            <a:ext cx="635040" cy="914400"/>
          </a:xfrm>
          <a:custGeom>
            <a:avLst/>
            <a:gdLst/>
            <a:ahLst/>
            <a:rect l="l" t="t" r="r" b="b"/>
            <a:pathLst>
              <a:path w="400" h="576">
                <a:moveTo>
                  <a:pt x="0" y="0"/>
                </a:moveTo>
                <a:cubicBezTo>
                  <a:pt x="136" y="0"/>
                  <a:pt x="272" y="0"/>
                  <a:pt x="336" y="96"/>
                </a:cubicBezTo>
                <a:cubicBezTo>
                  <a:pt x="400" y="192"/>
                  <a:pt x="376" y="496"/>
                  <a:pt x="384" y="576"/>
                </a:cubicBezTo>
              </a:path>
            </a:pathLst>
          </a:custGeom>
          <a:noFill/>
          <a:ln cap="rnd" w="572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064040" y="4952880"/>
            <a:ext cx="431640" cy="685800"/>
          </a:xfrm>
          <a:custGeom>
            <a:avLst/>
            <a:gdLst/>
            <a:ahLst/>
            <a:rect l="l" t="t" r="r" b="b"/>
            <a:pathLst>
              <a:path w="272" h="432">
                <a:moveTo>
                  <a:pt x="80" y="432"/>
                </a:moveTo>
                <a:cubicBezTo>
                  <a:pt x="40" y="324"/>
                  <a:pt x="0" y="216"/>
                  <a:pt x="32" y="144"/>
                </a:cubicBezTo>
                <a:cubicBezTo>
                  <a:pt x="64" y="72"/>
                  <a:pt x="168" y="36"/>
                  <a:pt x="272" y="0"/>
                </a:cubicBezTo>
              </a:path>
            </a:pathLst>
          </a:custGeom>
          <a:noFill/>
          <a:ln cap="rnd" w="572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CC63-D7DA-4F64-9429-855D178AC62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pplication: Articulation Point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ode in an undirected graph is an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rticulation 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f removing it disconnects th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culation points represent vulnerabilities in a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AC48-4736-44AB-8654-9669E4DB0FF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rticulation Point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1169640" y="1590120"/>
            <a:ext cx="6239520" cy="5160240"/>
            <a:chOff x="1169640" y="1590120"/>
            <a:chExt cx="6239520" cy="5160240"/>
          </a:xfrm>
        </p:grpSpPr>
        <p:sp>
          <p:nvSpPr>
            <p:cNvPr id="1195" name=""/>
            <p:cNvSpPr/>
            <p:nvPr/>
          </p:nvSpPr>
          <p:spPr>
            <a:xfrm rot="21535800">
              <a:off x="4374720" y="1593720"/>
              <a:ext cx="381240" cy="3812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rot="21535800">
              <a:off x="3398400" y="2373480"/>
              <a:ext cx="38124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rot="21535800">
              <a:off x="5916240" y="2556000"/>
              <a:ext cx="38088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rot="21535800">
              <a:off x="3909600" y="5261040"/>
              <a:ext cx="38088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rot="21535800">
              <a:off x="3890520" y="4270320"/>
              <a:ext cx="38124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rot="21535800">
              <a:off x="2572920" y="3075120"/>
              <a:ext cx="38088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rot="21535800">
              <a:off x="2593440" y="4218120"/>
              <a:ext cx="38124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rot="21535800">
              <a:off x="2231640" y="5214960"/>
              <a:ext cx="38088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rot="21535800">
              <a:off x="1172880" y="5692680"/>
              <a:ext cx="380880" cy="3812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rot="21535800">
              <a:off x="1794960" y="6365880"/>
              <a:ext cx="38124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21535800">
              <a:off x="5935320" y="3546360"/>
              <a:ext cx="380880" cy="3812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rot="21535800">
              <a:off x="7007040" y="3830760"/>
              <a:ext cx="38088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rot="21535800">
              <a:off x="7024320" y="4745160"/>
              <a:ext cx="38088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3777480" y="1976400"/>
              <a:ext cx="677160" cy="470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2949840" y="2681640"/>
              <a:ext cx="450000" cy="389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729520" y="3456000"/>
              <a:ext cx="14400" cy="76212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H="1">
              <a:off x="2532240" y="4600800"/>
              <a:ext cx="142560" cy="53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H="1">
              <a:off x="1550520" y="5522760"/>
              <a:ext cx="682920" cy="16524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481400" y="6070320"/>
              <a:ext cx="310680" cy="299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957760" y="3452760"/>
              <a:ext cx="1005840" cy="81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048560" y="4727520"/>
              <a:ext cx="864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758840" y="1895040"/>
              <a:ext cx="1156680" cy="74052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151320" y="3011400"/>
              <a:ext cx="1008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316920" y="3771360"/>
              <a:ext cx="612360" cy="140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165440" y="4289400"/>
              <a:ext cx="72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H="1" flipV="1">
              <a:off x="6310080" y="2943000"/>
              <a:ext cx="846720" cy="88740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2021040" y="5672880"/>
              <a:ext cx="367920" cy="69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V="1">
              <a:off x="1398600" y="3459240"/>
              <a:ext cx="1177920" cy="223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H="1" flipV="1">
              <a:off x="3781440" y="2675520"/>
              <a:ext cx="2135880" cy="11304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H="1">
              <a:off x="4270320" y="2940480"/>
              <a:ext cx="1650600" cy="1402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2362320" y="2895480"/>
            <a:ext cx="914400" cy="838440"/>
          </a:xfrm>
          <a:custGeom>
            <a:avLst/>
            <a:gdLst/>
            <a:ahLst/>
            <a:rect l="l" t="t" r="r" b="b"/>
            <a:pathLst>
              <a:path w="576" h="528">
                <a:moveTo>
                  <a:pt x="0" y="0"/>
                </a:moveTo>
                <a:lnTo>
                  <a:pt x="576" y="144"/>
                </a:lnTo>
                <a:lnTo>
                  <a:pt x="144" y="528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657600" y="4114800"/>
            <a:ext cx="914400" cy="762120"/>
          </a:xfrm>
          <a:custGeom>
            <a:avLst/>
            <a:gdLst/>
            <a:ahLst/>
            <a:rect l="l" t="t" r="r" b="b"/>
            <a:pathLst>
              <a:path w="480" h="432">
                <a:moveTo>
                  <a:pt x="0" y="0"/>
                </a:moveTo>
                <a:lnTo>
                  <a:pt x="480" y="96"/>
                </a:lnTo>
                <a:lnTo>
                  <a:pt x="192" y="432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638680" y="2209680"/>
            <a:ext cx="914400" cy="762120"/>
          </a:xfrm>
          <a:custGeom>
            <a:avLst/>
            <a:gdLst/>
            <a:ahLst/>
            <a:rect l="l" t="t" r="r" b="b"/>
            <a:pathLst>
              <a:path w="576" h="384">
                <a:moveTo>
                  <a:pt x="240" y="0"/>
                </a:moveTo>
                <a:lnTo>
                  <a:pt x="0" y="384"/>
                </a:lnTo>
                <a:lnTo>
                  <a:pt x="576" y="384"/>
                </a:lnTo>
                <a:lnTo>
                  <a:pt x="240" y="0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781680" y="3505320"/>
            <a:ext cx="838440" cy="914400"/>
          </a:xfrm>
          <a:custGeom>
            <a:avLst/>
            <a:gdLst/>
            <a:ahLst/>
            <a:rect l="l" t="t" r="r" b="b"/>
            <a:pathLst>
              <a:path w="480" h="480">
                <a:moveTo>
                  <a:pt x="0" y="336"/>
                </a:moveTo>
                <a:lnTo>
                  <a:pt x="288" y="0"/>
                </a:lnTo>
                <a:lnTo>
                  <a:pt x="480" y="480"/>
                </a:lnTo>
                <a:lnTo>
                  <a:pt x="0" y="336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E0F5-8671-4BCF-8154-EAFD518F6E3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rticulation Points from DF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interior vertex of a tree is an articulation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tree edges eliminate articulation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  nodes are articulation points iff they have more than one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4433760" y="4509720"/>
            <a:ext cx="4440240" cy="180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on-tree edges go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sub-tree below so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bov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57200" y="4890600"/>
            <a:ext cx="3027240" cy="137376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leaf, non-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culation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657600" y="5180760"/>
            <a:ext cx="63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4792-97A8-42B2-BE89-BD1FAEAF0D9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FS Application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rticulation Point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35" name=""/>
          <p:cNvSpPr/>
          <p:nvPr/>
        </p:nvSpPr>
        <p:spPr>
          <a:xfrm rot="21535800">
            <a:off x="4344480" y="161604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rot="21535800">
            <a:off x="3368160" y="2395440"/>
            <a:ext cx="381240" cy="38124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rot="21535800">
            <a:off x="3879360" y="528336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rot="21535800">
            <a:off x="3809520" y="373392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rot="21535800">
            <a:off x="2542680" y="3097080"/>
            <a:ext cx="38124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rot="21535800">
            <a:off x="2895120" y="617220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rot="21535800">
            <a:off x="2057040" y="579132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rot="21535800">
            <a:off x="1142640" y="464832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rot="21535800">
            <a:off x="1142640" y="5486400"/>
            <a:ext cx="380880" cy="380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3747240" y="1998360"/>
            <a:ext cx="677160" cy="470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H="1">
            <a:off x="2919960" y="2703960"/>
            <a:ext cx="450000" cy="38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795040" y="3508200"/>
            <a:ext cx="313920" cy="2611800"/>
          </a:xfrm>
          <a:prstGeom prst="line">
            <a:avLst/>
          </a:prstGeom>
          <a:ln cap="rnd" w="38160">
            <a:solidFill>
              <a:srgbClr val="00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449080" y="6025680"/>
            <a:ext cx="470880" cy="21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H="1" flipV="1">
            <a:off x="1508040" y="4957920"/>
            <a:ext cx="711360" cy="82512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368000" y="5106960"/>
            <a:ext cx="720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962800" y="3436920"/>
            <a:ext cx="846720" cy="441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018320" y="4113360"/>
            <a:ext cx="2952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703040" y="1991880"/>
            <a:ext cx="1179720" cy="1959840"/>
          </a:xfrm>
          <a:prstGeom prst="line">
            <a:avLst/>
          </a:prstGeom>
          <a:ln cap="rnd" w="3816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rot="21535800">
            <a:off x="5790960" y="39625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rot="21535800">
            <a:off x="5810040" y="4952880"/>
            <a:ext cx="380880" cy="381240"/>
          </a:xfrm>
          <a:prstGeom prst="ellipse">
            <a:avLst/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rot="21535800">
            <a:off x="6881400" y="523728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rot="21535800">
            <a:off x="6899040" y="615168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026040" y="4417920"/>
            <a:ext cx="1008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191280" y="5177880"/>
            <a:ext cx="612720" cy="140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040160" y="5695920"/>
            <a:ext cx="720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H="1" flipV="1">
            <a:off x="6184080" y="4349520"/>
            <a:ext cx="847080" cy="887400"/>
          </a:xfrm>
          <a:prstGeom prst="line">
            <a:avLst/>
          </a:prstGeom>
          <a:ln cap="rnd" w="38160">
            <a:solidFill>
              <a:srgbClr val="9966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594080" y="5724000"/>
            <a:ext cx="469440" cy="293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1447560" y="3480840"/>
            <a:ext cx="1097640" cy="1175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 flipV="1">
            <a:off x="3729240" y="2684520"/>
            <a:ext cx="2072880" cy="13334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H="1" flipV="1">
            <a:off x="4184640" y="3900960"/>
            <a:ext cx="1605960" cy="274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120120" y="5790240"/>
            <a:ext cx="38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ves are not articulatio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254920" y="1599120"/>
            <a:ext cx="3687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rticulation points &amp; reas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-tree at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-tree at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-tree at 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-tree at 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50120" y="2073960"/>
            <a:ext cx="322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non-tree edges match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with vertices they elimi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847880" y="159912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 has one 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1FB4-3FB3-4599-85C4-A8BBD017C2E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epresenting Graph  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G=(V,E)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 vertices,  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m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edg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jacency Lis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(n+m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(log n) b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ct for sparse 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278960" y="1722600"/>
            <a:ext cx="3188520" cy="2770200"/>
            <a:chOff x="4278960" y="1722600"/>
            <a:chExt cx="3188520" cy="2770200"/>
          </a:xfrm>
        </p:grpSpPr>
        <p:sp>
          <p:nvSpPr>
            <p:cNvPr id="158" name=""/>
            <p:cNvSpPr/>
            <p:nvPr/>
          </p:nvSpPr>
          <p:spPr>
            <a:xfrm>
              <a:off x="4278960" y="1722600"/>
              <a:ext cx="473400" cy="579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78960" y="2270160"/>
              <a:ext cx="473400" cy="579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78960" y="2817720"/>
              <a:ext cx="473400" cy="579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78960" y="3365640"/>
              <a:ext cx="473400" cy="579600"/>
            </a:xfrm>
            <a:prstGeom prst="rect">
              <a:avLst/>
            </a:prstGeom>
            <a:noFill/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78960" y="3913200"/>
              <a:ext cx="473400" cy="579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4952880" y="1738440"/>
              <a:ext cx="685800" cy="399960"/>
              <a:chOff x="4952880" y="1738440"/>
              <a:chExt cx="685800" cy="399960"/>
            </a:xfrm>
          </p:grpSpPr>
          <p:sp>
            <p:nvSpPr>
              <p:cNvPr id="164" name=""/>
              <p:cNvSpPr/>
              <p:nvPr/>
            </p:nvSpPr>
            <p:spPr>
              <a:xfrm>
                <a:off x="4952880" y="1738440"/>
                <a:ext cx="685800" cy="399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410080" y="1738440"/>
                <a:ext cx="0" cy="39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4778280" y="1886040"/>
              <a:ext cx="2286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629320" y="1905120"/>
              <a:ext cx="2286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553080" y="1905120"/>
              <a:ext cx="2286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38680" y="2495520"/>
              <a:ext cx="2286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78280" y="2486160"/>
              <a:ext cx="2286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753080" y="3105000"/>
              <a:ext cx="2286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692680" y="3105000"/>
              <a:ext cx="2286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53080" y="3086280"/>
              <a:ext cx="2286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38760" y="4191120"/>
              <a:ext cx="2286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5867280" y="1738440"/>
              <a:ext cx="685800" cy="399960"/>
              <a:chOff x="5867280" y="1738440"/>
              <a:chExt cx="685800" cy="399960"/>
            </a:xfrm>
          </p:grpSpPr>
          <p:sp>
            <p:nvSpPr>
              <p:cNvPr id="176" name=""/>
              <p:cNvSpPr/>
              <p:nvPr/>
            </p:nvSpPr>
            <p:spPr>
              <a:xfrm>
                <a:off x="5867280" y="1738440"/>
                <a:ext cx="685800" cy="399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324480" y="1738440"/>
                <a:ext cx="0" cy="39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6781680" y="1738440"/>
              <a:ext cx="685800" cy="399960"/>
              <a:chOff x="6781680" y="1738440"/>
              <a:chExt cx="685800" cy="399960"/>
            </a:xfrm>
          </p:grpSpPr>
          <p:sp>
            <p:nvSpPr>
              <p:cNvPr id="179" name=""/>
              <p:cNvSpPr/>
              <p:nvPr/>
            </p:nvSpPr>
            <p:spPr>
              <a:xfrm>
                <a:off x="6781680" y="1738440"/>
                <a:ext cx="685800" cy="399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238880" y="1738440"/>
                <a:ext cx="0" cy="39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952880" y="2286000"/>
              <a:ext cx="685800" cy="399960"/>
              <a:chOff x="4952880" y="2286000"/>
              <a:chExt cx="685800" cy="399960"/>
            </a:xfrm>
          </p:grpSpPr>
          <p:sp>
            <p:nvSpPr>
              <p:cNvPr id="182" name=""/>
              <p:cNvSpPr/>
              <p:nvPr/>
            </p:nvSpPr>
            <p:spPr>
              <a:xfrm>
                <a:off x="4952880" y="2286000"/>
                <a:ext cx="685800" cy="399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410080" y="2286000"/>
                <a:ext cx="0" cy="39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5857920" y="2286000"/>
              <a:ext cx="685800" cy="399960"/>
              <a:chOff x="5857920" y="2286000"/>
              <a:chExt cx="685800" cy="399960"/>
            </a:xfrm>
          </p:grpSpPr>
          <p:sp>
            <p:nvSpPr>
              <p:cNvPr id="185" name=""/>
              <p:cNvSpPr/>
              <p:nvPr/>
            </p:nvSpPr>
            <p:spPr>
              <a:xfrm>
                <a:off x="5857920" y="2286000"/>
                <a:ext cx="685800" cy="399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315120" y="2286000"/>
                <a:ext cx="0" cy="39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952880" y="2857680"/>
              <a:ext cx="685800" cy="399960"/>
              <a:chOff x="4952880" y="2857680"/>
              <a:chExt cx="685800" cy="399960"/>
            </a:xfrm>
          </p:grpSpPr>
          <p:sp>
            <p:nvSpPr>
              <p:cNvPr id="188" name=""/>
              <p:cNvSpPr/>
              <p:nvPr/>
            </p:nvSpPr>
            <p:spPr>
              <a:xfrm>
                <a:off x="4952880" y="2857680"/>
                <a:ext cx="685800" cy="399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410080" y="2857680"/>
                <a:ext cx="0" cy="39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867280" y="2857680"/>
              <a:ext cx="685800" cy="399960"/>
              <a:chOff x="5867280" y="2857680"/>
              <a:chExt cx="685800" cy="399960"/>
            </a:xfrm>
          </p:grpSpPr>
          <p:sp>
            <p:nvSpPr>
              <p:cNvPr id="191" name=""/>
              <p:cNvSpPr/>
              <p:nvPr/>
            </p:nvSpPr>
            <p:spPr>
              <a:xfrm>
                <a:off x="5867280" y="2857680"/>
                <a:ext cx="685800" cy="399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324480" y="2857680"/>
                <a:ext cx="0" cy="39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6781680" y="2833560"/>
              <a:ext cx="685800" cy="399960"/>
              <a:chOff x="6781680" y="2833560"/>
              <a:chExt cx="685800" cy="399960"/>
            </a:xfrm>
          </p:grpSpPr>
          <p:sp>
            <p:nvSpPr>
              <p:cNvPr id="194" name=""/>
              <p:cNvSpPr/>
              <p:nvPr/>
            </p:nvSpPr>
            <p:spPr>
              <a:xfrm>
                <a:off x="6781680" y="2833560"/>
                <a:ext cx="685800" cy="399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238880" y="2833560"/>
                <a:ext cx="0" cy="39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5006880" y="3929040"/>
              <a:ext cx="685800" cy="399960"/>
              <a:chOff x="5006880" y="3929040"/>
              <a:chExt cx="685800" cy="399960"/>
            </a:xfrm>
          </p:grpSpPr>
          <p:sp>
            <p:nvSpPr>
              <p:cNvPr id="197" name=""/>
              <p:cNvSpPr/>
              <p:nvPr/>
            </p:nvSpPr>
            <p:spPr>
              <a:xfrm>
                <a:off x="5006880" y="3929040"/>
                <a:ext cx="685800" cy="399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464080" y="3929040"/>
                <a:ext cx="0" cy="39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7238880" y="1738440"/>
              <a:ext cx="228600" cy="399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24480" y="2290680"/>
              <a:ext cx="228600" cy="399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38880" y="2833560"/>
              <a:ext cx="228600" cy="400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64080" y="3929040"/>
              <a:ext cx="228600" cy="3999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68800" y="17406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37120" y="17262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97520" y="17517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22720" y="2304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86440" y="22741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37120" y="28454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68800" y="2846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68800" y="39171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00840" y="2821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9B4B-5101-42C5-9D2A-BC6A53F293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epresenting Graph  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G=(V,E)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 vertices,  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m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edg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jacency Lis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(n+m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(log n) b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 pointers and cross pointers allow easier traversal and deletion of ed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assume this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278960" y="1722600"/>
            <a:ext cx="3188520" cy="2770200"/>
            <a:chOff x="4278960" y="1722600"/>
            <a:chExt cx="3188520" cy="2770200"/>
          </a:xfrm>
        </p:grpSpPr>
        <p:sp>
          <p:nvSpPr>
            <p:cNvPr id="215" name=""/>
            <p:cNvSpPr/>
            <p:nvPr/>
          </p:nvSpPr>
          <p:spPr>
            <a:xfrm>
              <a:off x="4278960" y="1722600"/>
              <a:ext cx="473400" cy="579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78960" y="2270160"/>
              <a:ext cx="473400" cy="579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78960" y="2817720"/>
              <a:ext cx="473400" cy="579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78960" y="3365640"/>
              <a:ext cx="473400" cy="579600"/>
            </a:xfrm>
            <a:prstGeom prst="rect">
              <a:avLst/>
            </a:prstGeom>
            <a:noFill/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78960" y="3913200"/>
              <a:ext cx="473400" cy="579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4952880" y="1738440"/>
              <a:ext cx="685800" cy="399960"/>
              <a:chOff x="4952880" y="1738440"/>
              <a:chExt cx="685800" cy="399960"/>
            </a:xfrm>
          </p:grpSpPr>
          <p:sp>
            <p:nvSpPr>
              <p:cNvPr id="221" name=""/>
              <p:cNvSpPr/>
              <p:nvPr/>
            </p:nvSpPr>
            <p:spPr>
              <a:xfrm>
                <a:off x="4952880" y="1738440"/>
                <a:ext cx="685800" cy="399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410080" y="1738440"/>
                <a:ext cx="0" cy="39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4778280" y="1886040"/>
              <a:ext cx="2286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29320" y="1905120"/>
              <a:ext cx="2286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53080" y="1905120"/>
              <a:ext cx="2286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38680" y="2495520"/>
              <a:ext cx="2286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78280" y="2486160"/>
              <a:ext cx="2286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753080" y="3105000"/>
              <a:ext cx="2286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692680" y="3105000"/>
              <a:ext cx="2286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53080" y="3086280"/>
              <a:ext cx="2286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38760" y="4191120"/>
              <a:ext cx="22860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5867280" y="1738440"/>
              <a:ext cx="685800" cy="399960"/>
              <a:chOff x="5867280" y="1738440"/>
              <a:chExt cx="685800" cy="399960"/>
            </a:xfrm>
          </p:grpSpPr>
          <p:sp>
            <p:nvSpPr>
              <p:cNvPr id="233" name=""/>
              <p:cNvSpPr/>
              <p:nvPr/>
            </p:nvSpPr>
            <p:spPr>
              <a:xfrm>
                <a:off x="5867280" y="1738440"/>
                <a:ext cx="685800" cy="399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324480" y="1738440"/>
                <a:ext cx="0" cy="39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6781680" y="1738440"/>
              <a:ext cx="685800" cy="399960"/>
              <a:chOff x="6781680" y="1738440"/>
              <a:chExt cx="685800" cy="399960"/>
            </a:xfrm>
          </p:grpSpPr>
          <p:sp>
            <p:nvSpPr>
              <p:cNvPr id="236" name=""/>
              <p:cNvSpPr/>
              <p:nvPr/>
            </p:nvSpPr>
            <p:spPr>
              <a:xfrm>
                <a:off x="6781680" y="1738440"/>
                <a:ext cx="685800" cy="399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38880" y="1738440"/>
                <a:ext cx="0" cy="39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4952880" y="2286000"/>
              <a:ext cx="685800" cy="399960"/>
              <a:chOff x="4952880" y="2286000"/>
              <a:chExt cx="685800" cy="399960"/>
            </a:xfrm>
          </p:grpSpPr>
          <p:sp>
            <p:nvSpPr>
              <p:cNvPr id="239" name=""/>
              <p:cNvSpPr/>
              <p:nvPr/>
            </p:nvSpPr>
            <p:spPr>
              <a:xfrm>
                <a:off x="4952880" y="2286000"/>
                <a:ext cx="685800" cy="399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410080" y="2286000"/>
                <a:ext cx="0" cy="39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5857920" y="2286000"/>
              <a:ext cx="685800" cy="399960"/>
              <a:chOff x="5857920" y="2286000"/>
              <a:chExt cx="685800" cy="399960"/>
            </a:xfrm>
          </p:grpSpPr>
          <p:sp>
            <p:nvSpPr>
              <p:cNvPr id="242" name=""/>
              <p:cNvSpPr/>
              <p:nvPr/>
            </p:nvSpPr>
            <p:spPr>
              <a:xfrm>
                <a:off x="5857920" y="2286000"/>
                <a:ext cx="685800" cy="399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315120" y="2286000"/>
                <a:ext cx="0" cy="39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4952880" y="2857680"/>
              <a:ext cx="685800" cy="399960"/>
              <a:chOff x="4952880" y="2857680"/>
              <a:chExt cx="685800" cy="399960"/>
            </a:xfrm>
          </p:grpSpPr>
          <p:sp>
            <p:nvSpPr>
              <p:cNvPr id="245" name=""/>
              <p:cNvSpPr/>
              <p:nvPr/>
            </p:nvSpPr>
            <p:spPr>
              <a:xfrm>
                <a:off x="4952880" y="2857680"/>
                <a:ext cx="685800" cy="399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410080" y="2857680"/>
                <a:ext cx="0" cy="39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5867280" y="2857680"/>
              <a:ext cx="685800" cy="399960"/>
              <a:chOff x="5867280" y="2857680"/>
              <a:chExt cx="685800" cy="399960"/>
            </a:xfrm>
          </p:grpSpPr>
          <p:sp>
            <p:nvSpPr>
              <p:cNvPr id="248" name=""/>
              <p:cNvSpPr/>
              <p:nvPr/>
            </p:nvSpPr>
            <p:spPr>
              <a:xfrm>
                <a:off x="5867280" y="2857680"/>
                <a:ext cx="685800" cy="399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324480" y="2857680"/>
                <a:ext cx="0" cy="39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6781680" y="2833560"/>
              <a:ext cx="685800" cy="399960"/>
              <a:chOff x="6781680" y="2833560"/>
              <a:chExt cx="685800" cy="399960"/>
            </a:xfrm>
          </p:grpSpPr>
          <p:sp>
            <p:nvSpPr>
              <p:cNvPr id="251" name=""/>
              <p:cNvSpPr/>
              <p:nvPr/>
            </p:nvSpPr>
            <p:spPr>
              <a:xfrm>
                <a:off x="6781680" y="2833560"/>
                <a:ext cx="685800" cy="399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238880" y="2833560"/>
                <a:ext cx="0" cy="39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5006880" y="3929040"/>
              <a:ext cx="685800" cy="399960"/>
              <a:chOff x="5006880" y="3929040"/>
              <a:chExt cx="685800" cy="399960"/>
            </a:xfrm>
          </p:grpSpPr>
          <p:sp>
            <p:nvSpPr>
              <p:cNvPr id="254" name=""/>
              <p:cNvSpPr/>
              <p:nvPr/>
            </p:nvSpPr>
            <p:spPr>
              <a:xfrm>
                <a:off x="5006880" y="3929040"/>
                <a:ext cx="685800" cy="3999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464080" y="3929040"/>
                <a:ext cx="0" cy="39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7238880" y="1738440"/>
              <a:ext cx="228600" cy="399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324480" y="2290680"/>
              <a:ext cx="228600" cy="399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238880" y="2833560"/>
              <a:ext cx="228600" cy="400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64080" y="3929040"/>
              <a:ext cx="228600" cy="3999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68800" y="17406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37120" y="17262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97520" y="17517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22720" y="2304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986440" y="22741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37120" y="28454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68800" y="2846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68800" y="39171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900840" y="2821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5464080" y="2016000"/>
            <a:ext cx="0" cy="362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5619600" y="1987200"/>
            <a:ext cx="0" cy="361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5464080" y="2690640"/>
            <a:ext cx="520920" cy="167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638680" y="2690640"/>
            <a:ext cx="671760" cy="28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5619600" y="2016000"/>
            <a:ext cx="2383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6557760" y="2003400"/>
            <a:ext cx="23796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638680" y="2622600"/>
            <a:ext cx="2383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5638680" y="3219480"/>
            <a:ext cx="2383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6553080" y="3219480"/>
            <a:ext cx="2383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D7D3-7E1E-4A86-B2A8-07EF8397F7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Graph Traversal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the basic structure of a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lk from a fixed starting vertex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all vertices reachable from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tates of ver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dis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letely-expl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DFC6-DF70-4185-B9ED-99A2EE1059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Breadth-First Search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ly explore the vertices in order of their distance fro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ly implemented using a que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4DF7-1892-4C4D-A960-9AF66BCE27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BFS(v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3" name=""/>
          <p:cNvSpPr/>
          <p:nvPr/>
        </p:nvSpPr>
        <p:spPr>
          <a:xfrm rot="21535800">
            <a:off x="4374720" y="1593720"/>
            <a:ext cx="381240" cy="381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21535800">
            <a:off x="3398400" y="237348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21535800">
            <a:off x="5916240" y="255600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21535800">
            <a:off x="3909600" y="526104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21535800">
            <a:off x="3890520" y="42703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21535800">
            <a:off x="2572920" y="307512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21535800">
            <a:off x="2593440" y="421812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21535800">
            <a:off x="2231640" y="52149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rot="21535800">
            <a:off x="1172880" y="569268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21535800">
            <a:off x="1794960" y="6365880"/>
            <a:ext cx="38124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rot="21535800">
            <a:off x="5935320" y="3546360"/>
            <a:ext cx="380880" cy="38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21535800">
            <a:off x="7007040" y="38307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21535800">
            <a:off x="7024320" y="4745160"/>
            <a:ext cx="38088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777480" y="1976400"/>
            <a:ext cx="677160" cy="4701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2949840" y="2681640"/>
            <a:ext cx="450000" cy="389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729520" y="3456000"/>
            <a:ext cx="14400" cy="7621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2532240" y="4600800"/>
            <a:ext cx="142560" cy="536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1550520" y="5522760"/>
            <a:ext cx="682920" cy="1652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481400" y="6070320"/>
            <a:ext cx="310680" cy="2991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957760" y="3452760"/>
            <a:ext cx="1005840" cy="8193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48560" y="4727520"/>
            <a:ext cx="864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58840" y="1895040"/>
            <a:ext cx="1156680" cy="740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51320" y="3011400"/>
            <a:ext cx="1008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16920" y="3771360"/>
            <a:ext cx="612360" cy="1407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165440" y="4289400"/>
            <a:ext cx="7200" cy="3808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6301800" y="2933640"/>
            <a:ext cx="855360" cy="898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2021040" y="5672880"/>
            <a:ext cx="367920" cy="693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1398600" y="3459240"/>
            <a:ext cx="1177920" cy="22320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3781440" y="2675520"/>
            <a:ext cx="2135880" cy="1130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4270320" y="2940480"/>
            <a:ext cx="1650600" cy="14025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2173680" y="5568480"/>
            <a:ext cx="1738440" cy="794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3B75-8581-48F1-A337-D3138F85B9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1-30T19:03:26Z</cp:lastPrinted>
  <dcterms:modified xsi:type="dcterms:W3CDTF">2001-01-30T22:47:00Z</dcterms:modified>
  <cp:revision>69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