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A3A-0E7F-4004-A25D-3A75750F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C8D-66F1-4711-A484-D52B60EC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77C-4BB2-48C4-A2B7-F7771EC0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96E-0B7B-42E9-9152-73D895CB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13A-BA35-4018-A863-FB153E1A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A474-4EA7-42BC-83ED-02F9ABF4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F3F-479C-4C68-B59A-AF3FB0A7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87F5-7668-434C-B518-DB7721D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6B6E-3086-43A4-BBCB-01100F9C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422-B6D0-4FFB-AFE7-FF95129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1CC3-3613-4E43-8F78-AE2DB70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E3E-890D-4953-AA29-6B87BE7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5F1-614A-4E40-90CC-48C726B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57F-F37B-4328-80DE-5F57F8E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57C7-949C-4908-8FC9-30DCDAD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6D6-5DC9-40A7-8221-2A51EC39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C58-F213-40D2-97D1-181DCCE4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BF1-EB6E-4799-8321-CE7E0E6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F55-8EFA-4959-B781-9FEC8A32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F39-A24E-4424-A0B4-96F43F4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7B5-C57B-4F54-89ED-80A62B3C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029-9D28-43E6-BD07-38EF28D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8A5-6866-4BE7-9524-9E9CF92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433-E2B7-445D-A900-6D4611C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C25E-2B9C-4ACC-82F8-172F4B9111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2F6-207A-40B8-9A4D-06B266682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248-71CF-4EF8-A476-361A17D6CF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787-B25C-4EE0-9E02-6E1D167724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C2F-836E-4CFD-8418-CD23D3C23D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A13-0BDD-4D48-A3D2-781F3844B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B6A-49FE-481C-8F36-C7FD6FB86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7C6-B549-4F0F-8CE4-0D13A0F98E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89A-21EF-427D-A07E-8BA16FD0E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C3B-DD9A-47AD-B9B6-8893B1B68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dge is explored once from each end-point (at m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ertex is discovered by following a different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r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# of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4D5-49E4-4BEA-BE48-943A704F1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Search Application: 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data structure that allows one to answer questions of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verti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re a path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: create array A such that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u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mallest numbered vertex that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e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reduces to wheth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u]=A[v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9FA-80D3-4B55-8F80-7BA263FF72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Search Application: 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(v)!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lly-explo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(v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FS(v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[u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f                                                                               end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ertex an each edge is touched a constant number of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also with 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BCF-0FCF-403B-8886-C6266527C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irected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71440" y="1590480"/>
            <a:ext cx="6238800" cy="5161680"/>
            <a:chOff x="1171440" y="1590480"/>
            <a:chExt cx="6238800" cy="5161680"/>
          </a:xfrm>
        </p:grpSpPr>
        <p:sp>
          <p:nvSpPr>
            <p:cNvPr id="88" name=""/>
            <p:cNvSpPr/>
            <p:nvPr/>
          </p:nvSpPr>
          <p:spPr>
            <a:xfrm rot="21535800">
              <a:off x="4375440" y="159408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535800">
              <a:off x="3399120" y="237456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535800">
              <a:off x="5917320" y="255636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35800">
              <a:off x="3909960" y="5261040"/>
              <a:ext cx="38124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35800">
              <a:off x="3891600" y="42710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535800">
              <a:off x="2574000" y="3075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1535800">
              <a:off x="2595240" y="4218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1535800">
              <a:off x="2232720" y="521640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535800">
              <a:off x="1174680" y="56934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535800">
              <a:off x="1797120" y="636768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1535800">
              <a:off x="5936040" y="35467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535800">
              <a:off x="7008480" y="383148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1535800">
              <a:off x="7025400" y="474552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777840" y="1977480"/>
              <a:ext cx="67716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951280" y="2683080"/>
              <a:ext cx="450000" cy="38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9880" y="3457440"/>
              <a:ext cx="144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32600" y="4601880"/>
              <a:ext cx="142920" cy="53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51960" y="5524560"/>
              <a:ext cx="68292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3200" y="6072120"/>
              <a:ext cx="31068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58480" y="3453480"/>
              <a:ext cx="1006200" cy="81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49640" y="4728960"/>
              <a:ext cx="82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8480" y="1895400"/>
              <a:ext cx="1157040" cy="74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1320" y="3012840"/>
              <a:ext cx="9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18000" y="3771720"/>
              <a:ext cx="612360" cy="14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5800" y="4289400"/>
              <a:ext cx="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302520" y="2933640"/>
              <a:ext cx="855000" cy="89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022480" y="5673960"/>
              <a:ext cx="367920" cy="69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399680" y="3459960"/>
              <a:ext cx="1177920" cy="223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782520" y="2675520"/>
              <a:ext cx="21358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271040" y="2940840"/>
              <a:ext cx="1650240" cy="14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74760" y="5569560"/>
              <a:ext cx="1737720" cy="79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9CD-7A5F-4015-A200-6499D9873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600200" y="5029200"/>
            <a:ext cx="1143000" cy="1752480"/>
          </a:xfrm>
          <a:custGeom>
            <a:avLst/>
            <a:gdLst/>
            <a:ahLst/>
            <a:rect l="l" t="t" r="r" b="b"/>
            <a:pathLst>
              <a:path w="720" h="1104">
                <a:moveTo>
                  <a:pt x="720" y="144"/>
                </a:moveTo>
                <a:lnTo>
                  <a:pt x="432" y="0"/>
                </a:lnTo>
                <a:lnTo>
                  <a:pt x="0" y="1104"/>
                </a:lnTo>
                <a:lnTo>
                  <a:pt x="480" y="1104"/>
                </a:lnTo>
                <a:lnTo>
                  <a:pt x="720" y="14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3962520"/>
            <a:ext cx="6629400" cy="2286000"/>
          </a:xfrm>
          <a:custGeom>
            <a:avLst/>
            <a:gdLst/>
            <a:ahLst/>
            <a:rect l="l" t="t" r="r" b="b"/>
            <a:pathLst>
              <a:path w="4176" h="1440">
                <a:moveTo>
                  <a:pt x="0" y="1056"/>
                </a:moveTo>
                <a:lnTo>
                  <a:pt x="144" y="1440"/>
                </a:lnTo>
                <a:lnTo>
                  <a:pt x="432" y="1344"/>
                </a:lnTo>
                <a:lnTo>
                  <a:pt x="816" y="432"/>
                </a:lnTo>
                <a:lnTo>
                  <a:pt x="2064" y="1152"/>
                </a:lnTo>
                <a:lnTo>
                  <a:pt x="4176" y="720"/>
                </a:lnTo>
                <a:lnTo>
                  <a:pt x="4128" y="384"/>
                </a:lnTo>
                <a:lnTo>
                  <a:pt x="1872" y="720"/>
                </a:lnTo>
                <a:lnTo>
                  <a:pt x="1056" y="0"/>
                </a:lnTo>
                <a:lnTo>
                  <a:pt x="0" y="100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2895480"/>
            <a:ext cx="5257800" cy="190512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96" y="0"/>
                </a:moveTo>
                <a:lnTo>
                  <a:pt x="0" y="336"/>
                </a:lnTo>
                <a:lnTo>
                  <a:pt x="1008" y="1200"/>
                </a:lnTo>
                <a:lnTo>
                  <a:pt x="2352" y="720"/>
                </a:lnTo>
                <a:lnTo>
                  <a:pt x="3264" y="912"/>
                </a:lnTo>
                <a:lnTo>
                  <a:pt x="3312" y="576"/>
                </a:lnTo>
                <a:lnTo>
                  <a:pt x="2016" y="240"/>
                </a:lnTo>
                <a:lnTo>
                  <a:pt x="1152" y="672"/>
                </a:lnTo>
                <a:lnTo>
                  <a:pt x="9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2209680"/>
            <a:ext cx="3276720" cy="838440"/>
          </a:xfrm>
          <a:custGeom>
            <a:avLst/>
            <a:gdLst/>
            <a:ahLst/>
            <a:rect l="l" t="t" r="r" b="b"/>
            <a:pathLst>
              <a:path w="2064" h="528">
                <a:moveTo>
                  <a:pt x="0" y="0"/>
                </a:moveTo>
                <a:lnTo>
                  <a:pt x="48" y="432"/>
                </a:lnTo>
                <a:lnTo>
                  <a:pt x="2064" y="528"/>
                </a:lnTo>
                <a:lnTo>
                  <a:pt x="2016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 Application: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5480" y="1493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17080" y="2483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74200" y="388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83760" y="461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78240" y="6141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73440" y="58964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abel by distances from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520" y="1614600"/>
            <a:ext cx="32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gives shor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from start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289-B6B6-4F8A-A1AB-FBD9EA7D3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pth-First Sear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first path you find as far as you can go, recording all the vertices you will need to explore further as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implemented using recursive calls or a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4DF-6693-4854-8056-ABC11A9C1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90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55A-DC3E-4452-ACBE-4FFDF7D8E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B1E-F338-43FE-B46F-49BA5A1BE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2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663-F6E1-496E-9323-5500E30894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E9E-B86A-4645-B074-4181556CCA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4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34C-9C99-4E8F-87C5-D7C44D4BF2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B1F-C9D5-4BB7-B469-58102C7339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6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325-C63E-46CE-806C-E10E59BF75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B4E-12C1-41DC-8E44-0707A481EC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1600200"/>
            <a:ext cx="6248520" cy="5105520"/>
            <a:chOff x="1143000" y="1600200"/>
            <a:chExt cx="6248520" cy="5105520"/>
          </a:xfrm>
        </p:grpSpPr>
        <p:sp>
          <p:nvSpPr>
            <p:cNvPr id="122" name=""/>
            <p:cNvSpPr/>
            <p:nvPr/>
          </p:nvSpPr>
          <p:spPr>
            <a:xfrm>
              <a:off x="4419720" y="16002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2362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25909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257800"/>
              <a:ext cx="38124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42674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04812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419112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10040" y="5181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6390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2840" y="6324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35816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38862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640" y="48006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809880" y="19814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71800" y="266724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3200" y="3429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514600" y="4572000"/>
              <a:ext cx="1526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523880" y="5486400"/>
              <a:ext cx="685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601992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429000"/>
              <a:ext cx="99072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840" y="4724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1905120"/>
              <a:ext cx="11430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3810240"/>
              <a:ext cx="6094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4343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324840" y="2971800"/>
              <a:ext cx="8380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981440" y="563868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71600" y="3428640"/>
              <a:ext cx="1219320" cy="221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10240" y="2666880"/>
              <a:ext cx="2133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67440" y="2971800"/>
              <a:ext cx="1676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33720" y="5562720"/>
              <a:ext cx="1752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CBD-474E-4181-B686-503B7EB30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8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340-380E-4761-8239-4C62882F0A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96B-B205-4EB4-A247-4D5888489E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0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1AD-CBAB-4F87-912B-B450A59DD9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C1E-291A-4468-9828-167E40879D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2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3C2-B694-4811-A8FC-5FD9032E47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4F6-E873-404A-A3CC-F84532D4CB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EF2-C9EA-4614-8617-F5E2999267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19E-9D83-4A8A-8A3B-3153A44020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6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B19-BAA5-4A0D-A13C-AA6ACDEE04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F0A-6FC3-4A79-8026-0B4D34983B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s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=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cy Matrix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i,j]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presence or absence of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in packed binary form for lar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for sparse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E5E-D2D8-4605-9109-0C7C06522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1169640" y="1590120"/>
            <a:ext cx="6239520" cy="5160240"/>
            <a:chOff x="1169640" y="1590120"/>
            <a:chExt cx="6239520" cy="5160240"/>
          </a:xfrm>
        </p:grpSpPr>
        <p:sp>
          <p:nvSpPr>
            <p:cNvPr id="1149" name=""/>
            <p:cNvSpPr/>
            <p:nvPr/>
          </p:nvSpPr>
          <p:spPr>
            <a:xfrm rot="21535800">
              <a:off x="4374720" y="1593720"/>
              <a:ext cx="38124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21535800">
              <a:off x="3398400" y="23734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21535800">
              <a:off x="5916240" y="255600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21535800">
              <a:off x="3909600" y="526104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21535800">
              <a:off x="3890520" y="4270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21535800">
              <a:off x="2572920" y="3075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1535800">
              <a:off x="2593440" y="42181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21535800">
              <a:off x="2231640" y="52149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21535800">
              <a:off x="1172880" y="569268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1535800">
              <a:off x="1794960" y="63658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21535800">
              <a:off x="5935320" y="354636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21535800">
              <a:off x="7007040" y="38307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21535800">
              <a:off x="7024320" y="47451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777480" y="1976400"/>
              <a:ext cx="67716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949840" y="2681640"/>
              <a:ext cx="450000" cy="38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29520" y="3456000"/>
              <a:ext cx="1440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2532240" y="4600800"/>
              <a:ext cx="142560" cy="53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550520" y="5522760"/>
              <a:ext cx="682920" cy="1652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81400" y="6070320"/>
              <a:ext cx="31068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57760" y="3452760"/>
              <a:ext cx="1005840" cy="8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48560" y="4727520"/>
              <a:ext cx="8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58840" y="1895040"/>
              <a:ext cx="1156680" cy="7405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51320" y="3011400"/>
              <a:ext cx="100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16920" y="3771360"/>
              <a:ext cx="61236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65440" y="4289400"/>
              <a:ext cx="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flipV="1">
              <a:off x="6310080" y="2943000"/>
              <a:ext cx="846720" cy="8874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021040" y="5672880"/>
              <a:ext cx="367920" cy="69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1398600" y="3459240"/>
              <a:ext cx="117792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3781440" y="2675520"/>
              <a:ext cx="2135880" cy="1130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4270320" y="2940480"/>
              <a:ext cx="1650600" cy="14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695-FEEC-4793-AE10-AF26FEDA19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n-tre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on-tree edges join a vertex and its descendent in the DFS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ross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4762440"/>
            <a:ext cx="990720" cy="1028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791320" y="4762440"/>
            <a:ext cx="1295280" cy="1028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endCxn id="1184" idx="1"/>
          </p:cNvCxnSpPr>
          <p:nvPr/>
        </p:nvCxnSpPr>
        <p:spPr>
          <a:xfrm flipV="1">
            <a:off x="4610160" y="3847680"/>
            <a:ext cx="938880" cy="915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185" name=""/>
          <p:cNvCxnSpPr>
            <a:endCxn id="1184" idx="3"/>
          </p:cNvCxnSpPr>
          <p:nvPr/>
        </p:nvCxnSpPr>
        <p:spPr>
          <a:xfrm flipH="1" flipV="1">
            <a:off x="5652360" y="3847680"/>
            <a:ext cx="786600" cy="9007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184" name=""/>
          <p:cNvSpPr/>
          <p:nvPr/>
        </p:nvSpPr>
        <p:spPr>
          <a:xfrm>
            <a:off x="5562720" y="3809880"/>
            <a:ext cx="75960" cy="7488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4952880" y="5410080"/>
            <a:ext cx="1067040" cy="763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57800" y="5257800"/>
            <a:ext cx="29052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5257440" y="5257800"/>
            <a:ext cx="30492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5880" y="4267080"/>
            <a:ext cx="635040" cy="914400"/>
          </a:xfrm>
          <a:custGeom>
            <a:avLst/>
            <a:gdLst/>
            <a:ahLst/>
            <a:rect l="l" t="t" r="r" b="b"/>
            <a:pathLst>
              <a:path w="400" h="576">
                <a:moveTo>
                  <a:pt x="0" y="0"/>
                </a:moveTo>
                <a:cubicBezTo>
                  <a:pt x="136" y="0"/>
                  <a:pt x="272" y="0"/>
                  <a:pt x="336" y="96"/>
                </a:cubicBezTo>
                <a:cubicBezTo>
                  <a:pt x="400" y="192"/>
                  <a:pt x="376" y="496"/>
                  <a:pt x="384" y="576"/>
                </a:cubicBezTo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64040" y="4952880"/>
            <a:ext cx="431640" cy="685800"/>
          </a:xfrm>
          <a:custGeom>
            <a:avLst/>
            <a:gdLst/>
            <a:ahLst/>
            <a:rect l="l" t="t" r="r" b="b"/>
            <a:pathLst>
              <a:path w="272" h="432">
                <a:moveTo>
                  <a:pt x="80" y="432"/>
                </a:moveTo>
                <a:cubicBezTo>
                  <a:pt x="40" y="324"/>
                  <a:pt x="0" y="216"/>
                  <a:pt x="32" y="144"/>
                </a:cubicBezTo>
                <a:cubicBezTo>
                  <a:pt x="64" y="72"/>
                  <a:pt x="168" y="36"/>
                  <a:pt x="272" y="0"/>
                </a:cubicBezTo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25A-2FD2-489C-9125-D8DA751CE8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pplication: 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de in an undirected graph is a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rticulation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removing it disconnects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tion points represent vulnerabilities in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A5C-A785-47A1-A342-D9273EA9D7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69640" y="1590120"/>
            <a:ext cx="6239520" cy="5160240"/>
            <a:chOff x="1169640" y="1590120"/>
            <a:chExt cx="6239520" cy="5160240"/>
          </a:xfrm>
        </p:grpSpPr>
        <p:sp>
          <p:nvSpPr>
            <p:cNvPr id="1195" name=""/>
            <p:cNvSpPr/>
            <p:nvPr/>
          </p:nvSpPr>
          <p:spPr>
            <a:xfrm rot="21535800">
              <a:off x="4374720" y="1593720"/>
              <a:ext cx="38124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21535800">
              <a:off x="3398400" y="23734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21535800">
              <a:off x="5916240" y="255600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21535800">
              <a:off x="3909600" y="526104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21535800">
              <a:off x="3890520" y="4270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21535800">
              <a:off x="2572920" y="3075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21535800">
              <a:off x="2593440" y="42181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21535800">
              <a:off x="2231640" y="52149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21535800">
              <a:off x="1172880" y="569268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21535800">
              <a:off x="1794960" y="63658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1535800">
              <a:off x="5935320" y="354636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535800">
              <a:off x="7007040" y="38307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1535800">
              <a:off x="7024320" y="47451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777480" y="1976400"/>
              <a:ext cx="677160" cy="470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949840" y="2681640"/>
              <a:ext cx="450000" cy="38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729520" y="3456000"/>
              <a:ext cx="14400" cy="76212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532240" y="4600800"/>
              <a:ext cx="142560" cy="53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1550520" y="5522760"/>
              <a:ext cx="682920" cy="16524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81400" y="6070320"/>
              <a:ext cx="310680" cy="29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57760" y="3452760"/>
              <a:ext cx="1005840" cy="8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48560" y="4727520"/>
              <a:ext cx="86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758840" y="1895040"/>
              <a:ext cx="1156680" cy="74052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51320" y="3011400"/>
              <a:ext cx="10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316920" y="3771360"/>
              <a:ext cx="612360" cy="14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65440" y="4289400"/>
              <a:ext cx="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 flipV="1">
              <a:off x="6310080" y="2943000"/>
              <a:ext cx="846720" cy="88740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021040" y="5672880"/>
              <a:ext cx="367920" cy="69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1398600" y="3459240"/>
              <a:ext cx="1177920" cy="22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3781440" y="2675520"/>
              <a:ext cx="2135880" cy="11304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270320" y="2940480"/>
              <a:ext cx="1650600" cy="140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2362320" y="2895480"/>
            <a:ext cx="914400" cy="8384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576" y="144"/>
                </a:lnTo>
                <a:lnTo>
                  <a:pt x="144" y="528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57600" y="4114800"/>
            <a:ext cx="914400" cy="76212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0"/>
                </a:moveTo>
                <a:lnTo>
                  <a:pt x="480" y="96"/>
                </a:lnTo>
                <a:lnTo>
                  <a:pt x="192" y="432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638680" y="2209680"/>
            <a:ext cx="914400" cy="76212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240" y="0"/>
                </a:moveTo>
                <a:lnTo>
                  <a:pt x="0" y="384"/>
                </a:lnTo>
                <a:lnTo>
                  <a:pt x="576" y="384"/>
                </a:lnTo>
                <a:lnTo>
                  <a:pt x="24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81680" y="3505320"/>
            <a:ext cx="838440" cy="91440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336"/>
                </a:moveTo>
                <a:lnTo>
                  <a:pt x="288" y="0"/>
                </a:lnTo>
                <a:lnTo>
                  <a:pt x="480" y="480"/>
                </a:lnTo>
                <a:lnTo>
                  <a:pt x="0" y="336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6A6-7607-43D6-A0B3-FCD356D55B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 from DF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ior vertex of a tree is an articul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ee edges eliminate articula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 nodes are articulation points iff they have more than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433760" y="4509720"/>
            <a:ext cx="444024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n-tree edges g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ub-tree below s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bo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57200" y="4890600"/>
            <a:ext cx="3027240" cy="137376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eaf, non-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ula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657600" y="518076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C43-B06C-4A02-B742-BC79D65361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 Applic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5" name=""/>
          <p:cNvSpPr/>
          <p:nvPr/>
        </p:nvSpPr>
        <p:spPr>
          <a:xfrm rot="21535800">
            <a:off x="4344480" y="1616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535800">
            <a:off x="3368160" y="2395440"/>
            <a:ext cx="381240" cy="3812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21535800">
            <a:off x="3879360" y="52833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21535800">
            <a:off x="3809520" y="37339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21535800">
            <a:off x="2542680" y="30970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21535800">
            <a:off x="2895120" y="6172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21535800">
            <a:off x="2057040" y="579132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21535800">
            <a:off x="1142640" y="464832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21535800">
            <a:off x="1142640" y="54864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747240" y="1998360"/>
            <a:ext cx="677160" cy="470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2919960" y="2703960"/>
            <a:ext cx="450000" cy="38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795040" y="3508200"/>
            <a:ext cx="313920" cy="26118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449080" y="6025680"/>
            <a:ext cx="470880" cy="21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1508040" y="4957920"/>
            <a:ext cx="711360" cy="8251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68000" y="510696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62800" y="3436920"/>
            <a:ext cx="846720" cy="44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018320" y="4113360"/>
            <a:ext cx="29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03040" y="1991880"/>
            <a:ext cx="1179720" cy="195984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21535800">
            <a:off x="5790960" y="39625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21535800">
            <a:off x="5810040" y="4952880"/>
            <a:ext cx="380880" cy="381240"/>
          </a:xfrm>
          <a:prstGeom prst="ellipse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21535800">
            <a:off x="6881400" y="523728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1535800">
            <a:off x="6899040" y="615168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026040" y="4417920"/>
            <a:ext cx="100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91280" y="5177880"/>
            <a:ext cx="612720" cy="14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040160" y="569592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6184080" y="4349520"/>
            <a:ext cx="847080" cy="887400"/>
          </a:xfrm>
          <a:prstGeom prst="line">
            <a:avLst/>
          </a:prstGeom>
          <a:ln cap="rnd" w="3816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94080" y="5724000"/>
            <a:ext cx="469440" cy="29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447560" y="3480840"/>
            <a:ext cx="1097640" cy="117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29240" y="2684520"/>
            <a:ext cx="2072880" cy="1333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4184640" y="3900960"/>
            <a:ext cx="160596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120120" y="579024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are not articu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54920" y="1599120"/>
            <a:ext cx="368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ticulation points &amp;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0120" y="207396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n-tree edges mat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ith vertices they eli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47880" y="15991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has one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860-E1E6-4CB7-AC1F-EE35F05255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acency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log n) 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for spars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78960" y="1722600"/>
            <a:ext cx="3188520" cy="2770200"/>
            <a:chOff x="4278960" y="1722600"/>
            <a:chExt cx="3188520" cy="2770200"/>
          </a:xfrm>
        </p:grpSpPr>
        <p:sp>
          <p:nvSpPr>
            <p:cNvPr id="158" name=""/>
            <p:cNvSpPr/>
            <p:nvPr/>
          </p:nvSpPr>
          <p:spPr>
            <a:xfrm>
              <a:off x="4278960" y="17226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8960" y="227016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78960" y="281772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8960" y="3365640"/>
              <a:ext cx="473400" cy="5796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78960" y="39132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952880" y="1738440"/>
              <a:ext cx="685800" cy="399960"/>
              <a:chOff x="4952880" y="1738440"/>
              <a:chExt cx="685800" cy="399960"/>
            </a:xfrm>
          </p:grpSpPr>
          <p:sp>
            <p:nvSpPr>
              <p:cNvPr id="164" name=""/>
              <p:cNvSpPr/>
              <p:nvPr/>
            </p:nvSpPr>
            <p:spPr>
              <a:xfrm>
                <a:off x="49528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100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4778280" y="188604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2932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24955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8280" y="248616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530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926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30862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8760" y="4191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867280" y="1738440"/>
              <a:ext cx="685800" cy="399960"/>
              <a:chOff x="5867280" y="1738440"/>
              <a:chExt cx="685800" cy="399960"/>
            </a:xfrm>
          </p:grpSpPr>
          <p:sp>
            <p:nvSpPr>
              <p:cNvPr id="176" name=""/>
              <p:cNvSpPr/>
              <p:nvPr/>
            </p:nvSpPr>
            <p:spPr>
              <a:xfrm>
                <a:off x="58672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244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781680" y="1738440"/>
              <a:ext cx="685800" cy="399960"/>
              <a:chOff x="6781680" y="1738440"/>
              <a:chExt cx="685800" cy="399960"/>
            </a:xfrm>
          </p:grpSpPr>
          <p:sp>
            <p:nvSpPr>
              <p:cNvPr id="179" name=""/>
              <p:cNvSpPr/>
              <p:nvPr/>
            </p:nvSpPr>
            <p:spPr>
              <a:xfrm>
                <a:off x="67816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388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952880" y="2286000"/>
              <a:ext cx="685800" cy="399960"/>
              <a:chOff x="4952880" y="2286000"/>
              <a:chExt cx="685800" cy="399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95288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1008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5857920" y="2286000"/>
              <a:ext cx="685800" cy="399960"/>
              <a:chOff x="5857920" y="2286000"/>
              <a:chExt cx="685800" cy="399960"/>
            </a:xfrm>
          </p:grpSpPr>
          <p:sp>
            <p:nvSpPr>
              <p:cNvPr id="185" name=""/>
              <p:cNvSpPr/>
              <p:nvPr/>
            </p:nvSpPr>
            <p:spPr>
              <a:xfrm>
                <a:off x="585792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1512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952880" y="2857680"/>
              <a:ext cx="685800" cy="399960"/>
              <a:chOff x="4952880" y="2857680"/>
              <a:chExt cx="685800" cy="399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9528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100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867280" y="2857680"/>
              <a:ext cx="685800" cy="399960"/>
              <a:chOff x="5867280" y="2857680"/>
              <a:chExt cx="685800" cy="399960"/>
            </a:xfrm>
          </p:grpSpPr>
          <p:sp>
            <p:nvSpPr>
              <p:cNvPr id="191" name=""/>
              <p:cNvSpPr/>
              <p:nvPr/>
            </p:nvSpPr>
            <p:spPr>
              <a:xfrm>
                <a:off x="58672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244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81680" y="2833560"/>
              <a:ext cx="685800" cy="399960"/>
              <a:chOff x="6781680" y="2833560"/>
              <a:chExt cx="685800" cy="399960"/>
            </a:xfrm>
          </p:grpSpPr>
          <p:sp>
            <p:nvSpPr>
              <p:cNvPr id="194" name=""/>
              <p:cNvSpPr/>
              <p:nvPr/>
            </p:nvSpPr>
            <p:spPr>
              <a:xfrm>
                <a:off x="6781680" y="283356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238880" y="283356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006880" y="3929040"/>
              <a:ext cx="685800" cy="399960"/>
              <a:chOff x="5006880" y="3929040"/>
              <a:chExt cx="685800" cy="399960"/>
            </a:xfrm>
          </p:grpSpPr>
          <p:sp>
            <p:nvSpPr>
              <p:cNvPr id="197" name=""/>
              <p:cNvSpPr/>
              <p:nvPr/>
            </p:nvSpPr>
            <p:spPr>
              <a:xfrm>
                <a:off x="5006880" y="39290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64080" y="39290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238880" y="1738440"/>
              <a:ext cx="228600" cy="399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90680"/>
              <a:ext cx="228600" cy="39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8880" y="2833560"/>
              <a:ext cx="228600" cy="400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64080" y="3929040"/>
              <a:ext cx="228600" cy="39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800" y="1740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7120" y="172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97520" y="175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2720" y="2304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6440" y="2274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37120" y="2845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8800" y="284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68800" y="3917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00840" y="2821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39C-4F43-457A-A390-F8C0CB390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acency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log n) 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pointers and cross pointers allow easier traversal and deletion of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ssume thi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78960" y="1722600"/>
            <a:ext cx="3188520" cy="2770200"/>
            <a:chOff x="4278960" y="1722600"/>
            <a:chExt cx="3188520" cy="2770200"/>
          </a:xfrm>
        </p:grpSpPr>
        <p:sp>
          <p:nvSpPr>
            <p:cNvPr id="215" name=""/>
            <p:cNvSpPr/>
            <p:nvPr/>
          </p:nvSpPr>
          <p:spPr>
            <a:xfrm>
              <a:off x="4278960" y="17226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78960" y="227016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78960" y="281772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78960" y="3365640"/>
              <a:ext cx="473400" cy="5796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78960" y="39132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952880" y="1738440"/>
              <a:ext cx="685800" cy="399960"/>
              <a:chOff x="4952880" y="1738440"/>
              <a:chExt cx="685800" cy="399960"/>
            </a:xfrm>
          </p:grpSpPr>
          <p:sp>
            <p:nvSpPr>
              <p:cNvPr id="221" name=""/>
              <p:cNvSpPr/>
              <p:nvPr/>
            </p:nvSpPr>
            <p:spPr>
              <a:xfrm>
                <a:off x="49528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100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778280" y="188604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932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8680" y="24955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78280" y="248616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530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926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0862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8760" y="4191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867280" y="1738440"/>
              <a:ext cx="685800" cy="399960"/>
              <a:chOff x="5867280" y="1738440"/>
              <a:chExt cx="685800" cy="399960"/>
            </a:xfrm>
          </p:grpSpPr>
          <p:sp>
            <p:nvSpPr>
              <p:cNvPr id="233" name=""/>
              <p:cNvSpPr/>
              <p:nvPr/>
            </p:nvSpPr>
            <p:spPr>
              <a:xfrm>
                <a:off x="58672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244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781680" y="1738440"/>
              <a:ext cx="685800" cy="399960"/>
              <a:chOff x="6781680" y="1738440"/>
              <a:chExt cx="685800" cy="399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7816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388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952880" y="2286000"/>
              <a:ext cx="685800" cy="399960"/>
              <a:chOff x="4952880" y="2286000"/>
              <a:chExt cx="685800" cy="39996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1008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857920" y="2286000"/>
              <a:ext cx="685800" cy="399960"/>
              <a:chOff x="5857920" y="2286000"/>
              <a:chExt cx="685800" cy="399960"/>
            </a:xfrm>
          </p:grpSpPr>
          <p:sp>
            <p:nvSpPr>
              <p:cNvPr id="242" name=""/>
              <p:cNvSpPr/>
              <p:nvPr/>
            </p:nvSpPr>
            <p:spPr>
              <a:xfrm>
                <a:off x="585792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1512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952880" y="2857680"/>
              <a:ext cx="685800" cy="399960"/>
              <a:chOff x="4952880" y="2857680"/>
              <a:chExt cx="685800" cy="399960"/>
            </a:xfrm>
          </p:grpSpPr>
          <p:sp>
            <p:nvSpPr>
              <p:cNvPr id="245" name=""/>
              <p:cNvSpPr/>
              <p:nvPr/>
            </p:nvSpPr>
            <p:spPr>
              <a:xfrm>
                <a:off x="49528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867280" y="2857680"/>
              <a:ext cx="685800" cy="399960"/>
              <a:chOff x="5867280" y="2857680"/>
              <a:chExt cx="685800" cy="399960"/>
            </a:xfrm>
          </p:grpSpPr>
          <p:sp>
            <p:nvSpPr>
              <p:cNvPr id="248" name=""/>
              <p:cNvSpPr/>
              <p:nvPr/>
            </p:nvSpPr>
            <p:spPr>
              <a:xfrm>
                <a:off x="58672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244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781680" y="2833560"/>
              <a:ext cx="685800" cy="399960"/>
              <a:chOff x="6781680" y="2833560"/>
              <a:chExt cx="685800" cy="399960"/>
            </a:xfrm>
          </p:grpSpPr>
          <p:sp>
            <p:nvSpPr>
              <p:cNvPr id="251" name=""/>
              <p:cNvSpPr/>
              <p:nvPr/>
            </p:nvSpPr>
            <p:spPr>
              <a:xfrm>
                <a:off x="6781680" y="283356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38880" y="283356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006880" y="3929040"/>
              <a:ext cx="685800" cy="399960"/>
              <a:chOff x="5006880" y="3929040"/>
              <a:chExt cx="685800" cy="399960"/>
            </a:xfrm>
          </p:grpSpPr>
          <p:sp>
            <p:nvSpPr>
              <p:cNvPr id="254" name=""/>
              <p:cNvSpPr/>
              <p:nvPr/>
            </p:nvSpPr>
            <p:spPr>
              <a:xfrm>
                <a:off x="5006880" y="39290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64080" y="39290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38880" y="1738440"/>
              <a:ext cx="228600" cy="399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2290680"/>
              <a:ext cx="228600" cy="39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8880" y="2833560"/>
              <a:ext cx="228600" cy="400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64080" y="3929040"/>
              <a:ext cx="228600" cy="39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68800" y="1740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37120" y="172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97520" y="175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22720" y="2304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86440" y="2274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7120" y="2845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68800" y="284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68800" y="3917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00840" y="2821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464080" y="2016000"/>
            <a:ext cx="0" cy="36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619600" y="1987200"/>
            <a:ext cx="0" cy="36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464080" y="2690640"/>
            <a:ext cx="520920" cy="1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38680" y="2690640"/>
            <a:ext cx="67176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619600" y="201600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557760" y="2003400"/>
            <a:ext cx="2379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8680" y="262260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638680" y="321948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553080" y="321948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D6C-563D-461A-9260-4AE9C3D41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Travers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he basic structure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from a fixed starting vertex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ll vertices reachable fro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ates of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tely-expl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0C2-3729-4B3B-BABE-80B7904BD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readth-First Sear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explore the vertices in order of their distance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implemented using a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B2D-E8B7-4753-9F17-219135833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EF1-0213-493D-8271-2E9843A17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30T19:03:26Z</cp:lastPrinted>
  <dcterms:modified xsi:type="dcterms:W3CDTF">2001-01-30T22:47:00Z</dcterms:modified>
  <cp:revision>6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