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1BF-616F-47FF-BD06-15D18167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29B-24E6-4849-823B-54758F3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4D1-B0FC-4940-8541-D76AE744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896-AFE9-4385-9F01-03C0E53F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F5C8-0820-4423-BCD9-4587CFCF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588F-6C10-4D15-802D-4358D108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AB5A-FB83-41ED-BC8F-B2FD375A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C235-B4E8-4CAB-9FCB-F6C5D423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80C4-127D-43A2-A435-D8B715A2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990C-7469-4A34-BBF6-A81A56DB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AC03-0AEF-40C2-9DDB-AA5C2D99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B83-EC01-4D49-B2B2-CE205A79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66B0-FA2E-42EA-B7DB-E3783CB2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3FA0-4DAF-4ADD-8957-662B60C0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E26B-E9F5-44A7-A13A-B66F69F2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3A7-C2F2-4B3B-89BE-30197C76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1C52-3E8C-4BC4-A8FA-7EB169D6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29D-3D89-4018-8D33-854F15B5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C63-9323-4412-B1E2-0A615A40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7B6-D638-473E-AE3E-DFA4BC10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613-A2C2-45A6-B863-424CC096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531-22CA-4C2C-BE54-C6A0A0D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7A8-867A-41CD-9202-79B814B3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2D6-4695-469E-849E-2FABCF1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2628-3EA0-4F5D-B415-C2C3FBF0DF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0EA4-BECD-4EF7-AA9F-B15361E9B3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C0D7-F965-4B4D-B51F-6A4268A351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361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7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375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4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387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392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96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2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4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417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423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429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440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4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445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452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457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458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2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463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66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475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9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480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2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84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23040" y="327672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06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306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306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656-8C1A-40D7-AF86-AD4722321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495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497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1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504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509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13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521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30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6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48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551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552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556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557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0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562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5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568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569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573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574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8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579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83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584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586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592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597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603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604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5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608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609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2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3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614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7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18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08280" y="32767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1      2     3     4     5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807920" y="373392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2    1     2      2     3     4     5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306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2880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06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C81-46A5-43E0-8061-C08797FBA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629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631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5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638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639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0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643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5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2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655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660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661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64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0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673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674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678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679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82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683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685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686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690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691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5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696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702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707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708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2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713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17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720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725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726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0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731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732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3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34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737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742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743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6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748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749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752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808280" y="32767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1      2     3     4     5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807920" y="373392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2    1     2      2     3     4     5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8280" y="41911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3    2     2      3     3     3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4648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4    3     3      3     4     3     3      4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8280" y="51055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   5    4     3      4     3     4     4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704-2566-4A18-A1E5-3127B74612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763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772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777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81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782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6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789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1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794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98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4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807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812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16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819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824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825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9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830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836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8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841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45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6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847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50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51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852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854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855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8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859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860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63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4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865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7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872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876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877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80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81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882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4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85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886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808280" y="32767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1      2     3     4     5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07920" y="373392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2    1     2      2     3     4     5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08280" y="41911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3    2     2      3     3     3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828800" y="4648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4    3     3      3     4     3     3      4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08280" y="51055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   5    4     3      4     3     4     4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2093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7428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33523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45716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96216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1811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79096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64004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335232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396216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57164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518112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79096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640044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457164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403812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518112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79096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640044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4286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45716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518112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586692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004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579096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03812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640044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6400440" y="48769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81916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71640" y="48769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3962160" y="5334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5181120" y="5334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2133360" y="274284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3352680" y="50288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2742840" y="274284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5257440" y="45716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5867280" y="50288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6476760" y="50288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5867280" y="45716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5181480" y="41144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4647960" y="41144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4038480" y="36572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2209680" y="32000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428640" y="32000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666880" y="49525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666880" y="44953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666880" y="40381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981080" y="49525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198108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1981080" y="4114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666880" y="36572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1981080" y="35809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31237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3200400" y="4114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20040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200400" y="50288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373392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3352680" y="41144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2819160" y="36572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038480" y="45716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011-DF9F-4AC2-A276-765E2A29A8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958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960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4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976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1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984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989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1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993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994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995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9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1002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1003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4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1007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011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1012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1014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1015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1019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1020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24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1025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1026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7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29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1031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1032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3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1036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1037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40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1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1042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1043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45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46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1047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1049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1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3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1054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58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59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1060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63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64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1065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1066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1067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8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0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1071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1072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1073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4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75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6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1077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9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081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08280" y="32767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2     3     4     5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807920" y="373392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2    1     2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     5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808280" y="41911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3    2     2      3     3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828800" y="4648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4    3     3      3     4     3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4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08280" y="51055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   5    4     3      4     3     4     4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2093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7428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3523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5716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396216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51811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579096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64004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335232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396216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457164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518112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579096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640044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457164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03812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18112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579096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640044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34286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45716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18112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586692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64004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579096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03812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640044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6400440" y="48769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281916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4571640" y="48769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962160" y="5334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5181120" y="5334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 flipV="1">
            <a:off x="2133360" y="274284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 flipV="1">
            <a:off x="3352680" y="50288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 flipV="1">
            <a:off x="2742840" y="274284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 flipV="1">
            <a:off x="5257440" y="45716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 flipV="1">
            <a:off x="5867280" y="50288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6476760" y="50288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 flipV="1">
            <a:off x="5867280" y="45716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flipV="1">
            <a:off x="5181480" y="41144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4647960" y="41144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4038480" y="36572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2209680" y="32000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3428640" y="32000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2666880" y="49525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666880" y="44953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66880" y="40381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981080" y="49525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198108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1981080" y="4114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2666880" y="36572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1981080" y="35809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981080" y="31237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200400" y="4114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20040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3200400" y="50288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73392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3352680" y="41144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 flipV="1">
            <a:off x="2819160" y="36572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4038480" y="45716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40E-0E02-4103-9F09-5596421880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ading off the opera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sequence and use each color of arrow to tell you what operation was per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96D-46E9-4297-918E-98C70EA08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ongest Increasing Subsequ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equence of integ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 subsequ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...&lt; 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...&lt;i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s large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Giv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,5,2,8,7,3,1,6,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inpu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increasing subsequence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,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,3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,3,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ither or which would be a correct output to our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C0B-E328-44A5-B212-B65BA9355A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d recursive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sub-problem o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n try to extend using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is the same answer as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eded by the longest increasing subsequence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nds in a number smaller tha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411-9508-4F32-BBEE-D16F81FBD4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fined recursive ide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(stronger notion of subproblem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at we knew for eac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&lt;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ongest increasing subsequenc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d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=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just th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ze sub-problem we tried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o compute value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=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eded by the maximum over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&lt;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longest increasing subsequence ending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ind the be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 rather than trying to actually compute the sequence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F67-2E51-41BB-BB86-79D4035AF7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length of longest increasing subsequenc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d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{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i]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&lt;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(where max of an empty set is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longest increasing sub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{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[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051-65F8-4ECE-BF8E-CFE1CF2D85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ree Steps to 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ynamic Programm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answer as a recurrence relation or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number of different parameters in the recursive algorithm is bounded by a small poly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n order of evaluation for the recurrence so that already have the partial results ready when you nee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F61-4D12-4199-A81E-F07C96E4FB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uting the actual sequ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compu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{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i]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&lt;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(where max of an empty set is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mainta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[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alue of th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hieved that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be the index of the predecessor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longest increasing subsequence that end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following th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P[j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we can reconstruct the whole sequence in linea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F33-9DE8-47F7-A921-01B98EB8ED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ongest Increasing Subsequence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[j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j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-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L[i]+1&gt;L[j]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[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L[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[i]+1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end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f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[j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argest and walk backwards thr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[j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ers to find the sequence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DF5-0412-48FD-8DB0-5EFB1CA99C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equence Comparis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dit Dista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rings of character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=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...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=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... 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number of edit steps needed to transfor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an edit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ingl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ingl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bstit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character by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850-EE7B-4D41-A654-E3B8D2C8AD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sive Solu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ub-problem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 distance problems for all prefixes o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don’t include all of both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(i,j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the number of edits required to transfor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... 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... 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(0,0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DA0-5509-4029-B3EA-5C3AB314AF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uting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(n,m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how best sequence handles the last charact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est sequence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n,m)=D(n-1,m)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n,m)=D(n,m-1)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n,m)=D(n-1,m-1)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n,m)=D(n-1,m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F3C-D941-4169-ABCD-8D48C22B8F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sive algorith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(n,m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=0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=0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-cos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-cost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n{ D(n-1, m) + 1,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D(n, m-1) +1,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D(n-1, m-1) + replace-cost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B0E-EF08-4C54-8863-51BC8BA234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ynamic programm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;  D(0,j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;  D(i,0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-cos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-cos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i,j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n { D(i-1, j) + 1,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D(i, j-1) +1,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D(i-1, j-1) + replace-cos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A88-857C-4513-B081-CA8FC61C36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100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109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114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8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126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131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5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156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167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173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178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179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184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196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202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214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219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23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7BE-C01C-4C41-9329-9F5B52B4C5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227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3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0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2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8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271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276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288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289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306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0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311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323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324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8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329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335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5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346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350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30600" y="327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306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306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06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149-5542-49BC-BB87-AE6E824CFA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22T19:18:44Z</cp:lastPrinted>
  <dcterms:modified xsi:type="dcterms:W3CDTF">2001-01-24T18:18:21Z</dcterms:modified>
  <cp:revision>57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