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23B-8EA2-4015-A165-650E807B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3F8-E728-45EF-8422-1DD1094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BBA-5959-4DF1-AB30-21CB73FC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A78-63B3-4C7B-8608-F11249F3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66A1-1B5F-4B45-A75B-D71FDD83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B290-DD48-4560-A00F-8838319C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5A09-421D-4CD8-97DE-0A2BAEBF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8E12-3D7F-453A-BCC3-0D88D72F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6E17-66D8-4753-BA15-5D1E772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C3A0-3B94-4023-8926-58B1754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CBBD-42C9-414A-9F4E-BBE899DA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4A1-A42F-43F9-BE06-00ADFB9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2E39-2AE6-488F-BC87-4AC0A2C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1619-59DB-4297-B158-9CB1BB0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7B2B-8785-4AC3-900C-7EED1EC8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09B7-73A4-4A7E-B5BD-2AAC59FF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BFC8-6330-47B9-8F86-DD946731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728-8B6C-402B-B4CB-0B753202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5BD-8C32-4611-9D31-648D838D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88A-2B2D-486B-A280-ABE7F781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C1A-9842-452F-8A5F-D4DAD7C8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022-5402-4ACD-B9DB-DE244F6A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B0C-296F-4498-83CE-213961F4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DD3-A367-4183-A9B0-36CBF00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C76-13DA-4BCC-81D7-FA10509D07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286-9BA6-49B1-980B-AADEBCD454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3F41-7747-4462-A1E9-92F6D647B6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361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7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4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387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392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96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398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2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423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429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434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440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4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445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457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458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2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463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66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9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480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84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23040" y="327672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06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306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306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E88-8C08-4739-ACCA-6635CBCB7A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495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497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1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504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505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3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521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522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30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539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48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556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557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1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562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5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568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569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573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574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78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579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83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584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586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89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592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597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00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1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603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604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608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609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13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614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7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18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2     3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306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288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06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2A6-106C-41B1-A5AF-C5352204E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629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631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638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643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648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2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654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655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9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660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661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4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0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1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673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674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679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82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685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686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690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691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696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702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707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708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2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713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17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725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726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0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731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732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3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737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742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744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748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749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752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2     3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8280" y="4191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3    2     2      3     3     3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4648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4    3     3      3     4     3     3      4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8280" y="51055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 5    4     3      4     3     4     4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46E-88BC-4C2E-8FEB-CB128BBB59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763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765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772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777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81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782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6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789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794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798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4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807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812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16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825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9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830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836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841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45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6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847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50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851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852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854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8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859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860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4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865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7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870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871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872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3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876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877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80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1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882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85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86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1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2     3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808280" y="4191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3    2     2      3     3     3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828800" y="4648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4    3     3      3     4     3     3      4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08280" y="51055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 5    4     3      4     3     4     4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2209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7428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3352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45716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39621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1811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7909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64004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33523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39621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5716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51811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7909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4004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45716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4038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5181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7909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64004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3428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4571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51811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58669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004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579096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03812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640044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64004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8191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716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396216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18112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213336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33526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274284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5257440" y="45716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58672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6476760" y="50288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58672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51814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647960" y="41144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4038480" y="36572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2209680" y="32000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428640" y="32000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6668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666880" y="44953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666880" y="40381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9810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198108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198108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666880" y="36572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1981080" y="35809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31237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320040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20040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200400" y="5028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373392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33526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2819160" y="36572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0384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534-61A9-4613-A76E-292BBFC406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958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960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4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967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1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972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976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1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984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989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993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994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995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9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0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1002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4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1007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11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1012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1015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1019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1020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24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1025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1026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7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29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1031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1032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3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1036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1037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40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41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1042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45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046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1047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1049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1054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1055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58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59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1060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63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64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1066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1067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8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0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1071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1072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75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6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1077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9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80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081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808280" y="32767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1    2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2     3     4     5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07920" y="373392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2    1     2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     5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808280" y="4191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3    2     2      3     3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828800" y="46483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4    3     3      3     4     3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4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08280" y="51055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   5    4     3      4     3     4     4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209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7428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3523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5716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39621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518112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579096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6400440" y="266688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33523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39621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45716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518112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579096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6400440" y="3048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45716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038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18112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57909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640044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3428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45716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1811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586692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6400440" y="39625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79096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03812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6400440" y="44197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64004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2819160" y="35053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4571640" y="48769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396216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5181120" y="5334120"/>
            <a:ext cx="2286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 flipV="1">
            <a:off x="213336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 flipV="1">
            <a:off x="33526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 flipV="1">
            <a:off x="2742840" y="2742840"/>
            <a:ext cx="2286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 flipV="1">
            <a:off x="5257440" y="45716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 flipV="1">
            <a:off x="5867280" y="50288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6476760" y="50288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 flipV="1">
            <a:off x="58672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flipV="1">
            <a:off x="51814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4647960" y="41144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4038480" y="36572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2209680" y="32000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3428640" y="32000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26668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666880" y="44953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66880" y="40381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981080" y="49525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198108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198108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2666880" y="36572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1981080" y="3580920"/>
            <a:ext cx="0" cy="30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981080" y="312372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200400" y="41144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20040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3200400" y="50288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733920" y="4571640"/>
            <a:ext cx="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3352680" y="41144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 flipV="1">
            <a:off x="2819160" y="3657240"/>
            <a:ext cx="15228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4038480" y="4571640"/>
            <a:ext cx="152640" cy="152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1A2-6BE3-4A07-803D-159BD6251F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ading off the opera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equence and use each color of arrow to tell you what operation was per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C1A-B6D3-4C89-80E7-2006F016AA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ongest Increasing Subsequ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equence of integ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 subsequ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...&lt; 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 baseline="-50000">
                <a:solidFill>
                  <a:srgbClr val="0033cc"/>
                </a:solidFill>
                <a:latin typeface="Arial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...&lt;i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 large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,5,2,8,7,3,1,6,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inpu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ncreasing subsequence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,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,3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,3,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ither or which would be a correct output to our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EDE-473D-44C5-9065-2C4076B77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d recursive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sub-problem o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n try to extend using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the same answer as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eded by the longest increasing subsequence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ds in a number smaller tha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3AB-700D-4354-A220-A4758DD733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fined recursive ide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(stronger notion of subproblem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at we knew for eac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&lt;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ongest increasing subsequenc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d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=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just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sub-problem we tried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o compute value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=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eded by the maximum over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i&lt;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ongest increasing subsequence ending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ind the be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 rather than trying to actually compute the sequence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7C2-E385-44A4-9270-65CDC89CED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i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length of longest increasing subsequence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d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{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i]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&lt;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(where max of an empty set is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longest increasing sub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{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[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162-F5AA-41AC-919F-97C8D476AB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ree Steps to 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ynamic Programm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answer as a recurrence relation or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number of different parameters in the recursive algorithm is bounded by a small poly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an order of evaluation for the recurrence so that already have the partial results ready when you nee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2F8-BFC6-4E01-8C27-E1C6E35D73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ing the actual sequ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compu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{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[i]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&lt;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(where max of an empty set is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mainta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[j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value of 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hieved that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the index of the predecessor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 longest increasing subsequence that end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following th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P[j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we can reconstruct the whole sequence in linea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F99-2BD5-4F78-9F7A-0279885D75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Longest Increasing Subsequence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[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[j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-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L[i]+1&gt;L[j]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[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L[j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[i]+1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end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f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[j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argest and walk backwards throug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[j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ers to find the sequence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02A-B2C2-4E1F-A589-9B322B0345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equence Comparis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dit Dista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rings of character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=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...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=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... 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number of edit steps needed to transfor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an edit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bstit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character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51E-5F32-4930-B24D-4DD7F9235C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Solu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Sub-problem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 distance problems for all prefixes o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don’t include all of both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(i,j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the number of edits required to transfor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... 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... 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ly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(0,0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319-6D4A-40CA-8775-75832469D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ing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(n,m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how best sequence handles the last character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est sequence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-1,m)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,m-1)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-1,m-1)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(n,m)=D(n-1,m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E78-8412-4904-945C-E2F99E50D8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cursive algorith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(n,m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=0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=0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in{ D(n-1, m) + 1,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D(n, m-1) +1,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D(n-1, m-1) + replace-cost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8F1-7E04-4536-8298-3AE2ED2723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ynamic programming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 = 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;  D(0,j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;  D(i,0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=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 =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-cos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i,j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n { D(i-1, j) + 1,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D(i, j-1) +1,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D(i-1, j-1) + replace-cos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E53-8B04-4ACD-BFD9-20CC15E7D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100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109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114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8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126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131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5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156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167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173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178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179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184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196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202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8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219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23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740-86AF-4C7F-9FBB-72F1DABFE7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 run wit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GACATTG  and GAGTTA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76520" y="2362320"/>
            <a:ext cx="5486400" cy="3200400"/>
            <a:chOff x="1676520" y="2362320"/>
            <a:chExt cx="5486400" cy="3200400"/>
          </a:xfrm>
        </p:grpSpPr>
        <p:grpSp>
          <p:nvGrpSpPr>
            <p:cNvPr id="227" name=""/>
            <p:cNvGrpSpPr/>
            <p:nvPr/>
          </p:nvGrpSpPr>
          <p:grpSpPr>
            <a:xfrm>
              <a:off x="1676520" y="2819520"/>
              <a:ext cx="5486400" cy="914400"/>
              <a:chOff x="1676520" y="2819520"/>
              <a:chExt cx="5486400" cy="9144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676520" y="2819520"/>
                <a:ext cx="5486400" cy="457200"/>
                <a:chOff x="1676520" y="2819520"/>
                <a:chExt cx="5486400" cy="457200"/>
              </a:xfrm>
            </p:grpSpPr>
            <p:grpSp>
              <p:nvGrpSpPr>
                <p:cNvPr id="229" name=""/>
                <p:cNvGrpSpPr/>
                <p:nvPr/>
              </p:nvGrpSpPr>
              <p:grpSpPr>
                <a:xfrm>
                  <a:off x="3505320" y="2819520"/>
                  <a:ext cx="1828800" cy="457200"/>
                  <a:chOff x="3505320" y="2819520"/>
                  <a:chExt cx="1828800" cy="457200"/>
                </a:xfrm>
              </p:grpSpPr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3505320" y="2819520"/>
                    <a:ext cx="1219320" cy="457200"/>
                    <a:chOff x="3505320" y="2819520"/>
                    <a:chExt cx="1219320" cy="45720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350532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4114800" y="28195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3" name=""/>
                  <p:cNvSpPr/>
                  <p:nvPr/>
                </p:nvSpPr>
                <p:spPr>
                  <a:xfrm>
                    <a:off x="4724640" y="28195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1676520" y="2819520"/>
                  <a:ext cx="5486400" cy="457200"/>
                  <a:chOff x="1676520" y="2819520"/>
                  <a:chExt cx="5486400" cy="45720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1676520" y="2819520"/>
                    <a:ext cx="1828800" cy="457200"/>
                    <a:chOff x="1676520" y="2819520"/>
                    <a:chExt cx="1828800" cy="457200"/>
                  </a:xfrm>
                </p:grpSpPr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1676520" y="2819520"/>
                      <a:ext cx="1219320" cy="457200"/>
                      <a:chOff x="1676520" y="2819520"/>
                      <a:chExt cx="1219320" cy="45720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16765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22860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28958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334120" y="2819520"/>
                    <a:ext cx="1828800" cy="457200"/>
                    <a:chOff x="5334120" y="2819520"/>
                    <a:chExt cx="1828800" cy="45720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5334120" y="2819520"/>
                      <a:ext cx="1219320" cy="457200"/>
                      <a:chOff x="5334120" y="2819520"/>
                      <a:chExt cx="1219320" cy="45720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5334120" y="2819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5943600" y="2819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6553440" y="2819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1676520" y="3276720"/>
                <a:ext cx="5486400" cy="457200"/>
                <a:chOff x="1676520" y="3276720"/>
                <a:chExt cx="5486400" cy="45720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3505320" y="3276720"/>
                  <a:ext cx="1828800" cy="457200"/>
                  <a:chOff x="3505320" y="3276720"/>
                  <a:chExt cx="1828800" cy="45720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3505320" y="3276720"/>
                    <a:ext cx="1219320" cy="457200"/>
                    <a:chOff x="3505320" y="3276720"/>
                    <a:chExt cx="1219320" cy="45720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50532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114800" y="32767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0" name=""/>
                  <p:cNvSpPr/>
                  <p:nvPr/>
                </p:nvSpPr>
                <p:spPr>
                  <a:xfrm>
                    <a:off x="4724640" y="32767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1676520" y="3276720"/>
                  <a:ext cx="5486400" cy="457200"/>
                  <a:chOff x="1676520" y="3276720"/>
                  <a:chExt cx="5486400" cy="457200"/>
                </a:xfrm>
              </p:grpSpPr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1676520" y="3276720"/>
                    <a:ext cx="1828800" cy="457200"/>
                    <a:chOff x="1676520" y="3276720"/>
                    <a:chExt cx="1828800" cy="457200"/>
                  </a:xfrm>
                </p:grpSpPr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1676520" y="3276720"/>
                      <a:ext cx="1219320" cy="457200"/>
                      <a:chOff x="1676520" y="3276720"/>
                      <a:chExt cx="1219320" cy="45720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16765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22860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8958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334120" y="3276720"/>
                    <a:ext cx="1828800" cy="457200"/>
                    <a:chOff x="5334120" y="3276720"/>
                    <a:chExt cx="1828800" cy="457200"/>
                  </a:xfrm>
                </p:grpSpPr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5334120" y="3276720"/>
                      <a:ext cx="1219320" cy="457200"/>
                      <a:chOff x="5334120" y="3276720"/>
                      <a:chExt cx="1219320" cy="4572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5334120" y="32767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5943600" y="32767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6553440" y="32767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2" name=""/>
            <p:cNvGrpSpPr/>
            <p:nvPr/>
          </p:nvGrpSpPr>
          <p:grpSpPr>
            <a:xfrm>
              <a:off x="1676520" y="2362320"/>
              <a:ext cx="5486400" cy="3200400"/>
              <a:chOff x="1676520" y="2362320"/>
              <a:chExt cx="5486400" cy="32004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676520" y="2362320"/>
                <a:ext cx="5486400" cy="457200"/>
                <a:chOff x="1676520" y="2362320"/>
                <a:chExt cx="5486400" cy="457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505320" y="2362320"/>
                  <a:ext cx="1828800" cy="457200"/>
                  <a:chOff x="3505320" y="2362320"/>
                  <a:chExt cx="1828800" cy="45720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3505320" y="2362320"/>
                    <a:ext cx="1219320" cy="457200"/>
                    <a:chOff x="3505320" y="2362320"/>
                    <a:chExt cx="1219320" cy="45720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350532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114800" y="2362320"/>
                      <a:ext cx="60984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8" name=""/>
                  <p:cNvSpPr/>
                  <p:nvPr/>
                </p:nvSpPr>
                <p:spPr>
                  <a:xfrm>
                    <a:off x="4724640" y="2362320"/>
                    <a:ext cx="609480" cy="457200"/>
                  </a:xfrm>
                  <a:prstGeom prst="rect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1676520" y="2362320"/>
                  <a:ext cx="5486400" cy="457200"/>
                  <a:chOff x="1676520" y="2362320"/>
                  <a:chExt cx="5486400" cy="457200"/>
                </a:xfrm>
              </p:grpSpPr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1676520" y="2362320"/>
                    <a:ext cx="1828800" cy="457200"/>
                    <a:chOff x="1676520" y="2362320"/>
                    <a:chExt cx="1828800" cy="457200"/>
                  </a:xfrm>
                </p:grpSpPr>
                <p:grpSp>
                  <p:nvGrpSpPr>
                    <p:cNvPr id="271" name=""/>
                    <p:cNvGrpSpPr/>
                    <p:nvPr/>
                  </p:nvGrpSpPr>
                  <p:grpSpPr>
                    <a:xfrm>
                      <a:off x="1676520" y="2362320"/>
                      <a:ext cx="1219320" cy="457200"/>
                      <a:chOff x="1676520" y="2362320"/>
                      <a:chExt cx="1219320" cy="457200"/>
                    </a:xfrm>
                  </p:grpSpPr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16765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22860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8958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334120" y="2362320"/>
                    <a:ext cx="1828800" cy="457200"/>
                    <a:chOff x="5334120" y="2362320"/>
                    <a:chExt cx="1828800" cy="457200"/>
                  </a:xfrm>
                </p:grpSpPr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5334120" y="2362320"/>
                      <a:ext cx="1219320" cy="457200"/>
                      <a:chOff x="5334120" y="2362320"/>
                      <a:chExt cx="1219320" cy="457200"/>
                    </a:xfrm>
                  </p:grpSpPr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5334120" y="2362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5943600" y="2362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6553440" y="2362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1676520" y="3733920"/>
                <a:ext cx="5486400" cy="914400"/>
                <a:chOff x="1676520" y="3733920"/>
                <a:chExt cx="5486400" cy="91440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1676520" y="3733920"/>
                  <a:ext cx="5486400" cy="457200"/>
                  <a:chOff x="1676520" y="3733920"/>
                  <a:chExt cx="5486400" cy="45720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3505320" y="3733920"/>
                    <a:ext cx="1828800" cy="457200"/>
                    <a:chOff x="3505320" y="3733920"/>
                    <a:chExt cx="1828800" cy="45720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3505320" y="3733920"/>
                      <a:ext cx="1219320" cy="457200"/>
                      <a:chOff x="3505320" y="3733920"/>
                      <a:chExt cx="1219320" cy="45720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350532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4114800" y="37339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724640" y="37339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1676520" y="3733920"/>
                    <a:ext cx="5486400" cy="457200"/>
                    <a:chOff x="1676520" y="3733920"/>
                    <a:chExt cx="5486400" cy="457200"/>
                  </a:xfrm>
                </p:grpSpPr>
                <p:grpSp>
                  <p:nvGrpSpPr>
                    <p:cNvPr id="288" name=""/>
                    <p:cNvGrpSpPr/>
                    <p:nvPr/>
                  </p:nvGrpSpPr>
                  <p:grpSpPr>
                    <a:xfrm>
                      <a:off x="1676520" y="3733920"/>
                      <a:ext cx="1828800" cy="457200"/>
                      <a:chOff x="1676520" y="3733920"/>
                      <a:chExt cx="1828800" cy="457200"/>
                    </a:xfrm>
                  </p:grpSpPr>
                  <p:grpSp>
                    <p:nvGrpSpPr>
                      <p:cNvPr id="289" name=""/>
                      <p:cNvGrpSpPr/>
                      <p:nvPr/>
                    </p:nvGrpSpPr>
                    <p:grpSpPr>
                      <a:xfrm>
                        <a:off x="1676520" y="3733920"/>
                        <a:ext cx="1219320" cy="457200"/>
                        <a:chOff x="1676520" y="3733920"/>
                        <a:chExt cx="1219320" cy="457200"/>
                      </a:xfrm>
                    </p:grpSpPr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>
                          <a:off x="16765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22860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28958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5334120" y="3733920"/>
                      <a:ext cx="1828800" cy="457200"/>
                      <a:chOff x="5334120" y="3733920"/>
                      <a:chExt cx="1828800" cy="45720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5334120" y="3733920"/>
                        <a:ext cx="1219320" cy="457200"/>
                        <a:chOff x="5334120" y="3733920"/>
                        <a:chExt cx="1219320" cy="45720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5334120" y="37339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5943600" y="37339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6553440" y="37339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1676520" y="4191120"/>
                  <a:ext cx="5486400" cy="457200"/>
                  <a:chOff x="1676520" y="4191120"/>
                  <a:chExt cx="5486400" cy="457200"/>
                </a:xfrm>
              </p:grpSpPr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505320" y="4191120"/>
                    <a:ext cx="1828800" cy="457200"/>
                    <a:chOff x="3505320" y="4191120"/>
                    <a:chExt cx="1828800" cy="45720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505320" y="4191120"/>
                      <a:ext cx="1219320" cy="457200"/>
                      <a:chOff x="3505320" y="4191120"/>
                      <a:chExt cx="1219320" cy="45720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50532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4114800" y="41911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4724640" y="41911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1676520" y="4191120"/>
                    <a:ext cx="5486400" cy="457200"/>
                    <a:chOff x="1676520" y="4191120"/>
                    <a:chExt cx="5486400" cy="457200"/>
                  </a:xfrm>
                </p:grpSpPr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1676520" y="4191120"/>
                      <a:ext cx="1828800" cy="457200"/>
                      <a:chOff x="1676520" y="4191120"/>
                      <a:chExt cx="1828800" cy="457200"/>
                    </a:xfrm>
                  </p:grpSpPr>
                  <p:grpSp>
                    <p:nvGrpSpPr>
                      <p:cNvPr id="306" name=""/>
                      <p:cNvGrpSpPr/>
                      <p:nvPr/>
                    </p:nvGrpSpPr>
                    <p:grpSpPr>
                      <a:xfrm>
                        <a:off x="1676520" y="4191120"/>
                        <a:ext cx="1219320" cy="457200"/>
                        <a:chOff x="1676520" y="4191120"/>
                        <a:chExt cx="1219320" cy="457200"/>
                      </a:xfrm>
                    </p:grpSpPr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16765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2860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28958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0" name=""/>
                    <p:cNvGrpSpPr/>
                    <p:nvPr/>
                  </p:nvGrpSpPr>
                  <p:grpSpPr>
                    <a:xfrm>
                      <a:off x="5334120" y="4191120"/>
                      <a:ext cx="1828800" cy="457200"/>
                      <a:chOff x="5334120" y="4191120"/>
                      <a:chExt cx="1828800" cy="457200"/>
                    </a:xfrm>
                  </p:grpSpPr>
                  <p:grpSp>
                    <p:nvGrpSpPr>
                      <p:cNvPr id="311" name=""/>
                      <p:cNvGrpSpPr/>
                      <p:nvPr/>
                    </p:nvGrpSpPr>
                    <p:grpSpPr>
                      <a:xfrm>
                        <a:off x="5334120" y="4191120"/>
                        <a:ext cx="1219320" cy="457200"/>
                        <a:chOff x="5334120" y="4191120"/>
                        <a:chExt cx="1219320" cy="457200"/>
                      </a:xfrm>
                    </p:grpSpPr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5334120" y="41911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5943600" y="41911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6553440" y="41911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1676520" y="4648320"/>
                <a:ext cx="5486400" cy="914400"/>
                <a:chOff x="1676520" y="4648320"/>
                <a:chExt cx="5486400" cy="9144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1676520" y="4648320"/>
                  <a:ext cx="5486400" cy="457200"/>
                  <a:chOff x="1676520" y="4648320"/>
                  <a:chExt cx="5486400" cy="457200"/>
                </a:xfrm>
              </p:grpSpPr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3505320" y="4648320"/>
                    <a:ext cx="1828800" cy="457200"/>
                    <a:chOff x="3505320" y="4648320"/>
                    <a:chExt cx="1828800" cy="457200"/>
                  </a:xfrm>
                </p:grpSpPr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3505320" y="4648320"/>
                      <a:ext cx="1219320" cy="457200"/>
                      <a:chOff x="3505320" y="4648320"/>
                      <a:chExt cx="1219320" cy="457200"/>
                    </a:xfrm>
                  </p:grpSpPr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350532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4114800" y="46483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4724640" y="46483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1676520" y="4648320"/>
                    <a:ext cx="5486400" cy="457200"/>
                    <a:chOff x="1676520" y="4648320"/>
                    <a:chExt cx="5486400" cy="457200"/>
                  </a:xfrm>
                </p:grpSpPr>
                <p:grpSp>
                  <p:nvGrpSpPr>
                    <p:cNvPr id="323" name=""/>
                    <p:cNvGrpSpPr/>
                    <p:nvPr/>
                  </p:nvGrpSpPr>
                  <p:grpSpPr>
                    <a:xfrm>
                      <a:off x="1676520" y="4648320"/>
                      <a:ext cx="1828800" cy="457200"/>
                      <a:chOff x="1676520" y="4648320"/>
                      <a:chExt cx="1828800" cy="457200"/>
                    </a:xfrm>
                  </p:grpSpPr>
                  <p:grpSp>
                    <p:nvGrpSpPr>
                      <p:cNvPr id="324" name=""/>
                      <p:cNvGrpSpPr/>
                      <p:nvPr/>
                    </p:nvGrpSpPr>
                    <p:grpSpPr>
                      <a:xfrm>
                        <a:off x="1676520" y="4648320"/>
                        <a:ext cx="1219320" cy="457200"/>
                        <a:chOff x="1676520" y="4648320"/>
                        <a:chExt cx="1219320" cy="457200"/>
                      </a:xfrm>
                    </p:grpSpPr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>
                          <a:off x="16765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>
                          <a:off x="22860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28958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8" name=""/>
                    <p:cNvGrpSpPr/>
                    <p:nvPr/>
                  </p:nvGrpSpPr>
                  <p:grpSpPr>
                    <a:xfrm>
                      <a:off x="5334120" y="4648320"/>
                      <a:ext cx="1828800" cy="457200"/>
                      <a:chOff x="5334120" y="4648320"/>
                      <a:chExt cx="1828800" cy="457200"/>
                    </a:xfrm>
                  </p:grpSpPr>
                  <p:grpSp>
                    <p:nvGrpSpPr>
                      <p:cNvPr id="329" name=""/>
                      <p:cNvGrpSpPr/>
                      <p:nvPr/>
                    </p:nvGrpSpPr>
                    <p:grpSpPr>
                      <a:xfrm>
                        <a:off x="5334120" y="4648320"/>
                        <a:ext cx="1219320" cy="457200"/>
                        <a:chOff x="5334120" y="4648320"/>
                        <a:chExt cx="1219320" cy="457200"/>
                      </a:xfrm>
                    </p:grpSpPr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>
                          <a:off x="5334120" y="46483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>
                          <a:off x="5943600" y="46483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6553440" y="46483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1676520" y="5105520"/>
                  <a:ext cx="5486400" cy="457200"/>
                  <a:chOff x="1676520" y="5105520"/>
                  <a:chExt cx="5486400" cy="45720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3505320" y="5105520"/>
                    <a:ext cx="1828800" cy="457200"/>
                    <a:chOff x="3505320" y="5105520"/>
                    <a:chExt cx="1828800" cy="457200"/>
                  </a:xfrm>
                </p:grpSpPr>
                <p:grpSp>
                  <p:nvGrpSpPr>
                    <p:cNvPr id="335" name=""/>
                    <p:cNvGrpSpPr/>
                    <p:nvPr/>
                  </p:nvGrpSpPr>
                  <p:grpSpPr>
                    <a:xfrm>
                      <a:off x="3505320" y="5105520"/>
                      <a:ext cx="1219320" cy="457200"/>
                      <a:chOff x="3505320" y="5105520"/>
                      <a:chExt cx="1219320" cy="457200"/>
                    </a:xfrm>
                  </p:grpSpPr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350532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4114800" y="5105520"/>
                        <a:ext cx="60984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4724640" y="5105520"/>
                      <a:ext cx="609480" cy="457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1676520" y="5105520"/>
                    <a:ext cx="5486400" cy="457200"/>
                    <a:chOff x="1676520" y="5105520"/>
                    <a:chExt cx="5486400" cy="457200"/>
                  </a:xfrm>
                </p:grpSpPr>
                <p:grpSp>
                  <p:nvGrpSpPr>
                    <p:cNvPr id="340" name=""/>
                    <p:cNvGrpSpPr/>
                    <p:nvPr/>
                  </p:nvGrpSpPr>
                  <p:grpSpPr>
                    <a:xfrm>
                      <a:off x="1676520" y="5105520"/>
                      <a:ext cx="1828800" cy="457200"/>
                      <a:chOff x="1676520" y="5105520"/>
                      <a:chExt cx="1828800" cy="457200"/>
                    </a:xfrm>
                  </p:grpSpPr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1676520" y="5105520"/>
                        <a:ext cx="1219320" cy="457200"/>
                        <a:chOff x="1676520" y="5105520"/>
                        <a:chExt cx="1219320" cy="457200"/>
                      </a:xfrm>
                    </p:grpSpPr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>
                          <a:off x="16765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>
                          <a:off x="22860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8958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5" name=""/>
                    <p:cNvGrpSpPr/>
                    <p:nvPr/>
                  </p:nvGrpSpPr>
                  <p:grpSpPr>
                    <a:xfrm>
                      <a:off x="5334120" y="5105520"/>
                      <a:ext cx="1828800" cy="457200"/>
                      <a:chOff x="5334120" y="5105520"/>
                      <a:chExt cx="1828800" cy="457200"/>
                    </a:xfrm>
                  </p:grpSpPr>
                  <p:grpSp>
                    <p:nvGrpSpPr>
                      <p:cNvPr id="346" name=""/>
                      <p:cNvGrpSpPr/>
                      <p:nvPr/>
                    </p:nvGrpSpPr>
                    <p:grpSpPr>
                      <a:xfrm>
                        <a:off x="5334120" y="5105520"/>
                        <a:ext cx="1219320" cy="457200"/>
                        <a:chOff x="5334120" y="5105520"/>
                        <a:chExt cx="1219320" cy="457200"/>
                      </a:xfrm>
                    </p:grpSpPr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>
                          <a:off x="5334120" y="5105520"/>
                          <a:ext cx="60948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>
                          <a:off x="5943600" y="5105520"/>
                          <a:ext cx="609840" cy="457200"/>
                        </a:xfrm>
                        <a:prstGeom prst="rect">
                          <a:avLst/>
                        </a:prstGeom>
                        <a:noFill/>
                        <a:ln w="2844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6553440" y="5105520"/>
                        <a:ext cx="609480" cy="45720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350" name=""/>
          <p:cNvSpPr/>
          <p:nvPr/>
        </p:nvSpPr>
        <p:spPr>
          <a:xfrm>
            <a:off x="2441520" y="182880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G     A     C     A      T     T   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5419800">
            <a:off x="-76680" y="39567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   A   G   T   T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92440" y="240048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1    2     3      4     5     6     7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440" y="278136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1    1     2      3     4     5     6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3060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306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306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648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06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C8D-2791-4430-BEFA-47A6D673A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22T19:18:44Z</cp:lastPrinted>
  <dcterms:modified xsi:type="dcterms:W3CDTF">2001-01-24T18:18:21Z</dcterms:modified>
  <cp:revision>57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