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796-0078-4FE5-8035-2D777E06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E1D-AD32-41DC-B649-D973FF01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77B-F059-45FF-BA73-67C6C727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FD3-2E0A-4A07-98F3-E9F64AFF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35BC-D71E-4600-8CF6-CAA585F9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80AA-3838-4D8F-BE85-B597F0FF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424-66E4-43A6-914B-AFC7794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66A-0C03-4AB6-BFB4-403EDDA7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A67A-BEC2-43CA-AE22-A70F736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3155-7FC8-473E-8351-14DEF6B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98D0-872B-4089-BDB1-6F723954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D0A-66A1-4847-93C0-2DEC601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7099-0015-4DA4-BF7E-2E77776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4243-35F5-453C-9E4E-4A829E9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A967-7450-4454-8ED1-9957E0C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5242-2F1F-468C-9ABF-5A9DBDAA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496-521A-48DC-AA55-531CFEA3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FC0-B824-4E1F-82B8-5F6565F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E43-62F7-42C0-8519-81CD0075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BF6-1097-4FEE-B83C-DB24D22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1AF-2D98-4838-9CF2-A9632739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29E-2688-4DA0-A0C2-F4B21675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8D6-4DC3-45D1-8A17-4FEB145A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031-6534-4CCB-9C25-D3F3571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BA0-3E97-4ABD-BCCC-2BAB61B7F9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B724-9509-4D37-BD24-390AFDB7A8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F592-4A53-4AEA-8DB6-6667FBF883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eedy approac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size would be P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dy:  walk along until what you have so far adds up to P then insert a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it may not exact (or corr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200 400 500 900 | 700 600 | 700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is 4800 so size must be at least 16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29200" y="1676520"/>
          <a:ext cx="9907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676520"/>
                    <a:ext cx="9907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B58-4D41-448B-A11A-B85583E24C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257800" y="4952880"/>
            <a:ext cx="129528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solu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ll possible values for the position of the last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osition of this last di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ther dividers that must divide the list of numbers prior to the last divider as evenly as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.. 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18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ive sub-problem of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A05-6289-47FF-A5EE-428D6A3BC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ide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n,k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mallest cost (size of largest block) of any partition of th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etween th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+1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best position for the last divider then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n,k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ax (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i,k-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n,k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in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&lt;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 (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[i,k-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99960" y="11160"/>
          <a:ext cx="112680" cy="17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116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962680" y="4495680"/>
          <a:ext cx="7984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2680" y="4495680"/>
                    <a:ext cx="7984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858000" y="5608800"/>
          <a:ext cx="798480" cy="96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5608800"/>
                    <a:ext cx="798480" cy="9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 flipV="1">
            <a:off x="6553080" y="4495680"/>
            <a:ext cx="304920" cy="1526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6200" y="425052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cost of last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572000" y="5181480"/>
            <a:ext cx="76320" cy="27468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66400" y="551628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ax cost of 1st k-1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4DF-2C42-4CEB-A7BF-0CCA5CC5BF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ime-saving - prefix su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the costs of the blocks may be expensive and involved repe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 Pre-compute prefix su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[1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p[2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p[3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..   p[n]=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+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s, spac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block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 + 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ju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[j]-p[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ED7-609A-4085-A00E-464CB4287E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inear Partition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S,k):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0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[i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-1]+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i,1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]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1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M[i,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os&lt;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max(M[pos,j-1],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p[i]-p[pos])}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D[i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pos where min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achie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E74-4217-4FA3-A551-3E212CFC5A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inear Partition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S,k):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0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[i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-1]+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i,1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i]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1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M[i,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-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(M[pos,j-1], p[i]-p[pos])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[i,j]&gt;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M[i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; D[i,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D45-B577-4FF9-9948-3E706D6ED3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 Design Techniq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olution of a problem using smaller sub-problems, e.g. a recursiv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hen the same sub-problems show up again and again in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B97-7765-4900-B7D6-8CEF89C2CC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simple case: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Computing Fibonacci Number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,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o(n)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=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bo(n-1)+Fibo(n-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B5E-BD2A-41ED-A96B-CF259724A2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all tree - sta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7056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8780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6436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04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7440" y="3077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2240" y="46011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256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89600" y="31536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13960" y="4373640"/>
            <a:ext cx="228600" cy="2286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5469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9440" y="5499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800" y="6049080"/>
            <a:ext cx="3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4360" y="604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9640" y="5059440"/>
            <a:ext cx="287280" cy="380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5089680"/>
            <a:ext cx="138240" cy="380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1880" y="5897520"/>
            <a:ext cx="0" cy="152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897520"/>
            <a:ext cx="0" cy="152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81160" y="3475080"/>
            <a:ext cx="1270080" cy="3808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682720" y="3551400"/>
            <a:ext cx="271440" cy="334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16360" y="2865600"/>
            <a:ext cx="465120" cy="2426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811320" y="2865600"/>
            <a:ext cx="66348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11680" y="2103480"/>
            <a:ext cx="547560" cy="36504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556160" y="2103480"/>
            <a:ext cx="1139760" cy="3650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8520" y="5241960"/>
            <a:ext cx="353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5320" y="4631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68360" y="4343400"/>
            <a:ext cx="27000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832-60DB-4913-AC9D-2D7EFEF96C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ull call tre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17056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61600" y="3077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360" y="246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04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97440" y="3077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2240" y="46011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2560" y="3915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0200" y="3107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89600" y="31536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3960" y="4373640"/>
            <a:ext cx="228600" cy="2286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5469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9440" y="5499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800" y="6049080"/>
            <a:ext cx="3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4360" y="604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9640" y="5059440"/>
            <a:ext cx="2872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5089680"/>
            <a:ext cx="13824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880" y="589752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1160" y="589752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38520" y="4860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5600" y="5469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451240" y="4419720"/>
            <a:ext cx="2872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3080" y="4419720"/>
            <a:ext cx="13824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3800" y="4829760"/>
            <a:ext cx="718560" cy="1008720"/>
            <a:chOff x="1963800" y="4829760"/>
            <a:chExt cx="718560" cy="1008720"/>
          </a:xfrm>
        </p:grpSpPr>
        <p:sp>
          <p:nvSpPr>
            <p:cNvPr id="142" name=""/>
            <p:cNvSpPr/>
            <p:nvPr/>
          </p:nvSpPr>
          <p:spPr>
            <a:xfrm>
              <a:off x="2097000" y="5439600"/>
              <a:ext cx="3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963800" y="4829760"/>
              <a:ext cx="718560" cy="580320"/>
              <a:chOff x="1963800" y="4829760"/>
              <a:chExt cx="718560" cy="580320"/>
            </a:xfrm>
          </p:grpSpPr>
          <p:sp>
            <p:nvSpPr>
              <p:cNvPr id="144" name=""/>
              <p:cNvSpPr/>
              <p:nvPr/>
            </p:nvSpPr>
            <p:spPr>
              <a:xfrm>
                <a:off x="1963800" y="482976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 (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73400" y="5257800"/>
                <a:ext cx="0" cy="15228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3181320" y="525780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132440" y="3505320"/>
            <a:ext cx="2872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505320"/>
            <a:ext cx="13824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274160" y="3551400"/>
            <a:ext cx="1869480" cy="1418040"/>
            <a:chOff x="7274160" y="3551400"/>
            <a:chExt cx="1869480" cy="1418040"/>
          </a:xfrm>
        </p:grpSpPr>
        <p:sp>
          <p:nvSpPr>
            <p:cNvPr id="150" name=""/>
            <p:cNvSpPr/>
            <p:nvPr/>
          </p:nvSpPr>
          <p:spPr>
            <a:xfrm>
              <a:off x="7274160" y="39610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25080" y="39610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07360" y="4570560"/>
              <a:ext cx="3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07160" y="4570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761240" y="3551400"/>
              <a:ext cx="287280" cy="380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53440" y="3551400"/>
              <a:ext cx="138240" cy="3805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3400" y="438912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24960" y="438912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279600" y="4723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457440" y="3915360"/>
            <a:ext cx="2101320" cy="1816560"/>
            <a:chOff x="3457440" y="3915360"/>
            <a:chExt cx="2101320" cy="1816560"/>
          </a:xfrm>
        </p:grpSpPr>
        <p:sp>
          <p:nvSpPr>
            <p:cNvPr id="160" name=""/>
            <p:cNvSpPr/>
            <p:nvPr/>
          </p:nvSpPr>
          <p:spPr>
            <a:xfrm>
              <a:off x="3689280" y="39153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40200" y="39153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2840" y="4525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94080" y="434340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5160" y="47235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 (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7440" y="5333040"/>
              <a:ext cx="3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57240" y="533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811320" y="4313160"/>
              <a:ext cx="287280" cy="3812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03520" y="4313160"/>
              <a:ext cx="138240" cy="3812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3480" y="515160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5040" y="5151600"/>
              <a:ext cx="0" cy="152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572440" y="3624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23360" y="3624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65640" y="423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77240" y="405288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58320" y="44330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59480" y="5072760"/>
            <a:ext cx="3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40400" y="504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694480" y="4022640"/>
            <a:ext cx="287280" cy="3812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86680" y="4022640"/>
            <a:ext cx="137880" cy="3812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83084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7840" y="4861080"/>
            <a:ext cx="0" cy="152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181160" y="3475080"/>
            <a:ext cx="1270080" cy="3808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682720" y="3551400"/>
            <a:ext cx="271440" cy="334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600" y="44186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16360" y="2865600"/>
            <a:ext cx="465120" cy="2426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811320" y="2865600"/>
            <a:ext cx="66348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811680" y="2103480"/>
            <a:ext cx="547560" cy="3650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556160" y="2103480"/>
            <a:ext cx="1139760" cy="3650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913360" y="2865600"/>
            <a:ext cx="0" cy="2887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3280" y="2865600"/>
            <a:ext cx="2095560" cy="2124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1760" y="3505320"/>
            <a:ext cx="0" cy="1206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1360" y="3475080"/>
            <a:ext cx="672840" cy="150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34960" y="4631400"/>
            <a:ext cx="718560" cy="1008000"/>
            <a:chOff x="1434960" y="4631400"/>
            <a:chExt cx="718560" cy="1008000"/>
          </a:xfrm>
        </p:grpSpPr>
        <p:sp>
          <p:nvSpPr>
            <p:cNvPr id="194" name=""/>
            <p:cNvSpPr/>
            <p:nvPr/>
          </p:nvSpPr>
          <p:spPr>
            <a:xfrm>
              <a:off x="1568160" y="5240520"/>
              <a:ext cx="35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434960" y="4631400"/>
              <a:ext cx="718560" cy="579600"/>
              <a:chOff x="1434960" y="4631400"/>
              <a:chExt cx="718560" cy="579600"/>
            </a:xfrm>
          </p:grpSpPr>
          <p:sp>
            <p:nvSpPr>
              <p:cNvPr id="196" name=""/>
              <p:cNvSpPr/>
              <p:nvPr/>
            </p:nvSpPr>
            <p:spPr>
              <a:xfrm>
                <a:off x="1434960" y="463140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 (1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44560" y="5059080"/>
                <a:ext cx="0" cy="151920"/>
              </a:xfrm>
              <a:prstGeom prst="line">
                <a:avLst/>
              </a:prstGeom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1368360" y="4343400"/>
            <a:ext cx="270000" cy="2890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CF4-0C70-44A5-9546-3F84D732E6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emo-iz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all values from previous recursiv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recursive call, test to see if value has already been comp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memo-ized algorithm from a recursive one to an iterativ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B12-EBCE-460A-A1F9-29F1458C1B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bonacci - Dynamic Programming Vers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oDP(n):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[0]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=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F[i]=F[i-1]+F[i-1]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[n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FD9-68AC-44EC-9394-7474143C58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ynamic Programm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recursive sub-problems occur repea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nticipate the parameters of these recursiv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to whole problem can be figured out with knowing the internal details of how the sub-problems are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 of optim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BF3-DE3C-4AB3-A54A-7A10C7473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ist partition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equence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itive integ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positive integ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ind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artition of the list into up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s: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.. 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..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so that the sum of the numbers in the largest block is as small as possible.           i.e. find spots for up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61A-1F82-4643-AE76-D428AE3B9D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24T18:20:06Z</cp:lastPrinted>
  <dcterms:modified xsi:type="dcterms:W3CDTF">2001-01-24T18:20:27Z</dcterms:modified>
  <cp:revision>5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