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760E-2AA0-450D-ADFF-5ED9395C3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B132-0354-4F85-91BA-242DC74A3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B9A7-B8E6-415F-8EF1-57814CBB3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5123-89E3-4ABB-995D-F5FF7850B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67C8D-9B7D-443C-8F77-D388EAAEC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CCE64-BDDB-4F35-A484-14C377F50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ADBAB-5DD5-489F-B117-DB3938BCF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83F27-54E5-4FC9-AF58-BCD9CAEAA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BE54F-6B36-42A9-89A9-B31D44E85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D5D7A-B455-434A-8CDB-FA0D2D389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D23A3-8765-4C31-BEDC-AAA3E4AD9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52EE-1864-4C75-826A-47ECCC1A2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81AA3-77CB-4EA4-B34A-11E82B6C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36E6B-EA54-41F8-9319-0F8F17534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3688C-255D-4488-A4D4-A4D27B407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913BD-83D5-4866-BC35-C5BDC257D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B0DC1-EE6F-45C9-908C-4C4FA863F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3545-D8BF-40F0-A257-8E6BC7950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94B6-E8D6-432E-9CF0-705152BB3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5055-D565-4AB9-9215-431A7C952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3FDA-ADF7-4DCB-9EF6-FDF4706AC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C653-591D-420F-A4D8-41191CF8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8081-7A36-47EE-BB5E-F9A9557A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677F-F479-41FB-B3B7-6E43ABDC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0E68A-E274-4251-9911-F0AAD728086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21932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7720" y="22856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4BFD7-14BE-4E07-B279-67D823C1307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Helvetic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2856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SE 417:  Algorithms and Computational Complexity</a:t>
            </a:r>
            <a:endParaRPr b="0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2193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t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ctur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or: Paul Be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: Gidon Shav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905120"/>
            <a:ext cx="7848720" cy="1828800"/>
          </a:xfrm>
          <a:prstGeom prst="rect">
            <a:avLst/>
          </a:prstGeom>
          <a:noFill/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CCF5E-EBAE-46DA-96BE-9FBEB3A86E2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Greedy approach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l size would be P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dy:  walk along until what you have so far adds up to P then insert a divi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: it may not exact (or corr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 200 400 500 900 | 700 600 | 700 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 is 4800 so size must be at least 16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5029200" y="1676520"/>
          <a:ext cx="990720" cy="93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1676520"/>
                    <a:ext cx="990720" cy="93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361B-CBA2-4DD1-8106-D94A88B6721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5257800" y="4952880"/>
            <a:ext cx="129528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Recursive solution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all possible values for the position of the last divi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position of this last divi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k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ther dividers that must divide the list of numbers prior to the last divider as evenly as possi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,...,s</a:t>
            </a:r>
            <a:r>
              <a:rPr b="0" lang="en-US" sz="1800" spc="-1" strike="noStrike" baseline="-25000">
                <a:solidFill>
                  <a:srgbClr val="0033cc"/>
                </a:solidFill>
                <a:latin typeface="Arial"/>
              </a:rPr>
              <a:t>i</a:t>
            </a:r>
            <a:r>
              <a:rPr b="0" lang="en-US" sz="1800" spc="-1" strike="noStrike" baseline="-50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i</a:t>
            </a:r>
            <a:r>
              <a:rPr b="0" lang="en-US" sz="1800" spc="-1" strike="noStrike" baseline="-50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+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...s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i</a:t>
            </a:r>
            <a:r>
              <a:rPr b="0" lang="en-US" sz="1800" spc="-1" strike="noStrike" baseline="-50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i</a:t>
            </a:r>
            <a:r>
              <a:rPr b="0" lang="en-US" sz="1800" spc="-1" strike="noStrike" baseline="-50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+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... s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i</a:t>
            </a:r>
            <a:r>
              <a:rPr b="0" lang="en-US" sz="1800" spc="-1" strike="noStrike" baseline="-50000">
                <a:solidFill>
                  <a:srgbClr val="0033cc"/>
                </a:solidFill>
                <a:latin typeface="Arial"/>
              </a:rPr>
              <a:t>k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|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i</a:t>
            </a:r>
            <a:r>
              <a:rPr b="0" lang="en-US" sz="1800" spc="-1" strike="noStrike" baseline="-50000">
                <a:solidFill>
                  <a:srgbClr val="0033cc"/>
                </a:solidFill>
                <a:latin typeface="Arial"/>
              </a:rPr>
              <a:t>k-1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+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...s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ursive sub-problem of the same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98A1-9F19-4173-A777-682DBDB716C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Recursive idea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M[n,k]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smallest cost (size of largest block) of any partition of the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to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ie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between the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i</a:t>
            </a:r>
            <a:r>
              <a:rPr b="0" lang="en-US" sz="3200" spc="-1" strike="noStrike" baseline="30000">
                <a:solidFill>
                  <a:srgbClr val="0033cc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i+1</a:t>
            </a:r>
            <a:r>
              <a:rPr b="0" lang="en-US" sz="3200" spc="-1" strike="noStrike" baseline="30000">
                <a:solidFill>
                  <a:srgbClr val="0033cc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best position for the last divider then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M[n,k]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max (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M[i,k-1]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,   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gener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M[n,k]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min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i&lt;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x (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M[i,k-1]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,   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399960" y="11160"/>
          <a:ext cx="112680" cy="17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11160"/>
                    <a:ext cx="112680" cy="17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5962680" y="4495680"/>
          <a:ext cx="798480" cy="960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62680" y="4495680"/>
                    <a:ext cx="798480" cy="9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6858000" y="5608800"/>
          <a:ext cx="798480" cy="960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0" y="5608800"/>
                    <a:ext cx="798480" cy="96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"/>
          <p:cNvSpPr/>
          <p:nvPr/>
        </p:nvSpPr>
        <p:spPr>
          <a:xfrm flipV="1">
            <a:off x="6553080" y="4495680"/>
            <a:ext cx="304920" cy="152640"/>
          </a:xfrm>
          <a:prstGeom prst="line">
            <a:avLst/>
          </a:prstGeom>
          <a:ln w="28440">
            <a:solidFill>
              <a:srgbClr val="00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6200" y="4250520"/>
            <a:ext cx="206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cost of last b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4572000" y="5181480"/>
            <a:ext cx="76320" cy="274680"/>
          </a:xfrm>
          <a:prstGeom prst="line">
            <a:avLst/>
          </a:prstGeom>
          <a:ln w="28440">
            <a:solidFill>
              <a:srgbClr val="00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66400" y="5516280"/>
            <a:ext cx="3111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max cost of 1st k-1 bl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CCE6-E0AF-491F-9382-5084D7221F2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Time-saving - prefix sum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ing the costs of the blocks may be expensive and involved repeated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Pre-compute prefix su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p[1]=s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    p[2]=s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+s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   p[3]=s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+s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+s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3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...   p[n]=s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+s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+...+s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: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s, space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ngth of block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i+1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+... + s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just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p[j]-p[i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B186-3246-4EFF-9D9D-6F2A61180AD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Linear Partition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tion(S,k):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[0]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;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=1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[i]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[i-1]+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   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=1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[i,1]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[i]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j=1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k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[1,j]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=2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j=2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k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M[i,j]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pos&lt;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max(M[pos,j-1],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p[i]-p[pos])}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D[i,j]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 of pos where min 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achiev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F793-1A17-4FEF-95BC-74A7E33276D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Linear Partition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tion(S,k):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[0]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;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=1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[i]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[i-1]+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   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=1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[i,1]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[i]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j=1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k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[1,j]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=2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j=2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k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M[i,j]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s=1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-1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(M[pos,j-1], p[i]-p[pos])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[i,j]&gt;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M[i,j]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; D[i,j]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949E-8DFC-4F0D-B783-4DE015A8E89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Algorithm Design Technique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ynamic Progra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a solution of a problem using smaller sub-problems, e.g. a recursive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ful when the same sub-problems show up again and again in the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AA79-550D-4DA3-8F55-1D3697B685B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A simple case:               </a:t>
            </a:r>
            <a:r>
              <a:rPr b="1" lang="en-US" sz="3600" spc="-1" strike="noStrike">
                <a:solidFill>
                  <a:srgbClr val="000000"/>
                </a:solidFill>
                <a:latin typeface="Palatino"/>
              </a:rPr>
              <a:t>Computing Fibonacci Numbers</a:t>
            </a:r>
            <a:endParaRPr b="1" lang="en-US" sz="3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-2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0, 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ursive algorith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bo(n)    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=0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0)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=1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)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ibo(n-1)+Fibo(n-2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6525-EF4C-48DC-A2DC-B388247C560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Call tree - start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"/>
          <p:cNvSpPr/>
          <p:nvPr/>
        </p:nvSpPr>
        <p:spPr>
          <a:xfrm>
            <a:off x="3886200" y="170568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ff"/>
                </a:solidFill>
                <a:latin typeface="Arial"/>
              </a:rPr>
              <a:t>F (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87800" y="246780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ff"/>
                </a:solidFill>
                <a:latin typeface="Arial"/>
              </a:rPr>
              <a:t>F (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64360" y="246780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(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16040" y="391536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ff"/>
                </a:solidFill>
                <a:latin typeface="Arial"/>
              </a:rPr>
              <a:t>F (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97440" y="307728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ff"/>
                </a:solidFill>
                <a:latin typeface="Arial"/>
              </a:rPr>
              <a:t>F (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62240" y="460116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ff"/>
                </a:solidFill>
                <a:latin typeface="Arial"/>
              </a:rPr>
              <a:t>F 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62560" y="391536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089600" y="315360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(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813960" y="4373640"/>
            <a:ext cx="228600" cy="2286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8000" y="546948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ff"/>
                </a:solidFill>
                <a:latin typeface="Arial"/>
              </a:rPr>
              <a:t>F 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19440" y="549972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ff"/>
                </a:solidFill>
                <a:latin typeface="Arial"/>
              </a:rPr>
              <a:t>F (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1800" y="6049080"/>
            <a:ext cx="35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44360" y="6049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39640" y="5059440"/>
            <a:ext cx="287280" cy="38088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42920" y="5089680"/>
            <a:ext cx="138240" cy="38088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1880" y="5897520"/>
            <a:ext cx="0" cy="15228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81160" y="5897520"/>
            <a:ext cx="0" cy="15228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181160" y="3475080"/>
            <a:ext cx="1270080" cy="38088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2682720" y="3551400"/>
            <a:ext cx="271440" cy="33480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916360" y="2865600"/>
            <a:ext cx="465120" cy="2426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3811320" y="2865600"/>
            <a:ext cx="663480" cy="28872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3811680" y="2103480"/>
            <a:ext cx="547560" cy="3650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4556160" y="2103480"/>
            <a:ext cx="1139760" cy="36504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68520" y="5241960"/>
            <a:ext cx="353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35320" y="463140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68360" y="4343400"/>
            <a:ext cx="270000" cy="28908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CADD-6D89-4FEA-B90F-316BA9EA1FC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Full call tree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8" name=""/>
          <p:cNvSpPr/>
          <p:nvPr/>
        </p:nvSpPr>
        <p:spPr>
          <a:xfrm>
            <a:off x="3886200" y="170568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(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61600" y="307728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87800" y="246780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(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64360" y="246780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(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16040" y="391536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(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197440" y="307728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(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2240" y="460116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62560" y="391536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50200" y="310752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(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089600" y="315360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(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813960" y="4373640"/>
            <a:ext cx="228600" cy="22860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8000" y="546948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19440" y="549972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(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61800" y="6049080"/>
            <a:ext cx="35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44360" y="6049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539640" y="5059440"/>
            <a:ext cx="287280" cy="38088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42920" y="5089680"/>
            <a:ext cx="138240" cy="38088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61880" y="5897520"/>
            <a:ext cx="0" cy="15228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81160" y="5897520"/>
            <a:ext cx="0" cy="15228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738520" y="486000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(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55600" y="5469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451240" y="4419720"/>
            <a:ext cx="287280" cy="38088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43080" y="4419720"/>
            <a:ext cx="138240" cy="38088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963800" y="4829760"/>
            <a:ext cx="718560" cy="1008720"/>
            <a:chOff x="1963800" y="4829760"/>
            <a:chExt cx="718560" cy="1008720"/>
          </a:xfrm>
        </p:grpSpPr>
        <p:sp>
          <p:nvSpPr>
            <p:cNvPr id="142" name=""/>
            <p:cNvSpPr/>
            <p:nvPr/>
          </p:nvSpPr>
          <p:spPr>
            <a:xfrm>
              <a:off x="2097000" y="5439600"/>
              <a:ext cx="35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1963800" y="4829760"/>
              <a:ext cx="718560" cy="580320"/>
              <a:chOff x="1963800" y="4829760"/>
              <a:chExt cx="718560" cy="580320"/>
            </a:xfrm>
          </p:grpSpPr>
          <p:sp>
            <p:nvSpPr>
              <p:cNvPr id="144" name=""/>
              <p:cNvSpPr/>
              <p:nvPr/>
            </p:nvSpPr>
            <p:spPr>
              <a:xfrm>
                <a:off x="1963800" y="4829760"/>
                <a:ext cx="71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 (1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273400" y="5257800"/>
                <a:ext cx="0" cy="152280"/>
              </a:xfrm>
              <a:prstGeom prst="line">
                <a:avLst/>
              </a:prstGeom>
              <a:ln w="2844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6" name=""/>
          <p:cNvSpPr/>
          <p:nvPr/>
        </p:nvSpPr>
        <p:spPr>
          <a:xfrm>
            <a:off x="3181320" y="5257800"/>
            <a:ext cx="0" cy="15228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132440" y="3505320"/>
            <a:ext cx="287280" cy="38088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724280" y="3505320"/>
            <a:ext cx="138240" cy="38088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7274160" y="3551400"/>
            <a:ext cx="1869480" cy="1418040"/>
            <a:chOff x="7274160" y="3551400"/>
            <a:chExt cx="1869480" cy="1418040"/>
          </a:xfrm>
        </p:grpSpPr>
        <p:sp>
          <p:nvSpPr>
            <p:cNvPr id="150" name=""/>
            <p:cNvSpPr/>
            <p:nvPr/>
          </p:nvSpPr>
          <p:spPr>
            <a:xfrm>
              <a:off x="7274160" y="396108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 (1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425080" y="396108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 (0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407360" y="4570560"/>
              <a:ext cx="35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507160" y="45705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7761240" y="3551400"/>
              <a:ext cx="287280" cy="38052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353440" y="3551400"/>
              <a:ext cx="138240" cy="38052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83400" y="4389120"/>
              <a:ext cx="0" cy="15228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724960" y="4389120"/>
              <a:ext cx="0" cy="15228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3279600" y="47235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457440" y="3915360"/>
            <a:ext cx="2101320" cy="1816560"/>
            <a:chOff x="3457440" y="3915360"/>
            <a:chExt cx="2101320" cy="1816560"/>
          </a:xfrm>
        </p:grpSpPr>
        <p:sp>
          <p:nvSpPr>
            <p:cNvPr id="160" name=""/>
            <p:cNvSpPr/>
            <p:nvPr/>
          </p:nvSpPr>
          <p:spPr>
            <a:xfrm>
              <a:off x="3689280" y="391536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 (2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840200" y="391536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 (1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082840" y="45252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194080" y="4343400"/>
              <a:ext cx="0" cy="15228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475160" y="472356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 (0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457440" y="5333040"/>
              <a:ext cx="35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57240" y="53330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3811320" y="4313160"/>
              <a:ext cx="287280" cy="38124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403520" y="4313160"/>
              <a:ext cx="138240" cy="38124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33480" y="5151600"/>
              <a:ext cx="0" cy="15228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775040" y="5151600"/>
              <a:ext cx="0" cy="15228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5572440" y="362484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23360" y="362484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965640" y="423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077240" y="4052880"/>
            <a:ext cx="0" cy="15228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358320" y="443304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(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559480" y="5072760"/>
            <a:ext cx="35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40400" y="50425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5694480" y="4022640"/>
            <a:ext cx="287280" cy="38124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286680" y="4022640"/>
            <a:ext cx="137880" cy="38124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695920" y="4830840"/>
            <a:ext cx="0" cy="15228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57840" y="4861080"/>
            <a:ext cx="0" cy="15228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1181160" y="3475080"/>
            <a:ext cx="1270080" cy="38088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2682720" y="3551400"/>
            <a:ext cx="271440" cy="33480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40600" y="441864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2916360" y="2865600"/>
            <a:ext cx="465120" cy="24264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3811320" y="2865600"/>
            <a:ext cx="663480" cy="28872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3811680" y="2103480"/>
            <a:ext cx="547560" cy="36504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4556160" y="2103480"/>
            <a:ext cx="1139760" cy="36504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5913360" y="2865600"/>
            <a:ext cx="0" cy="28872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83280" y="2865600"/>
            <a:ext cx="2095560" cy="21240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981760" y="3505320"/>
            <a:ext cx="0" cy="12060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291360" y="3475080"/>
            <a:ext cx="672840" cy="15084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434960" y="4631400"/>
            <a:ext cx="718560" cy="1008000"/>
            <a:chOff x="1434960" y="4631400"/>
            <a:chExt cx="718560" cy="1008000"/>
          </a:xfrm>
        </p:grpSpPr>
        <p:sp>
          <p:nvSpPr>
            <p:cNvPr id="194" name=""/>
            <p:cNvSpPr/>
            <p:nvPr/>
          </p:nvSpPr>
          <p:spPr>
            <a:xfrm>
              <a:off x="1568160" y="5240520"/>
              <a:ext cx="35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1434960" y="4631400"/>
              <a:ext cx="718560" cy="579600"/>
              <a:chOff x="1434960" y="4631400"/>
              <a:chExt cx="718560" cy="579600"/>
            </a:xfrm>
          </p:grpSpPr>
          <p:sp>
            <p:nvSpPr>
              <p:cNvPr id="196" name=""/>
              <p:cNvSpPr/>
              <p:nvPr/>
            </p:nvSpPr>
            <p:spPr>
              <a:xfrm>
                <a:off x="1434960" y="4631400"/>
                <a:ext cx="71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 (1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744560" y="5059080"/>
                <a:ext cx="0" cy="151920"/>
              </a:xfrm>
              <a:prstGeom prst="line">
                <a:avLst/>
              </a:prstGeom>
              <a:ln w="2844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8" name=""/>
          <p:cNvSpPr/>
          <p:nvPr/>
        </p:nvSpPr>
        <p:spPr>
          <a:xfrm>
            <a:off x="1368360" y="4343400"/>
            <a:ext cx="270000" cy="28908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B8B1-F459-4691-A30B-B6C92476435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Memo-ization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 all values from previous recursive c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fore recursive call, test to see if value has already been compu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ynamic Progra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 memo-ized algorithm from a recursive one to an iterative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133F-1E5C-42C4-BA31-F8ACDBC5259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Fibonacci - Dynamic Programming Version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boDP(n):   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[0]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[1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=2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F[i]=F[i-1]+F[i-1]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df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[n]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B667-3C92-4A01-8827-756F1694C04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Dynamic Programming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wh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recursive sub-problems occur repeated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anticipate the parameters of these recursiv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olution to whole problem can be figured out with knowing the internal details of how the sub-problems are s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ciple of optim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D8F9-7F7B-4E6C-A049-5DCAEB9CD9A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List partition proble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Give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sequence of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sitive integers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,...,s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a positive integer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Find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partition of the list into up to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locks:                               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,...,s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i</a:t>
            </a:r>
            <a:r>
              <a:rPr b="0" lang="en-US" sz="2400" spc="-1" strike="noStrike" baseline="-50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i</a:t>
            </a:r>
            <a:r>
              <a:rPr b="0" lang="en-US" sz="2400" spc="-1" strike="noStrike" baseline="-50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...s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i</a:t>
            </a:r>
            <a:r>
              <a:rPr b="0" lang="en-US" sz="2400" spc="-1" strike="noStrike" baseline="-50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i</a:t>
            </a:r>
            <a:r>
              <a:rPr b="0" lang="en-US" sz="2400" spc="-1" strike="noStrike" baseline="-50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... s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i</a:t>
            </a:r>
            <a:r>
              <a:rPr b="0" lang="en-US" sz="2400" spc="-1" strike="noStrike" baseline="-50000">
                <a:solidFill>
                  <a:srgbClr val="0033cc"/>
                </a:solidFill>
                <a:latin typeface="Arial"/>
              </a:rPr>
              <a:t>k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|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i</a:t>
            </a:r>
            <a:r>
              <a:rPr b="0" lang="en-US" sz="2400" spc="-1" strike="noStrike" baseline="-50000">
                <a:solidFill>
                  <a:srgbClr val="0033cc"/>
                </a:solidFill>
                <a:latin typeface="Arial"/>
              </a:rPr>
              <a:t>k-1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...s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so that the sum of the numbers in the largest block is as small as possible.           i.e. find spots for up to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k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vi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13CB-1A59-4727-8FD9-B95A8714BFD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1T16:57:42Z</dcterms:created>
  <dc:creator>ruzzo</dc:creator>
  <dc:description/>
  <dc:language>en-US</dc:language>
  <cp:lastModifiedBy>beame</cp:lastModifiedBy>
  <cp:lastPrinted>2001-01-24T18:20:06Z</cp:lastPrinted>
  <dcterms:modified xsi:type="dcterms:W3CDTF">2001-01-24T18:20:27Z</dcterms:modified>
  <cp:revision>57</cp:revision>
  <dc:subject/>
  <dc:title>CSE 421:  Introduction to Algorith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.washington.edu/homes/ruzzo</vt:lpwstr>
  </property>
  <property fmtid="{D5CDD505-2E9C-101B-9397-08002B2CF9AE}" pid="9" name="LinkColor">
    <vt:r8>16711782</vt:r8>
  </property>
  <property fmtid="{D5CDD505-2E9C-101B-9397-08002B2CF9AE}" pid="10" name="MailAddress">
    <vt:lpwstr>ruzzo@cs.washington.edu</vt:lpwstr>
  </property>
  <property fmtid="{D5CDD505-2E9C-101B-9397-08002B2CF9AE}" pid="11" name="NavBtnPos">
    <vt:r8>1</vt:r8>
  </property>
  <property fmtid="{D5CDD505-2E9C-101B-9397-08002B2CF9AE}" pid="12" name="Other">
    <vt:lpwstr>(c) 1998,  University of Washington, CSE</vt:lpwstr>
  </property>
  <property fmtid="{D5CDD505-2E9C-101B-9397-08002B2CF9AE}" pid="13" name="OutputDir">
    <vt:lpwstr>W:\www\education\courses\421\CurrentQtr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