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FEBA-697E-405C-B53E-463389E0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2B7C-85B2-4D73-B9FA-1B59F4D6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1942-5AD0-4A55-A97E-B183B7765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4BEB-3D1F-4C51-B2B6-7C82B7121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A8F5-F215-4B01-87E3-AAF7B47EA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3219-1CC7-4621-AB32-3F7BEEFD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90A1-D1C2-478A-A0B1-7176A95C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970E-C4AB-4603-944D-10055D33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A4BE-6B1B-4335-AE3A-09140D59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0355-464F-4E62-ADB1-CD61D717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860E-49E7-4C61-B2B4-1126006E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9F33-F5EE-477F-A332-7B0BDCDE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8047-7D8F-483C-8050-95205EAD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C755-3979-4E7B-BF61-3595C6C5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AAB8-C9D6-4DD9-88F4-E02C1E7C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F522-166B-4D5E-8976-F877C4001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62F4-41CE-4858-A1EC-9157A9FB8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5176-045A-40D5-8C89-848CCC52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BEA3-34C8-41DF-B726-4C1AD02B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A50C-B85F-4073-A668-B93F7613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4A3B-08F7-4BAB-BB2D-3BD1812A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17CC-6516-4EFE-9FAD-9A0A0C23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736F-4994-4F22-ADED-9FBA53ED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8B11-285F-46DA-889F-5E4D022A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7687-7294-432E-8EB7-BB38210D5B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21932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F972-B923-440E-BE2C-B5A1FB803F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E 417:  Algorithms and Computational Complexity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aul Be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: Gidon Shav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905120"/>
            <a:ext cx="7848720" cy="18288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4279-DCC9-45D6-94A9-8C1A9E00A8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vide &amp; Conquer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(a,n)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=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(a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 is ev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)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1ED0-D679-4F44-ABF4-FBCFF56B7F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nalysi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st-case recur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(n)=T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/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master theo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(n)=O(log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precise analy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(n)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# of 1’s in n’s binary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F960-8BEF-4290-8133-3F17AB048D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 Practical Application- RSA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a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i+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 mo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algorithm applies with ea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laced b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mo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SA cryptosystem (widely used for secur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ch typically have 1024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: at most 2048 multiplies of 1024 bit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ly easy for modern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ive algorithm: 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02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ultip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4C9D-24D0-4B8B-8C3E-F0554028B6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305920" y="2057400"/>
            <a:ext cx="609480" cy="1447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Binary search for roots (bisection method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ous functi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wo poin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&lt;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(a)&lt;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(b)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imation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.t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(c)=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&lt;c&lt;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990720" y="2057400"/>
            <a:ext cx="2438280" cy="1447920"/>
            <a:chOff x="990720" y="2057400"/>
            <a:chExt cx="2438280" cy="1447920"/>
          </a:xfrm>
        </p:grpSpPr>
        <p:sp>
          <p:nvSpPr>
            <p:cNvPr id="132" name=""/>
            <p:cNvSpPr/>
            <p:nvPr/>
          </p:nvSpPr>
          <p:spPr>
            <a:xfrm>
              <a:off x="990720" y="2057400"/>
              <a:ext cx="2438280" cy="1447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90720" y="2590920"/>
              <a:ext cx="2438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90720" y="2247840"/>
              <a:ext cx="2438280" cy="1054080"/>
            </a:xfrm>
            <a:custGeom>
              <a:avLst/>
              <a:gdLst/>
              <a:ahLst/>
              <a:rect l="l" t="t" r="r" b="b"/>
              <a:pathLst>
                <a:path w="1536" h="664">
                  <a:moveTo>
                    <a:pt x="0" y="456"/>
                  </a:moveTo>
                  <a:cubicBezTo>
                    <a:pt x="80" y="544"/>
                    <a:pt x="160" y="632"/>
                    <a:pt x="288" y="648"/>
                  </a:cubicBezTo>
                  <a:cubicBezTo>
                    <a:pt x="416" y="664"/>
                    <a:pt x="632" y="648"/>
                    <a:pt x="768" y="552"/>
                  </a:cubicBezTo>
                  <a:cubicBezTo>
                    <a:pt x="904" y="456"/>
                    <a:pt x="976" y="144"/>
                    <a:pt x="1104" y="72"/>
                  </a:cubicBezTo>
                  <a:cubicBezTo>
                    <a:pt x="1232" y="0"/>
                    <a:pt x="1384" y="60"/>
                    <a:pt x="1536" y="120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514600" y="2552760"/>
              <a:ext cx="76320" cy="76320"/>
            </a:xfrm>
            <a:prstGeom prst="ellipse">
              <a:avLst/>
            </a:prstGeom>
            <a:solidFill>
              <a:srgbClr val="009900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733920" y="2057400"/>
            <a:ext cx="2438280" cy="1447920"/>
            <a:chOff x="3733920" y="2057400"/>
            <a:chExt cx="2438280" cy="1447920"/>
          </a:xfrm>
        </p:grpSpPr>
        <p:grpSp>
          <p:nvGrpSpPr>
            <p:cNvPr id="137" name=""/>
            <p:cNvGrpSpPr/>
            <p:nvPr/>
          </p:nvGrpSpPr>
          <p:grpSpPr>
            <a:xfrm>
              <a:off x="3733920" y="2057400"/>
              <a:ext cx="2438280" cy="1447920"/>
              <a:chOff x="3733920" y="2057400"/>
              <a:chExt cx="2438280" cy="1447920"/>
            </a:xfrm>
          </p:grpSpPr>
          <p:sp>
            <p:nvSpPr>
              <p:cNvPr id="138" name=""/>
              <p:cNvSpPr/>
              <p:nvPr/>
            </p:nvSpPr>
            <p:spPr>
              <a:xfrm>
                <a:off x="3733920" y="2057400"/>
                <a:ext cx="1218960" cy="14479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3733920" y="2057400"/>
                <a:ext cx="2438280" cy="1447920"/>
                <a:chOff x="3733920" y="2057400"/>
                <a:chExt cx="2438280" cy="14479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733920" y="2057400"/>
                  <a:ext cx="2438280" cy="14479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733920" y="2590920"/>
                  <a:ext cx="24382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733920" y="2247840"/>
                  <a:ext cx="2438280" cy="1054080"/>
                </a:xfrm>
                <a:custGeom>
                  <a:avLst/>
                  <a:gdLst/>
                  <a:ahLst/>
                  <a:rect l="l" t="t" r="r" b="b"/>
                  <a:pathLst>
                    <a:path w="1536" h="664">
                      <a:moveTo>
                        <a:pt x="0" y="456"/>
                      </a:moveTo>
                      <a:cubicBezTo>
                        <a:pt x="80" y="544"/>
                        <a:pt x="160" y="632"/>
                        <a:pt x="288" y="648"/>
                      </a:cubicBezTo>
                      <a:cubicBezTo>
                        <a:pt x="416" y="664"/>
                        <a:pt x="632" y="648"/>
                        <a:pt x="768" y="552"/>
                      </a:cubicBezTo>
                      <a:cubicBezTo>
                        <a:pt x="904" y="456"/>
                        <a:pt x="976" y="144"/>
                        <a:pt x="1104" y="72"/>
                      </a:cubicBezTo>
                      <a:cubicBezTo>
                        <a:pt x="1232" y="0"/>
                        <a:pt x="1384" y="60"/>
                        <a:pt x="1536" y="120"/>
                      </a:cubicBezTo>
                    </a:path>
                  </a:pathLst>
                </a:custGeom>
                <a:noFill/>
                <a:ln w="38160">
                  <a:solidFill>
                    <a:srgbClr val="33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>
                  <a:off x="5257800" y="25527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284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4" name=""/>
            <p:cNvSpPr/>
            <p:nvPr/>
          </p:nvSpPr>
          <p:spPr>
            <a:xfrm>
              <a:off x="4952880" y="2057400"/>
              <a:ext cx="0" cy="144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477120" y="2057400"/>
            <a:ext cx="2438280" cy="1447920"/>
            <a:chOff x="6477120" y="2057400"/>
            <a:chExt cx="2438280" cy="1447920"/>
          </a:xfrm>
        </p:grpSpPr>
        <p:grpSp>
          <p:nvGrpSpPr>
            <p:cNvPr id="146" name=""/>
            <p:cNvGrpSpPr/>
            <p:nvPr/>
          </p:nvGrpSpPr>
          <p:grpSpPr>
            <a:xfrm>
              <a:off x="6477120" y="2057400"/>
              <a:ext cx="2438280" cy="1447920"/>
              <a:chOff x="6477120" y="2057400"/>
              <a:chExt cx="2438280" cy="1447920"/>
            </a:xfrm>
          </p:grpSpPr>
          <p:sp>
            <p:nvSpPr>
              <p:cNvPr id="147" name=""/>
              <p:cNvSpPr/>
              <p:nvPr/>
            </p:nvSpPr>
            <p:spPr>
              <a:xfrm>
                <a:off x="6477120" y="2057400"/>
                <a:ext cx="1218960" cy="14479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6477120" y="2057400"/>
                <a:ext cx="2438280" cy="1447920"/>
                <a:chOff x="6477120" y="2057400"/>
                <a:chExt cx="2438280" cy="14479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6477120" y="2057400"/>
                  <a:ext cx="2438280" cy="14479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477120" y="2590920"/>
                  <a:ext cx="24382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477120" y="2247840"/>
                  <a:ext cx="2438280" cy="1054080"/>
                </a:xfrm>
                <a:custGeom>
                  <a:avLst/>
                  <a:gdLst/>
                  <a:ahLst/>
                  <a:rect l="l" t="t" r="r" b="b"/>
                  <a:pathLst>
                    <a:path w="1536" h="664">
                      <a:moveTo>
                        <a:pt x="0" y="456"/>
                      </a:moveTo>
                      <a:cubicBezTo>
                        <a:pt x="80" y="544"/>
                        <a:pt x="160" y="632"/>
                        <a:pt x="288" y="648"/>
                      </a:cubicBezTo>
                      <a:cubicBezTo>
                        <a:pt x="416" y="664"/>
                        <a:pt x="632" y="648"/>
                        <a:pt x="768" y="552"/>
                      </a:cubicBezTo>
                      <a:cubicBezTo>
                        <a:pt x="904" y="456"/>
                        <a:pt x="976" y="144"/>
                        <a:pt x="1104" y="72"/>
                      </a:cubicBezTo>
                      <a:cubicBezTo>
                        <a:pt x="1232" y="0"/>
                        <a:pt x="1384" y="60"/>
                        <a:pt x="1536" y="120"/>
                      </a:cubicBezTo>
                    </a:path>
                  </a:pathLst>
                </a:custGeom>
                <a:noFill/>
                <a:ln w="38160">
                  <a:solidFill>
                    <a:srgbClr val="33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>
                  <a:off x="8001000" y="25527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284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3" name=""/>
            <p:cNvSpPr/>
            <p:nvPr/>
          </p:nvSpPr>
          <p:spPr>
            <a:xfrm>
              <a:off x="7696080" y="2057400"/>
              <a:ext cx="0" cy="144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8305920" y="2057400"/>
            <a:ext cx="0" cy="14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6C57-5BCF-4D27-B080-C093E0D218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Fixing a Misunderstanding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looked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ype of complexity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t-case, best-case, average-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types of function b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two considerations are orthogonal to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an do any type of function bound with any type of complexity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A4CE-09B3-45CB-A0F3-571B8A6756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omplexity analysis overview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"/>
          <p:cNvSpPr/>
          <p:nvPr/>
        </p:nvSpPr>
        <p:spPr>
          <a:xfrm>
            <a:off x="824040" y="2960640"/>
            <a:ext cx="694440" cy="947160"/>
          </a:xfrm>
          <a:prstGeom prst="rect">
            <a:avLst/>
          </a:prstGeom>
          <a:noFill/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Al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3480" y="4114800"/>
            <a:ext cx="2020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ru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for 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3276720"/>
            <a:ext cx="1523880" cy="485640"/>
          </a:xfrm>
          <a:prstGeom prst="rightArrow">
            <a:avLst>
              <a:gd name="adj1" fmla="val 50000"/>
              <a:gd name="adj2" fmla="val 7844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05120" y="1981080"/>
            <a:ext cx="169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y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2895480"/>
            <a:ext cx="1600200" cy="144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95560" y="3181320"/>
            <a:ext cx="1581480" cy="1123920"/>
          </a:xfrm>
          <a:custGeom>
            <a:avLst/>
            <a:gdLst/>
            <a:ahLst/>
            <a:rect l="l" t="t" r="r" b="b"/>
            <a:pathLst>
              <a:path w="996" h="708">
                <a:moveTo>
                  <a:pt x="0" y="708"/>
                </a:moveTo>
                <a:cubicBezTo>
                  <a:pt x="22" y="693"/>
                  <a:pt x="29" y="673"/>
                  <a:pt x="48" y="654"/>
                </a:cubicBezTo>
                <a:cubicBezTo>
                  <a:pt x="56" y="629"/>
                  <a:pt x="82" y="609"/>
                  <a:pt x="108" y="600"/>
                </a:cubicBezTo>
                <a:cubicBezTo>
                  <a:pt x="149" y="605"/>
                  <a:pt x="172" y="614"/>
                  <a:pt x="210" y="606"/>
                </a:cubicBezTo>
                <a:cubicBezTo>
                  <a:pt x="229" y="593"/>
                  <a:pt x="245" y="577"/>
                  <a:pt x="264" y="564"/>
                </a:cubicBezTo>
                <a:cubicBezTo>
                  <a:pt x="273" y="526"/>
                  <a:pt x="265" y="547"/>
                  <a:pt x="294" y="504"/>
                </a:cubicBezTo>
                <a:cubicBezTo>
                  <a:pt x="298" y="498"/>
                  <a:pt x="306" y="486"/>
                  <a:pt x="306" y="486"/>
                </a:cubicBezTo>
                <a:cubicBezTo>
                  <a:pt x="340" y="497"/>
                  <a:pt x="367" y="513"/>
                  <a:pt x="402" y="522"/>
                </a:cubicBezTo>
                <a:cubicBezTo>
                  <a:pt x="408" y="526"/>
                  <a:pt x="413" y="535"/>
                  <a:pt x="420" y="534"/>
                </a:cubicBezTo>
                <a:cubicBezTo>
                  <a:pt x="432" y="532"/>
                  <a:pt x="459" y="489"/>
                  <a:pt x="468" y="480"/>
                </a:cubicBezTo>
                <a:cubicBezTo>
                  <a:pt x="480" y="444"/>
                  <a:pt x="510" y="432"/>
                  <a:pt x="540" y="414"/>
                </a:cubicBezTo>
                <a:cubicBezTo>
                  <a:pt x="552" y="407"/>
                  <a:pt x="564" y="398"/>
                  <a:pt x="576" y="390"/>
                </a:cubicBezTo>
                <a:cubicBezTo>
                  <a:pt x="582" y="386"/>
                  <a:pt x="594" y="378"/>
                  <a:pt x="594" y="378"/>
                </a:cubicBezTo>
                <a:cubicBezTo>
                  <a:pt x="605" y="346"/>
                  <a:pt x="603" y="295"/>
                  <a:pt x="624" y="270"/>
                </a:cubicBezTo>
                <a:cubicBezTo>
                  <a:pt x="637" y="255"/>
                  <a:pt x="678" y="246"/>
                  <a:pt x="678" y="246"/>
                </a:cubicBezTo>
                <a:cubicBezTo>
                  <a:pt x="699" y="225"/>
                  <a:pt x="710" y="223"/>
                  <a:pt x="738" y="216"/>
                </a:cubicBezTo>
                <a:cubicBezTo>
                  <a:pt x="805" y="164"/>
                  <a:pt x="798" y="170"/>
                  <a:pt x="876" y="144"/>
                </a:cubicBezTo>
                <a:cubicBezTo>
                  <a:pt x="885" y="118"/>
                  <a:pt x="896" y="93"/>
                  <a:pt x="918" y="78"/>
                </a:cubicBezTo>
                <a:cubicBezTo>
                  <a:pt x="920" y="72"/>
                  <a:pt x="919" y="64"/>
                  <a:pt x="924" y="60"/>
                </a:cubicBezTo>
                <a:cubicBezTo>
                  <a:pt x="934" y="53"/>
                  <a:pt x="960" y="48"/>
                  <a:pt x="960" y="48"/>
                </a:cubicBezTo>
                <a:cubicBezTo>
                  <a:pt x="987" y="7"/>
                  <a:pt x="974" y="22"/>
                  <a:pt x="996" y="0"/>
                </a:cubicBezTo>
              </a:path>
            </a:pathLst>
          </a:custGeom>
          <a:noFill/>
          <a:ln w="28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56880" y="4419720"/>
            <a:ext cx="227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mapp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335268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noFill/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720" y="2209680"/>
            <a:ext cx="128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Typ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77760" y="3200400"/>
            <a:ext cx="1739520" cy="87588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T(n) </a:t>
            </a:r>
            <a:r>
              <a:rPr b="0" lang="en-US" sz="2400" spc="-1" strike="noStrike">
                <a:solidFill>
                  <a:srgbClr val="808000"/>
                </a:solidFill>
                <a:latin typeface="Arial"/>
              </a:rPr>
              <a:t>grow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Arial"/>
              </a:rPr>
              <a:t>like </a:t>
            </a: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nlog</a:t>
            </a:r>
            <a:r>
              <a:rPr b="1" lang="en-US" sz="2400" spc="-1" strike="noStrike" baseline="-25000">
                <a:solidFill>
                  <a:srgbClr val="808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22680" y="4278240"/>
            <a:ext cx="178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 form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9840" y="5627520"/>
            <a:ext cx="851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Usually we represent the function in the middle u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a recurrence relation rather than explici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C132-5D51-41FB-978D-0201F62462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Quicksort Analysi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tion do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parisons on a list of lengt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vot is compared to each other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v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rgest then two subproblems are of siz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-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vot is equally likely to be any one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roug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rg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600200" y="5410080"/>
          <a:ext cx="5562720" cy="12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5410080"/>
                    <a:ext cx="5562720" cy="12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504D-8347-4F75-AC20-839860AEC9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Quicksort analysi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5800" y="1447920"/>
          <a:ext cx="8020080" cy="577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2008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762120" y="4572000"/>
            <a:ext cx="7848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9009-6480-4763-B1E0-FDBF6F4DD0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Quicksort analysi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14760" y="3321000"/>
          <a:ext cx="112680" cy="21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2680" cy="21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14760" y="3321000"/>
          <a:ext cx="112680" cy="21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2680" cy="21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533520" y="1523880"/>
          <a:ext cx="7772400" cy="493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1523880"/>
                    <a:ext cx="7772400" cy="49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EA90-56CF-4020-B118-80D91E2CD4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lgorithm Design Techniques 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overall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olving a problem to a smaller problem or problems of the same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dy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when one needs to build something a piece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dly mak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ed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oice - the one that looks the best right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ffcc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closest pair in TSP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fast if they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2085-A95D-433C-906D-EB816B995C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lgorithm Design Techniqu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&amp; Conqu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problem to one or more sub-problems of the same ty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ub-problem is at most a constant fraction of the size of the original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Mergesort, Binary Search, Strassen’s Algorithm, Quicksort (kind o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B66F-00FE-4680-A4DA-03DCE2EDC1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Fast exponentiatio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(a,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Inpu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g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umb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Output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viou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lti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even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=2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8026-ACD2-4EA8-A55D-4710523BC4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6:57:42Z</dcterms:created>
  <dc:creator>ruzzo</dc:creator>
  <dc:description/>
  <dc:language>en-US</dc:language>
  <cp:lastModifiedBy>beame</cp:lastModifiedBy>
  <cp:lastPrinted>2001-01-18T00:50:25Z</cp:lastPrinted>
  <dcterms:modified xsi:type="dcterms:W3CDTF">2001-01-18T00:52:02Z</dcterms:modified>
  <cp:revision>53</cp:revision>
  <dc:subject/>
  <dc:title>CSE 421:  Introduction to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uzzo</vt:lpwstr>
  </property>
  <property fmtid="{D5CDD505-2E9C-101B-9397-08002B2CF9AE}" pid="9" name="LinkColor">
    <vt:r8>16711782</vt:r8>
  </property>
  <property fmtid="{D5CDD505-2E9C-101B-9397-08002B2CF9AE}" pid="10" name="MailAddress">
    <vt:lpwstr>ruzzo@cs.washington.edu</vt:lpwstr>
  </property>
  <property fmtid="{D5CDD505-2E9C-101B-9397-08002B2CF9AE}" pid="11" name="NavBtnPos">
    <vt:r8>1</vt:r8>
  </property>
  <property fmtid="{D5CDD505-2E9C-101B-9397-08002B2CF9AE}" pid="12" name="Other">
    <vt:lpwstr>(c) 1998,  University of Washington, CSE</vt:lpwstr>
  </property>
  <property fmtid="{D5CDD505-2E9C-101B-9397-08002B2CF9AE}" pid="13" name="OutputDir">
    <vt:lpwstr>W:\www\education\courses\421\CurrentQtr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