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EE0-E712-4202-87FC-AF144CD5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AA2-5F83-411A-AD12-3F3CE3C7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5ED-3CE9-47E6-A450-0907B98F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A89-C2A6-4C04-AB1F-214361A7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22E5-AE64-40EB-9B47-86A4441D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95CC-69EC-4056-84AA-8312D66A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2AE5-CACF-4DB7-A10B-359476B8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E524-0A02-4727-B2C4-BF72B902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3AF5-1448-461F-9E7E-775C3BC1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B1A5-35A7-4365-A158-11CAC579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5B8E-70E1-45A7-926F-CB1A67D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F3C-DAAB-46E3-A685-CE1FB09A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9C40-9ECE-4524-B440-C42768B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243F-FF32-4BF5-BAD8-55FCB427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E084-E567-4E7B-BE5F-F821339D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8B8A-4667-4EA4-98B2-EF4EAC0E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B50A-FF10-4E03-B462-FFEDB10A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B45-77E1-43D2-8CB0-91EB8A20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816-E8B8-4F31-94AE-025517DF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D6A-67E9-41E9-ADCA-EF1E18C3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965-126B-433C-904C-C14BB8DB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1AD-64BE-416A-A448-3ACA7CF3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C13-5200-47AF-BC80-57074EA3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AF0-841A-4909-8F9E-73502A41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00B2-2718-43F9-AC7E-4E836B2D2B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1850-148E-4652-B988-0A6270AE3E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DAB6-93E1-4D8C-86BD-EF6855D65D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vide &amp; Conquer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(a,n)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=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(a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is ev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F56-D928-4F18-9950-F501DE7F6C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-case re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T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ste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(n)=O(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ecise analy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(n)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# of 1’s in n’s binary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BC3-969B-4CB7-92DB-A5F5BEF3E6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Practical Application- RS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m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lgorithm applies with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laced b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mo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SA cryptosystem (widely used for secu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ch typically have 102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at most 2048 multiplies of 1024 bit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easy for modern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ive algorithm: 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0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lti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8AA-95B6-4237-9F3A-F5F6024E6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05920" y="2057400"/>
            <a:ext cx="609480" cy="1447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inary search for roots (bisection method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fun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wo poi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&lt;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a)&lt;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b)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ion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.t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c)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&lt;c&lt;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90720" y="2057400"/>
            <a:ext cx="2438280" cy="1447920"/>
            <a:chOff x="990720" y="2057400"/>
            <a:chExt cx="2438280" cy="1447920"/>
          </a:xfrm>
        </p:grpSpPr>
        <p:sp>
          <p:nvSpPr>
            <p:cNvPr id="132" name=""/>
            <p:cNvSpPr/>
            <p:nvPr/>
          </p:nvSpPr>
          <p:spPr>
            <a:xfrm>
              <a:off x="990720" y="2057400"/>
              <a:ext cx="2438280" cy="1447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0720" y="2590920"/>
              <a:ext cx="243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0720" y="2247840"/>
              <a:ext cx="2438280" cy="1054080"/>
            </a:xfrm>
            <a:custGeom>
              <a:avLst/>
              <a:gdLst/>
              <a:ahLst/>
              <a:rect l="l" t="t" r="r" b="b"/>
              <a:pathLst>
                <a:path w="1536" h="664">
                  <a:moveTo>
                    <a:pt x="0" y="456"/>
                  </a:moveTo>
                  <a:cubicBezTo>
                    <a:pt x="80" y="544"/>
                    <a:pt x="160" y="632"/>
                    <a:pt x="288" y="648"/>
                  </a:cubicBezTo>
                  <a:cubicBezTo>
                    <a:pt x="416" y="664"/>
                    <a:pt x="632" y="648"/>
                    <a:pt x="768" y="552"/>
                  </a:cubicBezTo>
                  <a:cubicBezTo>
                    <a:pt x="904" y="456"/>
                    <a:pt x="976" y="144"/>
                    <a:pt x="1104" y="72"/>
                  </a:cubicBezTo>
                  <a:cubicBezTo>
                    <a:pt x="1232" y="0"/>
                    <a:pt x="1384" y="60"/>
                    <a:pt x="1536" y="12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6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733920" y="2057400"/>
            <a:ext cx="2438280" cy="1447920"/>
            <a:chOff x="3733920" y="2057400"/>
            <a:chExt cx="2438280" cy="1447920"/>
          </a:xfrm>
        </p:grpSpPr>
        <p:grpSp>
          <p:nvGrpSpPr>
            <p:cNvPr id="137" name=""/>
            <p:cNvGrpSpPr/>
            <p:nvPr/>
          </p:nvGrpSpPr>
          <p:grpSpPr>
            <a:xfrm>
              <a:off x="3733920" y="2057400"/>
              <a:ext cx="2438280" cy="1447920"/>
              <a:chOff x="3733920" y="2057400"/>
              <a:chExt cx="2438280" cy="1447920"/>
            </a:xfrm>
          </p:grpSpPr>
          <p:sp>
            <p:nvSpPr>
              <p:cNvPr id="138" name=""/>
              <p:cNvSpPr/>
              <p:nvPr/>
            </p:nvSpPr>
            <p:spPr>
              <a:xfrm>
                <a:off x="3733920" y="2057400"/>
                <a:ext cx="1218960" cy="1447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3733920" y="2057400"/>
                <a:ext cx="2438280" cy="1447920"/>
                <a:chOff x="3733920" y="2057400"/>
                <a:chExt cx="2438280" cy="1447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733920" y="2057400"/>
                  <a:ext cx="2438280" cy="14479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733920" y="2590920"/>
                  <a:ext cx="2438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733920" y="2247840"/>
                  <a:ext cx="2438280" cy="1054080"/>
                </a:xfrm>
                <a:custGeom>
                  <a:avLst/>
                  <a:gdLst/>
                  <a:ahLst/>
                  <a:rect l="l" t="t" r="r" b="b"/>
                  <a:pathLst>
                    <a:path w="1536" h="664">
                      <a:moveTo>
                        <a:pt x="0" y="456"/>
                      </a:moveTo>
                      <a:cubicBezTo>
                        <a:pt x="80" y="544"/>
                        <a:pt x="160" y="632"/>
                        <a:pt x="288" y="648"/>
                      </a:cubicBezTo>
                      <a:cubicBezTo>
                        <a:pt x="416" y="664"/>
                        <a:pt x="632" y="648"/>
                        <a:pt x="768" y="552"/>
                      </a:cubicBezTo>
                      <a:cubicBezTo>
                        <a:pt x="904" y="456"/>
                        <a:pt x="976" y="144"/>
                        <a:pt x="1104" y="72"/>
                      </a:cubicBezTo>
                      <a:cubicBezTo>
                        <a:pt x="1232" y="0"/>
                        <a:pt x="1384" y="60"/>
                        <a:pt x="1536" y="120"/>
                      </a:cubicBezTo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5257800" y="25527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4952880" y="2057400"/>
              <a:ext cx="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477120" y="2057400"/>
            <a:ext cx="2438280" cy="1447920"/>
            <a:chOff x="6477120" y="2057400"/>
            <a:chExt cx="2438280" cy="1447920"/>
          </a:xfrm>
        </p:grpSpPr>
        <p:grpSp>
          <p:nvGrpSpPr>
            <p:cNvPr id="146" name=""/>
            <p:cNvGrpSpPr/>
            <p:nvPr/>
          </p:nvGrpSpPr>
          <p:grpSpPr>
            <a:xfrm>
              <a:off x="6477120" y="2057400"/>
              <a:ext cx="2438280" cy="1447920"/>
              <a:chOff x="6477120" y="2057400"/>
              <a:chExt cx="24382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6477120" y="2057400"/>
                <a:ext cx="1218960" cy="1447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6477120" y="2057400"/>
                <a:ext cx="2438280" cy="1447920"/>
                <a:chOff x="6477120" y="2057400"/>
                <a:chExt cx="2438280" cy="14479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477120" y="2057400"/>
                  <a:ext cx="2438280" cy="14479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77120" y="2590920"/>
                  <a:ext cx="2438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77120" y="2247840"/>
                  <a:ext cx="2438280" cy="1054080"/>
                </a:xfrm>
                <a:custGeom>
                  <a:avLst/>
                  <a:gdLst/>
                  <a:ahLst/>
                  <a:rect l="l" t="t" r="r" b="b"/>
                  <a:pathLst>
                    <a:path w="1536" h="664">
                      <a:moveTo>
                        <a:pt x="0" y="456"/>
                      </a:moveTo>
                      <a:cubicBezTo>
                        <a:pt x="80" y="544"/>
                        <a:pt x="160" y="632"/>
                        <a:pt x="288" y="648"/>
                      </a:cubicBezTo>
                      <a:cubicBezTo>
                        <a:pt x="416" y="664"/>
                        <a:pt x="632" y="648"/>
                        <a:pt x="768" y="552"/>
                      </a:cubicBezTo>
                      <a:cubicBezTo>
                        <a:pt x="904" y="456"/>
                        <a:pt x="976" y="144"/>
                        <a:pt x="1104" y="72"/>
                      </a:cubicBezTo>
                      <a:cubicBezTo>
                        <a:pt x="1232" y="0"/>
                        <a:pt x="1384" y="60"/>
                        <a:pt x="1536" y="120"/>
                      </a:cubicBezTo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8001000" y="25527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7696080" y="2057400"/>
              <a:ext cx="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8305920" y="205740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DF9-ACF4-4750-824B-01ED8ED7FB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xing a Misunderstand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ype of complex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-case, best-case, average-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types of function b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considerations are orthogonal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an do any type of function bound with any type of complex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FCF-6498-49FD-A6CE-CE6531D456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ity analysis overview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"/>
          <p:cNvSpPr/>
          <p:nvPr/>
        </p:nvSpPr>
        <p:spPr>
          <a:xfrm>
            <a:off x="824040" y="2960640"/>
            <a:ext cx="694440" cy="94716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l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480" y="4114800"/>
            <a:ext cx="202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276720"/>
            <a:ext cx="1523880" cy="485640"/>
          </a:xfrm>
          <a:prstGeom prst="rightArrow">
            <a:avLst>
              <a:gd name="adj1" fmla="val 50000"/>
              <a:gd name="adj2" fmla="val 7844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1981080"/>
            <a:ext cx="16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y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895480"/>
            <a:ext cx="16002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95560" y="3181320"/>
            <a:ext cx="1581480" cy="1123920"/>
          </a:xfrm>
          <a:custGeom>
            <a:avLst/>
            <a:gdLst/>
            <a:ahLst/>
            <a:rect l="l" t="t" r="r" b="b"/>
            <a:pathLst>
              <a:path w="996" h="708">
                <a:moveTo>
                  <a:pt x="0" y="708"/>
                </a:moveTo>
                <a:cubicBezTo>
                  <a:pt x="22" y="693"/>
                  <a:pt x="29" y="673"/>
                  <a:pt x="48" y="654"/>
                </a:cubicBezTo>
                <a:cubicBezTo>
                  <a:pt x="56" y="629"/>
                  <a:pt x="82" y="609"/>
                  <a:pt x="108" y="600"/>
                </a:cubicBezTo>
                <a:cubicBezTo>
                  <a:pt x="149" y="605"/>
                  <a:pt x="172" y="614"/>
                  <a:pt x="210" y="606"/>
                </a:cubicBezTo>
                <a:cubicBezTo>
                  <a:pt x="229" y="593"/>
                  <a:pt x="245" y="577"/>
                  <a:pt x="264" y="564"/>
                </a:cubicBezTo>
                <a:cubicBezTo>
                  <a:pt x="273" y="526"/>
                  <a:pt x="265" y="547"/>
                  <a:pt x="294" y="504"/>
                </a:cubicBezTo>
                <a:cubicBezTo>
                  <a:pt x="298" y="498"/>
                  <a:pt x="306" y="486"/>
                  <a:pt x="306" y="486"/>
                </a:cubicBezTo>
                <a:cubicBezTo>
                  <a:pt x="340" y="497"/>
                  <a:pt x="367" y="513"/>
                  <a:pt x="402" y="522"/>
                </a:cubicBezTo>
                <a:cubicBezTo>
                  <a:pt x="408" y="526"/>
                  <a:pt x="413" y="535"/>
                  <a:pt x="420" y="534"/>
                </a:cubicBezTo>
                <a:cubicBezTo>
                  <a:pt x="432" y="532"/>
                  <a:pt x="459" y="489"/>
                  <a:pt x="468" y="480"/>
                </a:cubicBezTo>
                <a:cubicBezTo>
                  <a:pt x="480" y="444"/>
                  <a:pt x="510" y="432"/>
                  <a:pt x="540" y="414"/>
                </a:cubicBezTo>
                <a:cubicBezTo>
                  <a:pt x="552" y="407"/>
                  <a:pt x="564" y="398"/>
                  <a:pt x="576" y="390"/>
                </a:cubicBezTo>
                <a:cubicBezTo>
                  <a:pt x="582" y="386"/>
                  <a:pt x="594" y="378"/>
                  <a:pt x="594" y="378"/>
                </a:cubicBezTo>
                <a:cubicBezTo>
                  <a:pt x="605" y="346"/>
                  <a:pt x="603" y="295"/>
                  <a:pt x="624" y="270"/>
                </a:cubicBezTo>
                <a:cubicBezTo>
                  <a:pt x="637" y="255"/>
                  <a:pt x="678" y="246"/>
                  <a:pt x="678" y="246"/>
                </a:cubicBezTo>
                <a:cubicBezTo>
                  <a:pt x="699" y="225"/>
                  <a:pt x="710" y="223"/>
                  <a:pt x="738" y="216"/>
                </a:cubicBezTo>
                <a:cubicBezTo>
                  <a:pt x="805" y="164"/>
                  <a:pt x="798" y="170"/>
                  <a:pt x="876" y="144"/>
                </a:cubicBezTo>
                <a:cubicBezTo>
                  <a:pt x="885" y="118"/>
                  <a:pt x="896" y="93"/>
                  <a:pt x="918" y="78"/>
                </a:cubicBezTo>
                <a:cubicBezTo>
                  <a:pt x="920" y="72"/>
                  <a:pt x="919" y="64"/>
                  <a:pt x="924" y="60"/>
                </a:cubicBezTo>
                <a:cubicBezTo>
                  <a:pt x="934" y="53"/>
                  <a:pt x="960" y="48"/>
                  <a:pt x="960" y="48"/>
                </a:cubicBezTo>
                <a:cubicBezTo>
                  <a:pt x="987" y="7"/>
                  <a:pt x="974" y="22"/>
                  <a:pt x="996" y="0"/>
                </a:cubicBez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6880" y="4419720"/>
            <a:ext cx="227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map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3526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noFill/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720" y="220968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y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77760" y="3200400"/>
            <a:ext cx="1739520" cy="875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T(n) </a:t>
            </a:r>
            <a:r>
              <a:rPr b="0" lang="en-US" sz="2400" spc="-1" strike="noStrike">
                <a:solidFill>
                  <a:srgbClr val="808000"/>
                </a:solidFill>
                <a:latin typeface="Arial"/>
              </a:rPr>
              <a:t>gro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Arial"/>
              </a:rPr>
              <a:t>like 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nlog</a:t>
            </a:r>
            <a:r>
              <a:rPr b="1" lang="en-US" sz="2400" spc="-1" strike="noStrike" baseline="-25000">
                <a:solidFill>
                  <a:srgbClr val="8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22680" y="4278240"/>
            <a:ext cx="178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9840" y="5627520"/>
            <a:ext cx="851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Usually we represent the function in the middle 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 recurrence relation rather than explici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E7D-AA31-4B89-A053-4E704BA007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do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isons on a list of leng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vot is compared to each other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then two subproblems are of siz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 is equally likely to be any on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00200" y="5410080"/>
          <a:ext cx="5562720" cy="12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410080"/>
                    <a:ext cx="55627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E04-AF75-4D92-BAF4-492B99D9F5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447920"/>
          <a:ext cx="8020080" cy="57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200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62120" y="4572000"/>
            <a:ext cx="784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0B6-67A7-41D9-9909-779D14B3C6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14760" y="3321000"/>
          <a:ext cx="112680" cy="21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268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14760" y="3321000"/>
          <a:ext cx="112680" cy="21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268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520" y="1523880"/>
          <a:ext cx="7772400" cy="493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1523880"/>
                    <a:ext cx="777240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152-674F-45B9-AD5D-50A094DD1D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lgorithm Design Techniques 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overall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olving a problem to a smaller problem or problems of the sam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y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hen one needs to build something a piec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ly mak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ice - the one that looks the best right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losest pair in TSP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st if the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5CB-B274-4539-965B-05DFF25C34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lgorithm Design Techniqu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&amp; Conq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problem to one or more sub-problems of the same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-problem is at most a constant fraction of the size of the origin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Mergesort, Binary Search, Strassen’s Algorithm, Quicksort (kind o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449-8257-4EDC-8A09-A823801A3B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ast exponenti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(a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g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umb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utpu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lti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e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=2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276-4540-4ACC-BE3F-47072570F6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18T00:50:25Z</cp:lastPrinted>
  <dcterms:modified xsi:type="dcterms:W3CDTF">2001-01-18T00:52:02Z</dcterms:modified>
  <cp:revision>53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