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ED1-21CD-4803-AAE5-CEFB5AB3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EC6-CF4D-4F59-A73F-4925AF82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D2D-8DC1-4E51-9197-F3C6D0E6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308-F8E0-41C9-AB2C-894CAD24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EC61-1792-45AD-B0E8-BEDF845B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5D0E-D0F1-4AB7-A302-D343F03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83E-15D0-43D8-BE45-F755B20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BE36-19DE-47D5-B84A-AE9464E5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B1FD-0A04-4708-979F-21AFC9B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F79C-DC3D-4349-BC0C-0E4C25E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BEE2-F5F2-4847-9A1E-C9981195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976-2A0C-456B-9065-B84DC39F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1983-5F2B-4B8E-8213-6587BB9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A075-8904-405B-A177-82DAFA17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5CD8-D9F6-4177-AC23-F7924C6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813-B194-4ADD-87CB-9D3838A7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EBE7-6FD5-4C9B-8600-0AEC44F8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016-E700-4288-AA9E-A60F103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ACB-4B87-4F01-800B-216475A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BD5-962C-4E22-805B-57D32A2D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C1F-2D47-4245-878E-D17B7B9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55D-766C-417B-A339-55B8356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6B5-39AA-4BFF-9162-A33CB9C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839-9E61-45C2-B910-EB55B95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DC0-E200-4B65-A8B6-DF788345B2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3FA-5014-4691-9A7C-D849FE3B28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E2D4-2F9E-4FFD-8CD5-E374B6EA0F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ving Mast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5" name=""/>
          <p:cNvSpPr/>
          <p:nvPr/>
        </p:nvSpPr>
        <p:spPr>
          <a:xfrm>
            <a:off x="2603160" y="167652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aT(n/b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228600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sp>
          <p:nvSpPr>
            <p:cNvPr id="188" name=""/>
            <p:cNvSpPr/>
            <p:nvPr/>
          </p:nvSpPr>
          <p:spPr>
            <a:xfrm>
              <a:off x="3505320" y="31240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580920" y="24382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24382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29000" y="25146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881440" y="220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04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895480" y="3352680"/>
            <a:ext cx="1447920" cy="762120"/>
            <a:chOff x="2895480" y="3352680"/>
            <a:chExt cx="1447920" cy="762120"/>
          </a:xfrm>
        </p:grpSpPr>
        <p:sp>
          <p:nvSpPr>
            <p:cNvPr id="198" name=""/>
            <p:cNvSpPr/>
            <p:nvPr/>
          </p:nvSpPr>
          <p:spPr>
            <a:xfrm>
              <a:off x="297180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70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496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04740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496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5760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9548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382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142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43400" y="3352680"/>
            <a:ext cx="1447920" cy="762120"/>
            <a:chOff x="4343400" y="3352680"/>
            <a:chExt cx="1447920" cy="762120"/>
          </a:xfrm>
        </p:grpSpPr>
        <p:sp>
          <p:nvSpPr>
            <p:cNvPr id="210" name=""/>
            <p:cNvSpPr/>
            <p:nvPr/>
          </p:nvSpPr>
          <p:spPr>
            <a:xfrm>
              <a:off x="441972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500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28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49532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0552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340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956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495288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5716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28800" y="5257800"/>
            <a:ext cx="1447920" cy="762120"/>
            <a:chOff x="1828800" y="5257800"/>
            <a:chExt cx="1447920" cy="762120"/>
          </a:xfrm>
        </p:grpSpPr>
        <p:sp>
          <p:nvSpPr>
            <p:cNvPr id="224" name=""/>
            <p:cNvSpPr/>
            <p:nvPr/>
          </p:nvSpPr>
          <p:spPr>
            <a:xfrm>
              <a:off x="190512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040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8072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3828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495680" y="5257800"/>
            <a:ext cx="1447920" cy="762120"/>
            <a:chOff x="4495680" y="5257800"/>
            <a:chExt cx="1447920" cy="762120"/>
          </a:xfrm>
        </p:grpSpPr>
        <p:sp>
          <p:nvSpPr>
            <p:cNvPr id="232" name=""/>
            <p:cNvSpPr/>
            <p:nvPr/>
          </p:nvSpPr>
          <p:spPr>
            <a:xfrm>
              <a:off x="457200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67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516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4760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16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5780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38960" y="151596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3400" y="28954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480" y="373392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304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2680" y="56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76920" y="1714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#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84440" y="38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4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40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84440" y="571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63400" y="6087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3FE-0896-4E96-AFB4-CAACB8BFA2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ving Mast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1" name=""/>
          <p:cNvSpPr/>
          <p:nvPr/>
        </p:nvSpPr>
        <p:spPr>
          <a:xfrm>
            <a:off x="2603160" y="167652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aT(n/b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228600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sp>
          <p:nvSpPr>
            <p:cNvPr id="254" name=""/>
            <p:cNvSpPr/>
            <p:nvPr/>
          </p:nvSpPr>
          <p:spPr>
            <a:xfrm>
              <a:off x="3505320" y="31240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3848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580920" y="24382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84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1120" y="24382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25146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881440" y="220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304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95480" y="3352680"/>
            <a:ext cx="1447920" cy="762120"/>
            <a:chOff x="2895480" y="3352680"/>
            <a:chExt cx="1447920" cy="762120"/>
          </a:xfrm>
        </p:grpSpPr>
        <p:sp>
          <p:nvSpPr>
            <p:cNvPr id="264" name=""/>
            <p:cNvSpPr/>
            <p:nvPr/>
          </p:nvSpPr>
          <p:spPr>
            <a:xfrm>
              <a:off x="297180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670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496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04740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496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760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9548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4382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5142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343400" y="3352680"/>
            <a:ext cx="1447920" cy="762120"/>
            <a:chOff x="4343400" y="3352680"/>
            <a:chExt cx="1447920" cy="762120"/>
          </a:xfrm>
        </p:grpSpPr>
        <p:sp>
          <p:nvSpPr>
            <p:cNvPr id="276" name=""/>
            <p:cNvSpPr/>
            <p:nvPr/>
          </p:nvSpPr>
          <p:spPr>
            <a:xfrm>
              <a:off x="441972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1500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49532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28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4340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4956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95288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716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828800" y="5257800"/>
            <a:ext cx="1447920" cy="762120"/>
            <a:chOff x="1828800" y="5257800"/>
            <a:chExt cx="1447920" cy="762120"/>
          </a:xfrm>
        </p:grpSpPr>
        <p:sp>
          <p:nvSpPr>
            <p:cNvPr id="290" name=""/>
            <p:cNvSpPr/>
            <p:nvPr/>
          </p:nvSpPr>
          <p:spPr>
            <a:xfrm>
              <a:off x="190512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38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8072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9092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2880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495680" y="5257800"/>
            <a:ext cx="1447920" cy="762120"/>
            <a:chOff x="4495680" y="5257800"/>
            <a:chExt cx="1447920" cy="762120"/>
          </a:xfrm>
        </p:grpSpPr>
        <p:sp>
          <p:nvSpPr>
            <p:cNvPr id="298" name=""/>
            <p:cNvSpPr/>
            <p:nvPr/>
          </p:nvSpPr>
          <p:spPr>
            <a:xfrm>
              <a:off x="457200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0516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64760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16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780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9568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38960" y="151596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3400" y="28954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480" y="373392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304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680" y="56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173600">
            <a:off x="792360" y="3321360"/>
            <a:ext cx="165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=log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4572000"/>
            <a:ext cx="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600200" y="2057400"/>
            <a:ext cx="0" cy="8380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6920" y="1714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#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84440" y="38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4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740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84440" y="571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63400" y="6087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873-D989-41DB-9740-C902384AFB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ving Mast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0" name=""/>
          <p:cNvSpPr/>
          <p:nvPr/>
        </p:nvSpPr>
        <p:spPr>
          <a:xfrm>
            <a:off x="2603160" y="167652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aT(n/b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228600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sp>
          <p:nvSpPr>
            <p:cNvPr id="323" name=""/>
            <p:cNvSpPr/>
            <p:nvPr/>
          </p:nvSpPr>
          <p:spPr>
            <a:xfrm>
              <a:off x="3505320" y="31240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580920" y="24382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1120" y="24382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000" y="25146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881440" y="220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304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95480" y="3352680"/>
            <a:ext cx="1447920" cy="762120"/>
            <a:chOff x="2895480" y="3352680"/>
            <a:chExt cx="1447920" cy="762120"/>
          </a:xfrm>
        </p:grpSpPr>
        <p:sp>
          <p:nvSpPr>
            <p:cNvPr id="333" name=""/>
            <p:cNvSpPr/>
            <p:nvPr/>
          </p:nvSpPr>
          <p:spPr>
            <a:xfrm>
              <a:off x="297180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496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04740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0496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760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4382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5142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343400" y="3352680"/>
            <a:ext cx="1447920" cy="762120"/>
            <a:chOff x="4343400" y="3352680"/>
            <a:chExt cx="1447920" cy="762120"/>
          </a:xfrm>
        </p:grpSpPr>
        <p:sp>
          <p:nvSpPr>
            <p:cNvPr id="345" name=""/>
            <p:cNvSpPr/>
            <p:nvPr/>
          </p:nvSpPr>
          <p:spPr>
            <a:xfrm>
              <a:off x="441972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1500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528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49532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528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552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4340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4956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495288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5716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828800" y="5257800"/>
            <a:ext cx="1447920" cy="762120"/>
            <a:chOff x="1828800" y="5257800"/>
            <a:chExt cx="1447920" cy="762120"/>
          </a:xfrm>
        </p:grpSpPr>
        <p:sp>
          <p:nvSpPr>
            <p:cNvPr id="359" name=""/>
            <p:cNvSpPr/>
            <p:nvPr/>
          </p:nvSpPr>
          <p:spPr>
            <a:xfrm>
              <a:off x="190512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040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38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98072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092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2880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495680" y="5257800"/>
            <a:ext cx="1447920" cy="762120"/>
            <a:chOff x="4495680" y="5257800"/>
            <a:chExt cx="1447920" cy="762120"/>
          </a:xfrm>
        </p:grpSpPr>
        <p:sp>
          <p:nvSpPr>
            <p:cNvPr id="367" name=""/>
            <p:cNvSpPr/>
            <p:nvPr/>
          </p:nvSpPr>
          <p:spPr>
            <a:xfrm>
              <a:off x="457200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67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0516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64760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0516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5780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9568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38960" y="151596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3400" y="28954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3480" y="373392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304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2680" y="56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173600">
            <a:off x="792360" y="3321360"/>
            <a:ext cx="165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=log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572000"/>
            <a:ext cx="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600200" y="2057400"/>
            <a:ext cx="0" cy="8380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6920" y="1714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#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84440" y="38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4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40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84440" y="571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05000" y="16686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0320" y="2125800"/>
            <a:ext cx="6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63400" y="6087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2640" y="2963880"/>
            <a:ext cx="12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82680" y="3809880"/>
            <a:ext cx="14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295400" y="426708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02760" y="5486400"/>
            <a:ext cx="16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2360" y="594360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894-4766-484E-91B5-C07AAAE2DC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tal Cos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/b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+1=log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 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erm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last term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all terms are equ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n)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, first term is larges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T(n) is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, last term is larges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n) is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        ) =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n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 see this take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both s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5334120"/>
            <a:ext cx="94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6280" y="5334120"/>
            <a:ext cx="91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B7D-2B33-4DDD-B5DA-017633D5F6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sort(X,left,right)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&lt; right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split=Partition(X,left,right)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Quicksort(X,left,split-1)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Quicksort(X,split+1,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F99-1FAF-4CB0-AA40-842DBB7795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artition - two finger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X,left,right)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random element to b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it out of the array, say at left e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wo fingers starting at each end of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them towards each other until you ge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of elements where right finger 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er element and left finger ha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r one (when compared to pivo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 them and repeat until fingers meet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pivot element where they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8F7-B809-4167-8E6C-BE3D43915C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artition - two finger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X,left,right)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 X[left],X[random(left,right)]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[left];  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ft;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L&lt;R do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X[L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&amp; 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) do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+1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X[R] &gt; pivot &amp;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ft) do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-1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&gt;R then swap X[L],X[R]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 X[left],X[R]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R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22A-FC57-4913-BC66-D33918746A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 practi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hoose pivot in fixed way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lement for small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of 1st, middle, and last for larger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of 3 medians of 3 (9 elements in all) for largest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finger algorithm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maintain two groups at each end of elements equal to the piv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 them all into middle at the end of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elements are bad cases for two fi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67E-2CEF-493D-9412-07B376959A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d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s on a list of leng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is compared to each othe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then two subproblems are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is equally likely to be any on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600200" y="5410080"/>
                <a:ext cx="5562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530-C701-4102-B737-7E4B5DFC94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5800" y="1447920"/>
                <a:ext cx="8020080" cy="57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-1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T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T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n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n</m:t>
                        </m:r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2120" y="4572000"/>
            <a:ext cx="784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A77-7EF3-49C5-B91B-E1A84081F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aster Divide and Conqu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(n)=aT(n/b)+c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&gt;b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g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l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=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even if it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/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n/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19720" y="2438280"/>
                <a:ext cx="15112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DE8-8F77-4D25-8807-ECA62048BB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33520" y="1523880"/>
                <a:ext cx="7772400" cy="493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call that  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/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dx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∴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n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A6B-1556-4628-B352-85320D03BB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ltiplications, 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0" y="342900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27A-2E0B-4379-A1C6-6F7AF90DFC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5520" y="350532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0880" y="3581280"/>
            <a:ext cx="129564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581280"/>
            <a:ext cx="129528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99072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828800"/>
            <a:ext cx="99036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96D-F595-4A0F-BC44-AFF7352E8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5520" y="350532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28800" y="3581280"/>
            <a:ext cx="129528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581280"/>
            <a:ext cx="129528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828800"/>
            <a:ext cx="99072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590920"/>
            <a:ext cx="99036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DE0-0F72-4818-A706-AF1E393EDD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342900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7652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59092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90920"/>
            <a:ext cx="1904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58128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267080"/>
            <a:ext cx="853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27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12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528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7800" y="27432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556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47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3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2666880"/>
            <a:ext cx="71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380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5280" y="441972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1880" y="434340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00C-EBC2-4FE6-AD05-34A5F8FE45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=8T(n/2)+4(n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8T(n/2)+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(n)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67652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59092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2590920"/>
            <a:ext cx="1904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58128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267080"/>
            <a:ext cx="5333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27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112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1140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27800" y="27432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556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47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3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666880"/>
            <a:ext cx="71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380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7360" y="441972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91880" y="434340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90512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5812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90512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2640" y="3878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19051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58128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82880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33920" y="5943600"/>
                <a:ext cx="4611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D5A-6EBF-46A9-8A02-E044CAA1BF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assen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ssen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rices using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lications (and lots more than 4 add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7 T(n/2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o T(n)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      ) which i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.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st algorithms theoretically use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.3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ractical but Strassen’s is practical provided calculations are exact and we stop recursion when matrix has size about 100 (maybe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6720" y="4191120"/>
            <a:ext cx="7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90F-12C5-4658-AE2C-59CD72F16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677-39C0-4D92-B38C-7DA5C2C4A7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12T17:23:50Z</cp:lastPrinted>
  <dcterms:modified xsi:type="dcterms:W3CDTF">2001-01-12T20:40:27Z</dcterms:modified>
  <cp:revision>48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