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E2A5-99ED-4E6C-8D54-980F0B35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FE20-2E9B-41EC-8028-A2124765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7507-6F31-4CEF-A33E-C5A30803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A535-C920-4C0C-AF2A-CC0DF734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E176-321E-4ABC-B5A8-89874DC1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1E70-0385-4035-978C-09CB81D4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0B07-6F7B-4E9B-B0F0-87F83C48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0787-D0CB-4B7E-BEAA-43D06BBD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92F3-5C2F-48EA-9B80-884C2F65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D45B-DD5C-4F37-8B50-846A3C33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6CB6-5BBB-411D-B16B-EF88EA81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BB85-EAAB-4AB6-B575-93E9F0FA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406B-A950-4A0B-90A4-2D24562A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F1E1-656A-48C1-B2BD-736AEB53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7651-A069-4ADF-8999-03324F00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3943-4B54-4B96-AF3F-5DCA0706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6221-AC44-49A5-A569-EA2194A0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FDB5-CF05-43CA-A5ED-91AA61FF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97B2-8987-411A-B21C-25A355F5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E0FA-63A2-46AF-93EC-C6A3613B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8E3-556C-4886-9F1A-F3792149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529E-1899-4E60-8F69-001FF9A9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03FB-EED3-47A0-9B8B-124D6254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7A01-F7E2-4EF1-BC17-C15520F5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8CFC-BB3C-4B13-A619-D39F480094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5E56-EC7B-4851-8374-8951F998E5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: Gidon Shav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099C-CEEF-4888-9B12-2646403B99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oving Master recurrenc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5" name=""/>
          <p:cNvSpPr/>
          <p:nvPr/>
        </p:nvSpPr>
        <p:spPr>
          <a:xfrm>
            <a:off x="2603160" y="1676520"/>
            <a:ext cx="28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=aT(n/b)+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2286000"/>
            <a:ext cx="7596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429000" y="2438280"/>
            <a:ext cx="1447920" cy="762120"/>
            <a:chOff x="3429000" y="2438280"/>
            <a:chExt cx="1447920" cy="762120"/>
          </a:xfrm>
        </p:grpSpPr>
        <p:sp>
          <p:nvSpPr>
            <p:cNvPr id="188" name=""/>
            <p:cNvSpPr/>
            <p:nvPr/>
          </p:nvSpPr>
          <p:spPr>
            <a:xfrm>
              <a:off x="3505320" y="312408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00600" y="31240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38480" y="31240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580920" y="243828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38480" y="25146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91120" y="243828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29000" y="251460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881440" y="2201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3040" y="1981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895480" y="3352680"/>
            <a:ext cx="1447920" cy="762120"/>
            <a:chOff x="2895480" y="3352680"/>
            <a:chExt cx="1447920" cy="762120"/>
          </a:xfrm>
        </p:grpSpPr>
        <p:sp>
          <p:nvSpPr>
            <p:cNvPr id="198" name=""/>
            <p:cNvSpPr/>
            <p:nvPr/>
          </p:nvSpPr>
          <p:spPr>
            <a:xfrm>
              <a:off x="2971800" y="403848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67080" y="40384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04960" y="40384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047400" y="335268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4960" y="3429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57600" y="335268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95480" y="342900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38280" y="4952880"/>
            <a:ext cx="7632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514240" y="4267080"/>
            <a:ext cx="30492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43434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4267080"/>
            <a:ext cx="53352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343400" y="3352680"/>
            <a:ext cx="1447920" cy="762120"/>
            <a:chOff x="4343400" y="3352680"/>
            <a:chExt cx="1447920" cy="762120"/>
          </a:xfrm>
        </p:grpSpPr>
        <p:sp>
          <p:nvSpPr>
            <p:cNvPr id="210" name=""/>
            <p:cNvSpPr/>
            <p:nvPr/>
          </p:nvSpPr>
          <p:spPr>
            <a:xfrm>
              <a:off x="4419720" y="403848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15000" y="40384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2880" y="40384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495320" y="335268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52880" y="3429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05520" y="335268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43400" y="342900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495680" y="4952880"/>
            <a:ext cx="7632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91320" y="4952880"/>
            <a:ext cx="7596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4952880"/>
            <a:ext cx="7632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571640" y="4267080"/>
            <a:ext cx="30492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43434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81480" y="4267080"/>
            <a:ext cx="53352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828800" y="5257800"/>
            <a:ext cx="1447920" cy="762120"/>
            <a:chOff x="1828800" y="5257800"/>
            <a:chExt cx="1447920" cy="762120"/>
          </a:xfrm>
        </p:grpSpPr>
        <p:sp>
          <p:nvSpPr>
            <p:cNvPr id="224" name=""/>
            <p:cNvSpPr/>
            <p:nvPr/>
          </p:nvSpPr>
          <p:spPr>
            <a:xfrm>
              <a:off x="1905120" y="594360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00400" y="594360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38280" y="594360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980720" y="525780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38280" y="533412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90920" y="525780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28800" y="533412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495680" y="5257800"/>
            <a:ext cx="1447920" cy="762120"/>
            <a:chOff x="4495680" y="5257800"/>
            <a:chExt cx="1447920" cy="762120"/>
          </a:xfrm>
        </p:grpSpPr>
        <p:sp>
          <p:nvSpPr>
            <p:cNvPr id="232" name=""/>
            <p:cNvSpPr/>
            <p:nvPr/>
          </p:nvSpPr>
          <p:spPr>
            <a:xfrm>
              <a:off x="4572000" y="594360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67280" y="594360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05160" y="594360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647600" y="525780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05160" y="533412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57800" y="525780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95680" y="533412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38960" y="151596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blem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3400" y="289548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/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3480" y="373392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/b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3040" y="4648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2680" y="5638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76920" y="17146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# pr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84440" y="380988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3366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7400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4000" y="220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84440" y="57150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3366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63400" y="608796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1)=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980D-4C66-40AC-A7EB-E657761D92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oving Master recurrenc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1" name=""/>
          <p:cNvSpPr/>
          <p:nvPr/>
        </p:nvSpPr>
        <p:spPr>
          <a:xfrm>
            <a:off x="2603160" y="1676520"/>
            <a:ext cx="28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=aT(n/b)+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2286000"/>
            <a:ext cx="7596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429000" y="2438280"/>
            <a:ext cx="1447920" cy="762120"/>
            <a:chOff x="3429000" y="2438280"/>
            <a:chExt cx="1447920" cy="762120"/>
          </a:xfrm>
        </p:grpSpPr>
        <p:sp>
          <p:nvSpPr>
            <p:cNvPr id="254" name=""/>
            <p:cNvSpPr/>
            <p:nvPr/>
          </p:nvSpPr>
          <p:spPr>
            <a:xfrm>
              <a:off x="3505320" y="312408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00600" y="31240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38480" y="31240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580920" y="243828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8480" y="25146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91120" y="243828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29000" y="251460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881440" y="2201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3040" y="1981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95480" y="3352680"/>
            <a:ext cx="1447920" cy="762120"/>
            <a:chOff x="2895480" y="3352680"/>
            <a:chExt cx="1447920" cy="762120"/>
          </a:xfrm>
        </p:grpSpPr>
        <p:sp>
          <p:nvSpPr>
            <p:cNvPr id="264" name=""/>
            <p:cNvSpPr/>
            <p:nvPr/>
          </p:nvSpPr>
          <p:spPr>
            <a:xfrm>
              <a:off x="2971800" y="403848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67080" y="40384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04960" y="40384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047400" y="335268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04960" y="3429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57600" y="335268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95480" y="342900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438280" y="4952880"/>
            <a:ext cx="7632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514240" y="4267080"/>
            <a:ext cx="30492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43434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4267080"/>
            <a:ext cx="53352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343400" y="3352680"/>
            <a:ext cx="1447920" cy="762120"/>
            <a:chOff x="4343400" y="3352680"/>
            <a:chExt cx="1447920" cy="762120"/>
          </a:xfrm>
        </p:grpSpPr>
        <p:sp>
          <p:nvSpPr>
            <p:cNvPr id="276" name=""/>
            <p:cNvSpPr/>
            <p:nvPr/>
          </p:nvSpPr>
          <p:spPr>
            <a:xfrm>
              <a:off x="4419720" y="403848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15000" y="40384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40384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495320" y="335268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52880" y="3429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05520" y="335268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43400" y="342900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495680" y="4952880"/>
            <a:ext cx="7632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952880"/>
            <a:ext cx="7596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29200" y="4952880"/>
            <a:ext cx="7632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571640" y="4267080"/>
            <a:ext cx="30492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43434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4267080"/>
            <a:ext cx="53352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828800" y="5257800"/>
            <a:ext cx="1447920" cy="762120"/>
            <a:chOff x="1828800" y="5257800"/>
            <a:chExt cx="1447920" cy="762120"/>
          </a:xfrm>
        </p:grpSpPr>
        <p:sp>
          <p:nvSpPr>
            <p:cNvPr id="290" name=""/>
            <p:cNvSpPr/>
            <p:nvPr/>
          </p:nvSpPr>
          <p:spPr>
            <a:xfrm>
              <a:off x="1905120" y="594360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0400" y="594360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38280" y="594360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980720" y="525780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533412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90920" y="525780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828800" y="533412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495680" y="5257800"/>
            <a:ext cx="1447920" cy="762120"/>
            <a:chOff x="4495680" y="5257800"/>
            <a:chExt cx="1447920" cy="762120"/>
          </a:xfrm>
        </p:grpSpPr>
        <p:sp>
          <p:nvSpPr>
            <p:cNvPr id="298" name=""/>
            <p:cNvSpPr/>
            <p:nvPr/>
          </p:nvSpPr>
          <p:spPr>
            <a:xfrm>
              <a:off x="4572000" y="594360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67280" y="594360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05160" y="594360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4647600" y="525780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05160" y="533412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57800" y="525780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95680" y="533412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38960" y="151596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blem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3400" y="289548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/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3480" y="373392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/b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3040" y="4648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2680" y="5638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6173600">
            <a:off x="792360" y="3321360"/>
            <a:ext cx="1654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=log</a:t>
            </a:r>
            <a:r>
              <a:rPr b="1" lang="en-US" sz="32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00200" y="4572000"/>
            <a:ext cx="0" cy="1447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600200" y="2057400"/>
            <a:ext cx="0" cy="8380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76920" y="17146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# pr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84440" y="380988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3366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7400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74000" y="220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84440" y="57150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3366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63400" y="608796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1)=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DD33-4165-4332-8344-3511044189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oving Master recurrenc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0" name=""/>
          <p:cNvSpPr/>
          <p:nvPr/>
        </p:nvSpPr>
        <p:spPr>
          <a:xfrm>
            <a:off x="2603160" y="1676520"/>
            <a:ext cx="28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=aT(n/b)+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62520" y="2286000"/>
            <a:ext cx="7596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429000" y="2438280"/>
            <a:ext cx="1447920" cy="762120"/>
            <a:chOff x="3429000" y="2438280"/>
            <a:chExt cx="1447920" cy="762120"/>
          </a:xfrm>
        </p:grpSpPr>
        <p:sp>
          <p:nvSpPr>
            <p:cNvPr id="323" name=""/>
            <p:cNvSpPr/>
            <p:nvPr/>
          </p:nvSpPr>
          <p:spPr>
            <a:xfrm>
              <a:off x="3505320" y="312408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00600" y="31240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38480" y="31240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580920" y="243828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8480" y="25146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91120" y="243828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29000" y="251460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2881440" y="2201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3040" y="1981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895480" y="3352680"/>
            <a:ext cx="1447920" cy="762120"/>
            <a:chOff x="2895480" y="3352680"/>
            <a:chExt cx="1447920" cy="762120"/>
          </a:xfrm>
        </p:grpSpPr>
        <p:sp>
          <p:nvSpPr>
            <p:cNvPr id="333" name=""/>
            <p:cNvSpPr/>
            <p:nvPr/>
          </p:nvSpPr>
          <p:spPr>
            <a:xfrm>
              <a:off x="2971800" y="403848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67080" y="40384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04960" y="40384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3047400" y="335268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04960" y="3429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57600" y="335268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95480" y="342900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438280" y="4952880"/>
            <a:ext cx="7632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514240" y="4267080"/>
            <a:ext cx="30492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71800" y="43434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4267080"/>
            <a:ext cx="53352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343400" y="3352680"/>
            <a:ext cx="1447920" cy="762120"/>
            <a:chOff x="4343400" y="3352680"/>
            <a:chExt cx="1447920" cy="762120"/>
          </a:xfrm>
        </p:grpSpPr>
        <p:sp>
          <p:nvSpPr>
            <p:cNvPr id="345" name=""/>
            <p:cNvSpPr/>
            <p:nvPr/>
          </p:nvSpPr>
          <p:spPr>
            <a:xfrm>
              <a:off x="4419720" y="403848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15000" y="40384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952880" y="403848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4495320" y="335268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952880" y="34290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05520" y="335268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343400" y="342900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4495680" y="4952880"/>
            <a:ext cx="7632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4952880"/>
            <a:ext cx="7596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9200" y="4952880"/>
            <a:ext cx="76320" cy="76320"/>
          </a:xfrm>
          <a:prstGeom prst="flowChartConnector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4571640" y="4267080"/>
            <a:ext cx="30492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29200" y="43434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81480" y="4267080"/>
            <a:ext cx="533520" cy="6098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828800" y="5257800"/>
            <a:ext cx="1447920" cy="762120"/>
            <a:chOff x="1828800" y="5257800"/>
            <a:chExt cx="1447920" cy="762120"/>
          </a:xfrm>
        </p:grpSpPr>
        <p:sp>
          <p:nvSpPr>
            <p:cNvPr id="359" name=""/>
            <p:cNvSpPr/>
            <p:nvPr/>
          </p:nvSpPr>
          <p:spPr>
            <a:xfrm>
              <a:off x="1905120" y="594360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00400" y="594360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438280" y="594360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1980720" y="525780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38280" y="533412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90920" y="525780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28800" y="533412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495680" y="5257800"/>
            <a:ext cx="1447920" cy="762120"/>
            <a:chOff x="4495680" y="5257800"/>
            <a:chExt cx="1447920" cy="762120"/>
          </a:xfrm>
        </p:grpSpPr>
        <p:sp>
          <p:nvSpPr>
            <p:cNvPr id="367" name=""/>
            <p:cNvSpPr/>
            <p:nvPr/>
          </p:nvSpPr>
          <p:spPr>
            <a:xfrm>
              <a:off x="4572000" y="5943600"/>
              <a:ext cx="7596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67280" y="594360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105160" y="5943600"/>
              <a:ext cx="76320" cy="76320"/>
            </a:xfrm>
            <a:prstGeom prst="flowChartConnector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647600" y="5257800"/>
              <a:ext cx="30492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05160" y="533412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57800" y="5257800"/>
              <a:ext cx="533160" cy="6098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95680" y="533412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0"/>
                  </a:moveTo>
                  <a:cubicBezTo>
                    <a:pt x="108" y="72"/>
                    <a:pt x="216" y="144"/>
                    <a:pt x="336" y="144"/>
                  </a:cubicBezTo>
                  <a:cubicBezTo>
                    <a:pt x="456" y="144"/>
                    <a:pt x="656" y="24"/>
                    <a:pt x="720" y="0"/>
                  </a:cubicBezTo>
                </a:path>
              </a:pathLst>
            </a:custGeom>
            <a:noFill/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38960" y="151596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blem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3400" y="289548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/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3480" y="373392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/b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3040" y="4648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2680" y="5638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6173600">
            <a:off x="792360" y="3321360"/>
            <a:ext cx="1654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=log</a:t>
            </a:r>
            <a:r>
              <a:rPr b="1" lang="en-US" sz="32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00200" y="4572000"/>
            <a:ext cx="0" cy="1447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600200" y="2057400"/>
            <a:ext cx="0" cy="8380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76920" y="17146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# pr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84440" y="380988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3366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400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74000" y="220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84440" y="57150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3366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05000" y="166860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0320" y="2125800"/>
            <a:ext cx="6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63400" y="608796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1)=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22640" y="2963880"/>
            <a:ext cx="12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82680" y="3809880"/>
            <a:ext cx="148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295400" y="4267080"/>
            <a:ext cx="18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/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02760" y="5486400"/>
            <a:ext cx="16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/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32360" y="594360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5C48-59D8-4FD4-AAF5-058BE787EA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otal Cos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etric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a/b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+1=log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n 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erm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n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last term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ca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/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, all terms are equa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(n)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log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/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, first term is larges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T(n) is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/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1, last term is larges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(n) is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=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a        ) =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n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o see this take</a:t>
            </a: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log</a:t>
            </a:r>
            <a:r>
              <a:rPr b="0" lang="en-US" sz="2000" spc="-1" strike="noStrike" baseline="-25000">
                <a:solidFill>
                  <a:srgbClr val="0099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both si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14800" y="5334120"/>
            <a:ext cx="94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76280" y="5334120"/>
            <a:ext cx="91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g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7BAA-E107-4B6C-941C-CE52EC8F3F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Quicksor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sort(X,left,right)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ft &lt; right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split=Partition(X,left,right)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Quicksort(X,left,split-1)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Quicksort(X,split+1,r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516-F3ED-4EDF-A032-775CC959A4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artition - two finger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tion(X,left,right)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random element to be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v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l it out of the array, say at left e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two fingers starting at each end of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r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 them towards each other until you get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 of elements where right finger h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maller element and left finger ha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ger one (when compared to pivo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p them and repeat until fingers meet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 pivot element where they 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71B-26D1-4726-9CF5-BE6C95FF36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artition - two finger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tion(X,left,right)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p X[left],X[random(left,right)]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vo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[left];  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ft; 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L&lt;R do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X[L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vot &amp; 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ght) do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+1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X[R] &gt; pivot &amp; 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ft) do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-1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&gt;R then swap X[L],X[R]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p X[left],X[R]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R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3E8-62F5-4D38-A3D3-03D05C8EDD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In practic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choose pivot in fixed way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element for small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of 1st, middle, and last for larger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of 3 medians of 3 (9 elements in all) for largest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finger algorithm is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maintain two groups at each end of elements equal to the piv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ap them all into middle at the end of Par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elements are bad cases for two fin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7E99-00F7-4AEA-83AC-E277DC7457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Quicksort Analysi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 do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arisons on a list of leng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vot is compared to each other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v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st then two subproblems are of siz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vot is equally likely to be any one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1600200" y="5410080"/>
                <a:ext cx="55627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EA35-11B1-4639-88A9-1D38406A7C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Quicksort analysi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685800" y="1447920"/>
                <a:ext cx="8020080" cy="57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-1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 T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T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T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 T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 T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 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 T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 T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 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-n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 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n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n</m:t>
                        </m:r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n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762120" y="4572000"/>
            <a:ext cx="7848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F9FC-CE8E-45F8-955E-411BA4D9C0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aster Divide and Conquer Recurrenc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(n)=aT(n/b)+c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n&gt;b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 a&gt;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T(n)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 a&lt;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T(n) is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=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T(n)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g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even if it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/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ead of n/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419720" y="2438280"/>
                <a:ext cx="151128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a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E7EE-F721-429C-9D78-654A7FC9FC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Quicksort analysi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533520" y="1523880"/>
                <a:ext cx="7772400" cy="493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Q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n</m:t>
                        </m:r>
                      </m:e>
                      <m:e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call that  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1/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dx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∴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n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EDF1-B44B-4059-99CB-CDA54591F3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ultiplying Matric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ltiplications, 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09480" y="1752480"/>
                <a:ext cx="449604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667400" y="3473280"/>
                <a:ext cx="11268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819680" y="362592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971960" y="37782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0" y="3429000"/>
                <a:ext cx="89884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E64-60F9-4F84-97EF-6617C50B6E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ultiplying Matric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09480" y="1752480"/>
                <a:ext cx="449604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667400" y="3473280"/>
                <a:ext cx="11268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819680" y="362592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971960" y="37782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5520" y="3505320"/>
                <a:ext cx="89884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380880" y="3581280"/>
            <a:ext cx="1295640" cy="68580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3581280"/>
            <a:ext cx="1295280" cy="68580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828800"/>
            <a:ext cx="990720" cy="68580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1828800"/>
            <a:ext cx="990360" cy="68580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E729-1231-48F9-AF22-98BFE4D86A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ultiplying Matric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09480" y="1752480"/>
                <a:ext cx="449604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67400" y="3473280"/>
                <a:ext cx="11268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819680" y="362592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971960" y="37782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55520" y="3505320"/>
                <a:ext cx="89884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828800" y="3581280"/>
            <a:ext cx="1295280" cy="68580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581280"/>
            <a:ext cx="1295280" cy="68580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1828800"/>
            <a:ext cx="990720" cy="68580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2590920"/>
            <a:ext cx="990360" cy="68580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16D-74BF-4137-8FF2-3B4E772AEA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ultiplying Matric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9480" y="1752480"/>
                <a:ext cx="449604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667400" y="3473280"/>
                <a:ext cx="11268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819680" y="362592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71960" y="37782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0" y="3429000"/>
                <a:ext cx="89884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∘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1676520" y="1828800"/>
            <a:ext cx="0" cy="144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2590920"/>
            <a:ext cx="2057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1828800"/>
            <a:ext cx="0" cy="144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2590920"/>
            <a:ext cx="19047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3581280"/>
            <a:ext cx="0" cy="1371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4267080"/>
            <a:ext cx="85341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1120" y="190512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27800" y="190512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61120" y="266688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35280" y="3581280"/>
            <a:ext cx="232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1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+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27800" y="274320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15560" y="3581280"/>
            <a:ext cx="232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1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1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+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47120" y="190512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3800" y="190512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2666880"/>
            <a:ext cx="71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13800" y="266688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35280" y="4419720"/>
            <a:ext cx="232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+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91880" y="4343400"/>
            <a:ext cx="232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1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+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721D-91AD-4C0E-9108-776F2D883F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ultiplying Matric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(n)=8T(n/2)+4(n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8T(n/2)+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&gt;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T(n)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667400" y="3473280"/>
                <a:ext cx="11268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819680" y="362592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971960" y="37782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676520" y="1828800"/>
            <a:ext cx="0" cy="144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590920"/>
            <a:ext cx="2057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1828800"/>
            <a:ext cx="0" cy="1447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2590920"/>
            <a:ext cx="19047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3581280"/>
            <a:ext cx="0" cy="1371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4267080"/>
            <a:ext cx="53337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61120" y="190512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27800" y="190512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1120" y="266688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11400" y="3581280"/>
            <a:ext cx="232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1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+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27800" y="274320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5560" y="3581280"/>
            <a:ext cx="232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1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1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+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47120" y="190512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13800" y="190512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2666880"/>
            <a:ext cx="71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13800" y="266688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87360" y="4419720"/>
            <a:ext cx="232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+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91880" y="4343400"/>
            <a:ext cx="232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11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+A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905120"/>
            <a:ext cx="76320" cy="1371600"/>
          </a:xfrm>
          <a:custGeom>
            <a:avLst/>
            <a:gdLst>
              <a:gd name="textAreaLeft" fmla="*/ 22320 w 76320"/>
              <a:gd name="textAreaRight" fmla="*/ 7632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3581280"/>
            <a:ext cx="76320" cy="1371600"/>
          </a:xfrm>
          <a:custGeom>
            <a:avLst/>
            <a:gdLst>
              <a:gd name="textAreaLeft" fmla="*/ 22320 w 76320"/>
              <a:gd name="textAreaRight" fmla="*/ 7632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905120"/>
            <a:ext cx="76320" cy="1371600"/>
          </a:xfrm>
          <a:custGeom>
            <a:avLst/>
            <a:gdLst>
              <a:gd name="textAreaLeft" fmla="*/ 22320 w 76320"/>
              <a:gd name="textAreaRight" fmla="*/ 7632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2640" y="3878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1905120"/>
            <a:ext cx="152640" cy="1371600"/>
          </a:xfrm>
          <a:custGeom>
            <a:avLst/>
            <a:gdLst>
              <a:gd name="textAreaLeft" fmla="*/ 0 w 152640"/>
              <a:gd name="textAreaRight" fmla="*/ 107280 w 15264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3581280"/>
            <a:ext cx="152640" cy="1371600"/>
          </a:xfrm>
          <a:custGeom>
            <a:avLst/>
            <a:gdLst>
              <a:gd name="textAreaLeft" fmla="*/ 0 w 152640"/>
              <a:gd name="textAreaRight" fmla="*/ 107280 w 15264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1828800"/>
            <a:ext cx="152280" cy="1371600"/>
          </a:xfrm>
          <a:custGeom>
            <a:avLst/>
            <a:gdLst>
              <a:gd name="textAreaLeft" fmla="*/ 0 w 152280"/>
              <a:gd name="textAreaRight" fmla="*/ 106920 w 15228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733920" y="5943600"/>
                <a:ext cx="4611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a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Θ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8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Θ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BF71-3B46-4FBF-AE49-904F7DCD4E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trassen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ssen’s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2x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trices using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ead of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ltiplications (and lots more than 4 addi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(n)=7 T(n/2)+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&gt;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o T(n) is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       ) which is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.8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st algorithms theoretically use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.37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ractical but Strassen’s is practical provided calculations are exact and we stop recursion when matrix has size about 100 (maybe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06720" y="4191120"/>
            <a:ext cx="74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9A5-6CC3-48B4-85C7-505782D743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he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02D2-5A81-43B9-816D-FBECD651AA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1-12T17:23:50Z</cp:lastPrinted>
  <dcterms:modified xsi:type="dcterms:W3CDTF">2001-01-12T20:40:27Z</dcterms:modified>
  <cp:revision>48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