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3B55-444E-4CA4-858F-510918D46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83CF-0738-4202-ABBE-F1AE6A0E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F148-62F9-4310-9306-91B461E4E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ECBF-5B7D-403A-9D66-9524B2FAE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4CDD-6E01-410F-890F-27986B996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EA62-8FDA-41AE-8549-554B6EB6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55D3-02A2-4CF4-9CF3-72C0B9EC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45DA-CF1A-483D-873D-71CEAEB5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579B-E5D9-4FF2-913C-447CDAD3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E3A2-F86D-4711-9AB5-FA2BA511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7D4F-5C66-49E0-9B0B-F50F2DCE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F557-68C1-4FA5-913A-01DDB392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A8D8-B2F9-47E6-9350-12DDDAD5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05BD-0DBF-407E-8745-DCC02B08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D928-4512-4485-AE5E-347FF099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662D-457A-4E9C-8DA2-4129CD122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AD84-67EC-4FC8-BBB6-0E321E609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5D24-1D26-44D1-B544-6590D282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B888-DAF3-44B3-A714-5D981019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F85D-7B68-46C9-863C-AC499A1A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3477-F0F2-46CD-B0CE-6FF425D3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1424-46D4-40B5-85BD-3A6F7A58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4F8C-CD44-4D89-9C79-F4C4A9E8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C736-72F0-4E62-B87E-C9AAA807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4043-682C-4230-8F7D-5B55B0B3F9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8EC8-7F1B-4925-86C5-4FE25CD57A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SE 417:  Algorithms and Computational Complexity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or: Paul Be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: Gidon Shav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905120"/>
            <a:ext cx="7848720" cy="182880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9285-A8DC-4B4E-B80C-F756634BEC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Master Divide and Conquer Recurrenc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(n)=aT(n/b)+c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n&gt;b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 a&gt;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n T(n)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 a&lt;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n T(n) is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=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n T(n)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g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even if it i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/b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ead of n/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0" y="2514600"/>
          <a:ext cx="160020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514600"/>
                    <a:ext cx="16002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5C5E-1079-4FDA-A919-9E33EF3429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Exampl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T(n)=2T(n/2)+3n    (Mergeso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=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  T(n)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log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T(n)=T(n/2) +1   (Binary sear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=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 T(n)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og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T(n)=3T(n/4)+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&lt;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 T(n)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7025-510D-4F02-B037-2D8F4BE419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Working with O-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 notatio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:  For any a, b&gt;1  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i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=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 so letting c=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we get that  c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:  For any a and b&gt;0,  (n+a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+a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n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for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a|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=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c=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(n+a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+a)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/2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|a|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=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c’n for c=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 (n+a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E27E-BB5A-4F5B-B08A-697795C155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Solving recurrence relation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T(n)=T(n-1)+f(n) for 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(0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is T(n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ion sort: 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)=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-1)+i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)=               =n(n-1)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886200" y="2895480"/>
          <a:ext cx="114300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895480"/>
                    <a:ext cx="11430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2771640" y="4495680"/>
          <a:ext cx="139068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4495680"/>
                    <a:ext cx="13906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AD79-A1AA-48CB-801F-F4220D8C00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rithmetic Seri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= 1   +    2     + 3    +  ... + (n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= (n-1)+(n-2)+(n-3)+  ...  +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S=n   +   n   +    n   +   .... + n  {n-1 terms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S=n(n-1)  so  S=n(n-1)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generally when f(i)=ai+b for al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= average term size x # of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3048120"/>
            <a:ext cx="5715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81E4-74CF-4080-88C3-439D87198C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Geometric Seri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i)=a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i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= a + ar  + a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... + a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S=       ar  + a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... + a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a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-1)S=a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a     so  S=a (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1)/(r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r is a constant bounded away from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is a constant times largest term in 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3657600"/>
            <a:ext cx="6553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DD22-49E9-451C-B5FA-A023621C49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Mixed recurrenc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i)= i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=1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2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... + n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S=      1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...+ (n-1)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n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= n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(2 +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...+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n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(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)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n-1)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2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3657600"/>
            <a:ext cx="586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CA0A-5D60-4368-9903-639D2908FA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Guess &amp; Verify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for 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0, 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ess that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of the for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must hav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1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 eq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A(       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B(        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495680" y="3581280"/>
          <a:ext cx="1371600" cy="84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581280"/>
                    <a:ext cx="137160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057400" y="5029200"/>
          <a:ext cx="870120" cy="84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5029200"/>
                    <a:ext cx="87012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962520" y="5029200"/>
          <a:ext cx="822240" cy="84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5029200"/>
                    <a:ext cx="82224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91F3-D3FA-4CDA-9766-7AEA845D16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Guess &amp; Verify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A(       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B(       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:  n=0:  A+B=0=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n=1:  (A+B+(A-B)      )/2=1=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  A=1/         B=-1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prove the whole thing by in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981080" y="1828800"/>
          <a:ext cx="870120" cy="84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828800"/>
                    <a:ext cx="87012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809880" y="1752480"/>
          <a:ext cx="822600" cy="84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1752480"/>
                    <a:ext cx="82260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5410080" y="3352680"/>
          <a:ext cx="609840" cy="5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3352680"/>
                    <a:ext cx="60984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733920" y="3886200"/>
          <a:ext cx="609480" cy="582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33920" y="3886200"/>
                    <a:ext cx="60948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5715000" y="3962520"/>
          <a:ext cx="609480" cy="582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15000" y="3962520"/>
                    <a:ext cx="60948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CF86-224A-4B42-AD94-404DC1002D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Repeated Substitutio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(n)=n+3T(n/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n+ 3(n/4+3T(n/16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n+ 3n/4+ 9T(n/1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n+ 3n/4+ 9n/16+27T(n/6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metric seri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log n)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st term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(n)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2D98-97C7-4AFD-AFA1-3886D74D8D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16:57:42Z</dcterms:created>
  <dc:creator>ruzzo</dc:creator>
  <dc:description/>
  <dc:language>en-US</dc:language>
  <cp:lastModifiedBy>beame</cp:lastModifiedBy>
  <cp:lastPrinted>2001-01-08T19:18:48Z</cp:lastPrinted>
  <dcterms:modified xsi:type="dcterms:W3CDTF">2001-01-10T21:10:18Z</dcterms:modified>
  <cp:revision>43</cp:revision>
  <dc:subject/>
  <dc:title>CSE 421:  Introduction to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ruzzo</vt:lpwstr>
  </property>
  <property fmtid="{D5CDD505-2E9C-101B-9397-08002B2CF9AE}" pid="9" name="LinkColor">
    <vt:r8>16711782</vt:r8>
  </property>
  <property fmtid="{D5CDD505-2E9C-101B-9397-08002B2CF9AE}" pid="10" name="MailAddress">
    <vt:lpwstr>ruzzo@cs.washington.edu</vt:lpwstr>
  </property>
  <property fmtid="{D5CDD505-2E9C-101B-9397-08002B2CF9AE}" pid="11" name="NavBtnPos">
    <vt:r8>1</vt:r8>
  </property>
  <property fmtid="{D5CDD505-2E9C-101B-9397-08002B2CF9AE}" pid="12" name="Other">
    <vt:lpwstr>(c) 1998,  University of Washington, CSE</vt:lpwstr>
  </property>
  <property fmtid="{D5CDD505-2E9C-101B-9397-08002B2CF9AE}" pid="13" name="OutputDir">
    <vt:lpwstr>W:\www\education\courses\421\CurrentQtr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