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EFC-FC52-4E46-A3B0-BB96C983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61F-B685-4CA6-AC8E-D3AA0AED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9B4-7A94-466C-AF3E-1544F919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FB6-04D2-410E-9F22-C26D6FD6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1CE3-BFDD-4CA1-87EA-D7CC3D21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58C2-A85F-48FA-A76B-994C6148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7DB0-562E-4A91-8320-39CE0572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BE24-C1F7-4E3E-B025-BE1D668E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1DD0-0026-4436-A5BB-E5FC0DD5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4C05-2456-4D0A-B7BA-CA817B40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D03E-98BB-43BE-BC34-8700E4B4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026-5A49-4DD2-B28D-920B02CC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EFF0-0844-4935-8504-7C8510EF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6F9F-536E-4A27-B959-AB2C0708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49D3-154E-4DB9-AD24-22DA7B9E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672A-5308-4B79-AF93-CE42BDB1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67A9-1596-4324-B63B-4F46792D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069-31A0-4550-8D0A-22F4F555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18B-1D00-45F7-96C9-BC574F67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2735-D69F-4052-89B8-D42B663C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50B-925F-4646-B2C5-9E232591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A03-29BF-452F-9CE0-3FE0BD7D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12D-6E42-413A-A633-849E4F07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2F0-413F-444B-A297-7B9C8DFD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1682-AA0A-4816-9F13-6119B5C975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C291-CB1A-4463-AA03-10BF44906F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C636-17ED-4395-9E8F-1E48D36E1D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aster Divide and Conquer Recurr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(n)=aT(n/b)+c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&gt;b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a&gt;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(n)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a&lt;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(n) i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=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(n)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even if it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/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 of n/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0" y="2514600"/>
          <a:ext cx="160020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14600"/>
                    <a:ext cx="1600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9EB1-48F8-4607-A1B2-FC650D07A6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Exampl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T(n)=2T(n/2)+3n    (Merges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 T(n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log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T(n)=T(n/2) +1   (Binary 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(n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(n)=3T(n/4)+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&lt;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(n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66D-35C6-4EA9-A658-399BE5F4C5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orking with O-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not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:  For any a, b&gt;1  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so letting c=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we get that  c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:  For any a and b&gt;0,  (n+a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+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n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for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a|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(n+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+a)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/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|a|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c’n for c=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(n+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CDF-6CD1-4440-828D-947652A920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olving recurrence relation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T(n)=T(n-1)+f(n) for 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(0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is T(n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ion sort: 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)=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-1)+i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=               =n(n-1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86200" y="2895480"/>
          <a:ext cx="114300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95480"/>
                    <a:ext cx="1143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771640" y="4495680"/>
          <a:ext cx="139068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4495680"/>
                    <a:ext cx="13906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632-449C-45C8-92EC-5F1677125F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rithmetic Seri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 1   +    2     + 3    +  ... + (n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 (n-1)+(n-2)+(n-3)+  ...  +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=n   +   n   +    n   +   .... + n  {n-1 terms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=n(n-1)  so  S=n(n-1)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generally when f(i)=ai+b for al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= average term size x # of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048120"/>
            <a:ext cx="5715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238-B2D8-4EC0-90A5-BA6B66BEBB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eometric Seri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i)=a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i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 a + ar  + a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... + a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=       ar  + a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... + a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a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-1)S=a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     so  S=a (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1)/(r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constant bounded away from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s a constant times largest term in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657600"/>
            <a:ext cx="6553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1BC-B206-42CD-8F84-E279974614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ixed recurrenc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i)= i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1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... + n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S=      1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...+ (n-1)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n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= n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(2 +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...+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n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)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n-1)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65760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916-04A6-4578-9339-066FAC5A3A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uess &amp; Verif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or 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0, 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that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f the for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must hav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 eq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(       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(        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495680" y="3581280"/>
          <a:ext cx="13716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581280"/>
                    <a:ext cx="13716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057400" y="5029200"/>
          <a:ext cx="870120" cy="8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029200"/>
                    <a:ext cx="8701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962520" y="5029200"/>
          <a:ext cx="822240" cy="84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5029200"/>
                    <a:ext cx="82224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CAA-6B80-464B-8ECF-9360020452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Guess &amp; Verif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(       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(       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:  n=0:  A+B=0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n=1:  (A+B+(A-B)      )/2=1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  A=1/         B=-1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prove the whole thing by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81080" y="1828800"/>
          <a:ext cx="87012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8701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809880" y="1752480"/>
          <a:ext cx="822600" cy="8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1752480"/>
                    <a:ext cx="8226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410080" y="3352680"/>
          <a:ext cx="60984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352680"/>
                    <a:ext cx="6098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733920" y="3886200"/>
          <a:ext cx="609480" cy="58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3886200"/>
                    <a:ext cx="6094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715000" y="3962520"/>
          <a:ext cx="609480" cy="58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3962520"/>
                    <a:ext cx="6094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964-56B6-4A28-8423-93E82FF0F1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Repeated Substitu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=n+3T(n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n+ 3(n/4+3T(n/16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n+ 3n/4+ 9T(n/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n+ 3n/4+ 9n/16+27T(n/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seri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n)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term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37F-831A-46E6-85C3-2EF94A17D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08T19:18:48Z</cp:lastPrinted>
  <dcterms:modified xsi:type="dcterms:W3CDTF">2001-01-10T21:10:18Z</dcterms:modified>
  <cp:revision>43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