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E65-C7B7-4237-A431-7B46E1D1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596-463E-4E5E-990E-4E801681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8BC-FD13-477D-AECA-0B11768B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67D-7CCA-4154-B3C5-D6615367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48F3-5630-4329-B10E-ADAA50DC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2210-B466-480F-9FD3-FB0DE457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BE50-80FE-4AA5-A453-5D8BE804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3C07-4546-43C7-9E81-640793AE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1744-309D-4F97-8B95-28221CE7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9127-9A93-4AB4-926D-8C6220B1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94C8-82E4-4B5D-839C-773B8377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2DC-AA81-4112-9627-DFDFF11F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0496-C13F-4B7F-931F-F8CFE24C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111C-EC42-455D-8982-53FCDACB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65DF-07C7-453E-BBC7-4FDCAA91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454E-4AC6-4BBF-A082-059F5D7B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630A-66A4-497B-BD40-E7309736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55A3-A4FE-4965-8554-3CF6B835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C77-DD2B-4876-87CF-2B2CA1EA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259-0AC8-47D2-941F-D63840EB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F8C-58F7-410C-82D0-642F2A13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382-9BD8-4309-BD55-A645A84C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B2B-D57A-413B-9177-925D0FE5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9A1-E0ED-42D3-9AEB-E7439D97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8092-D2B3-4C47-8DDF-CC60E8085B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C83F-7ACF-4A72-B889-5DFA654510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A67E-C0C7-4E2B-9B0D-040F02BDDB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Heuristic algorithms fo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hard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problems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ized local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local search several times from random starting points and take the best answer found from each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expensive than plain local search but usually much better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ed ann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local search but at each step sometimes move to a worse neighbor with som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going to a worse neighbor is set to decrease with time as, presumably, solution is closer to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s avoid getting stuck in a local optimum but of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 to conver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ch more expensive than randomized local 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y with slow cooling to get to lowest energy state in a crystal (or in forging a me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907-934C-4B20-887B-E6788C8DE8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Heuristic algorithms fo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hard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problems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each solution a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alogy with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D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pulation of good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andom mut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single characters of individual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mbine two solu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taking part of one and part of another (analogy with crossover in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exual repro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rid of solutions that have the worst values and make multiple copies of solutions that have the best values (analogy with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natural sel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urvival of the fitte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evidence that they work well and they are usually very 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much religion as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B8C-860C-4737-88EB-87BBF89C7C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Heuristic algorithm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very elementary model of human neu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t up a circuit of artificial neu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rtificial neuron is an analog circuit gate whose computation depends on a set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nection str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rain the circ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the connection strengths of the neurons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iving many positive &amp; negative training examples and seeing if it behaves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network is now read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ful for ill-defined classification problems such as optical character recognition but not typical cut &amp; dried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B05-08C2-4E18-BF24-ECA8ECC879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Other fun direc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ach possible hint for an NP problem is represented as a string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a test tube with all possible h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View verification algorithm as a series of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hecking each clause is satisfied in case of Satisf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or each test in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use lab operations to filter out all DNA strings that fail the t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orks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all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ll strings; uses P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f any string remains the answer is a 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s on fact that Avogadro’s #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 x 10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</a:rPr>
              <a:t>2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large to get enough strings to fit in a test-tu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-prone &amp; so far only problem sizes less than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ADE-9825-4205-A8C6-A8C6391E57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Other fun direc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6080" y="137160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Use physical processes at the quantum level to implement weird kinds of circuit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ary trans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Quantum objects can be in a superposition of many pure states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s together in a superposition of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ach quantum circuit gate operates on the whole superposition of states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en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alle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tally new kinds of algorithms to work well. Theoretically able to factor efficiently but huge practical problems: errors, decoherenc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3F3-F284-4E18-B7ED-0CC61E7D82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o do if the  problem you want to solve is NP-har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ight have phrased your problem too gener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in practice, the graphs that actually arise are far from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they have some special characteristic that allows you to solve the problem in your specia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the Clique problem is easy on “interval graph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the literature to see if special cases already 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E3F-AB16-478F-9711-D567FD45BA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o do if the  problem you want to solve is NP-har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find an approxim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you can’t get the size of the best Vertex Cover but you can find one within a factor of 2 of the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Given graph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, start with an empty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there are still edges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60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hoos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an edg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={u,v}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and add both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to the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60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Remove all edges fro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that touch eithe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 chosen don’t share any vertices so optimal cover size must be at least # of edges cho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F43-0D74-48EA-9239-40261C44B0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o do if the  problem you want to solve is NP-har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find an approxim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research has classified problems based on what kinds of approximations are possible 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Be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1+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ctor for any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gt;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ing and some scheduling problems, TSP in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ixed constant fact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gt; 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.g.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, 3/2,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x Cover, TSP in space, other scheduling probl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log 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Cover, Graph Partitioning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Wor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1-</a:t>
            </a:r>
            <a:r>
              <a:rPr b="0" lang="en-US" sz="24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ctor for any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que, Independent-Set, Col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B72-FA72-4348-9C74-3F0F530798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o do if the  problem you want to solve is NP-har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an algorithm that is provably fast “on averag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ven try this one needs a model of what a typical instance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, people consider “random graph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all graphs with a given # of edges are equally lik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data doesn’t look like the random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s of real data aren’t analy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B26-23CD-45D9-B3B2-75FEFBDC71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o do if the  problem you want to solve is NP-har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search the space of possible hints in a more efficient way and hope it is quick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-tracking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tisfi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ar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ruth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set the truth values one-by-one we might be able to figure out whole parts of the space to avoi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 After setting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1, 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 don’t even need to se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know that it won’t satisfy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                               (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(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(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tisfi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s seems to run in times lik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ypical hard in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d techniqu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nch-and-b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5FD-B8BE-48EE-B767-969DF8AF79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o do if the  problem you want to solve is NP-har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heuristic algorithms and hope they give good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arantees of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ifferent types of heuristic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ifferent options, especially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ti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lems, such a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 we want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mention several on following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3C0-380A-40CF-97B4-8001D4AA10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Heuristic algorithms fo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hard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problems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 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optimizat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 notion of two solutions be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tart at an arbitrary solutio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hile there is a neighb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that is better tha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fast but often gets stuck in a local optimum and misses the global opt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ome notions of neighbor can take a long time in the worst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C42-388B-440C-9DEB-6412D7FA64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.g., Neighboring solutions for TSP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286000" y="365760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066680" y="365760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05320" y="3657600"/>
            <a:ext cx="7596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505320" y="2818800"/>
            <a:ext cx="7596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286000" y="2818800"/>
            <a:ext cx="7632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066680" y="2818800"/>
            <a:ext cx="7632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895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8954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7339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28195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895480"/>
            <a:ext cx="243864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629400" y="3733200"/>
            <a:ext cx="7632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410080" y="3733200"/>
            <a:ext cx="7632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848720" y="3733200"/>
            <a:ext cx="7596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848720" y="2895480"/>
            <a:ext cx="7596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629400" y="28954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10080" y="28954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629040" y="37339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809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2895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29718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5160" y="20566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03200" y="205668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8080" y="4739760"/>
            <a:ext cx="482724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olutions are neighb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e is a pair of edges you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 to transform one to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3FB-8D68-4167-A62B-3780BD8707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3-08T00:14:14Z</cp:lastPrinted>
  <dcterms:modified xsi:type="dcterms:W3CDTF">2001-03-09T18:11:21Z</dcterms:modified>
  <cp:revision>123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