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6DF-27B6-455A-BB32-D5683841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4F4-C335-4588-AF87-6C969576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0C6-D85B-4952-A69B-BAF80F70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D54-9793-4FB7-8678-3AA6C5C2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A82B-DF90-474A-825C-FE6B144E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A41E-06AF-4B3D-9593-98E2C7F6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E934-CA59-4CD5-AB78-EA49757D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C92E-7062-4ED0-8537-9141A1E1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0DBF-984B-4D3C-A966-91E36FF3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1411-F63D-4228-B7A3-31EDE60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E5B-B481-41EA-9263-2E8CD257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234-6EDC-40EC-A552-E78D1A8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9FB3-8E3E-4427-8533-A41A56F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EB43-AB5E-4AC0-A0A6-0FB22418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7A61-AC8C-4326-BF17-EBCDDD47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FB08-362B-41E5-AC66-515E6F7A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5947-7DDD-48DA-A5F3-E43C0E99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23B-7EF7-4B25-95A1-33CC6CC3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2E5-5354-442E-A287-57CFAEEF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C55-AAEB-4803-B9C3-490C37B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B88-CFAA-4480-BCA6-C24394BA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0DA-D119-4D79-AC22-3F9C0DDB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3D9-6FE3-4885-8B45-068B173A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E6F-DF2C-4209-AC6B-382A5028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0BF6-AFBD-43B6-ACC9-56AADB443F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814B-89A1-4B2C-829C-287AA8FD0D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387-30DA-44F1-B4D8-2503E0A4EA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 f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problem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ized local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local search several times from random starting points and take the best answer found from each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expensive than plain local search but usually much better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ed 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local search but at each step sometimes move to a worse neighbor with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going to a worse neighbor is set to decrease with time as, presumably, solution is closer to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s avoid getting stuck in a local optimum but of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to conve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ch more expensive than randomized local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 with slow cooling to get to lowest energy state in a crystal (or in forging a me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A09-9A25-45FD-89CD-B038A1D562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 f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problem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each solution 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alogy with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D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pulation of goo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andom mu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ingle characters of individu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mbine two sol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aking part of one and part of another (analogy with crossover in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exual repro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rid of solutions that have the worst values and make multiple copies of solutions that have the best values (analogy with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natural 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urvival of the fitte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evidence that they work well and they are usually very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much religion as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B2A-ADFE-4639-968D-915EF7A991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ficial neur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very elementary model of human neu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t up a circuit of artificial 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rtificial neuron is an analog circuit gate whose computation depends on a set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nection 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rain the circ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the connection strengths of the neurons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iving many positive &amp; negative training examples and seeing if it behave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network is now read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 for ill-defined classification problems such as optical character recognition but not typical cut &amp; dried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F25-DAF2-4F86-B9D2-60E1164004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ther fun dire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ach possible hint for an NP problem is represented as a string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a test tube with all possible h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iew verification algorithm as a series of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hecking each clause is satisfied in case of Satisf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For each test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use lab operations to filter out all DNA strings that fail the t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orks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all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ll strings; uses P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f any string remains the answer is a 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fact that Avogadro’s #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 x 10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2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large to get enough strings to fit in a test-tu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-prone &amp; so far only problem sizes less tha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49A-46F3-432A-9902-D4CB06EBE3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Other fun dire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um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Use physical processes at the quantum level to implement weird kinds of circuit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ary trans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Quantum objects can be in a superposition of many pure state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s together in a superposition of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ach quantum circuit gate operates on the whole superposition of state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tally new kinds of algorithms to work well. Theoretically able to factor efficiently but huge practical problems: errors, decoheren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9CE-7E80-4113-B589-C913EAAC41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have phrased your problem too gene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n practice, the graphs that actually arise are far from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they have some special characteristic that allows you to solve the problem in your speci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the Clique problem is easy on “interval graph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the literature to see if special cases already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939-13CE-46F6-AEEA-82119F944A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find an approxim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you can’t get the size of the best Vertex Cover but you can find one within a factor of 2 of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Given graph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, start with an empty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there are still edge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an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={u,v}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and add both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to th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Remove all edges fro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that touch eith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 chosen don’t share any vertices so optimal cover size must be at least # of edges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E23-FE3F-4EB8-9B03-6FA15D4689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find an approxim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research has classified problems based on what kinds of approximations are possible 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e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+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 for any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ing and some scheduling problems, TSP in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ixed constant fact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 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, 3/2,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ex Cover, TSP in space, other scheduling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ver, Graph Partition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r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1-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 for any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que, Independent-Set, Col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07E-C39B-4205-B0AA-ED89053F36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n algorithm that is provably fast “on averag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en try this one needs a model of what a typical instanc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people consider “random gra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ll graphs with a given # of edges are equally 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data doesn’t look like the random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of real data aren’t analy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C29-883D-4D0E-A292-6BCCAAAAA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search the space of possible hints in a more efficient way and hope it is quick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-tracking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ruth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set the truth values one-by-one we might be able to figure out whole parts of the space to avoi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 After setting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, 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don’t even need to se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know that it won’t satisfy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                  (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tisf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seems to run in times lik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ypical hard in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d techniqu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-and-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058-C291-4BCC-854E-D23A052A8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to do if the  problem you want to solve is NP-har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euristic algorithms and hope they give goo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s of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types of heuris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fferent options, especially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lems, such 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we want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mention several on following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9D6-C0FE-4293-9D2A-EB8CD10D1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euristic algorithms f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P-hard</a:t>
            </a:r>
            <a:r>
              <a:rPr b="1" lang="en-US" sz="3600" spc="-1" strike="noStrike">
                <a:solidFill>
                  <a:srgbClr val="000000"/>
                </a:solidFill>
                <a:latin typeface="Palatino"/>
              </a:rPr>
              <a:t> problems</a:t>
            </a:r>
            <a:endParaRPr b="1" lang="en-US" sz="3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optimiz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a notion of two solutions be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tart at an arbitrary solu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While there is a neighb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that is better tha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ast but often gets stuck in a local optimum and misses the global opt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me notions of neighbor can take a long time in the worst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7D0-050F-488A-842B-D8DF2D203A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.g., Neighboring solutions for TS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86000" y="36576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066680" y="365760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05320" y="365760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505320" y="281880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86000" y="28188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66680" y="28188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895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8954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7339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819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243864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629400" y="37332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410080" y="3733200"/>
            <a:ext cx="7632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48720" y="373320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848720" y="28954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629400" y="2895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10080" y="2895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2971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9040" y="37339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9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8954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5160" y="20566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03200" y="20566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8080" y="4739760"/>
            <a:ext cx="482724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lutions are neighb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is a pair of edges you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 to transform one to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603-39FE-46DC-AB7F-337A175B70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3-08T00:14:14Z</cp:lastPrinted>
  <dcterms:modified xsi:type="dcterms:W3CDTF">2001-03-09T18:11:21Z</dcterms:modified>
  <cp:revision>12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