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6F6-EBD8-4780-BDEE-09D43491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A00-8342-4B42-81CC-804C4F98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A19-7984-4F72-9728-19C4D940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78B-F41F-42E6-9550-C173644E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66F-1E8E-4A75-B30A-1F5A4938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ACFF-B1C7-452E-964E-08282C9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0498-911A-4AA8-A92D-A9AF1406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24CF-A17B-47FF-823D-A776C45B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C617-FAEA-4DD2-B64E-03934BC9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EFA4-7988-485B-BF71-F84D538C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CD3-F9E1-4C08-ACC3-F5117F86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E6F-316D-43E4-BA8C-AD8EB254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1011-AA04-4386-80A8-0432851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C375-3E26-4979-9BFE-67EE5EB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49CA-7817-4C84-B979-E311F3E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F2E7-619A-46B2-A241-A1131BCC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3191-4D24-49D1-BFF6-817759A2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1E1-24DE-4BCB-A92F-DCB8AD83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178-EEA4-4BEF-99CA-38E3E4D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1FD-204F-4A4F-B470-444D2ADB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2E5-2A23-4599-8F1E-1FF76BAC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E58-17B5-420F-AE42-301DB3F1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C3A-B9C2-4360-9165-EAA7728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950-E7D6-45B4-BBBB-97B9093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9603-D268-4AF2-9953-EEBB37DB63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A7C1-951D-43A3-BC90-DE8DA28B04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DB40-05EB-4053-BE33-00A25C6345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Color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f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-colo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ignment of up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lors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that the endpoints of each edge have different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a 3-colo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is an assignment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vertic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heck that each edge is color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FD3-54B9-49FA-90F3-54EC725B8B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map a 3-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3-colorabl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9DF-F1A1-4FD9-92FE-41BA720342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3280" y="58366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 Tri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B44-A40B-453F-AFA7-8EB6BEB2EE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98960" y="518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5200" y="1811160"/>
            <a:ext cx="479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ble Par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-coloring,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correspon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uth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ame color as T or 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CD9-49B7-47B8-8CED-6790960601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42680" y="5700240"/>
            <a:ext cx="564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ause Part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dd one 6 vertex gadget per clause  connec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ts ‘outer vertices’ to the literals in the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170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99840" y="2727360"/>
            <a:ext cx="5638680" cy="2073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114440" y="1904760"/>
            <a:ext cx="2057400" cy="759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9A5-7274-458E-8D22-25C935D35A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438768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44960" y="5242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21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97520" y="4373640"/>
            <a:ext cx="2546280" cy="91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943520" y="4800600"/>
            <a:ext cx="3003480" cy="488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114440" y="1936440"/>
            <a:ext cx="2971800" cy="958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33520" y="5761080"/>
            <a:ext cx="61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truth assignment satisfying the 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 be extended to a 3-coloring of th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69960" y="479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0392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5560" y="2012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46400" y="2423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50160" y="1751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40120" y="640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ADD-E989-42B6-8DD6-31A5EF8C55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266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600200" y="1981080"/>
            <a:ext cx="4572000" cy="28195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114800" y="1905120"/>
            <a:ext cx="3124080" cy="822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66760" y="5757840"/>
            <a:ext cx="52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ch gadget triangle using each 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5908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F72-FD4C-44A4-A9E3-3DFE602BE5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314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1720" y="5757840"/>
            <a:ext cx="63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an F op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O color in the triangle of each ga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753-0788-475F-8DBC-79B9EFBCD8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363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440" y="5757840"/>
            <a:ext cx="63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has T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 end of the blue edge connected to th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61E-5DF1-42D2-8FD1-3EF0875CF6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3-SAT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3-Color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419720"/>
            <a:ext cx="1057320" cy="9144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63560" y="4037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530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86600" y="5180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133720" y="2590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484440" y="1904760"/>
            <a:ext cx="63036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14920" y="37497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73000" y="463212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06520" y="286524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4160" y="1463760"/>
            <a:ext cx="70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5320" y="190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29320" y="217944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97720" y="1341360"/>
            <a:ext cx="47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600200" y="4419720"/>
            <a:ext cx="27828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038480"/>
            <a:ext cx="27828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3048120"/>
            <a:ext cx="222876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14600" y="2590920"/>
            <a:ext cx="18478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84440" y="1981080"/>
            <a:ext cx="87804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1905120"/>
            <a:ext cx="26820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34320" y="1098720"/>
            <a:ext cx="914400" cy="914400"/>
          </a:xfrm>
          <a:prstGeom prst="rtTriangl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171840" y="1098720"/>
            <a:ext cx="762120" cy="9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629040" y="1981080"/>
            <a:ext cx="304920" cy="44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086240" y="2013120"/>
            <a:ext cx="762120" cy="88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7086240" y="3048120"/>
            <a:ext cx="1676880" cy="1796400"/>
            <a:chOff x="7086240" y="3048120"/>
            <a:chExt cx="1676880" cy="1796400"/>
          </a:xfrm>
        </p:grpSpPr>
        <p:sp>
          <p:nvSpPr>
            <p:cNvPr id="413" name=""/>
            <p:cNvSpPr/>
            <p:nvPr/>
          </p:nvSpPr>
          <p:spPr>
            <a:xfrm>
              <a:off x="7848720" y="3048120"/>
              <a:ext cx="914400" cy="914040"/>
            </a:xfrm>
            <a:prstGeom prst="rtTriangl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086240" y="3048120"/>
              <a:ext cx="76212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543440" y="3930480"/>
              <a:ext cx="304920" cy="44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000640" y="3962160"/>
              <a:ext cx="762120" cy="88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 flipV="1">
            <a:off x="4943520" y="2012760"/>
            <a:ext cx="1228680" cy="332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43520" y="2423880"/>
            <a:ext cx="1685880" cy="2909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943520" y="2895480"/>
            <a:ext cx="214308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943520" y="3930480"/>
            <a:ext cx="214308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997520" y="4373640"/>
            <a:ext cx="2546280" cy="96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997520" y="4844520"/>
            <a:ext cx="3003480" cy="489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2452200">
            <a:off x="7054200" y="887760"/>
            <a:ext cx="18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340600">
            <a:off x="7609680" y="2701080"/>
            <a:ext cx="16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367240" y="3779640"/>
            <a:ext cx="1719360" cy="18252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5943600" y="4038120"/>
            <a:ext cx="1555920" cy="33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6172200" y="4419360"/>
            <a:ext cx="1828800" cy="42516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00200" y="2013120"/>
            <a:ext cx="4572000" cy="27874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514600" y="2424240"/>
            <a:ext cx="4114800" cy="166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114440" y="1905120"/>
            <a:ext cx="3094200" cy="8236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61800" y="5757840"/>
            <a:ext cx="50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y 3-coloring of the graph yield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ying assignment to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9800" y="17514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40480" y="640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5760" y="155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210440" y="2589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8880" y="1446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53E-526D-4526-BE2D-A6608EF716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eps to Proving Problem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is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a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:`Reduction i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the ma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the map is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correctnes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ice 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at hint is and why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it is 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0EF-B67A-4893-AC36-B5E7775CF8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blems we already know are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1000’s of practical problems that are NP-complete, e.g. scheduling, optimal VLSI layout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6B4-B858-4AA6-8A69-7CF26BCB07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particularly useful problem for proving 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3-SA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Given a CNF formula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cisely 3 variables per clause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,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-CN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-SAT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 is a satisfying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ike Satisfiability it is polynomial-time to check the 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490-EC85-4728-BC12-E8F49B0D7E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 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as precisely 3 variables per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one or more clauses for each clause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extra variables that don’t appear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claus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will be a different set of variables that are used only in the claus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orrespond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EE6-E505-4180-87F6-F46273BBA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21932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ssignmen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original variables makes claus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assignment to the extra variables that together with th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all new clauses corresponding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reduction clause-by-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variable nam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note the extra variables related to a single claus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implify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ality, two different original clauses will not sha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5FB-889F-4E1C-9CE5-13B335521E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ach clause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,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=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new variabl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two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both new clauses will be true und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both true under som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value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help in one of the two clauses s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99C-4D2D-4B45-A0C1-45C313B03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: 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variabl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ll new clauses will be true und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 valu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help in one of the 4 clauses s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under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DA4-4106-4302-B49B-8D825D817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3-SA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: 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=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variabl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lause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2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rigina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under assignmen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o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y sett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&lt;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exte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all new clause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w clauses are all true under some assignmen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so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true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aus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3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z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B51-FFB1-496B-88BB-33643ACD14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8T00:14:14Z</cp:lastPrinted>
  <dcterms:modified xsi:type="dcterms:W3CDTF">2001-03-08T00:14:16Z</dcterms:modified>
  <cp:revision>119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