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77C-5291-4C68-8A92-15F2CABA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06C-7A34-4B80-A022-9413E7E1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52B-1F0E-4E27-9996-F2114626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349-ADE3-49A2-9BDB-B9487260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3742-1C8A-493F-8149-F1AB6F31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D94B-C4CE-47A5-AA11-B1D537C0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D458-5459-4385-8C1C-A69CAEDF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3008-16BC-4C60-AC32-F77704DE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6028-8C5A-4182-9DED-1A6034D3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442E-0D4E-41DF-93E8-2F82A254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539D-6A45-4AFC-A377-48FD13BD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477-F07E-468D-ABC8-6BA8754D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DC2F-E55A-42CF-AE5F-85491D4B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E2E0-E9E6-44F5-8CED-1FA5C6F6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3808-68A1-4689-816B-35A0A826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4F15-67AC-434C-BFEC-052D4CFA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9BB1-2B3B-470F-AC25-0C2E70D1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41D-0D15-4C8F-B0E1-CA72E98E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6AE-1C5C-4F7F-9602-10AE374C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BF7-9528-48A2-A2EC-4B1C9137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E6C-0B89-480A-8E69-2687BE21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BE5-9711-46A3-9FE8-BFBA70FA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610-CB8D-45F3-B993-25905FB4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805-F0AC-49B0-BF56-2C50CFEC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F8D2-8082-41AC-8295-C44F24847A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8979-26B0-4632-AF89-12376733D8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A724-93B7-4DD1-9948-FBECC6A1F3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raph Colorabil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f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n integ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-colo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ignment of up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olors to the vertic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that the endpoints of each edge have different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Color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a 3-colo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-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-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 is an assignment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vertic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heck that each edge is colored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950-0389-44EC-9639-F95214D29B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map a 3-CNF formula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3-colorabl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56F-64B8-4FAA-9015-EA32002BB4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98960" y="518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3280" y="58366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e Tri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EF5-417D-42E9-960E-972388A9EB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98960" y="518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5200" y="1811160"/>
            <a:ext cx="4797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riable Par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-coloring,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correspon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ruth assig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ame color as T or 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447-7769-40B0-B83D-9EA2096B31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42680" y="5700240"/>
            <a:ext cx="564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ause Part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dd one 6 vertex gadget per clause  connec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ts ‘outer vertices’ to the literals in the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170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599840" y="2727360"/>
            <a:ext cx="5638680" cy="20732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114440" y="1904760"/>
            <a:ext cx="2057400" cy="759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FCD-12C5-4CE4-921F-F542A96EDC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438768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44960" y="5242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214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997520" y="4373640"/>
            <a:ext cx="2546280" cy="91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943520" y="4800600"/>
            <a:ext cx="3003480" cy="488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114440" y="1936440"/>
            <a:ext cx="2971800" cy="958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33520" y="5761080"/>
            <a:ext cx="61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truth assignment satisfying the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 be extended to a 3-coloring of th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69960" y="479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0392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5560" y="2012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46400" y="2423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50160" y="1751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40120" y="640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F17-C3F1-471B-AAB4-6F22F9A731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266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600200" y="1981080"/>
            <a:ext cx="4572000" cy="28195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114800" y="1905120"/>
            <a:ext cx="3124080" cy="8222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66760" y="5757840"/>
            <a:ext cx="52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ach gadget triangle using each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75908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B35-52C3-434F-B8EB-77911647DB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314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114440" y="1905120"/>
            <a:ext cx="3094200" cy="823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1720" y="5757840"/>
            <a:ext cx="634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has an F op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O color in the triangle of each ga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4980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10440" y="2589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003-6346-45B5-B1E8-5B9B44EC94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8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363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114440" y="1905120"/>
            <a:ext cx="3094200" cy="823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2440" y="5757840"/>
            <a:ext cx="63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has T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ther end of the blue edge connected to th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4980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10440" y="2589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8880" y="1446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947-5069-4EF7-B391-C09E168139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413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4114440" y="1905120"/>
            <a:ext cx="3094200" cy="823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61800" y="5757840"/>
            <a:ext cx="50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yield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sfying assignment to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84980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210440" y="2589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68880" y="1446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FEC-2118-4903-B7D5-FC6CFBDA3C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eps to Proving Problem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is NP-complet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har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:`Reduction is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Proble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what the map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that the map is polynom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correctness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o 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ies Ye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vice 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what hint is and why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that it is polynomial-time to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68E-1DD4-4540-9492-651AC7CD51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blems we already know are NP-complet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ex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1000’s of practical problems that are NP-complete, e.g. scheduling, optimal VLSI layout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C86-D7F7-45EA-A77C-9E2A40E56E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particularly useful problem for proving NP-complete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3-SA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Given a CNF formula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cisely 3 variables per clause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,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-CN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tisf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-S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-SAT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 is a satisfying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like Satisfiability it is polynomial-time to check the 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B71-AA66-4874-86E6-A88C0808FB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3-SA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CNF formula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other CNF formula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has precisely 3 variables per cl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one or more clauses for each clause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extra variables that don’t appear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claus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will be a different set of variables that are used only in the claus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orrespond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642-0E18-4A14-8C2E-DCC0361358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3-SA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6080" y="121932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ssignmen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original variables makes claus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assignment to the extra variables that together with the assignmen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all new clauses corresponding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reduction clause-by-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variable nam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note the extra variables related to a single claus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implify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ality, two different original clauses will not shar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830-C8C0-45AA-83B8-8E7A3E706D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3-SA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ach clause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,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=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new variabl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ut two clause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rigina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under assignmen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both new clauses will be true unde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w clauses are both true under some assignmen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 value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help in one of the two clauses so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true unde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3D0-B319-4043-A62A-1B88421324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3-SA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: e.g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=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variable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clause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rigina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under assignmen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all new clauses will be true unde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w clauses are all true under some assignmen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 valu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help in one of the 4 clauses so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true unde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FBF-E89B-41A5-9FA6-8DA0648994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3-SA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: e.g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=(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...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variable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clause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...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rigina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under assignmen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om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y setting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&lt;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can exte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all new clause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w clauses are all true under some assignmen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som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true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aus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...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842-6842-4093-B0CE-2BBD1EE78D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3-08T00:14:14Z</cp:lastPrinted>
  <dcterms:modified xsi:type="dcterms:W3CDTF">2001-03-08T00:14:16Z</dcterms:modified>
  <cp:revision>119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