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2F2-8443-4601-8334-CBB5F9F2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DBC-327F-4060-AD66-66D188A8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1AA-C8AD-4F85-B125-DF8B4E98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BA9-2D8C-4177-A69C-EC5E9483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EE29-AFA0-4A50-B476-4B1DABB0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7B7A-AB47-4F8E-8E39-362706A3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4D02-7F02-48C4-ABB8-E2CA8F71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BFA2-7AD2-40CF-8100-FEEB65C9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053F-8E40-431B-B767-28F429A8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0DFC-7538-4A46-94D0-506E52F9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276-2E7C-4C37-9042-AFF492D6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C5E-56B2-4900-93A8-2EDA7CA9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DCF1-4E14-4F01-A7DA-F5A4525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12CA-6FEC-4869-8A43-17834F8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FDB7-7AC3-43C2-B7F4-C01D98F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08D9-4EB2-45AD-9543-676DFF03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C447-7038-43C5-8FBA-DE507001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AE7-8C66-42A5-804A-8367F377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4EF-ED26-44EF-BB54-639EDA6F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62D-6164-4886-BFE5-53608C0C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365-0114-4EA6-8BA3-D37B3A1B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ACB-1E09-4742-8CDC-2B958670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773-759B-4974-8D45-8EB5524C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929-BF58-48CC-88DB-AA6E5B9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84F6-DA2E-4590-8A77-10F4F7489F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E1E7-C10F-4D3A-A0FA-E67CDB1CEE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81CF-061A-465A-9BAF-2E1DA31D12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1" name=""/>
          <p:cNvSpPr/>
          <p:nvPr/>
        </p:nvSpPr>
        <p:spPr>
          <a:xfrm>
            <a:off x="848520" y="1573920"/>
            <a:ext cx="68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7096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8068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9036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1280" y="32504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432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71560" y="24883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709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15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80640" y="43171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9520" y="129420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      0      1         1      0      1         1       0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895480"/>
            <a:ext cx="380880" cy="3034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274176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281952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5360" y="5213520"/>
            <a:ext cx="5427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ssignmen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s circ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0920" y="2818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768-D2BF-460A-8D1D-BEE7856C68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 contin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G,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YES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ependent-Se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here is a se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e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ing no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precisely one vertex per clause because of the green edges i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red edges i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contain vertices labeled bo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ruth assignment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akes all literals labeling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ue and for any variable not labeling a vertex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ssigns its truth value arbitrar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struction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Y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atisf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48E-F5C3-46BF-9501-CF267220C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2" name=""/>
          <p:cNvSpPr/>
          <p:nvPr/>
        </p:nvSpPr>
        <p:spPr>
          <a:xfrm>
            <a:off x="848520" y="1573920"/>
            <a:ext cx="68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7096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8068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9036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81280" y="32504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0432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71560" y="24883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709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715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0640" y="43171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3581280"/>
            <a:ext cx="380880" cy="3034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50532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3354480"/>
            <a:ext cx="380880" cy="3031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91960" y="5061240"/>
            <a:ext cx="5069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atisfying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4920" y="1188360"/>
            <a:ext cx="68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       1     0         ?       1      0         ?       1  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9A2-52D1-4598-A4E6-C3895D28D3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dependent-Set is NP-complet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just showed that Independent-Set is NP-hard and we already knew Independent-Set is in N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wed already that             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dependent-Set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A8B-B0F7-4332-ADB3-FBAD225F02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Vertex Cov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re a sub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ize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edg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t least one endpoint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(i.e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all vertices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rtex cover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every vertex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t most one endpoint of any edge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57150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56386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5943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6229440"/>
            <a:ext cx="7596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562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5486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5943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9436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57913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640080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63054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5486400"/>
            <a:ext cx="152424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5105520"/>
            <a:ext cx="1981440" cy="13716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571500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5562720"/>
            <a:ext cx="763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886200" y="5715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419360" y="5638680"/>
            <a:ext cx="1066680" cy="66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3429000" y="5943600"/>
            <a:ext cx="18288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419360" y="6305400"/>
            <a:ext cx="11430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563868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5760" y="519588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ertex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09880" y="5715000"/>
            <a:ext cx="106704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3440" y="5805720"/>
            <a:ext cx="23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ependen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615312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248-D4A7-4929-8A4E-E024088DF3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Independent-Set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Vertex Cov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G,k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G,|V|-k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 follows from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ertex C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is the cover 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nomial-time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ertex C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F35-6AE1-4AB0-8DE6-7137BF3391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eps to Proving Problem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is NP-complet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hard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:`Reduction is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what the map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the map is polynomi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correctness: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ies Ye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vice 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what hint is and why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e that it is polynomial-time to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304-0C7A-4EAA-936C-DE9C0E228D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943600" y="3048120"/>
            <a:ext cx="1523880" cy="1523880"/>
          </a:xfrm>
          <a:custGeom>
            <a:avLst/>
            <a:gdLst/>
            <a:ahLst/>
            <a:rect l="l" t="t" r="r" b="b"/>
            <a:pathLst>
              <a:path w="960" h="960">
                <a:moveTo>
                  <a:pt x="0" y="0"/>
                </a:moveTo>
                <a:lnTo>
                  <a:pt x="960" y="0"/>
                </a:lnTo>
                <a:lnTo>
                  <a:pt x="960" y="192"/>
                </a:lnTo>
                <a:lnTo>
                  <a:pt x="960" y="432"/>
                </a:lnTo>
                <a:lnTo>
                  <a:pt x="768" y="816"/>
                </a:lnTo>
                <a:lnTo>
                  <a:pt x="576" y="960"/>
                </a:lnTo>
                <a:lnTo>
                  <a:pt x="288" y="912"/>
                </a:lnTo>
                <a:lnTo>
                  <a:pt x="144" y="768"/>
                </a:lnTo>
                <a:lnTo>
                  <a:pt x="96" y="624"/>
                </a:lnTo>
                <a:lnTo>
                  <a:pt x="0" y="38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111480"/>
            <a:ext cx="1523880" cy="1460520"/>
          </a:xfrm>
          <a:custGeom>
            <a:avLst/>
            <a:gdLst/>
            <a:ahLst/>
            <a:rect l="l" t="t" r="r" b="b"/>
            <a:pathLst>
              <a:path w="960" h="920">
                <a:moveTo>
                  <a:pt x="6" y="26"/>
                </a:moveTo>
                <a:cubicBezTo>
                  <a:pt x="212" y="24"/>
                  <a:pt x="418" y="26"/>
                  <a:pt x="624" y="20"/>
                </a:cubicBezTo>
                <a:cubicBezTo>
                  <a:pt x="684" y="18"/>
                  <a:pt x="744" y="4"/>
                  <a:pt x="804" y="2"/>
                </a:cubicBezTo>
                <a:cubicBezTo>
                  <a:pt x="854" y="0"/>
                  <a:pt x="954" y="8"/>
                  <a:pt x="954" y="8"/>
                </a:cubicBezTo>
                <a:lnTo>
                  <a:pt x="960" y="344"/>
                </a:lnTo>
                <a:lnTo>
                  <a:pt x="768" y="776"/>
                </a:lnTo>
                <a:lnTo>
                  <a:pt x="480" y="920"/>
                </a:lnTo>
                <a:lnTo>
                  <a:pt x="288" y="872"/>
                </a:lnTo>
                <a:lnTo>
                  <a:pt x="144" y="680"/>
                </a:lnTo>
                <a:lnTo>
                  <a:pt x="48" y="488"/>
                </a:lnTo>
                <a:lnTo>
                  <a:pt x="0" y="200"/>
                </a:lnTo>
                <a:lnTo>
                  <a:pt x="6" y="2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-ti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360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694680" y="4206240"/>
            <a:ext cx="3251520" cy="1160640"/>
            <a:chOff x="3694680" y="4206240"/>
            <a:chExt cx="3251520" cy="1160640"/>
          </a:xfrm>
        </p:grpSpPr>
        <p:sp>
          <p:nvSpPr>
            <p:cNvPr id="98" name=""/>
            <p:cNvSpPr/>
            <p:nvPr/>
          </p:nvSpPr>
          <p:spPr>
            <a:xfrm>
              <a:off x="4864680" y="4206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94680" y="4663080"/>
              <a:ext cx="325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computable by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rogram 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in polynomial-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14600" y="311148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3048120"/>
            <a:ext cx="15238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5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1160" y="38091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4280" y="2589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8200" y="2437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17720" y="5637960"/>
            <a:ext cx="71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yes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EFF-1FBC-41AE-87D4-A42CF4C751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.g., Independent-Set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qu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redu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at map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G,k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G,k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omplement graph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n edge exactly wh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n’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polynomial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&lt;G,k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YES fo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ndependent-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re is a sub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ertex set of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oined by an edge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re is a sub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vertex set of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ery pair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joined by an edge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&lt;G,k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YES fo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1981080"/>
            <a:ext cx="152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600200"/>
            <a:ext cx="152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3160" y="1600200"/>
            <a:ext cx="152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876920"/>
            <a:ext cx="152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4572000"/>
            <a:ext cx="152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257800"/>
            <a:ext cx="152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BF3-E07B-44D8-B0D5-EB3D1ADB14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ness &amp;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complete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ha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isfi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NP-har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R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bvious that such problems even exi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B41-AEF2-4F23-AC0B-73651E190A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perties of polynomial-time redu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lso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heore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oof idea: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e the reduc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reduc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get a new reduction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’’(x)=T’(T(x)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A14-C9AA-459B-BD4E-D58CCB8563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ok’s Theorem&amp; implica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Theorem (Cook 197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         NP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orolla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ard iff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tisfiability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spcBef>
                <a:spcPts val="45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mplete problem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ard then every problem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-time reduces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particula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atisfiab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ince it is 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ble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L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atisf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o i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Satisfiability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L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ard i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atisfiability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 baseline="50000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5FB-ACC9-43AA-B84C-5CD065FC42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NP-complete problem: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33cc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33cc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CNF formul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pai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G,k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he number of clauses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vertex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literal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wo vertic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,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n edge 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 to literals in the same clause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green edges)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 to literal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vice versa) for some variabl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(red ed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=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ly polynomi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07D-18E6-4D4C-8B14-0DE07E6EC4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" name=""/>
          <p:cNvSpPr/>
          <p:nvPr/>
        </p:nvSpPr>
        <p:spPr>
          <a:xfrm>
            <a:off x="848520" y="1573920"/>
            <a:ext cx="68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:   (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6576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44197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89548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358128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4343400"/>
            <a:ext cx="7596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28195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3505320"/>
            <a:ext cx="76320" cy="759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096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8068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90360" y="34790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81280" y="3250440"/>
            <a:ext cx="63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4320" y="271548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71560" y="24883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09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71560" y="416484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80640" y="431712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04812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733920"/>
            <a:ext cx="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971800"/>
            <a:ext cx="76320" cy="6094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495680" y="3657600"/>
            <a:ext cx="76320" cy="68580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895480"/>
            <a:ext cx="0" cy="609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297180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895480"/>
            <a:ext cx="228600" cy="1447920"/>
          </a:xfrm>
          <a:custGeom>
            <a:avLst/>
            <a:gdLst/>
            <a:ahLst/>
            <a:rect l="l" t="t" r="r" b="b"/>
            <a:pathLst>
              <a:path w="144" h="912">
                <a:moveTo>
                  <a:pt x="144" y="0"/>
                </a:moveTo>
                <a:cubicBezTo>
                  <a:pt x="72" y="164"/>
                  <a:pt x="0" y="328"/>
                  <a:pt x="0" y="480"/>
                </a:cubicBezTo>
                <a:cubicBezTo>
                  <a:pt x="0" y="632"/>
                  <a:pt x="72" y="772"/>
                  <a:pt x="144" y="91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2260440"/>
            <a:ext cx="4800600" cy="1320840"/>
          </a:xfrm>
          <a:custGeom>
            <a:avLst/>
            <a:gdLst/>
            <a:ahLst/>
            <a:rect l="l" t="t" r="r" b="b"/>
            <a:pathLst>
              <a:path w="3024" h="832">
                <a:moveTo>
                  <a:pt x="0" y="448"/>
                </a:moveTo>
                <a:cubicBezTo>
                  <a:pt x="588" y="224"/>
                  <a:pt x="1176" y="0"/>
                  <a:pt x="1680" y="64"/>
                </a:cubicBezTo>
                <a:cubicBezTo>
                  <a:pt x="2184" y="128"/>
                  <a:pt x="2604" y="480"/>
                  <a:pt x="3024" y="8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3657600"/>
            <a:ext cx="2209680" cy="83808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0" y="528"/>
                  <a:pt x="696" y="264"/>
                  <a:pt x="1392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73392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300" y="132"/>
                  <a:pt x="600" y="264"/>
                  <a:pt x="816" y="336"/>
                </a:cubicBezTo>
                <a:cubicBezTo>
                  <a:pt x="1032" y="408"/>
                  <a:pt x="1164" y="420"/>
                  <a:pt x="1296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733920"/>
            <a:ext cx="4800600" cy="1244520"/>
          </a:xfrm>
          <a:custGeom>
            <a:avLst/>
            <a:gdLst/>
            <a:ahLst/>
            <a:rect l="l" t="t" r="r" b="b"/>
            <a:pathLst>
              <a:path w="3024" h="784">
                <a:moveTo>
                  <a:pt x="0" y="0"/>
                </a:moveTo>
                <a:cubicBezTo>
                  <a:pt x="304" y="200"/>
                  <a:pt x="608" y="400"/>
                  <a:pt x="912" y="528"/>
                </a:cubicBezTo>
                <a:cubicBezTo>
                  <a:pt x="1216" y="656"/>
                  <a:pt x="1472" y="784"/>
                  <a:pt x="1824" y="768"/>
                </a:cubicBezTo>
                <a:cubicBezTo>
                  <a:pt x="2176" y="752"/>
                  <a:pt x="2600" y="592"/>
                  <a:pt x="3024" y="43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D1E-D8E5-472D-9A3A-539DEF68A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600" spc="-1" strike="noStrike" baseline="50000">
                <a:solidFill>
                  <a:srgbClr val="000000"/>
                </a:solidFill>
                <a:latin typeface="Palatino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Independent-Set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tisf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there is some assignment that satisfies at least one literal in each cla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se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responding to the first satisfied literal in each cla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|U|=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U has only one vertex per clause, no two vertices i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joined by green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a truth assignment never satisfies bo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contain vertices labeled bot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no vertices i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ed by red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n independent set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size at least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&lt;G,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Y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dependent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940-D2C4-4E17-9105-74A8E0AFF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3-05T19:28:47Z</cp:lastPrinted>
  <dcterms:modified xsi:type="dcterms:W3CDTF">2001-03-05T21:23:40Z</dcterms:modified>
  <cp:revision>115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