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7B2-7BEE-4B2D-9ED3-0339B120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3B7-56B3-4D6D-A89D-68E7470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1F1-B60E-4177-83CE-951434A7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139-E106-4F57-ADC8-EF981604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4778-7E0A-4A3F-A262-9EF4E5D3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A847-991E-4C22-8E4C-C8DCDC3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E3C7-6FDD-4980-905C-49685BC3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81A8-B320-4BF4-B246-8D3323CA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44CD-E937-4AB8-BD34-ED0CCC1B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DB49-0AA2-4775-8756-D53FC4CC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4597-CA74-4331-8A12-031F47D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8D2-D716-4A3A-8F6F-4AA11854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9779-80EA-499A-B6DF-BBD16F1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BE0F-62DA-4E3D-931B-5C1B7AF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B02-6B1F-4EAD-BB85-7D51F98B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90F8-BA02-4732-B27A-698079E6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C4A-D39E-44E2-8506-D328F1F4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A0A-D6AE-4060-8F18-824B28E1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6C4-CBBB-47AB-A04B-230413B6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AD7-E46C-4E6C-B5C5-69FC01F9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20E-654D-481C-BCCB-831DE97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798-E568-4811-A4EF-9D59B69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9BB-4C35-4106-A40C-BB3B4134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508-218F-4FCA-9FB9-DE77FA2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CA80-8120-4438-926F-1091E2F972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CBF0-D934-4647-B9F3-987714259D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EB9B-BAFF-4069-9CC0-BDCE3F8A4F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1" name=""/>
          <p:cNvSpPr/>
          <p:nvPr/>
        </p:nvSpPr>
        <p:spPr>
          <a:xfrm>
            <a:off x="848520" y="1573920"/>
            <a:ext cx="68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7096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8068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9036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1280" y="32504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432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71560" y="24883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709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15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0640" y="43171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9520" y="129420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      0      1         1      0      1         1       0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8954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274176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28195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5360" y="5213520"/>
            <a:ext cx="5427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ssignmen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s circ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0920" y="281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BA2-D4B9-4C15-9CE0-96701DFB49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G,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YE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ependent-Se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re is a 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ing no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precisely one vertex per clause because of the green edg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red edg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contain vertices labeled bo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ruth assignment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akes all literals labeling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ue and for any variable not labeling a vertex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signs its truth value arbitrar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struction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Y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atisf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33A-EE44-4A05-88A9-7674064867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"/>
          <p:cNvSpPr/>
          <p:nvPr/>
        </p:nvSpPr>
        <p:spPr>
          <a:xfrm>
            <a:off x="848520" y="1573920"/>
            <a:ext cx="68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7096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8068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9036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81280" y="32504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0432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71560" y="24883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09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715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0640" y="43171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35812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5053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335448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91960" y="5061240"/>
            <a:ext cx="5069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atisfy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4920" y="1188360"/>
            <a:ext cx="68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1     0         ?       1      0         ?       1 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D39-4977-46B1-A793-5E1044F4E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dependent-Set is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just showed that Independent-Set is NP-hard and we already knew Independent-Set is in N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wed already that             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dependent-Set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00E-4F43-4846-8049-1DDD400CC8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Vertex Cov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re a sub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ize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edg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t least one endpoint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(i.e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all vertice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tex cover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every vertex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t most one endpoint of any edge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57150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56386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5943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6229440"/>
            <a:ext cx="7596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562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486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943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9436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7913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640080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63054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5486400"/>
            <a:ext cx="152424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5105520"/>
            <a:ext cx="1981440" cy="13716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571500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5562720"/>
            <a:ext cx="763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886200" y="5715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419360" y="5638680"/>
            <a:ext cx="1066680" cy="66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429000" y="5943600"/>
            <a:ext cx="18288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419360" y="6305400"/>
            <a:ext cx="11430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56386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5760" y="51958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ertex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09880" y="57150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3440" y="580572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ependen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615312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0B6-7DB1-40BA-82F4-447929241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Independent-Set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Vertex Cov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|V|-k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 follows from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is the cover 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10C-6324-4B48-87BC-E53B6E57F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eps to Proving Problem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is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a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:`Reduction i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the ma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the map is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correctnes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ice 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at hint is and why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it is 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68B-B5E7-44EA-9C2F-7AB5B3CA79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943600" y="3048120"/>
            <a:ext cx="1523880" cy="152388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0" y="0"/>
                </a:moveTo>
                <a:lnTo>
                  <a:pt x="960" y="0"/>
                </a:lnTo>
                <a:lnTo>
                  <a:pt x="960" y="192"/>
                </a:lnTo>
                <a:lnTo>
                  <a:pt x="960" y="432"/>
                </a:lnTo>
                <a:lnTo>
                  <a:pt x="768" y="816"/>
                </a:lnTo>
                <a:lnTo>
                  <a:pt x="576" y="960"/>
                </a:lnTo>
                <a:lnTo>
                  <a:pt x="288" y="912"/>
                </a:lnTo>
                <a:lnTo>
                  <a:pt x="144" y="768"/>
                </a:lnTo>
                <a:lnTo>
                  <a:pt x="96" y="624"/>
                </a:lnTo>
                <a:lnTo>
                  <a:pt x="0" y="38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111480"/>
            <a:ext cx="1523880" cy="1460520"/>
          </a:xfrm>
          <a:custGeom>
            <a:avLst/>
            <a:gdLst/>
            <a:ahLst/>
            <a:rect l="l" t="t" r="r" b="b"/>
            <a:pathLst>
              <a:path w="960" h="920">
                <a:moveTo>
                  <a:pt x="6" y="26"/>
                </a:moveTo>
                <a:cubicBezTo>
                  <a:pt x="212" y="24"/>
                  <a:pt x="418" y="26"/>
                  <a:pt x="624" y="20"/>
                </a:cubicBezTo>
                <a:cubicBezTo>
                  <a:pt x="684" y="18"/>
                  <a:pt x="744" y="4"/>
                  <a:pt x="804" y="2"/>
                </a:cubicBezTo>
                <a:cubicBezTo>
                  <a:pt x="854" y="0"/>
                  <a:pt x="954" y="8"/>
                  <a:pt x="954" y="8"/>
                </a:cubicBezTo>
                <a:lnTo>
                  <a:pt x="960" y="344"/>
                </a:lnTo>
                <a:lnTo>
                  <a:pt x="768" y="776"/>
                </a:lnTo>
                <a:lnTo>
                  <a:pt x="480" y="920"/>
                </a:lnTo>
                <a:lnTo>
                  <a:pt x="288" y="872"/>
                </a:lnTo>
                <a:lnTo>
                  <a:pt x="144" y="680"/>
                </a:lnTo>
                <a:lnTo>
                  <a:pt x="48" y="488"/>
                </a:lnTo>
                <a:lnTo>
                  <a:pt x="0" y="200"/>
                </a:lnTo>
                <a:lnTo>
                  <a:pt x="6" y="2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360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94680" y="4206240"/>
            <a:ext cx="3251520" cy="1160640"/>
            <a:chOff x="3694680" y="4206240"/>
            <a:chExt cx="3251520" cy="1160640"/>
          </a:xfrm>
        </p:grpSpPr>
        <p:sp>
          <p:nvSpPr>
            <p:cNvPr id="98" name=""/>
            <p:cNvSpPr/>
            <p:nvPr/>
          </p:nvSpPr>
          <p:spPr>
            <a:xfrm>
              <a:off x="4864680" y="4206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94680" y="4663080"/>
              <a:ext cx="325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omputable by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ogram 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in polynomial-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14600" y="311148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04812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5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11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4280" y="2589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8200" y="2437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7720" y="5637960"/>
            <a:ext cx="71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73E-525D-4F64-BE70-11C0DFDF4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.g., Independent-Set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qu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du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map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omplement graph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n edge exactly w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n’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polynomia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YES f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dependent-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re is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ertex set of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an edge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re is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ertex set of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ery pair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joined by an edge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&lt;G,k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YES f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198108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60020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3160" y="160020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876920"/>
            <a:ext cx="152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572000"/>
            <a:ext cx="152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25780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7A-C1BF-46BD-825F-145B6AFA19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P-har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bvious that such problems even ex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0C7-AF56-4FC0-A259-A0B268FFCE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perties of polynomial-time 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so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oof idea: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 the redu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redu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get a new reduction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’’(x)=T’(T(x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A05-D009-4B31-8BB3-E8FE95A355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ok’s Theorem&amp; implica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heorem (Cook 197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NP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ard iff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tisfiability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45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mplete problem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ard then every problem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-time reduces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particula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i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ince it i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bl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o 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Satisfiability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rd i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atisfiability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194-FAAF-4AD3-9905-7BDA5D43E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NP-complete problem: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pai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number of clause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vertex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literal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wo vertic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,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n edge 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in the same clause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green edges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vice versa) for some variabl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(red ed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=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ly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B9C-64F0-4558-BA87-C0260B965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848520" y="1573920"/>
            <a:ext cx="68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096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8068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9036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81280" y="32504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432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71560" y="24883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09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715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80640" y="43171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CAA-3D6E-4A16-B547-EA020A6E0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re is some assignment that satisfies at least one literal in each cla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ing to the first satisfied literal in each cla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=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U has only one vertex per clause, no two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green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a truth assignment never satisfies bo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contain vertices labeled bo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no vertic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ed by red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 independent set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size at least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&lt;G,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Y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dependent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4A7-38B4-446F-ADB7-1D236B651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5T19:28:47Z</cp:lastPrinted>
  <dcterms:modified xsi:type="dcterms:W3CDTF">2001-03-05T21:23:40Z</dcterms:modified>
  <cp:revision>115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