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223-DA2F-4BDF-B625-D4866BFE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DFC-580F-43BB-9316-D1C836FF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C911-CDFC-4F3C-8FF7-9C0E650C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8D4-AA96-4541-B889-8EF6B1F1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060B-6E55-46D6-AF96-F453ECE2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E66E-FB6F-4203-9605-1FC98030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2133-A062-422A-8FA3-67D070F9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D73B-9C11-469A-800B-71F6147D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6215-684A-44A9-AAB1-9041B540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BD53-F074-4EF6-98F1-3934F92C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DC21-C219-4468-A8DD-65219D57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CBE-D713-4395-95FB-9B81082B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E27B-8A4E-46D8-9E9F-9EB3D6C3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CC53-E771-49C2-B57F-A96F33DB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42EA-D07B-4ACD-8FA4-ABC1636E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2034-A370-46CE-9859-D8350C2D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A9A4-AA6E-4EDB-A53A-C0E90FE2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49B-1279-4C1F-913E-812558B3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FF3-2369-4380-88C4-891DB301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BC15-40CD-4B46-8E63-CB76CB3F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A65-6F35-431E-B4CD-5C5F86B5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FF7-D585-4EC9-8933-6017E15D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CDD-C433-4B40-925B-0C902F33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DE7-AF14-4A72-9073-DE27283C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BAA9-C4A5-46F7-BA8F-DDC68C1607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62E3-0A35-4890-999E-5AEF808406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D752-C2F2-4696-9868-BD2D45B1D5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943600" y="3048120"/>
            <a:ext cx="1523880" cy="1523880"/>
          </a:xfrm>
          <a:custGeom>
            <a:avLst/>
            <a:gdLst/>
            <a:ahLst/>
            <a:rect l="l" t="t" r="r" b="b"/>
            <a:pathLst>
              <a:path w="960" h="960">
                <a:moveTo>
                  <a:pt x="0" y="0"/>
                </a:moveTo>
                <a:lnTo>
                  <a:pt x="960" y="0"/>
                </a:lnTo>
                <a:lnTo>
                  <a:pt x="960" y="192"/>
                </a:lnTo>
                <a:lnTo>
                  <a:pt x="960" y="432"/>
                </a:lnTo>
                <a:lnTo>
                  <a:pt x="768" y="816"/>
                </a:lnTo>
                <a:lnTo>
                  <a:pt x="576" y="960"/>
                </a:lnTo>
                <a:lnTo>
                  <a:pt x="288" y="912"/>
                </a:lnTo>
                <a:lnTo>
                  <a:pt x="144" y="768"/>
                </a:lnTo>
                <a:lnTo>
                  <a:pt x="96" y="624"/>
                </a:lnTo>
                <a:lnTo>
                  <a:pt x="0" y="384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3111480"/>
            <a:ext cx="1523880" cy="1460520"/>
          </a:xfrm>
          <a:custGeom>
            <a:avLst/>
            <a:gdLst/>
            <a:ahLst/>
            <a:rect l="l" t="t" r="r" b="b"/>
            <a:pathLst>
              <a:path w="960" h="920">
                <a:moveTo>
                  <a:pt x="6" y="26"/>
                </a:moveTo>
                <a:cubicBezTo>
                  <a:pt x="212" y="24"/>
                  <a:pt x="418" y="26"/>
                  <a:pt x="624" y="20"/>
                </a:cubicBezTo>
                <a:cubicBezTo>
                  <a:pt x="684" y="18"/>
                  <a:pt x="744" y="4"/>
                  <a:pt x="804" y="2"/>
                </a:cubicBezTo>
                <a:cubicBezTo>
                  <a:pt x="854" y="0"/>
                  <a:pt x="954" y="8"/>
                  <a:pt x="954" y="8"/>
                </a:cubicBezTo>
                <a:lnTo>
                  <a:pt x="960" y="344"/>
                </a:lnTo>
                <a:lnTo>
                  <a:pt x="768" y="776"/>
                </a:lnTo>
                <a:lnTo>
                  <a:pt x="480" y="920"/>
                </a:lnTo>
                <a:lnTo>
                  <a:pt x="288" y="872"/>
                </a:lnTo>
                <a:lnTo>
                  <a:pt x="144" y="680"/>
                </a:lnTo>
                <a:lnTo>
                  <a:pt x="48" y="488"/>
                </a:lnTo>
                <a:lnTo>
                  <a:pt x="0" y="200"/>
                </a:lnTo>
                <a:lnTo>
                  <a:pt x="6" y="2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ecision Problem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duction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L </a:t>
            </a:r>
            <a:r>
              <a:rPr b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 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3400" y="153756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16600" y="153756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2590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429000" y="3276360"/>
            <a:ext cx="3200400" cy="759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429000" y="3733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2760" y="4571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3600" y="327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31200" y="304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29280" y="5090040"/>
            <a:ext cx="204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mputable by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3111480"/>
            <a:ext cx="15238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048120"/>
            <a:ext cx="15238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560" y="38091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1160" y="38091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4280" y="2589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8200" y="2437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15440" y="5958720"/>
            <a:ext cx="71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 yes to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 yes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D8A-B9AE-4FE3-B073-82D5C0339B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943600" y="3048120"/>
            <a:ext cx="1523880" cy="1523880"/>
          </a:xfrm>
          <a:custGeom>
            <a:avLst/>
            <a:gdLst/>
            <a:ahLst/>
            <a:rect l="l" t="t" r="r" b="b"/>
            <a:pathLst>
              <a:path w="960" h="960">
                <a:moveTo>
                  <a:pt x="0" y="0"/>
                </a:moveTo>
                <a:lnTo>
                  <a:pt x="960" y="0"/>
                </a:lnTo>
                <a:lnTo>
                  <a:pt x="960" y="192"/>
                </a:lnTo>
                <a:lnTo>
                  <a:pt x="960" y="432"/>
                </a:lnTo>
                <a:lnTo>
                  <a:pt x="768" y="816"/>
                </a:lnTo>
                <a:lnTo>
                  <a:pt x="576" y="960"/>
                </a:lnTo>
                <a:lnTo>
                  <a:pt x="288" y="912"/>
                </a:lnTo>
                <a:lnTo>
                  <a:pt x="144" y="768"/>
                </a:lnTo>
                <a:lnTo>
                  <a:pt x="96" y="624"/>
                </a:lnTo>
                <a:lnTo>
                  <a:pt x="0" y="384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3111480"/>
            <a:ext cx="1523880" cy="1460520"/>
          </a:xfrm>
          <a:custGeom>
            <a:avLst/>
            <a:gdLst/>
            <a:ahLst/>
            <a:rect l="l" t="t" r="r" b="b"/>
            <a:pathLst>
              <a:path w="960" h="920">
                <a:moveTo>
                  <a:pt x="6" y="26"/>
                </a:moveTo>
                <a:cubicBezTo>
                  <a:pt x="212" y="24"/>
                  <a:pt x="418" y="26"/>
                  <a:pt x="624" y="20"/>
                </a:cubicBezTo>
                <a:cubicBezTo>
                  <a:pt x="684" y="18"/>
                  <a:pt x="744" y="4"/>
                  <a:pt x="804" y="2"/>
                </a:cubicBezTo>
                <a:cubicBezTo>
                  <a:pt x="854" y="0"/>
                  <a:pt x="954" y="8"/>
                  <a:pt x="954" y="8"/>
                </a:cubicBezTo>
                <a:lnTo>
                  <a:pt x="960" y="344"/>
                </a:lnTo>
                <a:lnTo>
                  <a:pt x="768" y="776"/>
                </a:lnTo>
                <a:lnTo>
                  <a:pt x="480" y="920"/>
                </a:lnTo>
                <a:lnTo>
                  <a:pt x="288" y="872"/>
                </a:lnTo>
                <a:lnTo>
                  <a:pt x="144" y="680"/>
                </a:lnTo>
                <a:lnTo>
                  <a:pt x="48" y="488"/>
                </a:lnTo>
                <a:lnTo>
                  <a:pt x="0" y="200"/>
                </a:lnTo>
                <a:lnTo>
                  <a:pt x="6" y="2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-tim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duction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L </a:t>
            </a:r>
            <a:r>
              <a:rPr b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40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3400" y="153756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16600" y="153756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2590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29000" y="3276360"/>
            <a:ext cx="3200400" cy="759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429000" y="3733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3600" y="327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31200" y="304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694680" y="4206240"/>
            <a:ext cx="3251520" cy="1160640"/>
            <a:chOff x="3694680" y="4206240"/>
            <a:chExt cx="3251520" cy="1160640"/>
          </a:xfrm>
        </p:grpSpPr>
        <p:sp>
          <p:nvSpPr>
            <p:cNvPr id="150" name=""/>
            <p:cNvSpPr/>
            <p:nvPr/>
          </p:nvSpPr>
          <p:spPr>
            <a:xfrm>
              <a:off x="4864680" y="42062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94680" y="4663080"/>
              <a:ext cx="3251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omputable by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rogram 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in polynomial-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514600" y="3111480"/>
            <a:ext cx="15238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3048120"/>
            <a:ext cx="15238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560" y="38091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1160" y="38091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4280" y="2589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8200" y="2437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17720" y="5637960"/>
            <a:ext cx="71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 yes to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 yes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475-D771-4BA2-B7EF-72464109E2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-time reductions preserve polynomial tim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f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lso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roof: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reduction showin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L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runs in polynomial time, sa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the algorithm solvin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runs in polynomial time, sa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algorithm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uns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n run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output of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0D8-DDD2-40FB-AE2C-CDCBF92CFD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unning time of </a:t>
            </a:r>
            <a:r>
              <a:rPr b="1" lang="en-US" sz="4000" spc="-1" strike="noStrike">
                <a:solidFill>
                  <a:srgbClr val="ff0000"/>
                </a:solidFill>
                <a:latin typeface="Palatino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s time at mos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n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pu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t mos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’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for some constan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we can only create  a constant number of output bits per output per st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s output takes time at mos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(c’n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pu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ize at mos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’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run-time i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tr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is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E3D-DFC5-4C6D-BA0F-33AF3AE6EF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hardness &amp;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completenes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P-h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tisfie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P-hard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R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bvious that such problems even exi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5D4-C71C-47EE-A2E1-7AD2683421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.g., Independent-Set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40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qu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-S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n integer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s there a subse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|U|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tw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tices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joined by an 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n integer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s there a subse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|U|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ery pa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vertices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joined by an 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edu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A2E-27BD-4EA5-AFF7-CE8FE04BA2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ok’s Theor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 (Cook 1971):  Satisfiability is           NP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idea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y proble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algorithm that verifies the hint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an write a polynomial-size CNF formula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L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that can be made true iff the verification algorithm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inp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hint, liked the hint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L,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atisfiab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swers YES on inp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formation from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F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L,x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computed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9A4-E7E1-4D69-8862-79ED733BE4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 and NP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3048120"/>
            <a:ext cx="1600200" cy="22096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1676520"/>
            <a:ext cx="2209680" cy="3809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8200" y="23616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8720" y="3580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1828800"/>
            <a:ext cx="1295280" cy="53352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0" y="0"/>
                </a:moveTo>
                <a:cubicBezTo>
                  <a:pt x="40" y="28"/>
                  <a:pt x="80" y="56"/>
                  <a:pt x="144" y="96"/>
                </a:cubicBezTo>
                <a:cubicBezTo>
                  <a:pt x="208" y="136"/>
                  <a:pt x="272" y="200"/>
                  <a:pt x="384" y="240"/>
                </a:cubicBezTo>
                <a:cubicBezTo>
                  <a:pt x="496" y="280"/>
                  <a:pt x="656" y="308"/>
                  <a:pt x="816" y="336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715000" y="2057400"/>
            <a:ext cx="8380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6320" y="220896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P-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97560" y="152280"/>
            <a:ext cx="2577960" cy="2210040"/>
          </a:xfrm>
          <a:custGeom>
            <a:avLst/>
            <a:gdLst/>
            <a:ahLst/>
            <a:rect l="l" t="t" r="r" b="b"/>
            <a:pathLst>
              <a:path w="1624" h="1392">
                <a:moveTo>
                  <a:pt x="176" y="1056"/>
                </a:moveTo>
                <a:cubicBezTo>
                  <a:pt x="188" y="1060"/>
                  <a:pt x="200" y="1064"/>
                  <a:pt x="176" y="1008"/>
                </a:cubicBezTo>
                <a:cubicBezTo>
                  <a:pt x="152" y="952"/>
                  <a:pt x="0" y="864"/>
                  <a:pt x="32" y="720"/>
                </a:cubicBezTo>
                <a:cubicBezTo>
                  <a:pt x="64" y="576"/>
                  <a:pt x="136" y="248"/>
                  <a:pt x="368" y="144"/>
                </a:cubicBezTo>
                <a:cubicBezTo>
                  <a:pt x="600" y="40"/>
                  <a:pt x="1224" y="0"/>
                  <a:pt x="1424" y="96"/>
                </a:cubicBezTo>
                <a:cubicBezTo>
                  <a:pt x="1624" y="192"/>
                  <a:pt x="1552" y="544"/>
                  <a:pt x="1568" y="720"/>
                </a:cubicBezTo>
                <a:cubicBezTo>
                  <a:pt x="1584" y="896"/>
                  <a:pt x="1608" y="1040"/>
                  <a:pt x="1520" y="1152"/>
                </a:cubicBezTo>
                <a:cubicBezTo>
                  <a:pt x="1432" y="1264"/>
                  <a:pt x="1236" y="1328"/>
                  <a:pt x="1040" y="13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5760" y="91368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P-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7CB-2796-4540-A9BE-D50FD8E4FD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 tim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lynomial-time) to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t of al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cision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vable by algorithms whose worst-case running time is bounded by some polynomial in the input si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IME(n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FCD-A597-45B3-9E96-69D6CCFD58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e complexity class 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NP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s of all decision problems where one c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r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YES answers efficiently (in polynomial time) given a short (polynomial-size) h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blems in NP and their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ecisionTS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our itsel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dependent-Set, Cliqu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atisfiabil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ssignment that mak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CE7-F645-4764-B78E-9180CB4B11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 and NP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3048120"/>
            <a:ext cx="1600200" cy="22096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1676520"/>
            <a:ext cx="2209680" cy="3809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8200" y="23616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8720" y="3580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B22-BF68-468E-9D0A-28DA892FE0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hardness &amp;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completenes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blems in NP seem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have looked for efficient algorithms for them for hundreds of years without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ody knows how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hey are really hard to solve, i.e.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76B-0EBD-4F8A-89A7-CDC69AE3FD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hardness &amp;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completenes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they are at least as hard as any problem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 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blem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P-h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it is at least as hard as any problem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blem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P-comp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it is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P-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0B3-DA76-4A4B-AD3C-56E5759DA5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howing one problem is at least as hard as anothe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before in case of considering whether problems could be solve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llowed any old progra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6452-E7BF-444B-8187-55C37B0281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-time reduc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a problem using our ordinary notion of reduction in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hat i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, up to a small amount of slop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t least as easy a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redu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ght take a really, really long time even though it is computable by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that progra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efficient,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FC2-5772-45CB-88D4-1321B0B1E7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duction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L </a:t>
            </a:r>
            <a:r>
              <a:rPr b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 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3400" y="153756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16600" y="153756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590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429000" y="3276360"/>
            <a:ext cx="3200400" cy="759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29000" y="3733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26640" y="39315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09320" y="289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31200" y="304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3600" y="5257080"/>
            <a:ext cx="21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(x)=R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2480" y="577548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ntu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is at least as easy 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or, equivalent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is at least as hard 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3400" y="4296240"/>
            <a:ext cx="21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mputable by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DDD-2FFC-4568-A0D7-16C4C7FACF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3-05T21:28:27Z</cp:lastPrinted>
  <dcterms:modified xsi:type="dcterms:W3CDTF">2001-03-05T21:28:34Z</dcterms:modified>
  <cp:revision>115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