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959-2E35-415A-9724-231533E6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447-A7AB-4D86-9D1F-6063C03A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6E3-1E67-4CE4-8C43-B4B756AE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787-8EFF-4DE3-9A12-871C375E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D6A7-CC3D-40EB-8115-1E955A53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88D9-0B87-414D-AE08-D01FE608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185E-D497-4A7A-8DB2-778E678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3A9-4558-4477-9F87-374FAF5D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AB61-C6EB-4B1B-B175-E37F81E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285-7689-46DD-944C-89D12D5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6877-B19A-4AE9-BCDC-E73AB51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2FD8-0807-4859-B174-2AC4E7FD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E8B-F554-4629-A84E-A077B58F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03AE-37BF-4C09-B1D1-5FCA5AA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3F34-9972-4F61-BA13-1B62B42B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3DE2-73B2-42F3-8D7D-9633C62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448-1657-4473-8B91-7DF1BCE0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E7A-3735-475C-9BE9-68A23B58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8E7-5B71-4AF2-BA80-3FE9F0A4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BF1-CFBB-4622-BDE9-2A27F350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6DF-0F28-4B55-9ACF-583BAC67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9BB-4AE7-4A09-90F3-A02DA24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B24-52EF-461C-8F79-09456DF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52F-E630-4B54-B25D-03650C3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5ED-DC4E-451D-9BC9-D48AC755B3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F43-D588-4601-85FC-0F1BDF78CA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9357-7B54-4533-9E26-9F22CEE0F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cision Problem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2760" y="4571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29280" y="5090040"/>
            <a:ext cx="20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utable b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15440" y="5958720"/>
            <a:ext cx="71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AEE-8A91-4979-ADB2-CD6566DE71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94680" y="4206240"/>
            <a:ext cx="3251520" cy="1160640"/>
            <a:chOff x="3694680" y="4206240"/>
            <a:chExt cx="3251520" cy="1160640"/>
          </a:xfrm>
        </p:grpSpPr>
        <p:sp>
          <p:nvSpPr>
            <p:cNvPr id="150" name=""/>
            <p:cNvSpPr/>
            <p:nvPr/>
          </p:nvSpPr>
          <p:spPr>
            <a:xfrm>
              <a:off x="4864680" y="4206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4680" y="4663080"/>
              <a:ext cx="325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omputable by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ogram 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in polynomi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17720" y="563796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A98-B194-4A49-8B81-DE82F2921F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 reductions preserve 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so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duction showin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uns in polynomial time, s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the algorithm solving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uns in polynomial time, s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lgorith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ru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utput of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222-7116-4F8F-92BA-51464682A8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unning time of </a:t>
            </a:r>
            <a:r>
              <a:rPr b="1" lang="en-US" sz="4000" spc="-1" strike="noStrike">
                <a:solidFill>
                  <a:srgbClr val="ff0000"/>
                </a:solidFill>
                <a:latin typeface="Palatino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kes time at m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 for some constan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we can only create  a constant number of output bits per output per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output takes time at m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c’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z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’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run-time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tr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ch is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C54-4B36-4F49-BC15-3C5A17DB5C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bvious that such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073-6812-48FE-8C61-C66DE4F40F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Independent-Set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q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-S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qu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25C-2E84-4ADE-8C49-651C0DA4A0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ok’s Theor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 (Cook 1971):  Satisfiability is          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ide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y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algorithm that verifies the hint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an write a polynomial-size CNF formula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that can be made true iff the verification algorithm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hint, liked the hint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atisfiab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swers YES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ormation fro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L,x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mputed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39A-6A54-4131-9DC8-77AAE1F58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 and 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048120"/>
            <a:ext cx="1600200" cy="22096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676520"/>
            <a:ext cx="2209680" cy="3809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8200" y="2361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8720" y="3580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1828800"/>
            <a:ext cx="1295280" cy="5335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0"/>
                </a:moveTo>
                <a:cubicBezTo>
                  <a:pt x="40" y="28"/>
                  <a:pt x="80" y="56"/>
                  <a:pt x="144" y="96"/>
                </a:cubicBezTo>
                <a:cubicBezTo>
                  <a:pt x="208" y="136"/>
                  <a:pt x="272" y="200"/>
                  <a:pt x="384" y="240"/>
                </a:cubicBezTo>
                <a:cubicBezTo>
                  <a:pt x="496" y="280"/>
                  <a:pt x="656" y="308"/>
                  <a:pt x="816" y="336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715000" y="2057400"/>
            <a:ext cx="8380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22089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7560" y="152280"/>
            <a:ext cx="2577960" cy="2210040"/>
          </a:xfrm>
          <a:custGeom>
            <a:avLst/>
            <a:gdLst/>
            <a:ahLst/>
            <a:rect l="l" t="t" r="r" b="b"/>
            <a:pathLst>
              <a:path w="1624" h="1392">
                <a:moveTo>
                  <a:pt x="176" y="1056"/>
                </a:moveTo>
                <a:cubicBezTo>
                  <a:pt x="188" y="1060"/>
                  <a:pt x="200" y="1064"/>
                  <a:pt x="176" y="1008"/>
                </a:cubicBezTo>
                <a:cubicBezTo>
                  <a:pt x="152" y="952"/>
                  <a:pt x="0" y="864"/>
                  <a:pt x="32" y="720"/>
                </a:cubicBezTo>
                <a:cubicBezTo>
                  <a:pt x="64" y="576"/>
                  <a:pt x="136" y="248"/>
                  <a:pt x="368" y="144"/>
                </a:cubicBezTo>
                <a:cubicBezTo>
                  <a:pt x="600" y="40"/>
                  <a:pt x="1224" y="0"/>
                  <a:pt x="1424" y="96"/>
                </a:cubicBezTo>
                <a:cubicBezTo>
                  <a:pt x="1624" y="192"/>
                  <a:pt x="1552" y="544"/>
                  <a:pt x="1568" y="720"/>
                </a:cubicBezTo>
                <a:cubicBezTo>
                  <a:pt x="1584" y="896"/>
                  <a:pt x="1608" y="1040"/>
                  <a:pt x="1520" y="1152"/>
                </a:cubicBezTo>
                <a:cubicBezTo>
                  <a:pt x="1432" y="1264"/>
                  <a:pt x="1236" y="1328"/>
                  <a:pt x="1040" y="13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5760" y="91368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528-09B2-4A8C-8906-61839AA182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F0A-A6C8-43AC-9E2D-AF5F13FA6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complexity class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all decision problems where one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YES answers efficiently (in polynomial time) given a short (polynomial-size) h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NP and their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ependent-Set, Cliqu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tisfiabi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AD1-0F1D-4DCD-BA5F-9E9EBB7A7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 and 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048120"/>
            <a:ext cx="1600200" cy="220968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676520"/>
            <a:ext cx="2209680" cy="3809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8200" y="2361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8720" y="3580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B0C-F316-4126-8EA1-F4F9A645A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blems in NP seem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looked for efficient algorithms for them for hundreds of years without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knows how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are really hard to solve, 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B40-BFF3-440F-A508-AB8D288C0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they are at least as hard as any problem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it is at least as hard as any problem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it is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-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7CB-6DB5-4188-B658-385D1E051F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howing one problem is at least as hard as anoth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before in case of considering whether problems could be solve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owed any old progra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EE9-10C0-4943-9DA0-F8BAA61056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problem using our ordinary notion of reduction i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hat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, up to a small amount of slop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least as easy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 take a really, really long time even though it is computable by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that progra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efficient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5C4-AA61-453E-AA90-21D168FDB9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26640" y="3931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0932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3600" y="525708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=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2480" y="57754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tu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easy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hard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3400" y="4296240"/>
            <a:ext cx="21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putable by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692-79B9-4468-BE1C-A15833CF71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5T21:28:27Z</cp:lastPrinted>
  <dcterms:modified xsi:type="dcterms:W3CDTF">2001-03-05T21:28:34Z</dcterms:modified>
  <cp:revision>11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