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804-57DC-4792-B416-3899A94F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9C5-2455-4B1A-A262-A36F2CF0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90C-DDA1-4A8E-A27E-2FD95AA0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F18-FF05-42ED-970B-A90D7EED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BC64-9CD3-4193-A974-2CD0F669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01F8-1D4C-421B-A692-7FD8FBD5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932B-94E1-497C-9CE2-7FBF5B10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5237-4F6E-4B61-BE8C-72FE0560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DE18-746E-4DD8-932D-F26D0A79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2762-4B16-4441-BC1D-BC85E6FC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7A05-FC7B-4284-B8DA-FCD724A7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0C4-9886-422E-AB1C-E8D3D0E7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E498-04ED-46BB-AFFA-C89F16BD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ED95-8B39-4514-8B94-A49FCB9E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5450-32D6-4A0E-952B-A46A7593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CBFE-592D-49D4-8324-8BB77B7E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DEB7-E437-4265-97D1-2DA9908A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A67-4F2F-41D5-B951-508F5119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CBF-4431-4CF0-9334-4D379832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C6D-853A-4D60-B5D7-42039A15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22C-D1FE-4E6A-A0FC-A2D5965D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FA3-1DD6-4835-B0F9-167EDBDD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B1E-A78A-45E4-ACBA-29C6C3A4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492-BC67-4834-A6AD-E06C36DA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80BA-2165-4414-9262-676E9DC17D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C13F-B30C-47C3-B60E-B225E27015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0433-7FA9-481F-B0EF-D3F0BFBE0F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atisfiabil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variable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,x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value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{0,1}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=false, 1=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=1,...,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gical OR of one or more lit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gical AND of a bunch of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0FE-7E49-4257-AE82-7BA83CA1F8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atisfiabil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F formul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some assignment of 0’s and 1’s to the variables that makes it true then we say the formula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is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e above is, the following is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ability:  Given a CNF formul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it satisf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E77-A597-4771-A776-DAAB7E790B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mon property of these hard problem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special piece of information,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hort h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proof, that allows you to efficiently verify (in polynomial-time) that the YES answer is correct.  This hint might be very hard to 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ecisionTS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our itsel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dependent-Set, Cliqu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atisfiabil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ssignment that mak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480-B382-4887-9EEA-7F54521A36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e complexity class 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NP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 all decision problems where one c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r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YES answers efficiently (in polynomial time) given a short (polynomial-size) h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obvious algorithm for most of these problems is brute for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all possible hints and check each one to see if it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7E29-A89B-4444-876C-3755807DAD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Unlike undecidabil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ody knows if all these problems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all be done in polynomial time, i.e.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oes P=N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most important open questions in all of sc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ge practical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roblem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oesn’t even need a hint for problems in P so just ignore any hint you are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83C-AC62-461E-AFFB-2057A53193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utational Complex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ve been interested in solving problems by using efficient algorith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run-times we’ve li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n),  O(n log n), O(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, O(nm), O(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, O(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.8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by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# of bits in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s we haven’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2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,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(1.618)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911-173A-4DEE-A638-E0D65C6D7A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 versus exponential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say any algorithm whose run-tim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nomial is g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than polynomial is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bigger tha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1.001)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st practical value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 usually such run-times don’t show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lgorithms that have run-times like O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/2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se may be useful for small input siz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54F-7436-4595-88E4-FE783771CF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ecision problem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complexity usually analyzed us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cision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is jus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simpler to deal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just encode each bit of a problem that has a longer answer as a decis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definitions such 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make sense in terms of decis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DC9-0B54-4F2B-97B6-14F869F21F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utational Complex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assify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cording to the amoun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utational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by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st algorith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olv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worst-case running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# steps algorithm takes on any input of siz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(n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the set of al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ision prob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lved by algorithms having worst-case running tim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f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313-8628-46C5-A573-AA32E4E6D2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 tim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lynomial-time) to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t of al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cision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vable by algorithms whose worst-case running time is bounded by some polynomial in the input si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IME(n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197-E68D-4B94-9304-D439D3C68C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eyond 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natural, practical problems for which we don’t know any polynomial-tim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ecisionTSP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weighted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n intege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es there exist a tour that visits all vertice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ing total weight at mos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8CF-9D5B-4F01-976B-E2E78DC880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olving TSP given a solution to decisionTSP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inary search and several calls to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ecisionT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figure out what the exact total weight of the shortest tour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and lower bounds to start ar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s largest and smallest weights of edges,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weight of the shortest t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figure out which edges are in the 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edg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graph in turn, remov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ee if there is a tour of weight at mos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cisionT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the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be in the tour so put it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98F-0477-4ABF-8BF1-CD873E67C9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ore exampl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-Se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n intege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there a subs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U|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tice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joined by an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qu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n intege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there a subs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U|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p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vertice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joined by an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037-BA62-46DD-B993-EC8B471F61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2-28T19:24:43Z</cp:lastPrinted>
  <dcterms:modified xsi:type="dcterms:W3CDTF">2001-03-02T18:14:08Z</dcterms:modified>
  <cp:revision>112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