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8CA1-BFEB-4F7B-B253-DE4A044F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CC84-A7AE-4159-9ABF-ACF49DBB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8D83-C051-4447-BA61-1755C6D6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B8D4-6D0D-438D-9E6B-A356ED2E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F7CA-487A-40EF-9BB0-423C630B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1EA9-4AAA-4447-A7FD-8E4EFA47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5545-AC83-4281-871C-447953C1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FACE-6341-475B-B630-89A4A66C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198A-FFB7-45AB-BEA3-2A116B33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C5ED-FF4E-4CDC-A9B1-45CE3A3B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742A-554F-4BFC-AAB6-BB2386E7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ED83-4452-4E26-9908-CD56A1C1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9A48-A988-4E10-AA61-4C80E714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C749-94A3-4FB6-9C1B-438448EB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F02A-20AF-4AD7-B723-51E964F4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EAF8-CD67-4BA7-953A-1A5F22B8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160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7120" y="152352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608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160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7120" y="3981240"/>
            <a:ext cx="263340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3AFE-16DC-4325-BE5D-21D040A5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4252-CFFC-461B-874D-13E552B9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FD93-FE7E-41DA-B2BA-D0526EA9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4674-6772-47AC-B826-E05AFD31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19E2-B3FA-4B60-8CD6-BBFD8304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BD46-31D1-4815-8A9E-AF9F3ED4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840" y="398124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7306-D37C-4455-878C-9D79F678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840" y="1523520"/>
            <a:ext cx="399096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6080" y="3981240"/>
            <a:ext cx="8178840" cy="22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8431-F21F-45A6-AE83-30042156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76E8-DE27-4BD2-AB94-4F35921F9D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CD3E-C927-4175-B724-8BCF46F359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4575-E4AC-4269-8356-3024D090D9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atisfiability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variables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,...,x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values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{0,1}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=false, 1=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=1,...,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gical OR of one or more lit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F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gical AND of a bunch of cl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0E4A-0631-486B-B537-F4E5AE05D7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atisfiability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NF formula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( 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is some assignment of 0’s and 1’s to the variables that makes it true then we say the formula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tisf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e above is, the following is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iability:  Given a CNF formul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s it satisfi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9225-93A6-4479-97B9-D4B5F2CF9A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ommon property of these hard problem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special piece of information,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hort h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proof, that allows you to efficiently verify (in polynomial-time) that the YES answer is correct.  This hint might be very hard to 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ecisionTS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tour itself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ndependent-Set, Cliqu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e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atisfiabil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assignment that make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12A1-71DA-45F6-BA45-4AB690FD70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he complexity class </a:t>
            </a: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NP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ists of all decision problems where one c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eri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YES answers efficiently (in polynomial time) given a short (polynomial-size) h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ly obvious algorithm for most of these problems is brute for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all possible hints and check each one to see if it 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nential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533-F571-4FF5-9F33-8386764790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Unlike undecidability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ody knows if all these problems i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all be done in polynomial time, i.e.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oes P=N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most important open questions in all of sc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ge practical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problem i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doesn’t even need a hint for problems in P so just ignore any hint you are 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48A1-3CFD-46C6-86D0-49BE9C4239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omputational Complexity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ve been interested in solving problems by using efficient algorith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 run-times we’ve lik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n),  O(n log n), O(n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, O(nm), O(n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, O(n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2.8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ed by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lynom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# of bits in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s we haven’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2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,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(1.618)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BCF5-F695-4B40-BC36-54B9BB2A17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olynomial versus exponential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say any algorithm whose run-tim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nomial is g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r than polynomial is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bigger tha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1.001)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ost practical values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t usually such run-times don’t show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algorithms that have run-times like O(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n/2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se may be useful for small input siz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B378-5236-4241-8FD8-6D2EC8938B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Decision problem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 complexity usually analyzed us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cision probl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is jus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y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simpler to deal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just encode each bit of a problem that has a longer answer as a decis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definitions such a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ly make sense in terms of decision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C84B-646A-4D6B-858E-D6E00A600F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omputational Complexity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assify probl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cording to the amount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putational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d by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est algorith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solv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worst-case running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n algorit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# steps algorithm takes on any input of size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ME(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(n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be the set of al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cision probl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lved by algorithms having worst-case running tim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(f(n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8A76-AAEA-477D-9B0A-ECECAA8153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olynomial tim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olynomial-time) to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t of al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cision probl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lvable by algorithms whose worst-case running time is bounded by some polynomial in the input siz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IME(n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FCA7-8718-4E0A-A8C2-7D88C62328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Beyond </a:t>
            </a: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natural, practical problems for which we don’t know any polynomial-time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decisionTSP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weighted grap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n intege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oes there exist a tour that visits all vertices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ing total weight at mos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8931-570D-499E-A470-0D562E6C4B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olving TSP given a solution to decisionTSP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binary search and several calls to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ecisionTS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figure out what the exact total weight of the shortest tour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 and lower bounds to start ar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s largest and smallest weights of edges, resp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weight of the shortest t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figure out which edges are in the t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edg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graph in turn, remov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ee if there is a tour of weight at mos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ing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ecisionT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 then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st be in the tour so put it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F5DB-23B0-414B-BDD4-327115F902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ore example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17884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-Se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grap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=(V,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n intege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s there a subse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|U|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 tw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rtices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joined by an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qu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grap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G=(V,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n intege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s there a subse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|U|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ery pa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vertices i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joined by an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481A-CFD5-4063-97D6-9A66D0F4C4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2-28T19:24:43Z</cp:lastPrinted>
  <dcterms:modified xsi:type="dcterms:W3CDTF">2001-03-02T18:14:08Z</dcterms:modified>
  <cp:revision>112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