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9AE-D5CB-473C-9FE4-CADB3C6A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95C-8729-4154-8C9F-7245C8DC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50B-62A7-47CC-8C51-FB6FFEA3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742-ADAF-4101-9826-13116043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A4A2-6B81-4150-970D-FAF68031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426A-EFC4-461D-9E82-11E5E724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BB94-160E-4BE5-AF92-E2BA1B50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3BB0-42EC-4D73-9C90-7DA29A4E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F111-A8C3-4FD5-A929-71A8487A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DCA0-DA37-4907-A0DC-2F756FA0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32E5-6AB9-45A4-8985-F7D002E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2F3-0F7E-4AC7-869D-EC1BCF18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D48B-203C-4F68-B80A-8D686C74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BD05-35D5-4E75-A869-AE3BDE0F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3B37-0580-4393-943B-4A6C525E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282D-A129-41DE-99A8-4CF645DF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55A3-B186-4F1E-B5ED-3581F37D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C1B-2B37-464E-8D15-172D649C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9D1-46D4-4F1B-AFC8-31433CA1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CFC-11EA-43EA-880B-FE308F4B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114-4ACB-4FA2-A6CE-39FBFB88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1F3-9207-4B2E-A4A6-9480DBCE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838-434A-480E-B955-715351BE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691-C57B-48D1-AFAB-2A380333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08C9-0C7C-452B-8DB9-C56083778E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AFCF-CF81-4A9B-A0FC-9A4C43E41A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6F28-46FD-49B7-BDB8-187038A873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ven harder proble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with the halting problem, we could always get at least one of the two answer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halted we could always answe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 this would cover precisely 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we need to do) but we can’t be sure about answering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atural problems where you can’t even do th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Given the codes of two programs,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swe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y compute the same function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y compute differ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5C1-66C9-42E5-9CC3-626173EF5D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 less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rely on the idea of improved compilers and programming languages to eliminate major programming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ly safe languages can’t possibly do genera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your cod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way you can expect someone else to figure out what your program does with just your code ....since....in general it is provably impossible to do th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0FB-599F-4101-BD5F-1830082B4F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other  undecidable proble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’s problem:  Given the code of a progra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If so, answ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se answe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i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1’s problem is undec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of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reduction from the Hal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B7C-C3FA-4101-BE5B-9AB1D5E8D7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we want for the reduc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ting problem takes as input a pair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’s problem takes as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&lt;P,x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reate a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&lt;M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input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ctly when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ts on input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2A0-2265-4A33-B96D-FC163C30DC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Y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ll that we need to do to creat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cod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instead of read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hard-coded as the input to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get rid of all output statement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new statement at the end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utput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another program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can do this transformation fro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P,x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&lt;M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6D8-3184-443E-9528-CA746B81F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How we might do the hard-coding if the code were in C?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 assignment at the start that would place the characters in st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ome arra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all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calls to a new functio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a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imulat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gets its data from arra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all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rint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oesn’t actually do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9DB-626E-4C07-8E18-B9DB5EE7FD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Finishing things off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 we get a re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alting Problem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1’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is no program solving the Halting Problem there must be no program solving the 1’s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B15-37FF-460E-A5C4-70FD4983B9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y the name reduction?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rd: it maps an easier problem into a harder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ense as saying Maxwel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roblem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nalyzing electricity &amp; magnet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olving partial different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partial differential equations in general is a much harder problem than solving E&amp;M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7E3-3479-4DD8-9559-2F7BF7F3C0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geek jok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1371600"/>
            <a:ext cx="81788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ed in a kitchen with an empty kettle on the table and told to boil water; s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is next confronted with a kettle full of water sitting on the counter and told to boil water; she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hemat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ed in a kitchen with an empty kettle on the table and told to boil water; he fills the kettle with water, puts it on the stove, turns on the gas and boils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is next confronted with a kettle full of water sitting on the counter and told to boil water: he empties the kettle in the sink, places the empty kettle on the table and says,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’ve reduced this to an already solved probl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A1D-EE3A-4EE0-AC5A-794E1DBDF5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 general phenomenon:       Can’t tell a book by its cov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have a problem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sks given program cod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&lt;P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o determine some property of the input-output behavior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swer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property an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have the prope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Rice’s 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nswer isn’t always the same then there is no program deciding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25C-D9F6-440D-935B-14BA6BA3F1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26T19:22:27Z</cp:lastPrinted>
  <dcterms:modified xsi:type="dcterms:W3CDTF">2001-02-26T22:27:33Z</dcterms:modified>
  <cp:revision>109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