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107-E2DC-4DC0-A085-5028551D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114-B517-4884-9B80-79056AB8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E4E-70E7-4277-8B41-A26D305F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EB1-ACAD-42F4-B8BD-81714AC2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A9B6-0EFB-4B48-AE02-CDD9935B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7B3-E027-44D4-8921-862EB9FE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CF13-C2ED-42AC-A857-497CEAB0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FF78-8B8F-486A-9518-72D048C0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0DF4-C4ED-4DE8-9F1A-A6330D3F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6E9D-FFC0-42A5-9503-64D5B994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A58A-2B9C-4D7D-9400-A67E2627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06C-8B50-49EB-8FDB-EC1C1A16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1B39-073B-4BFB-84EF-12D7E58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8A6A-689C-4744-B0EF-362E6E5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A2F6-BE64-498E-8E9C-B531638F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4539-C141-44B1-BEBB-BF80CAA4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F4DE-944D-4764-9FA7-66CAD93B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80D-1E96-4C0F-BBAC-C908776E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7A4-E13C-4DE1-8C57-C193DE61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97F-D62F-4672-9357-9DF7749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F06-E269-4816-8A8A-7057B07D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405-3449-4043-99CE-54C44EB6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61C-7D96-4B68-902B-D3B7A8C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FB5-CFDC-427B-8C9F-8748B6F7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8942-2690-41E8-9FBD-CD4BD01986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2402-FA1D-43A5-90E8-5818EC7A00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3A0D-BD34-49B2-8A37-0F96F6FF94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ven harder proble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with the halting problem, we could always get at least one of the two answer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halted we could always answ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this would cover precisely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we need to do) but we can’t be sure about answer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atural problems where you can’t even do th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Given the codes of two programs,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sw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y compute the same function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y compute differ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5F6-EB3F-472A-88C4-F2DF07DDAB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 less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ly on the idea of improved compilers and programming languages to eliminate major programming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safe languages can’t possibly do genera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your cod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way you can expect someone else to figure out what your program does with just your code ....since....in general it is provably impossible to do th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070-82F8-49FD-993A-AEA7FC6444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 undecidable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’s problem:  Given the code of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If so, answ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se answ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1’s problem is undec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reduction from the Hal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EC7-25AD-4336-B6FC-308638969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we want for the reduc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ing problem takes as input a pai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’s problem takes as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&lt;P,x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reate a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&lt;M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inpu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ctly whe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s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5B2-7BD8-4F98-8943-240C6CB7C8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Y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ll that we need to do to crea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cod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instead of rea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ard-coded as the input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get rid of all output statement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ew statement at the end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utpu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another program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an do this transformation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M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116-C452-4374-AE38-B846B782BA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ow we might do the hard-coding if the code were in C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ssignment at the start that would place the characters in 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me arra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al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calls to a new func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a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imulat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gets its data from arra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al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rint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oesn’t actually do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8AC-E00F-454B-ADEE-DC8405DE64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shing things off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 we get a re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lting Problem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1’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is no program solving the Halting Problem there must be no program solving the 1’s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3E6-4F75-4E5A-B5EF-1EA9AC1D4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the name reduction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: it maps an easier problem into a hard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ense as saying Maxwe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nalyzing electricity &amp; magnet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olving partial different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partial differential equations in general is a much harder problem than solving E&amp;M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116-0241-4A82-8DFB-C7A92CF217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geek jok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ed in a kitchen with an empty kettle on the table and told to boil water; s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is next confronted with a kettle full of water sitting on the counter and told to boil water; she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ed in a kitchen with an empty kettle on the table and told to boil water; 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next confronted with a kettle full of water sitting on the counter and told to boil water: he empties the kettle in the sink, places the empty kettle on the table and says,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’ve reduced this to an already solved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DCD-4984-4606-BD11-A114965C51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general phenomenon:       Can’t tell a book by its cov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have a proble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sks given program cod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P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 determine some property of the input-output behavior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swe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property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have the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Rice’s 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nswer isn’t always the same then there is no program deci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65F-E978-4E4F-A766-FFF8D4B3D8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26T19:22:27Z</cp:lastPrinted>
  <dcterms:modified xsi:type="dcterms:W3CDTF">2001-02-26T22:27:33Z</dcterms:modified>
  <cp:revision>109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