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AEE-7417-463F-9452-4CAF7B14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282-58A9-42C1-A9F5-9C4A474B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19C-E329-45CA-8616-A33A8411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A5D-8E78-4597-8C23-A1F43348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9BD6-3A00-45BE-B20B-2D1B506F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927-F063-4036-B388-0916FE7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2979-B4CE-4291-BEA1-B9D7F2AD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4625-D2EA-4D03-8DA4-02EF343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4FC-DB10-434E-9FF7-8FEF49B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2D8A-C2EA-48E9-AC75-449A337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B9C-E77F-4B66-B190-F0E18D5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34B-730E-46A7-B3E8-15C5599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2C20-3B0F-41B8-A7D5-F9B2AF7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D71D-252D-4CE4-9C4D-C255F64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63E6-7395-4770-9031-08F94B1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EB4-0626-452D-930E-7CDEA075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2AF-BE7E-4FDB-9C66-EB9F4382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950-652C-4FDA-B140-89627904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930-8488-439A-B931-CB92113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CA0-AE6E-4EB9-AEFD-9A415B53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334-DAEB-42AD-8639-DDB0796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CD7-5FCA-4E02-A587-170FB4E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22D-2F0C-4ABA-9B93-CFD599B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C9B-0BAA-401A-96DA-D152CB6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4E06-7E38-4B2A-9731-FE51A78C5F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233-DA8C-438B-ADF2-6C03687213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AD1-FDD4-482E-A878-EB8C888C6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roblem of size at lea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the first half of th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the second half of th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 two sort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roblem of size 1 do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332-82A5-42B0-B4DC-F0E259C259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st of Merg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lists to merge size n and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pointer to head of eac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smaller element to output and advanc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809880"/>
            <a:ext cx="304560" cy="38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809880"/>
            <a:ext cx="30456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4495680"/>
            <a:ext cx="1828800" cy="381240"/>
            <a:chOff x="3276720" y="4495680"/>
            <a:chExt cx="1828800" cy="381240"/>
          </a:xfrm>
        </p:grpSpPr>
        <p:sp>
          <p:nvSpPr>
            <p:cNvPr id="126" name=""/>
            <p:cNvSpPr/>
            <p:nvPr/>
          </p:nvSpPr>
          <p:spPr>
            <a:xfrm>
              <a:off x="3276720" y="4495680"/>
              <a:ext cx="30456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4495680"/>
              <a:ext cx="30456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8840" y="364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4120" y="43322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334120"/>
            <a:ext cx="30456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62520" y="5334120"/>
            <a:ext cx="1828800" cy="380880"/>
            <a:chOff x="3962520" y="5334120"/>
            <a:chExt cx="1828800" cy="380880"/>
          </a:xfrm>
        </p:grpSpPr>
        <p:sp>
          <p:nvSpPr>
            <p:cNvPr id="141" name=""/>
            <p:cNvSpPr/>
            <p:nvPr/>
          </p:nvSpPr>
          <p:spPr>
            <a:xfrm>
              <a:off x="3962520" y="5334120"/>
              <a:ext cx="30456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5334120"/>
              <a:ext cx="30456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38280" y="5334120"/>
            <a:ext cx="304920" cy="3808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638680"/>
            <a:ext cx="0" cy="2286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0640" y="52466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+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33880" y="578160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+m-1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in(n,m)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241-DFF6-416F-96AE-2E2C485923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 relation for Merge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otal including other operations let’s say each merge costs 3 per elemen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3n  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this to figure out T for any value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5)=T(3)+T(2)+3x5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(T(2)+T(1)+3x3)+(T(1)+T(1)+3x2)+15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((T(1)+T(1)+6)+1+9)+(1+1+6)+15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8+10+8+15=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819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eiling” roun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2080" y="358128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floor” roun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CA-3C56-4754-A273-E73667ADB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2 to n do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(j&gt;1 &amp; X[ j ] &gt; X[ j-1]) 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wap X[ j ] and X[ j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 For i=2 to n do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Insert X[i] in the sorted 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X[1],...,X[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B7E-C708-4535-8DF1-AEDEA4AB1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y need to add extra conditions - 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red 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69F-B741-49AD-A82B-9A34F268B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 relation for 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rst case c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reating list that has fir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sorted out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er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[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s up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isons in the wors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i)=T(n,i-1)+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1)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ince a list of length 1 is always s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n)=n(n-1)/2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003-9427-4AEF-8FA8-41ED20E8A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st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-case complex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inputs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699-573A-4D65-9292-9D445E3DC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ity of an algorithm associates a numb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best/worst/average-case time the algorithm takes, with each problem siz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: N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R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unction that maps positive integers giving problem size to positive real numbers giving number of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D6E-D876-47D8-8103-7AB6F3AE9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828800"/>
            <a:ext cx="0" cy="4038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5867280"/>
            <a:ext cx="655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133720"/>
            <a:ext cx="6858000" cy="3289320"/>
          </a:xfrm>
          <a:custGeom>
            <a:avLst/>
            <a:gdLst/>
            <a:ahLst/>
            <a:rect l="l" t="t" r="r" b="b"/>
            <a:pathLst>
              <a:path w="4320" h="2072">
                <a:moveTo>
                  <a:pt x="0" y="2016"/>
                </a:moveTo>
                <a:cubicBezTo>
                  <a:pt x="24" y="2044"/>
                  <a:pt x="48" y="2072"/>
                  <a:pt x="96" y="2064"/>
                </a:cubicBezTo>
                <a:cubicBezTo>
                  <a:pt x="144" y="2056"/>
                  <a:pt x="216" y="1984"/>
                  <a:pt x="288" y="1968"/>
                </a:cubicBezTo>
                <a:cubicBezTo>
                  <a:pt x="360" y="1952"/>
                  <a:pt x="456" y="1984"/>
                  <a:pt x="528" y="1968"/>
                </a:cubicBezTo>
                <a:cubicBezTo>
                  <a:pt x="600" y="1952"/>
                  <a:pt x="656" y="1880"/>
                  <a:pt x="720" y="1872"/>
                </a:cubicBezTo>
                <a:cubicBezTo>
                  <a:pt x="784" y="1864"/>
                  <a:pt x="816" y="1944"/>
                  <a:pt x="912" y="1920"/>
                </a:cubicBezTo>
                <a:cubicBezTo>
                  <a:pt x="1008" y="1896"/>
                  <a:pt x="1192" y="1752"/>
                  <a:pt x="1296" y="1728"/>
                </a:cubicBezTo>
                <a:cubicBezTo>
                  <a:pt x="1400" y="1704"/>
                  <a:pt x="1440" y="1800"/>
                  <a:pt x="1536" y="1776"/>
                </a:cubicBezTo>
                <a:cubicBezTo>
                  <a:pt x="1632" y="1752"/>
                  <a:pt x="1776" y="1616"/>
                  <a:pt x="1872" y="1584"/>
                </a:cubicBezTo>
                <a:cubicBezTo>
                  <a:pt x="1968" y="1552"/>
                  <a:pt x="2024" y="1608"/>
                  <a:pt x="2112" y="1584"/>
                </a:cubicBezTo>
                <a:cubicBezTo>
                  <a:pt x="2200" y="1560"/>
                  <a:pt x="2320" y="1488"/>
                  <a:pt x="2400" y="1440"/>
                </a:cubicBezTo>
                <a:cubicBezTo>
                  <a:pt x="2480" y="1392"/>
                  <a:pt x="2528" y="1336"/>
                  <a:pt x="2592" y="1296"/>
                </a:cubicBezTo>
                <a:cubicBezTo>
                  <a:pt x="2656" y="1256"/>
                  <a:pt x="2696" y="1216"/>
                  <a:pt x="2784" y="1200"/>
                </a:cubicBezTo>
                <a:cubicBezTo>
                  <a:pt x="2872" y="1184"/>
                  <a:pt x="3048" y="1224"/>
                  <a:pt x="3120" y="1200"/>
                </a:cubicBezTo>
                <a:cubicBezTo>
                  <a:pt x="3192" y="1176"/>
                  <a:pt x="3144" y="1112"/>
                  <a:pt x="3216" y="1056"/>
                </a:cubicBezTo>
                <a:cubicBezTo>
                  <a:pt x="3288" y="1000"/>
                  <a:pt x="3472" y="936"/>
                  <a:pt x="3552" y="864"/>
                </a:cubicBezTo>
                <a:cubicBezTo>
                  <a:pt x="3632" y="792"/>
                  <a:pt x="3632" y="688"/>
                  <a:pt x="3696" y="624"/>
                </a:cubicBezTo>
                <a:cubicBezTo>
                  <a:pt x="3760" y="560"/>
                  <a:pt x="3888" y="536"/>
                  <a:pt x="3936" y="480"/>
                </a:cubicBezTo>
                <a:cubicBezTo>
                  <a:pt x="3984" y="424"/>
                  <a:pt x="3944" y="344"/>
                  <a:pt x="3984" y="288"/>
                </a:cubicBezTo>
                <a:cubicBezTo>
                  <a:pt x="4024" y="232"/>
                  <a:pt x="4120" y="192"/>
                  <a:pt x="4176" y="144"/>
                </a:cubicBezTo>
                <a:cubicBezTo>
                  <a:pt x="4232" y="96"/>
                  <a:pt x="4296" y="24"/>
                  <a:pt x="432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9520" y="58561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159800">
            <a:off x="155880" y="365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7680" y="1893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7C3-0986-4C48-B89A-8E6764FDC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828800"/>
            <a:ext cx="0" cy="4038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867280"/>
            <a:ext cx="655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133720"/>
            <a:ext cx="6858000" cy="3289320"/>
          </a:xfrm>
          <a:custGeom>
            <a:avLst/>
            <a:gdLst/>
            <a:ahLst/>
            <a:rect l="l" t="t" r="r" b="b"/>
            <a:pathLst>
              <a:path w="4320" h="2072">
                <a:moveTo>
                  <a:pt x="0" y="2016"/>
                </a:moveTo>
                <a:cubicBezTo>
                  <a:pt x="24" y="2044"/>
                  <a:pt x="48" y="2072"/>
                  <a:pt x="96" y="2064"/>
                </a:cubicBezTo>
                <a:cubicBezTo>
                  <a:pt x="144" y="2056"/>
                  <a:pt x="216" y="1984"/>
                  <a:pt x="288" y="1968"/>
                </a:cubicBezTo>
                <a:cubicBezTo>
                  <a:pt x="360" y="1952"/>
                  <a:pt x="456" y="1984"/>
                  <a:pt x="528" y="1968"/>
                </a:cubicBezTo>
                <a:cubicBezTo>
                  <a:pt x="600" y="1952"/>
                  <a:pt x="656" y="1880"/>
                  <a:pt x="720" y="1872"/>
                </a:cubicBezTo>
                <a:cubicBezTo>
                  <a:pt x="784" y="1864"/>
                  <a:pt x="816" y="1944"/>
                  <a:pt x="912" y="1920"/>
                </a:cubicBezTo>
                <a:cubicBezTo>
                  <a:pt x="1008" y="1896"/>
                  <a:pt x="1192" y="1752"/>
                  <a:pt x="1296" y="1728"/>
                </a:cubicBezTo>
                <a:cubicBezTo>
                  <a:pt x="1400" y="1704"/>
                  <a:pt x="1440" y="1800"/>
                  <a:pt x="1536" y="1776"/>
                </a:cubicBezTo>
                <a:cubicBezTo>
                  <a:pt x="1632" y="1752"/>
                  <a:pt x="1776" y="1616"/>
                  <a:pt x="1872" y="1584"/>
                </a:cubicBezTo>
                <a:cubicBezTo>
                  <a:pt x="1968" y="1552"/>
                  <a:pt x="2024" y="1608"/>
                  <a:pt x="2112" y="1584"/>
                </a:cubicBezTo>
                <a:cubicBezTo>
                  <a:pt x="2200" y="1560"/>
                  <a:pt x="2320" y="1488"/>
                  <a:pt x="2400" y="1440"/>
                </a:cubicBezTo>
                <a:cubicBezTo>
                  <a:pt x="2480" y="1392"/>
                  <a:pt x="2528" y="1336"/>
                  <a:pt x="2592" y="1296"/>
                </a:cubicBezTo>
                <a:cubicBezTo>
                  <a:pt x="2656" y="1256"/>
                  <a:pt x="2696" y="1216"/>
                  <a:pt x="2784" y="1200"/>
                </a:cubicBezTo>
                <a:cubicBezTo>
                  <a:pt x="2872" y="1184"/>
                  <a:pt x="3048" y="1224"/>
                  <a:pt x="3120" y="1200"/>
                </a:cubicBezTo>
                <a:cubicBezTo>
                  <a:pt x="3192" y="1176"/>
                  <a:pt x="3144" y="1112"/>
                  <a:pt x="3216" y="1056"/>
                </a:cubicBezTo>
                <a:cubicBezTo>
                  <a:pt x="3288" y="1000"/>
                  <a:pt x="3472" y="936"/>
                  <a:pt x="3552" y="864"/>
                </a:cubicBezTo>
                <a:cubicBezTo>
                  <a:pt x="3632" y="792"/>
                  <a:pt x="3632" y="688"/>
                  <a:pt x="3696" y="624"/>
                </a:cubicBezTo>
                <a:cubicBezTo>
                  <a:pt x="3760" y="560"/>
                  <a:pt x="3888" y="536"/>
                  <a:pt x="3936" y="480"/>
                </a:cubicBezTo>
                <a:cubicBezTo>
                  <a:pt x="3984" y="424"/>
                  <a:pt x="3944" y="344"/>
                  <a:pt x="3984" y="288"/>
                </a:cubicBezTo>
                <a:cubicBezTo>
                  <a:pt x="4024" y="232"/>
                  <a:pt x="4120" y="192"/>
                  <a:pt x="4176" y="144"/>
                </a:cubicBezTo>
                <a:cubicBezTo>
                  <a:pt x="4232" y="96"/>
                  <a:pt x="4296" y="24"/>
                  <a:pt x="432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9520" y="58561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159800">
            <a:off x="155880" y="365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87680" y="1893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536840"/>
            <a:ext cx="8013600" cy="4254480"/>
          </a:xfrm>
          <a:custGeom>
            <a:avLst/>
            <a:gdLst/>
            <a:ahLst/>
            <a:rect l="l" t="t" r="r" b="b"/>
            <a:pathLst>
              <a:path w="5048" h="2680">
                <a:moveTo>
                  <a:pt x="0" y="2680"/>
                </a:moveTo>
                <a:cubicBezTo>
                  <a:pt x="1048" y="2540"/>
                  <a:pt x="2096" y="2400"/>
                  <a:pt x="2880" y="2008"/>
                </a:cubicBezTo>
                <a:cubicBezTo>
                  <a:pt x="3664" y="1616"/>
                  <a:pt x="4360" y="656"/>
                  <a:pt x="4704" y="328"/>
                </a:cubicBezTo>
                <a:cubicBezTo>
                  <a:pt x="5048" y="0"/>
                  <a:pt x="4996" y="20"/>
                  <a:pt x="4944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76520"/>
            <a:ext cx="7010640" cy="4114800"/>
          </a:xfrm>
          <a:custGeom>
            <a:avLst/>
            <a:gdLst/>
            <a:ahLst/>
            <a:rect l="l" t="t" r="r" b="b"/>
            <a:pathLst>
              <a:path w="4416" h="2592">
                <a:moveTo>
                  <a:pt x="0" y="2592"/>
                </a:moveTo>
                <a:cubicBezTo>
                  <a:pt x="1048" y="2232"/>
                  <a:pt x="2096" y="1872"/>
                  <a:pt x="2832" y="1440"/>
                </a:cubicBezTo>
                <a:cubicBezTo>
                  <a:pt x="3568" y="1008"/>
                  <a:pt x="4152" y="240"/>
                  <a:pt x="4416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520" y="4865760"/>
            <a:ext cx="126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97000" y="2884320"/>
            <a:ext cx="146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9A6-E76F-4E60-8619-7539D50C6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-notation et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functions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g:N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 const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o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hat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entually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alway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 const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o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entually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alway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re consta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eventu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lw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694-2212-45C6-94EE-0C1ED2BB0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6n+1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6n+1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O(n)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t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use not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=O(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418-2B81-4713-9A71-6FF173DC6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omin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(n)/g(n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(n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it canno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DEF-08AA-49E1-AD2D-7D2482C754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eneral algorithm design paradig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way to reduce your problem to one or more smaller problems of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blems are really small solve them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CE-A1D2-4BD6-A195-C70EDA947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8T19:18:48Z</cp:lastPrinted>
  <dcterms:modified xsi:type="dcterms:W3CDTF">2001-01-10T22:37:30Z</dcterms:modified>
  <cp:revision>42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