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52F-6EF8-423E-B812-6D6A4565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37A-1AAE-4745-AA27-499A8AF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E6A-EE34-4365-A26F-78EFCDD1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25D-5EC6-470D-86D0-434F30B8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A8BF-D9ED-4E79-8C75-35B31E3F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3E97-F132-4FF9-8E2D-146F9C8F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C49C-AB08-4F53-AC9F-EBC66FC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4C1C-4250-4F09-8F20-60B1E578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019-0C02-42E0-B61D-2B76BD38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E1B5-7262-43C9-A85B-591BC60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A052-0F85-42A2-BB78-82AC80C0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91F-0E61-4494-A579-0F0F2365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BD2E-9B5C-4779-907C-8A6D022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370-0157-4126-9AE2-2732BAE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3157-6AFD-4595-8B85-FF7BE8BF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09BB-2550-4AF9-AECA-0C45BD27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4AA6-A634-4D4B-913A-E0544F72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A97-845A-45DA-A645-C3F2A098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6CC-0357-406B-8F21-5DB32B4E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635-DD9F-4449-ACEA-728FA6A4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4C5-5701-4E18-9629-C58E6E3E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C3A-C0CF-4010-BDAE-6B86E04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D9E-87C5-4AB3-9C65-91AAE03D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216-8421-473F-9FB3-B617A7E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D040-CC86-4058-B58B-E9FB84238F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4DFB-C597-43E8-ABE8-E4447387CC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E1F-E4A3-41E9-B5C5-FA1FF906AF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roblem of size at leas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the first half of th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the second half of th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the two sorted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problem of size 1 do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00A-F376-430E-B522-AFA33B1DA1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st of Merg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wo lists to merge size n and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pointer to head of eac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smaller element to output and advanc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809880"/>
            <a:ext cx="304560" cy="38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809880"/>
            <a:ext cx="304920" cy="38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3809880"/>
            <a:ext cx="304920" cy="38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809880"/>
            <a:ext cx="304560" cy="38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3809880"/>
            <a:ext cx="304920" cy="38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76720" y="4495680"/>
            <a:ext cx="1828800" cy="381240"/>
            <a:chOff x="3276720" y="4495680"/>
            <a:chExt cx="1828800" cy="381240"/>
          </a:xfrm>
        </p:grpSpPr>
        <p:sp>
          <p:nvSpPr>
            <p:cNvPr id="126" name=""/>
            <p:cNvSpPr/>
            <p:nvPr/>
          </p:nvSpPr>
          <p:spPr>
            <a:xfrm>
              <a:off x="3276720" y="4495680"/>
              <a:ext cx="30456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4495680"/>
              <a:ext cx="30492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4495680"/>
              <a:ext cx="30492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1120" y="4495680"/>
              <a:ext cx="30456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5680" y="4495680"/>
              <a:ext cx="30492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0600" y="4495680"/>
              <a:ext cx="304920" cy="3812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8840" y="3646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4120" y="43322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4038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5334120"/>
            <a:ext cx="304920" cy="38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5334120"/>
            <a:ext cx="304560" cy="38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334120"/>
            <a:ext cx="304920" cy="38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5334120"/>
            <a:ext cx="304920" cy="38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62520" y="5334120"/>
            <a:ext cx="1828800" cy="380880"/>
            <a:chOff x="3962520" y="5334120"/>
            <a:chExt cx="1828800" cy="380880"/>
          </a:xfrm>
        </p:grpSpPr>
        <p:sp>
          <p:nvSpPr>
            <p:cNvPr id="141" name=""/>
            <p:cNvSpPr/>
            <p:nvPr/>
          </p:nvSpPr>
          <p:spPr>
            <a:xfrm>
              <a:off x="3962520" y="5334120"/>
              <a:ext cx="30456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7080" y="5334120"/>
              <a:ext cx="30492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5334120"/>
              <a:ext cx="30492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5334120"/>
              <a:ext cx="30456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5334120"/>
              <a:ext cx="30492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5334120"/>
              <a:ext cx="304920" cy="380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438280" y="5334120"/>
            <a:ext cx="304920" cy="3808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638680"/>
            <a:ext cx="0" cy="22860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30640" y="52466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+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33880" y="5781600"/>
            <a:ext cx="556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Worst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+m-1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est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in(n,m)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4B8-F100-4356-873D-A0B354372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rence relation for Merge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otal including other operations let’s say each merge costs 3 per element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3n  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1)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this to figure out T for any value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(5)=T(3)+T(2)+3x5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(T(2)+T(1)+3x3)+(T(1)+T(1)+3x2)+15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((T(1)+T(1)+6)+1+9)+(1+1+6)+15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=8+10+8+15=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819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ceiling” round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52080" y="358128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floor” roun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2EC-4B95-4203-A213-879F9138B2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sertion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=2 to n do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(j&gt;1 &amp; X[ j ] &gt; X[ j-1]) 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swap X[ j ] and X[ j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,  For i=2 to n do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Insert X[i] in the sorted li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X[1],...,X[i-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E24-35FA-4BE7-B660-577C4FA990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ay need to add extra conditions - Insertion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ame values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red out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ing same values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ing same values a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7C6-DF2E-41E8-8241-738296E43F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rence relation for Insertion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orst case c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reating list that has fir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sorted out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er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[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kes up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isons in the worst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i)=T(n,i-1)+i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1)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ince a list of length 1 is always s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n,n)=n(n-1)/2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xt cl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C36-5B32-48C1-9858-C7567F3F5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st-cas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any input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-case complex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any input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-case complex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# steps algorithm takes on inputs of siz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652-B438-4FD8-BE6B-4EABF491A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xity of an algorithm associates a number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best/worst/average-case time the algorithm takes, with each problem siz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ematical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: N</a:t>
            </a:r>
            <a:r>
              <a:rPr b="1" lang="en-US" sz="28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R</a:t>
            </a:r>
            <a:r>
              <a:rPr b="1" lang="en-US" sz="28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unction that maps positive integers giving problem size to positive real numbers giving number of ste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531-5EB1-415A-BE4E-EC6CA8B679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828800"/>
            <a:ext cx="0" cy="4038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5867280"/>
            <a:ext cx="6553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133720"/>
            <a:ext cx="6858000" cy="3289320"/>
          </a:xfrm>
          <a:custGeom>
            <a:avLst/>
            <a:gdLst/>
            <a:ahLst/>
            <a:rect l="l" t="t" r="r" b="b"/>
            <a:pathLst>
              <a:path w="4320" h="2072">
                <a:moveTo>
                  <a:pt x="0" y="2016"/>
                </a:moveTo>
                <a:cubicBezTo>
                  <a:pt x="24" y="2044"/>
                  <a:pt x="48" y="2072"/>
                  <a:pt x="96" y="2064"/>
                </a:cubicBezTo>
                <a:cubicBezTo>
                  <a:pt x="144" y="2056"/>
                  <a:pt x="216" y="1984"/>
                  <a:pt x="288" y="1968"/>
                </a:cubicBezTo>
                <a:cubicBezTo>
                  <a:pt x="360" y="1952"/>
                  <a:pt x="456" y="1984"/>
                  <a:pt x="528" y="1968"/>
                </a:cubicBezTo>
                <a:cubicBezTo>
                  <a:pt x="600" y="1952"/>
                  <a:pt x="656" y="1880"/>
                  <a:pt x="720" y="1872"/>
                </a:cubicBezTo>
                <a:cubicBezTo>
                  <a:pt x="784" y="1864"/>
                  <a:pt x="816" y="1944"/>
                  <a:pt x="912" y="1920"/>
                </a:cubicBezTo>
                <a:cubicBezTo>
                  <a:pt x="1008" y="1896"/>
                  <a:pt x="1192" y="1752"/>
                  <a:pt x="1296" y="1728"/>
                </a:cubicBezTo>
                <a:cubicBezTo>
                  <a:pt x="1400" y="1704"/>
                  <a:pt x="1440" y="1800"/>
                  <a:pt x="1536" y="1776"/>
                </a:cubicBezTo>
                <a:cubicBezTo>
                  <a:pt x="1632" y="1752"/>
                  <a:pt x="1776" y="1616"/>
                  <a:pt x="1872" y="1584"/>
                </a:cubicBezTo>
                <a:cubicBezTo>
                  <a:pt x="1968" y="1552"/>
                  <a:pt x="2024" y="1608"/>
                  <a:pt x="2112" y="1584"/>
                </a:cubicBezTo>
                <a:cubicBezTo>
                  <a:pt x="2200" y="1560"/>
                  <a:pt x="2320" y="1488"/>
                  <a:pt x="2400" y="1440"/>
                </a:cubicBezTo>
                <a:cubicBezTo>
                  <a:pt x="2480" y="1392"/>
                  <a:pt x="2528" y="1336"/>
                  <a:pt x="2592" y="1296"/>
                </a:cubicBezTo>
                <a:cubicBezTo>
                  <a:pt x="2656" y="1256"/>
                  <a:pt x="2696" y="1216"/>
                  <a:pt x="2784" y="1200"/>
                </a:cubicBezTo>
                <a:cubicBezTo>
                  <a:pt x="2872" y="1184"/>
                  <a:pt x="3048" y="1224"/>
                  <a:pt x="3120" y="1200"/>
                </a:cubicBezTo>
                <a:cubicBezTo>
                  <a:pt x="3192" y="1176"/>
                  <a:pt x="3144" y="1112"/>
                  <a:pt x="3216" y="1056"/>
                </a:cubicBezTo>
                <a:cubicBezTo>
                  <a:pt x="3288" y="1000"/>
                  <a:pt x="3472" y="936"/>
                  <a:pt x="3552" y="864"/>
                </a:cubicBezTo>
                <a:cubicBezTo>
                  <a:pt x="3632" y="792"/>
                  <a:pt x="3632" y="688"/>
                  <a:pt x="3696" y="624"/>
                </a:cubicBezTo>
                <a:cubicBezTo>
                  <a:pt x="3760" y="560"/>
                  <a:pt x="3888" y="536"/>
                  <a:pt x="3936" y="480"/>
                </a:cubicBezTo>
                <a:cubicBezTo>
                  <a:pt x="3984" y="424"/>
                  <a:pt x="3944" y="344"/>
                  <a:pt x="3984" y="288"/>
                </a:cubicBezTo>
                <a:cubicBezTo>
                  <a:pt x="4024" y="232"/>
                  <a:pt x="4120" y="192"/>
                  <a:pt x="4176" y="144"/>
                </a:cubicBezTo>
                <a:cubicBezTo>
                  <a:pt x="4232" y="96"/>
                  <a:pt x="4296" y="24"/>
                  <a:pt x="432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9520" y="585612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159800">
            <a:off x="155880" y="365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7680" y="18939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B32-32DF-4427-B440-87F03F8A72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828800"/>
            <a:ext cx="0" cy="4038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867280"/>
            <a:ext cx="6553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133720"/>
            <a:ext cx="6858000" cy="3289320"/>
          </a:xfrm>
          <a:custGeom>
            <a:avLst/>
            <a:gdLst/>
            <a:ahLst/>
            <a:rect l="l" t="t" r="r" b="b"/>
            <a:pathLst>
              <a:path w="4320" h="2072">
                <a:moveTo>
                  <a:pt x="0" y="2016"/>
                </a:moveTo>
                <a:cubicBezTo>
                  <a:pt x="24" y="2044"/>
                  <a:pt x="48" y="2072"/>
                  <a:pt x="96" y="2064"/>
                </a:cubicBezTo>
                <a:cubicBezTo>
                  <a:pt x="144" y="2056"/>
                  <a:pt x="216" y="1984"/>
                  <a:pt x="288" y="1968"/>
                </a:cubicBezTo>
                <a:cubicBezTo>
                  <a:pt x="360" y="1952"/>
                  <a:pt x="456" y="1984"/>
                  <a:pt x="528" y="1968"/>
                </a:cubicBezTo>
                <a:cubicBezTo>
                  <a:pt x="600" y="1952"/>
                  <a:pt x="656" y="1880"/>
                  <a:pt x="720" y="1872"/>
                </a:cubicBezTo>
                <a:cubicBezTo>
                  <a:pt x="784" y="1864"/>
                  <a:pt x="816" y="1944"/>
                  <a:pt x="912" y="1920"/>
                </a:cubicBezTo>
                <a:cubicBezTo>
                  <a:pt x="1008" y="1896"/>
                  <a:pt x="1192" y="1752"/>
                  <a:pt x="1296" y="1728"/>
                </a:cubicBezTo>
                <a:cubicBezTo>
                  <a:pt x="1400" y="1704"/>
                  <a:pt x="1440" y="1800"/>
                  <a:pt x="1536" y="1776"/>
                </a:cubicBezTo>
                <a:cubicBezTo>
                  <a:pt x="1632" y="1752"/>
                  <a:pt x="1776" y="1616"/>
                  <a:pt x="1872" y="1584"/>
                </a:cubicBezTo>
                <a:cubicBezTo>
                  <a:pt x="1968" y="1552"/>
                  <a:pt x="2024" y="1608"/>
                  <a:pt x="2112" y="1584"/>
                </a:cubicBezTo>
                <a:cubicBezTo>
                  <a:pt x="2200" y="1560"/>
                  <a:pt x="2320" y="1488"/>
                  <a:pt x="2400" y="1440"/>
                </a:cubicBezTo>
                <a:cubicBezTo>
                  <a:pt x="2480" y="1392"/>
                  <a:pt x="2528" y="1336"/>
                  <a:pt x="2592" y="1296"/>
                </a:cubicBezTo>
                <a:cubicBezTo>
                  <a:pt x="2656" y="1256"/>
                  <a:pt x="2696" y="1216"/>
                  <a:pt x="2784" y="1200"/>
                </a:cubicBezTo>
                <a:cubicBezTo>
                  <a:pt x="2872" y="1184"/>
                  <a:pt x="3048" y="1224"/>
                  <a:pt x="3120" y="1200"/>
                </a:cubicBezTo>
                <a:cubicBezTo>
                  <a:pt x="3192" y="1176"/>
                  <a:pt x="3144" y="1112"/>
                  <a:pt x="3216" y="1056"/>
                </a:cubicBezTo>
                <a:cubicBezTo>
                  <a:pt x="3288" y="1000"/>
                  <a:pt x="3472" y="936"/>
                  <a:pt x="3552" y="864"/>
                </a:cubicBezTo>
                <a:cubicBezTo>
                  <a:pt x="3632" y="792"/>
                  <a:pt x="3632" y="688"/>
                  <a:pt x="3696" y="624"/>
                </a:cubicBezTo>
                <a:cubicBezTo>
                  <a:pt x="3760" y="560"/>
                  <a:pt x="3888" y="536"/>
                  <a:pt x="3936" y="480"/>
                </a:cubicBezTo>
                <a:cubicBezTo>
                  <a:pt x="3984" y="424"/>
                  <a:pt x="3944" y="344"/>
                  <a:pt x="3984" y="288"/>
                </a:cubicBezTo>
                <a:cubicBezTo>
                  <a:pt x="4024" y="232"/>
                  <a:pt x="4120" y="192"/>
                  <a:pt x="4176" y="144"/>
                </a:cubicBezTo>
                <a:cubicBezTo>
                  <a:pt x="4232" y="96"/>
                  <a:pt x="4296" y="24"/>
                  <a:pt x="4320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29520" y="585612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159800">
            <a:off x="155880" y="365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87680" y="18939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536840"/>
            <a:ext cx="8013600" cy="4254480"/>
          </a:xfrm>
          <a:custGeom>
            <a:avLst/>
            <a:gdLst/>
            <a:ahLst/>
            <a:rect l="l" t="t" r="r" b="b"/>
            <a:pathLst>
              <a:path w="5048" h="2680">
                <a:moveTo>
                  <a:pt x="0" y="2680"/>
                </a:moveTo>
                <a:cubicBezTo>
                  <a:pt x="1048" y="2540"/>
                  <a:pt x="2096" y="2400"/>
                  <a:pt x="2880" y="2008"/>
                </a:cubicBezTo>
                <a:cubicBezTo>
                  <a:pt x="3664" y="1616"/>
                  <a:pt x="4360" y="656"/>
                  <a:pt x="4704" y="328"/>
                </a:cubicBezTo>
                <a:cubicBezTo>
                  <a:pt x="5048" y="0"/>
                  <a:pt x="4996" y="20"/>
                  <a:pt x="4944" y="4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676520"/>
            <a:ext cx="7010640" cy="4114800"/>
          </a:xfrm>
          <a:custGeom>
            <a:avLst/>
            <a:gdLst/>
            <a:ahLst/>
            <a:rect l="l" t="t" r="r" b="b"/>
            <a:pathLst>
              <a:path w="4416" h="2592">
                <a:moveTo>
                  <a:pt x="0" y="2592"/>
                </a:moveTo>
                <a:cubicBezTo>
                  <a:pt x="1048" y="2232"/>
                  <a:pt x="2096" y="1872"/>
                  <a:pt x="2832" y="1440"/>
                </a:cubicBezTo>
                <a:cubicBezTo>
                  <a:pt x="3568" y="1008"/>
                  <a:pt x="4152" y="240"/>
                  <a:pt x="4416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0520" y="4865760"/>
            <a:ext cx="126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97000" y="2884320"/>
            <a:ext cx="146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AD8-2BEF-4F81-997D-546EAC98D4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O-notation etc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wo functions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g:N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f there is a const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 so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that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ventually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always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f there is a const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 so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ventually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always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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f there is are consta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eventu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alw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1" lang="en-US" sz="2800" spc="-1" strike="noStrike">
                <a:solidFill>
                  <a:srgbClr val="ff66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7E0-EC29-497A-A00E-D36DA94360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6n+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so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6n+1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1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6n+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so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6n+1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9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l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16n+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6n+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O(n) 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so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ot </a:t>
            </a:r>
            <a:r>
              <a:rPr b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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n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use not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n)=O(g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11A-0563-4DA8-9450-018E614C11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omin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(n)/g(n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g(n)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it cannot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(g(n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DC2-BA41-4040-9B3F-F0E0CDD558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eneral algorithm design paradig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way to reduce your problem to one or more smaller problems of the s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blems are really small solve them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384-08B5-4DC5-BF9E-DF3E6FAC21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08T19:18:48Z</cp:lastPrinted>
  <dcterms:modified xsi:type="dcterms:W3CDTF">2001-01-10T22:37:30Z</dcterms:modified>
  <cp:revision>42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