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37D4-6FEB-44BA-BF7B-B2BF19C10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6080" y="398124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7E27-5A52-4EF4-AA10-614AC7B26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684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3D22-76F3-4ECA-8DAC-B35703D4E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160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712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0608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160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712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6BA5-1385-4C3C-A749-A70B78321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B9A83-1B9B-4C4C-8C62-4C9861440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C9255-06A1-4EC8-ACB0-BEA1E6D2B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E0E9F-DCFA-4F42-9C86-95B200DC2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F9FEC-8E67-4406-9854-3081EC405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2298E-4345-4F23-9EC9-6872BCBEF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FBDC3-DF2A-402A-B1AA-2772CFC9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4671C-84ED-475C-B5C3-DC1B57C9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9C0F-B156-4085-A744-D308BFF84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9684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205AE-09CD-4A58-8AE6-826506AA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4A871-8E80-488F-BE04-77DA0CAF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6080" y="398124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ED233-B382-4B89-9C01-A9A7586E7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9684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2672A-E14D-40E3-9D5D-B7BC7CAF2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160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712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0608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160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712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7C65F-7769-45AD-A337-4650D1310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1A4E-7839-42F8-B873-E5A4C9EF4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A06C-6FFA-43F4-AD1A-3E3D282B4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19A5-92D0-4B92-B491-47BC57FC8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0DB6-3034-47AF-968B-F28A4E641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4CC6-8269-48CC-88E5-14C582E7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684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A982-D73A-4B53-85F6-3FE7316B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47F9-C407-4231-A0CE-C85109F9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2E84D-BF9C-47C1-94A8-C7F82F7A85E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940B7-F0F6-4FCA-A569-08BE325C7A6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Helvetic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SE 417:  Algorithms and Computational Complexity</a:t>
            </a:r>
            <a:endParaRPr b="0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193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t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cture 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or: Paul Be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905120"/>
            <a:ext cx="7848720" cy="182880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1AD6B-6876-4104-93C8-E66C1F8BD7B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Reduction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wo problems to solve,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hink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Lef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Rig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you had a translation program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that the following would correctly solve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f you happened to have code for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nd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L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program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translate input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o an input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a subroutine for problem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input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the answer produced by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R(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23FC-0FC2-4837-AD98-D88644EBD98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roperty that makes this correc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better be the case that no matter what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         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L(x)=R(y)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i.e.   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L(x)=R(T(x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called a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reduc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problem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problem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such a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s we write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L </a:t>
            </a:r>
            <a:r>
              <a:rPr b="0" lang="en-US" sz="32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8671-CA4D-4AD1-80F1-7EEBF1B3BEA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Reduction </a:t>
            </a:r>
            <a:r>
              <a:rPr b="1" lang="en-US" sz="4000" spc="-1" strike="noStrike">
                <a:solidFill>
                  <a:srgbClr val="0033cc"/>
                </a:solidFill>
                <a:latin typeface="Palatino"/>
              </a:rPr>
              <a:t>L </a:t>
            </a:r>
            <a:r>
              <a:rPr b="1" lang="en-US" sz="40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1" lang="en-US" sz="4000" spc="-1" strike="noStrike">
                <a:solidFill>
                  <a:srgbClr val="0033cc"/>
                </a:solidFill>
                <a:latin typeface="Palatino"/>
              </a:rPr>
              <a:t> R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2057400"/>
            <a:ext cx="1523880" cy="251460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43600" y="2057400"/>
            <a:ext cx="1523880" cy="251460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63400" y="1537560"/>
            <a:ext cx="19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s for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16600" y="1537560"/>
            <a:ext cx="200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s for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2590920"/>
            <a:ext cx="3200400" cy="3045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429000" y="3276360"/>
            <a:ext cx="3200400" cy="759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429000" y="3733920"/>
            <a:ext cx="3200400" cy="3045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26640" y="393156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09320" y="2894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31200" y="3047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783600" y="4998240"/>
            <a:ext cx="212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L(x)=R(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(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2480" y="5775480"/>
            <a:ext cx="711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Intui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is at least as easy as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or, equivalentl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is at least as hard as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1F81-4D8A-4938-A7DD-4550A79FBED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Example: BFS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  Shortest-Path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BF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a graph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a vertex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utput the BFS tree of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rted at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Shortest-Path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a graph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non-negative weights on its edges, and a vertex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utput the shortest-path tree of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duction T:  Give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, create weights for all edges i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giving each edge weight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&lt;G,v&gt; 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&lt;G,weights,v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37880" y="5790240"/>
            <a:ext cx="45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B251-EEF7-4747-825E-7059F70B27A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roperties of reduction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that I have any reduction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h that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L(x)=R(T(x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 had a program that solves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n I would have a program that solv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f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f there is no program that solv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n there cannot be any program that solv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tatement is just equivalent to one abo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A88C-F961-4CF4-B8E2-38BBB7EB826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Another  undecidable proble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’s problem:  Given the code of a program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es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utput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 input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 If so, answer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lse answer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lai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1’s problem is undeci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oof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reduction from the Haltin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C477-1CE6-4A0B-B155-B2C39D3D2C1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What we want for the reduction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lting problem takes as input a pair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&lt;P,x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’s problem takes as input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&lt;M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&lt;P,x&gt;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we create an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&lt;M&gt;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that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s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input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xactly when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P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lts on input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x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271B-ECE2-4D9F-AFC7-CDBAF3CEB87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Ye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is all that we need to do to create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the code of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 that instead of reading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hard-coded as the input to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get rid of all output statements i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a new statement at the end of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outputs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write another program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can do this transformation from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&lt;P,x&gt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&lt;M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5F75-095A-44F2-BF1D-8E0173C58C6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Finishing things off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fore  we get a re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Halting Problem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1’s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there is no program solving the Halting Problem there must be no program solving the 1’s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BED1-E302-4815-B1AD-34298AEF986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Why the name reduction?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ird: it maps an easier problem into a harder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sense as saying Maxwell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duc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problem of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analyzing electricity &amp; magneti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solving partial differential eq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ing partial differential equations in general is a much harder problem than solving E&amp;M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EC8E-9432-44B5-91CA-1FDB3851F8D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Halting Proble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ive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code of a program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an input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.e. given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&lt;P,x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utput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lts on input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es not halt on input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orem (Turing):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no program that solves the halting problem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“The halting problem is undecidabl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8319-D8AE-450E-B503-FD65600BF45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A geek joke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06080" y="1371600"/>
            <a:ext cx="81788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ngin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placed in a kitchen with an empty kettle on the table and told to boil water; she fills the kettle with water, puts it on the stove, turns on the gas and boils w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 is next confronted with a kettle full of water sitting on the counter and told to boil water; she puts it on the stove, turns on the gas and boils w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athematic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placed in a kitchen with an empty kettle on the table and told to boil water; he fills the kettle with water, puts it on the stove, turns on the gas and boils w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is next confronted with a kettle full of water sitting on the counter and told to boil water: he empties the kettle in the sink, places the empty kettle on the table and says, “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’ve reduced this to an already solved probl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6E6A-2DEB-4DD7-8647-39752DB018D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Undecidability of the Halting Proble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se that there is a program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computes the answer to the Halting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’ll build a table with all the possible programs down one side and all the possible inputs along the other and do a diagonal flip to produce a contradi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697B-170F-4BB9-87A2-250F63FA789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56680" y="731160"/>
            <a:ext cx="726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 1  00  01  10  11  000  001  010  011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02240" y="273960"/>
            <a:ext cx="9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in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2360" y="1252440"/>
            <a:ext cx="775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16145400">
            <a:off x="-927720" y="3646080"/>
            <a:ext cx="237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program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46960" y="1252080"/>
            <a:ext cx="7214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1  1  0    1     1    1     0      0      0      1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 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0  1    0     1    1     0      1      1      1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  0 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0    0     0    0     0      0      0      1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  1  1 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1     0    1     1      0      1      0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  1  1  1   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1    1     0      0      0      1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  1  0  0    0    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1     0      1      1      1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  0  1  1    0     0   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0      0      0      1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  1  1  1    1     0    1    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0      1      0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   .   .  .   .    .   .   .   .    .    .       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   .   .  .   .    .   .   .   .    .    .       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1251000"/>
            <a:ext cx="80773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58840" y="731880"/>
            <a:ext cx="0" cy="5735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00240" y="5855400"/>
            <a:ext cx="692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ntries are 1 if program P given by the code halts on input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nd 0 if it runs fore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91F8-2F90-4736-9D62-44EA199CFA6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56680" y="731160"/>
            <a:ext cx="726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 1  00  01  10  11  000  001  010  011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02240" y="273960"/>
            <a:ext cx="9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in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2360" y="1252440"/>
            <a:ext cx="775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16145400">
            <a:off x="-927720" y="3646080"/>
            <a:ext cx="237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program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46960" y="1252080"/>
            <a:ext cx="7214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1  1  0    1     1    1     0      0      0      1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0  1    0     1    1     0      1      1      1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  0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0    0     0    0     0      0      0      1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  1  1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1     0    1     1      0      1      0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  1  1  1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1    1     0      0      0      1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  1  0  0    0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1     0      1      1      1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  0  1  1    0     0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0      0      0      1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  1  1  1    1     0    1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0      1      0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   .   .  .   .    .   .   .   .    .    .       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   .   .  .   .    .   .   .   .    .    .       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251000"/>
            <a:ext cx="80773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58840" y="731880"/>
            <a:ext cx="0" cy="5735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66040" y="5855400"/>
            <a:ext cx="52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Want to create a new program whose hal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roperties are given by the flipped diag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0185-9E56-466F-B0DF-55345BC4DDE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iagonal construction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se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x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define a new program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uch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input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ecking if the program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ose code is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lts when given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input; i.e. does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lt on input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&lt;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utputs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n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oes into an infinit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s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l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w for the program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ould be like the flip of the diagon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A01C-6469-4EE0-BC33-6FE2EEB2090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Code for </a:t>
            </a:r>
            <a:r>
              <a:rPr b="1" lang="en-US" sz="4000" spc="-1" strike="noStrike">
                <a:solidFill>
                  <a:srgbClr val="0033cc"/>
                </a:solidFill>
                <a:latin typeface="Palatino"/>
              </a:rPr>
              <a:t>D </a:t>
            </a: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assuming subroutine for </a:t>
            </a:r>
            <a:r>
              <a:rPr b="1" lang="en-US" sz="4000" spc="-1" strike="noStrike">
                <a:solidFill>
                  <a:srgbClr val="0033cc"/>
                </a:solidFill>
                <a:latin typeface="Palatino"/>
              </a:rPr>
              <a:t>H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D(x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(x,x)=1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true); /* loop forever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-o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/* do nothing and halt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d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A5D1-2276-495F-AB6B-F233B364295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Finishing the argumen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ust be different from any program in the lis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se it has code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&lt;D&gt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lts on input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&lt;D&g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f (by definition of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utputs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iven program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input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&lt;D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f (by definition of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uns forever on input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&lt;D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ntradic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BA54-AAD4-4114-AE12-5E9C4611596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Relating hardness of problem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have one problem that we know is impossible to sol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lting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ing this took serious eff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’d like to use this fact to derive that other problems are impossible to sol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want to go back to square one to do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BF87-CED1-4896-A14A-55BCBBF15E1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1T16:57:42Z</dcterms:created>
  <dc:creator>ruzzo</dc:creator>
  <dc:description/>
  <dc:language>en-US</dc:language>
  <cp:lastModifiedBy>beame</cp:lastModifiedBy>
  <cp:lastPrinted>2001-02-23T19:20:25Z</cp:lastPrinted>
  <dcterms:modified xsi:type="dcterms:W3CDTF">2001-02-23T23:30:24Z</dcterms:modified>
  <cp:revision>104</cp:revision>
  <dc:subject/>
  <dc:title>CSE 421:  Introduction to Algorith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homes/ruzzo</vt:lpwstr>
  </property>
  <property fmtid="{D5CDD505-2E9C-101B-9397-08002B2CF9AE}" pid="9" name="LinkColor">
    <vt:r8>16711782</vt:r8>
  </property>
  <property fmtid="{D5CDD505-2E9C-101B-9397-08002B2CF9AE}" pid="10" name="MailAddress">
    <vt:lpwstr>ruzzo@cs.washington.edu</vt:lpwstr>
  </property>
  <property fmtid="{D5CDD505-2E9C-101B-9397-08002B2CF9AE}" pid="11" name="NavBtnPos">
    <vt:r8>1</vt:r8>
  </property>
  <property fmtid="{D5CDD505-2E9C-101B-9397-08002B2CF9AE}" pid="12" name="Other">
    <vt:lpwstr>(c) 1998,  University of Washington, CSE</vt:lpwstr>
  </property>
  <property fmtid="{D5CDD505-2E9C-101B-9397-08002B2CF9AE}" pid="13" name="OutputDir">
    <vt:lpwstr>W:\www\education\courses\421\CurrentQtr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