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DC3-A16D-475F-8D0B-831B448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E4A-8DB0-4E3F-868C-2DC849E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BCA3-4AA3-4BE2-94E6-F6DB4481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E87-8813-4A1C-B7BA-B8576109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C114-1765-4784-876C-7C27ADE2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C60F-728C-4800-AFAD-291B4CF8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E147-399C-443E-893B-31D197A8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C7A7-3AA2-4C5E-8807-023F2B9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670-F89D-48D8-8DCA-4DD607C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336F-0DCF-4248-AC40-25F5653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809-1E40-4673-ADC0-4ABFE7D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E59-F45B-4D13-87F8-8F9A378F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94E-E763-44E5-BB00-DD470F9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BA17-DC9E-41E3-A66C-D73B37A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F768-43EE-4FFA-9E5A-AC3509B3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AF0-A248-4F90-9E0D-A91F7B0B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3586-719A-488B-8B63-1B23B238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A8E-38CC-44CD-99F2-EF1CB86D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CE0-E120-44F7-B142-F3EDC756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359-2179-49A8-9880-03D64BF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65B-EBFF-40BA-BF20-08FE369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388-6F78-49BF-B478-9AFA5B2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720-E2CB-488B-9459-4F632BC0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696-EBCE-4B1E-90E7-4E8E07F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094-6EE2-4A63-A862-DECDF783EB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388A-A2F8-42D1-B248-59461F4B3E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8199-6F9C-404C-91CA-DCD772100E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wo problems to solve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nk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d a translatio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the following would correctly sol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f you happened to have code for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n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ranslate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n input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 subroutine for probl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the answer produced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B43-F4CF-42AB-8953-83DE82E3AB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y that makes this correc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etter be the case that no matter w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y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i.e.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T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ch a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we wri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6FD-49E3-4EE5-8DCA-62D8D7E1C8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duction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L </a:t>
            </a:r>
            <a:r>
              <a:rPr b="1" lang="en-US" sz="4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 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057400"/>
            <a:ext cx="1523880" cy="251460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3400" y="153756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16600" y="15375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90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29000" y="3276360"/>
            <a:ext cx="3200400" cy="759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429000" y="3733920"/>
            <a:ext cx="320040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26640" y="3931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0932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31200" y="304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83600" y="4998240"/>
            <a:ext cx="21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(x)=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2480" y="57754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Intu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easy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is at least as hard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EDD-47A7-448C-8151-60CBBFA14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: BFS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 Shortest-Pat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F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tput the BFS tre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rted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hortest-Path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non-negative weights on its edges, and a vertex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 the shortest-path tre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uction T:  Give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 create weights for all edg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giving each edge weigh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G,v&gt;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&lt;G,weights,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37880" y="5790240"/>
            <a:ext cx="4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D07-6402-4F38-B342-591F0A0C61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perties of reduc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at I have any reductio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(x)=R(T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 had a program that solv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 I would have a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there is no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n there cannot be any program that so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ement is just equivalent to one abo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7A8-5368-4053-8386-004705D4A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 undecidable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:  Given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If so,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se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’s problem is undec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eduction from the Hal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FE2-937A-46EE-AFCE-F96F4CA987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we want for the red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ing problem takes as input a pai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 takes as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reate a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M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npu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ctly wh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0E7-003C-4BEF-83BD-E778E33DFD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Y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ll that we need to do to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cod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instead of rea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ard-coded as the inpu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et rid of all output statement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ew statement at the en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nother program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do this transformation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D4E-70F6-4A5A-8C19-CF18D4B821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ings off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we get a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lting Proble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1’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program solving the Halting Problem there must be no program solving the 1’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332-4A64-4BA7-A1A3-E893AE5D6E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e name reduction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: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403-6B0D-4631-85E3-2895C5E694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ve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.e. give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not halt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orem (Turing):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rogram that solves the halting probl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“The halting problem is undeci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9B5-26B2-4635-8320-516BAFF70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ek jok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lac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971-30E5-4338-9041-13BE04CF45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decidability of the Halting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there is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omputes the answer to the Halting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uild a table with all the possible programs down one side and all the possible inputs along the other and do a diagonal flip to produce a contra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32C-E3F1-49BC-A845-C8C6BC5E5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00240" y="5855400"/>
            <a:ext cx="692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tries are 1 if program P given by the code halts on inpu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0 if it runs for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72F-0B13-4616-9BF0-193474161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56680" y="73116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1  00  01  10  11  000  001  010  011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02240" y="273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360" y="1252440"/>
            <a:ext cx="77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145400">
            <a:off x="-927720" y="3646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gram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6960" y="1252080"/>
            <a:ext cx="721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 1  0    1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1    0     1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0     0    0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1     1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1    1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0  0    0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     0      1      1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1  1    0     0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0      0      0      1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  1  1  1    1     0    1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0      1      0 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.   .  .   .    .   .   .   .    .    .      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51000"/>
            <a:ext cx="8077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8840" y="731880"/>
            <a:ext cx="0" cy="573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66040" y="5855400"/>
            <a:ext cx="52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ant to create a new program whose ha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rties are given by the flipped di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2DD-EE98-4D7D-916A-0EF4ADEB18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iagonal constr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define a new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ing if the progra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code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 when giv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input; i.e. doe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 on inpu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into an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w for the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be like the flip of the diag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047-486A-4F87-A110-71305AC36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de for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D 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ssuming subroutine for </a:t>
            </a:r>
            <a:r>
              <a:rPr b="1" lang="en-US" sz="4000" spc="-1" strike="noStrike">
                <a:solidFill>
                  <a:srgbClr val="0033cc"/>
                </a:solidFill>
                <a:latin typeface="Palatino"/>
              </a:rPr>
              <a:t>H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D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(x,x)=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rue); /* loop forever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-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/* do nothing and hal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2BC-1EE1-40B3-A47F-2FEA019DA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e argumen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be different from any program in the l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it has cod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ts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(by defin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progra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f (by definition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uns forever on inpu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radi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FAB-7A72-4509-B180-F56B3C0D35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lating hardness of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one problem that we know is impossible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this took serious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d like to use this fact to derive that other problems are impossible to 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want to go back to square one to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F72-B868-4390-B280-ECDB9FE719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3T19:20:25Z</cp:lastPrinted>
  <dcterms:modified xsi:type="dcterms:W3CDTF">2001-02-23T23:30:24Z</dcterms:modified>
  <cp:revision>104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