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688-4CB1-47DC-9BC1-A26C0AF1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948-6CD8-4F4F-B6FC-BE735444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3AE-80A0-4404-975C-9D01080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4DE-EB2C-4438-BA73-C865C8FE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D80C-59F2-43B3-89E1-A60A1CE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3C0A-C963-430A-9CEE-4057702D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1F2C-F6DD-435B-A079-D5513212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EF5-A051-4D7C-9CDD-36C6081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ED54-A797-4BFC-88F8-2B7511D9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03DF-0762-45A4-AD55-DD77807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8CA-15EE-40C7-AB2F-B46F6F4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4F8-7C83-4A66-A707-1B538B4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E555-8929-47FC-8FC2-32183D9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690-8184-4050-9FC9-A2DD714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4CCB-3611-4E4D-935E-A796321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A9AA-DBBA-4C42-AD7B-48BCE0E3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09C-F17B-4483-8868-8A7A358C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552-FE96-4DA7-AF0D-DCF53CC4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054-A177-48C3-AAFD-8EBB1D0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F6E-3ED0-4E69-A93F-3A304FB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C21-B806-4637-80E1-68FB4E28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C29-0F89-4603-9E6A-991D7B2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B68-FE44-458F-9124-3AF470F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C3E-0E26-44C1-A2E9-52F5E47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FE70-4994-4C08-93EA-E2F603DCD0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B74-BC9E-417F-B8D4-7191F18E44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959-6EE1-448F-A76B-323A0A29D4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087-6C95-4B27-B23E-23D22D81E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iz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i)=1-f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e flipped t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every function in the list sinc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radicts our assumption that the list had all such func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ome functi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mputed by any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ore functions than progra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A3C-FF96-41EF-8167-2A32347BA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ecidability of the 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here is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mputes the answer to the Halt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uild a similar table with all the possible programs down one side and all the possible inputs along the other and do a diagonal flip to produce a contra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E7C-469D-4D56-A513-18592BEFC8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0240" y="5855400"/>
            <a:ext cx="69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tries are 1 if program P given by the code halts on inpu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0 if it runs for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B83-AC59-403E-837D-658CA169D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6040" y="5855400"/>
            <a:ext cx="52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nt to create a new program whose ha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ies are given by the flipped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CA1-95CD-439A-A63F-C7BEFCC604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 constr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fine a new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ing if the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cod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 when given x as input; i.e. do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into an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8BD-FA94-4721-AA55-1E472CE11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e argumen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any program in the li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has cod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s forever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0C3-491A-4456-9E98-9C3E45C9C0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uring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-Turing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asonable model of computation that includes all possible algorithms is equivalent in power to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numbers of equivalent models to TM’s based on radically differen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765-C51F-4C08-9517-EADF08080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iversal Turing Machin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ing machine interpreter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the code of a program (or Turing machine)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the same thing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modern stored-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writ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P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de of progra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air of the program code an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357-BA49-4527-A183-0BB0CB33E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halt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em (Turing)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rogram that solves the halting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“The halting problem is undeci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778-8F5A-459E-AAA6-EC5DF77E2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ideas: Countability (Cantor 1875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n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there is a function mapping the natural numb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e can wri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={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(i)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nite sets are cou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numbers are 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ers are 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={0,1,-1,2,-2,3,-3,4,-4,5,-5,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1 2   3  4   5  6  7  8  9  10 11 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FBC-2A59-48FA-A282-292B42593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unt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of all finite strings with any alphabet is coun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binary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 1, 00, 01, 10, 11, 000, 001, 010, 011, 100, 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list strings in order of increa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gram code is a string and given any str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interpr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rogram (syntactically incorrect programs are just no-ops) so the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t of all programs is countable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28800">
            <a:off x="2209320" y="395928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28800">
            <a:off x="3541680" y="323784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28800">
            <a:off x="6379200" y="2466000"/>
            <a:ext cx="140040" cy="3455640"/>
          </a:xfrm>
          <a:custGeom>
            <a:avLst/>
            <a:gdLst>
              <a:gd name="textAreaLeft" fmla="*/ 89640 w 140040"/>
              <a:gd name="textAreaRight" fmla="*/ 140040 w 140040"/>
              <a:gd name="textAreaTop" fmla="*/ 90000 h 3455640"/>
              <a:gd name="textAreaBottom" fmla="*/ 3365640 h 34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28800">
            <a:off x="1714320" y="4086000"/>
            <a:ext cx="152640" cy="22860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7880" y="3275640"/>
            <a:ext cx="63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1  2   3   4     5      6      7     8        9       10     11     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69680" y="4372560"/>
            <a:ext cx="49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     1                 2                                    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A37-8BAE-4ED6-91DB-B917CDEFC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count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of all function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natural numb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were and we had a list of all such function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uild an infinite table of the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8D3-BA0A-4832-9787-8233DF26B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82A-6C9F-49A7-AF51-55952C2F4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83B-CE65-440C-9F6F-45A943D94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1T19:29:00Z</cp:lastPrinted>
  <dcterms:modified xsi:type="dcterms:W3CDTF">2001-02-21T21:28:42Z</dcterms:modified>
  <cp:revision>98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