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579-0737-438D-BE05-3BBB8787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878-F8AE-4D01-AFE5-9D90BE73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E17-AD9A-454B-87A4-459FD3E0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D99-A208-467D-9327-1E191A5D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08F7-7EF2-4E27-9130-10D1B134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4F0F-2952-4EA4-8E6A-C2C83C93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494-F85C-404A-9287-981DDD27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AC8A-BBBE-4603-93B6-BD82486D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D67F-C486-4E1A-8EC6-27B29891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4C6-21F4-49DD-ACED-D99D4D7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BE75-D6DB-41E7-AAF1-D54ABCB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C5E-7639-4955-8561-50B3BB5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997-7DC5-4FD2-97E0-F18AA7F2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DD11-07D8-422C-BBE0-AAC01DA7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06E1-A6B9-4D1A-975B-9CD3833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DEF-D0E1-4004-9F81-95D37340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BC34-4B0E-4C83-AED3-7E330A7B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B54-8360-4290-B203-DD38D7FC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0DA-DD78-4F54-9AA2-C095ACED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DB4-78C1-4D39-9A76-F5191DC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DC7-52E0-4961-AD67-41B2E258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A29-F42A-462E-BDA2-A34944FA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82D-999D-4E17-831F-AB6C537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FF4-0409-48F7-8DB1-C133264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EA2-9040-49F0-9148-FE3F9C282F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D80-25DE-4777-857D-6D8E4FE34E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74B-7FF8-4A9F-A65D-CC33F17FB2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53800" y="73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2  3  4  5  6  7  8  9  10  11   12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1000" y="1016640"/>
            <a:ext cx="394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145400">
            <a:off x="-362520" y="3654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51280" y="1252440"/>
            <a:ext cx="60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0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0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0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0  0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A87-B2CC-494D-9565-AF0AF4D2D2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agonaliz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0,1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i)=1-f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e flipped th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iag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different from every function in the list sinc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s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radicts our assumption that the list had all such func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Corollary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some functio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0,1}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mputed by any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ore functions than progra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B51-B14A-4197-81F5-54557C7414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decidability of the 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there is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mputes the answer to the Halt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uild a similar table with all the possible programs down one side and all the possible inputs along the other and do a diagonal flip to produce a contra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39D-8263-4BC7-8325-09A3FCAA9B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0240" y="5855400"/>
            <a:ext cx="69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tries are 1 if program P given by the code halts on inpu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0 if it runs for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57C-9EFB-4997-87FA-8DA0BFA7B0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6040" y="5855400"/>
            <a:ext cx="52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nt to create a new program whose ha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ies are given by the flipped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02A-04CA-4605-B868-EC0930CB7D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agonal constr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efine a new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ing if the progra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code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 when given x as input; i.e. do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es into an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B87-AFC3-4556-9927-690DE8BA1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e argumen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different from any program in the li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t has cod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progra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s forever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720-4884-4311-828C-AA753FB30E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uring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rch-Turing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reasonable model of computation that includes all possible algorithms is equivalent in power to a Tur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numbers of equivalent models to TM’s based on radically different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DE5-5951-4F02-83A7-D8316F4BD6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iversal Turing Machin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uring machine interpreter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 the code of a program (or Turing machine)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s the same thing 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modern stored-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writ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&lt;P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ode of progra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&lt;P,x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air of the program code an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AF2-477C-439A-B139-548323AEC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giv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halt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orem (Turing):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rogram that solves the halting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“The halting problem is undeci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9EE-1A50-4B57-AD2D-9790700CB3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of ideas: Countability (Cantor 1875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n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there is a function mapping the natural numb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e can wri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={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(i)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inite sets are cou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numbers are 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gers are 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={0,1,-1,2,-2,3,-3,4,-4,5,-5,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1 2   3  4   5  6  7  8  9  10 11 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4CB-B083-4408-BE7A-6DA58F2A5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unt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of all finite strings with any alphabet is coun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binary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0, 1, 00, 01, 10, 11, 000, 001, 010, 011, 100, 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list strings in order of increa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gram code is a string and given any stri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can interpr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rogram (syntactically incorrect programs are just no-ops) so the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t of all programs is countable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28800">
            <a:off x="2209320" y="395928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28800">
            <a:off x="3541680" y="323784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28800">
            <a:off x="6379200" y="2466000"/>
            <a:ext cx="140040" cy="3455640"/>
          </a:xfrm>
          <a:custGeom>
            <a:avLst/>
            <a:gdLst>
              <a:gd name="textAreaLeft" fmla="*/ 89640 w 140040"/>
              <a:gd name="textAreaRight" fmla="*/ 140040 w 140040"/>
              <a:gd name="textAreaTop" fmla="*/ 90000 h 3455640"/>
              <a:gd name="textAreaBottom" fmla="*/ 3365640 h 34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28800">
            <a:off x="1714320" y="4086000"/>
            <a:ext cx="152640" cy="22860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7880" y="3275640"/>
            <a:ext cx="63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1  2   3   4     5      6      7     8        9       10     11     1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69680" y="4372560"/>
            <a:ext cx="49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     1                 2                                    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4B2-B3C5-40B7-879D-0957184B1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count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 of all function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natural numb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0,1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u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t were and we had a list of all such function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f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uild an infinite table of the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FA9-6A72-4D85-8A7C-AC7F591C30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53800" y="73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2  3  4  5  6  7  8  9  10  11   12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1000" y="1016640"/>
            <a:ext cx="394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145400">
            <a:off x="-362520" y="3654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51280" y="1252440"/>
            <a:ext cx="60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0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0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1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0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1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1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0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C7D-551D-478D-92C6-90EE75E98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53800" y="731160"/>
            <a:ext cx="602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2  3  4  5  6  7  8  9  10  11   12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1000" y="1016640"/>
            <a:ext cx="394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145400">
            <a:off x="-362520" y="36540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1280" y="1252440"/>
            <a:ext cx="6025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1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0  1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0  0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1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0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1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1  0  1   1    1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0  0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0   0    1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0  0  0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1    0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488-2E51-4E62-8AA1-60243CE16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1T19:29:00Z</cp:lastPrinted>
  <dcterms:modified xsi:type="dcterms:W3CDTF">2001-02-21T21:28:42Z</dcterms:modified>
  <cp:revision>98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