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B277-13AB-4B8E-B99C-02DCE8D8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2879-54A0-4D8F-BC6F-BFE0C486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09D1-C807-4388-8634-EAB0067A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6E2B-6841-4FF1-ABD1-FF4B20C7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55BF-4607-4555-B92D-2C5B04B3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EA2B-80E4-428E-9E47-86256C6E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0519-F247-440B-98F4-52E303D0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7976-9E49-4D33-8146-401FD8CA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9C97-3B1E-45DE-A987-C4B184E5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F827-88C5-496A-BBC7-81C5203D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7472-A583-44C6-AA9E-54F30563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5296-3E96-4046-B0E6-45D2CAFA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4644-9127-47C1-B0C0-8D9C25FF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EDE2-C822-4A59-A4BE-073BF358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77EF-94CA-4380-9EDB-FFD896E1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7960-4812-4FA2-9938-3658AE42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4872-9CAE-4772-94A1-BC01408C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D24F-03D9-497E-8642-B937D152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37A2-82E9-4225-9EA6-DAFAEA71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B1BE-3288-4445-8DC8-B820ECC5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F9DB-E8D6-4B6F-9DA1-07FB1FFA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A3B4-6F06-4BED-9CC0-555F6F2A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AD19-8D96-46CC-A05B-85CE42E2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E68E-833D-4C4F-960C-17478E4C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6BD0-BCD4-4F02-AD9F-88C880B558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E490-0B17-4BF3-9AF1-DEF5B0962B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5F13-EC48-4A90-B155-8C4D1B2697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1000" y="54684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400" y="212040"/>
            <a:ext cx="80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 x y x x y 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 y x y 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92400" y="9122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67800" y="127872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1040" y="164376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17520" y="20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85000" y="237564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59680" y="274104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5D75-CCA8-478B-8D09-64CE6EA309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1000" y="54684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0400" y="212040"/>
            <a:ext cx="80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 x x y x 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 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92400" y="9122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67800" y="127872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1040" y="164376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17520" y="20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85000" y="237564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65440" y="2741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34360" y="310608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B6C9-9D8B-4F12-B7EA-74055A439E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1000" y="54684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0400" y="212040"/>
            <a:ext cx="80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 x x y x y x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y x y 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92400" y="9122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67800" y="127872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41040" y="164376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17520" y="20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85000" y="237564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2741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39040" y="310608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09040" y="347256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ED6B-4E21-4003-979C-ACF55E9D4F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1000" y="54684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400" y="212040"/>
            <a:ext cx="80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 x x y x y x 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 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92400" y="9122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67800" y="127872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1040" y="164376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17520" y="20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85000" y="237564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65440" y="2741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39040" y="310608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14800" y="3472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81920" y="383796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97A7-E291-4FC7-87E3-79B4080F98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1000" y="54684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" y="212040"/>
            <a:ext cx="80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 x x y x y x y y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 x y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92400" y="9122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67800" y="127872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41040" y="164376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17520" y="20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85000" y="237564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65440" y="2741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39040" y="310608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3472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87680" y="3837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56600" y="420300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 x y</a:t>
            </a: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4B66-BACD-48AD-8550-5F70B9DD28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1000" y="54684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0400" y="212040"/>
            <a:ext cx="80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 x x y x y x y y 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92400" y="9122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67800" y="127872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1040" y="164376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17520" y="20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85000" y="237564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65440" y="2741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39040" y="310608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14800" y="3472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87680" y="3837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60200" y="420300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31280" y="456984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5A68-2C89-4B15-B3BB-B4100789C8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1000" y="54684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0400" y="212040"/>
            <a:ext cx="80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 x x y x y x y y x 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92400" y="9136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67800" y="127872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1040" y="164376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17520" y="20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85000" y="237564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65440" y="2741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39040" y="310608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3472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87680" y="3837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60200" y="420300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37040" y="4569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05960" y="493488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78240" y="547560"/>
            <a:ext cx="0" cy="219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78240" y="547560"/>
            <a:ext cx="0" cy="219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3120" y="2955960"/>
            <a:ext cx="246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orst-case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(m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6D42-4028-48DC-9056-88302DF803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1000" y="54684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1920" y="-1080"/>
            <a:ext cx="804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 x x y x y x y y x 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92400" y="9136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67080" y="1278720"/>
            <a:ext cx="6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41760" y="1430640"/>
            <a:ext cx="146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 y x y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16080" y="200916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89320" y="216252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 y</a:t>
            </a: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64000" y="2741040"/>
            <a:ext cx="3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38680" y="3106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3360" y="3472560"/>
            <a:ext cx="3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86240" y="3837960"/>
            <a:ext cx="3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60920" y="3989880"/>
            <a:ext cx="146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35600" y="4569840"/>
            <a:ext cx="3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10280" y="472176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 y x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78240" y="547560"/>
            <a:ext cx="0" cy="219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78240" y="547560"/>
            <a:ext cx="0" cy="219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53080" y="1065960"/>
            <a:ext cx="28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ots of wasted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124080" y="1279440"/>
            <a:ext cx="1811520" cy="244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81000" y="2009520"/>
            <a:ext cx="528480" cy="1251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29000" y="1295280"/>
            <a:ext cx="1447920" cy="990720"/>
          </a:xfrm>
          <a:custGeom>
            <a:avLst/>
            <a:gdLst/>
            <a:ahLst/>
            <a:rect l="l" t="t" r="r" b="b"/>
            <a:pathLst>
              <a:path w="912" h="624">
                <a:moveTo>
                  <a:pt x="912" y="0"/>
                </a:moveTo>
                <a:cubicBezTo>
                  <a:pt x="892" y="188"/>
                  <a:pt x="872" y="376"/>
                  <a:pt x="720" y="480"/>
                </a:cubicBezTo>
                <a:cubicBezTo>
                  <a:pt x="568" y="584"/>
                  <a:pt x="120" y="600"/>
                  <a:pt x="0" y="62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71800" y="2768760"/>
            <a:ext cx="3632040" cy="2463480"/>
          </a:xfrm>
          <a:custGeom>
            <a:avLst/>
            <a:gdLst/>
            <a:ahLst/>
            <a:rect l="l" t="t" r="r" b="b"/>
            <a:pathLst>
              <a:path w="2288" h="1552">
                <a:moveTo>
                  <a:pt x="432" y="80"/>
                </a:moveTo>
                <a:cubicBezTo>
                  <a:pt x="216" y="108"/>
                  <a:pt x="0" y="136"/>
                  <a:pt x="144" y="368"/>
                </a:cubicBezTo>
                <a:cubicBezTo>
                  <a:pt x="288" y="600"/>
                  <a:pt x="960" y="1392"/>
                  <a:pt x="1296" y="1472"/>
                </a:cubicBezTo>
                <a:cubicBezTo>
                  <a:pt x="1632" y="1552"/>
                  <a:pt x="2288" y="1080"/>
                  <a:pt x="2160" y="848"/>
                </a:cubicBezTo>
                <a:cubicBezTo>
                  <a:pt x="2032" y="616"/>
                  <a:pt x="864" y="160"/>
                  <a:pt x="528" y="80"/>
                </a:cubicBezTo>
                <a:cubicBezTo>
                  <a:pt x="192" y="0"/>
                  <a:pt x="168" y="184"/>
                  <a:pt x="144" y="36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1447920"/>
            <a:ext cx="1866960" cy="2361960"/>
          </a:xfrm>
          <a:custGeom>
            <a:avLst/>
            <a:gdLst/>
            <a:ahLst/>
            <a:rect l="l" t="t" r="r" b="b"/>
            <a:pathLst>
              <a:path w="1176" h="1488">
                <a:moveTo>
                  <a:pt x="0" y="0"/>
                </a:moveTo>
                <a:cubicBezTo>
                  <a:pt x="468" y="164"/>
                  <a:pt x="936" y="328"/>
                  <a:pt x="1056" y="576"/>
                </a:cubicBezTo>
                <a:cubicBezTo>
                  <a:pt x="1176" y="824"/>
                  <a:pt x="948" y="1156"/>
                  <a:pt x="720" y="148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6280" y="4494600"/>
            <a:ext cx="394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ince we know earlier agre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f the string with the patter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se can’t possibly m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1066680"/>
            <a:ext cx="1143000" cy="731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16080" y="2163600"/>
            <a:ext cx="362160" cy="365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4600" y="2527560"/>
            <a:ext cx="324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uppose we kne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attern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1E83-DBB7-40AF-8A99-85C93A122A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eprocess the Patter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each character in the pattern figure out ahead of time what the next useful work would be if it failed to match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how much can one shift over the pattern for the next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AA98-4B0A-40E5-AD3A-B854965252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81000" y="54684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x y 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1920" y="-1080"/>
            <a:ext cx="804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 y x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y x 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y y x y x y x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1760" y="1430640"/>
            <a:ext cx="146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 y x y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89320" y="216252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x y</a:t>
            </a: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10280" y="472176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x y x y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78240" y="547560"/>
            <a:ext cx="0" cy="219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78240" y="547560"/>
            <a:ext cx="0" cy="219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81000" y="2009520"/>
            <a:ext cx="528480" cy="1251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6232-852F-4D40-9357-786A8BD361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attern Matching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608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ing,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tern,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m&lt;&lt;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ccurrences of the patter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Obvious algorith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see i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tches at each of the positions i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topping at a failed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5FBB-8F18-4596-9BC4-06209D19EF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eprocessing the patter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each mis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the last part that matched plus extra mismatched charac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fit pattern as far to the left in this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look for the longest prefix of the pattern that matches the end of the sequence so f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573B-1ADE-4205-97A9-A3B6E4BDDB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eprocessing the patter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5" name=""/>
          <p:cNvSpPr/>
          <p:nvPr/>
        </p:nvSpPr>
        <p:spPr>
          <a:xfrm>
            <a:off x="910440" y="1523160"/>
            <a:ext cx="47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55560" y="3384000"/>
            <a:ext cx="7561440" cy="369720"/>
            <a:chOff x="655560" y="3384000"/>
            <a:chExt cx="7561440" cy="369720"/>
          </a:xfrm>
        </p:grpSpPr>
        <p:sp>
          <p:nvSpPr>
            <p:cNvPr id="237" name=""/>
            <p:cNvSpPr/>
            <p:nvPr/>
          </p:nvSpPr>
          <p:spPr>
            <a:xfrm>
              <a:off x="28332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6004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1264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1928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876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556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402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806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10816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6524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18560" y="338400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53352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0056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0256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4920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6704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8272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1804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3408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55156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26904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8508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09480" y="3714840"/>
            <a:ext cx="7808760" cy="0"/>
            <a:chOff x="609480" y="3714840"/>
            <a:chExt cx="7808760" cy="0"/>
          </a:xfrm>
        </p:grpSpPr>
        <p:sp>
          <p:nvSpPr>
            <p:cNvPr id="260" name=""/>
            <p:cNvSpPr/>
            <p:nvPr/>
          </p:nvSpPr>
          <p:spPr>
            <a:xfrm>
              <a:off x="60948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32516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4264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5868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7616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19400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90968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62752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4320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6104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77852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8418600" y="3619440"/>
            <a:ext cx="228600" cy="285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496360" y="3714840"/>
            <a:ext cx="76320" cy="759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3080" y="3505320"/>
            <a:ext cx="15228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0"/>
                </a:moveTo>
                <a:lnTo>
                  <a:pt x="96" y="96"/>
                </a:lnTo>
                <a:lnTo>
                  <a:pt x="0" y="1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1960" y="4494600"/>
            <a:ext cx="85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ot represents how far in the pattern things are mat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6C96-2213-4B19-AE69-A3C21EE0F4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eprocessing the patter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6" name=""/>
          <p:cNvSpPr/>
          <p:nvPr/>
        </p:nvSpPr>
        <p:spPr>
          <a:xfrm>
            <a:off x="910440" y="1523160"/>
            <a:ext cx="47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655560" y="3384000"/>
            <a:ext cx="7561440" cy="369720"/>
            <a:chOff x="655560" y="3384000"/>
            <a:chExt cx="7561440" cy="369720"/>
          </a:xfrm>
        </p:grpSpPr>
        <p:sp>
          <p:nvSpPr>
            <p:cNvPr id="278" name=""/>
            <p:cNvSpPr/>
            <p:nvPr/>
          </p:nvSpPr>
          <p:spPr>
            <a:xfrm>
              <a:off x="28332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6004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1264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928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876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556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7402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806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0816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6524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8560" y="338400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53352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0056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70256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4920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6704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8272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1804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3408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5156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6904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8508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609480" y="3714840"/>
            <a:ext cx="7808760" cy="0"/>
            <a:chOff x="609480" y="3714840"/>
            <a:chExt cx="7808760" cy="0"/>
          </a:xfrm>
        </p:grpSpPr>
        <p:sp>
          <p:nvSpPr>
            <p:cNvPr id="301" name=""/>
            <p:cNvSpPr/>
            <p:nvPr/>
          </p:nvSpPr>
          <p:spPr>
            <a:xfrm>
              <a:off x="60948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2516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4264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5868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7616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9400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0968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62752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4320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6104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852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8418600" y="3619440"/>
            <a:ext cx="228600" cy="285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496360" y="3714840"/>
            <a:ext cx="76320" cy="759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3200400"/>
            <a:ext cx="355680" cy="533520"/>
          </a:xfrm>
          <a:custGeom>
            <a:avLst/>
            <a:gdLst/>
            <a:ahLst/>
            <a:rect l="l" t="t" r="r" b="b"/>
            <a:pathLst>
              <a:path w="224" h="336">
                <a:moveTo>
                  <a:pt x="72" y="336"/>
                </a:moveTo>
                <a:cubicBezTo>
                  <a:pt x="148" y="216"/>
                  <a:pt x="224" y="96"/>
                  <a:pt x="216" y="48"/>
                </a:cubicBezTo>
                <a:cubicBezTo>
                  <a:pt x="208" y="0"/>
                  <a:pt x="48" y="8"/>
                  <a:pt x="24" y="48"/>
                </a:cubicBezTo>
                <a:cubicBezTo>
                  <a:pt x="0" y="88"/>
                  <a:pt x="36" y="188"/>
                  <a:pt x="72" y="28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4640" y="2894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3080" y="3505320"/>
            <a:ext cx="15228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0"/>
                </a:moveTo>
                <a:lnTo>
                  <a:pt x="96" y="96"/>
                </a:lnTo>
                <a:lnTo>
                  <a:pt x="0" y="1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558F-878C-4D1E-98FF-4C8E9B9E48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eprocessing the patter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8" name=""/>
          <p:cNvSpPr/>
          <p:nvPr/>
        </p:nvSpPr>
        <p:spPr>
          <a:xfrm>
            <a:off x="910440" y="1523160"/>
            <a:ext cx="47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55560" y="3384000"/>
            <a:ext cx="7561440" cy="369720"/>
            <a:chOff x="655560" y="3384000"/>
            <a:chExt cx="7561440" cy="369720"/>
          </a:xfrm>
        </p:grpSpPr>
        <p:sp>
          <p:nvSpPr>
            <p:cNvPr id="320" name=""/>
            <p:cNvSpPr/>
            <p:nvPr/>
          </p:nvSpPr>
          <p:spPr>
            <a:xfrm>
              <a:off x="28332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6004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1264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1928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876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556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7402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806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10816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46524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918560" y="338400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3352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0056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70256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4920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6704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8272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804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3408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5156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6904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98508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09480" y="3714840"/>
            <a:ext cx="7808760" cy="0"/>
            <a:chOff x="609480" y="3714840"/>
            <a:chExt cx="7808760" cy="0"/>
          </a:xfrm>
        </p:grpSpPr>
        <p:sp>
          <p:nvSpPr>
            <p:cNvPr id="343" name=""/>
            <p:cNvSpPr/>
            <p:nvPr/>
          </p:nvSpPr>
          <p:spPr>
            <a:xfrm>
              <a:off x="60948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2516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4264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5868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7616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9400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90968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2752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4320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6104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77852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8418600" y="3619440"/>
            <a:ext cx="228600" cy="285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496360" y="3714840"/>
            <a:ext cx="76320" cy="759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" y="3200400"/>
            <a:ext cx="355680" cy="533520"/>
          </a:xfrm>
          <a:custGeom>
            <a:avLst/>
            <a:gdLst/>
            <a:ahLst/>
            <a:rect l="l" t="t" r="r" b="b"/>
            <a:pathLst>
              <a:path w="224" h="336">
                <a:moveTo>
                  <a:pt x="72" y="336"/>
                </a:moveTo>
                <a:cubicBezTo>
                  <a:pt x="148" y="216"/>
                  <a:pt x="224" y="96"/>
                  <a:pt x="216" y="48"/>
                </a:cubicBezTo>
                <a:cubicBezTo>
                  <a:pt x="208" y="0"/>
                  <a:pt x="48" y="8"/>
                  <a:pt x="24" y="48"/>
                </a:cubicBezTo>
                <a:cubicBezTo>
                  <a:pt x="0" y="88"/>
                  <a:pt x="36" y="188"/>
                  <a:pt x="72" y="28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4640" y="2894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28880" y="3048120"/>
            <a:ext cx="380880" cy="685800"/>
          </a:xfrm>
          <a:custGeom>
            <a:avLst/>
            <a:gdLst/>
            <a:ahLst/>
            <a:rect l="l" t="t" r="r" b="b"/>
            <a:pathLst>
              <a:path w="224" h="336">
                <a:moveTo>
                  <a:pt x="72" y="336"/>
                </a:moveTo>
                <a:cubicBezTo>
                  <a:pt x="148" y="216"/>
                  <a:pt x="224" y="96"/>
                  <a:pt x="216" y="48"/>
                </a:cubicBezTo>
                <a:cubicBezTo>
                  <a:pt x="208" y="0"/>
                  <a:pt x="48" y="8"/>
                  <a:pt x="24" y="48"/>
                </a:cubicBezTo>
                <a:cubicBezTo>
                  <a:pt x="0" y="88"/>
                  <a:pt x="36" y="188"/>
                  <a:pt x="72" y="28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06280" y="274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1680" y="3733920"/>
            <a:ext cx="1447560" cy="457200"/>
          </a:xfrm>
          <a:custGeom>
            <a:avLst/>
            <a:gdLst/>
            <a:ahLst/>
            <a:rect l="l" t="t" r="r" b="b"/>
            <a:pathLst>
              <a:path w="912" h="144">
                <a:moveTo>
                  <a:pt x="912" y="0"/>
                </a:moveTo>
                <a:cubicBezTo>
                  <a:pt x="796" y="72"/>
                  <a:pt x="680" y="144"/>
                  <a:pt x="528" y="144"/>
                </a:cubicBezTo>
                <a:cubicBezTo>
                  <a:pt x="376" y="144"/>
                  <a:pt x="188" y="72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56760" y="4190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57480" y="3352680"/>
            <a:ext cx="1447560" cy="304920"/>
          </a:xfrm>
          <a:custGeom>
            <a:avLst/>
            <a:gdLst/>
            <a:ahLst/>
            <a:rect l="l" t="t" r="r" b="b"/>
            <a:pathLst>
              <a:path w="864" h="272">
                <a:moveTo>
                  <a:pt x="864" y="272"/>
                </a:moveTo>
                <a:cubicBezTo>
                  <a:pt x="800" y="168"/>
                  <a:pt x="736" y="64"/>
                  <a:pt x="624" y="32"/>
                </a:cubicBezTo>
                <a:cubicBezTo>
                  <a:pt x="512" y="0"/>
                  <a:pt x="296" y="40"/>
                  <a:pt x="192" y="80"/>
                </a:cubicBezTo>
                <a:cubicBezTo>
                  <a:pt x="88" y="120"/>
                  <a:pt x="44" y="196"/>
                  <a:pt x="0" y="27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020680" y="3047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705040" y="3733920"/>
            <a:ext cx="685800" cy="317520"/>
          </a:xfrm>
          <a:custGeom>
            <a:avLst/>
            <a:gdLst/>
            <a:ahLst/>
            <a:rect l="l" t="t" r="r" b="b"/>
            <a:pathLst>
              <a:path w="432" h="200">
                <a:moveTo>
                  <a:pt x="432" y="0"/>
                </a:moveTo>
                <a:cubicBezTo>
                  <a:pt x="420" y="92"/>
                  <a:pt x="408" y="184"/>
                  <a:pt x="336" y="192"/>
                </a:cubicBezTo>
                <a:cubicBezTo>
                  <a:pt x="264" y="200"/>
                  <a:pt x="132" y="124"/>
                  <a:pt x="0" y="4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11400" y="4037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3080" y="3505320"/>
            <a:ext cx="15228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0"/>
                </a:moveTo>
                <a:lnTo>
                  <a:pt x="96" y="96"/>
                </a:lnTo>
                <a:lnTo>
                  <a:pt x="0" y="1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3BC7-A94D-44CB-8688-D0334C2276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eprocessing the patter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8" name=""/>
          <p:cNvSpPr/>
          <p:nvPr/>
        </p:nvSpPr>
        <p:spPr>
          <a:xfrm>
            <a:off x="910440" y="1523160"/>
            <a:ext cx="47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55560" y="3384000"/>
            <a:ext cx="7561440" cy="369720"/>
            <a:chOff x="655560" y="3384000"/>
            <a:chExt cx="7561440" cy="369720"/>
          </a:xfrm>
        </p:grpSpPr>
        <p:sp>
          <p:nvSpPr>
            <p:cNvPr id="370" name=""/>
            <p:cNvSpPr/>
            <p:nvPr/>
          </p:nvSpPr>
          <p:spPr>
            <a:xfrm>
              <a:off x="28332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6004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1264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928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2876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556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402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3806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10816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46524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918560" y="338400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53352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0056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70256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4920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96704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8272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1804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408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5156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6904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8508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09480" y="3714840"/>
            <a:ext cx="7808760" cy="0"/>
            <a:chOff x="609480" y="3714840"/>
            <a:chExt cx="7808760" cy="0"/>
          </a:xfrm>
        </p:grpSpPr>
        <p:sp>
          <p:nvSpPr>
            <p:cNvPr id="393" name=""/>
            <p:cNvSpPr/>
            <p:nvPr/>
          </p:nvSpPr>
          <p:spPr>
            <a:xfrm>
              <a:off x="60948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32516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4264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5868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7616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9400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90968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2752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34320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6104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7852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8418600" y="3619440"/>
            <a:ext cx="228600" cy="285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496360" y="3714840"/>
            <a:ext cx="76320" cy="759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3200400"/>
            <a:ext cx="355680" cy="533520"/>
          </a:xfrm>
          <a:custGeom>
            <a:avLst/>
            <a:gdLst/>
            <a:ahLst/>
            <a:rect l="l" t="t" r="r" b="b"/>
            <a:pathLst>
              <a:path w="224" h="336">
                <a:moveTo>
                  <a:pt x="72" y="336"/>
                </a:moveTo>
                <a:cubicBezTo>
                  <a:pt x="148" y="216"/>
                  <a:pt x="224" y="96"/>
                  <a:pt x="216" y="48"/>
                </a:cubicBezTo>
                <a:cubicBezTo>
                  <a:pt x="208" y="0"/>
                  <a:pt x="48" y="8"/>
                  <a:pt x="24" y="48"/>
                </a:cubicBezTo>
                <a:cubicBezTo>
                  <a:pt x="0" y="88"/>
                  <a:pt x="36" y="188"/>
                  <a:pt x="72" y="28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94640" y="2894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028880" y="3048120"/>
            <a:ext cx="380880" cy="685800"/>
          </a:xfrm>
          <a:custGeom>
            <a:avLst/>
            <a:gdLst/>
            <a:ahLst/>
            <a:rect l="l" t="t" r="r" b="b"/>
            <a:pathLst>
              <a:path w="224" h="336">
                <a:moveTo>
                  <a:pt x="72" y="336"/>
                </a:moveTo>
                <a:cubicBezTo>
                  <a:pt x="148" y="216"/>
                  <a:pt x="224" y="96"/>
                  <a:pt x="216" y="48"/>
                </a:cubicBezTo>
                <a:cubicBezTo>
                  <a:pt x="208" y="0"/>
                  <a:pt x="48" y="8"/>
                  <a:pt x="24" y="48"/>
                </a:cubicBezTo>
                <a:cubicBezTo>
                  <a:pt x="0" y="88"/>
                  <a:pt x="36" y="188"/>
                  <a:pt x="72" y="28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06280" y="274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1680" y="3733920"/>
            <a:ext cx="1447560" cy="457200"/>
          </a:xfrm>
          <a:custGeom>
            <a:avLst/>
            <a:gdLst/>
            <a:ahLst/>
            <a:rect l="l" t="t" r="r" b="b"/>
            <a:pathLst>
              <a:path w="912" h="144">
                <a:moveTo>
                  <a:pt x="912" y="0"/>
                </a:moveTo>
                <a:cubicBezTo>
                  <a:pt x="796" y="72"/>
                  <a:pt x="680" y="144"/>
                  <a:pt x="528" y="144"/>
                </a:cubicBezTo>
                <a:cubicBezTo>
                  <a:pt x="376" y="144"/>
                  <a:pt x="188" y="72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56760" y="4190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57480" y="3352680"/>
            <a:ext cx="1447560" cy="304920"/>
          </a:xfrm>
          <a:custGeom>
            <a:avLst/>
            <a:gdLst/>
            <a:ahLst/>
            <a:rect l="l" t="t" r="r" b="b"/>
            <a:pathLst>
              <a:path w="864" h="272">
                <a:moveTo>
                  <a:pt x="864" y="272"/>
                </a:moveTo>
                <a:cubicBezTo>
                  <a:pt x="800" y="168"/>
                  <a:pt x="736" y="64"/>
                  <a:pt x="624" y="32"/>
                </a:cubicBezTo>
                <a:cubicBezTo>
                  <a:pt x="512" y="0"/>
                  <a:pt x="296" y="40"/>
                  <a:pt x="192" y="80"/>
                </a:cubicBezTo>
                <a:cubicBezTo>
                  <a:pt x="88" y="120"/>
                  <a:pt x="44" y="196"/>
                  <a:pt x="0" y="27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20680" y="3047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705040" y="3733920"/>
            <a:ext cx="685800" cy="317520"/>
          </a:xfrm>
          <a:custGeom>
            <a:avLst/>
            <a:gdLst/>
            <a:ahLst/>
            <a:rect l="l" t="t" r="r" b="b"/>
            <a:pathLst>
              <a:path w="432" h="200">
                <a:moveTo>
                  <a:pt x="432" y="0"/>
                </a:moveTo>
                <a:cubicBezTo>
                  <a:pt x="420" y="92"/>
                  <a:pt x="408" y="184"/>
                  <a:pt x="336" y="192"/>
                </a:cubicBezTo>
                <a:cubicBezTo>
                  <a:pt x="264" y="200"/>
                  <a:pt x="132" y="124"/>
                  <a:pt x="0" y="4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011400" y="4037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360" y="3733920"/>
            <a:ext cx="3695760" cy="1155600"/>
          </a:xfrm>
          <a:custGeom>
            <a:avLst/>
            <a:gdLst/>
            <a:ahLst/>
            <a:rect l="l" t="t" r="r" b="b"/>
            <a:pathLst>
              <a:path w="2328" h="728">
                <a:moveTo>
                  <a:pt x="2304" y="48"/>
                </a:moveTo>
                <a:cubicBezTo>
                  <a:pt x="2316" y="288"/>
                  <a:pt x="2328" y="528"/>
                  <a:pt x="2016" y="624"/>
                </a:cubicBezTo>
                <a:cubicBezTo>
                  <a:pt x="1704" y="720"/>
                  <a:pt x="768" y="728"/>
                  <a:pt x="432" y="624"/>
                </a:cubicBezTo>
                <a:cubicBezTo>
                  <a:pt x="96" y="520"/>
                  <a:pt x="48" y="260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47120" y="4799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57480" y="3048120"/>
            <a:ext cx="3581280" cy="609480"/>
          </a:xfrm>
          <a:custGeom>
            <a:avLst/>
            <a:gdLst/>
            <a:ahLst/>
            <a:rect l="l" t="t" r="r" b="b"/>
            <a:pathLst>
              <a:path w="2256" h="384">
                <a:moveTo>
                  <a:pt x="2256" y="384"/>
                </a:moveTo>
                <a:cubicBezTo>
                  <a:pt x="2188" y="272"/>
                  <a:pt x="2120" y="160"/>
                  <a:pt x="1872" y="96"/>
                </a:cubicBezTo>
                <a:cubicBezTo>
                  <a:pt x="1624" y="32"/>
                  <a:pt x="1032" y="0"/>
                  <a:pt x="768" y="0"/>
                </a:cubicBezTo>
                <a:cubicBezTo>
                  <a:pt x="504" y="0"/>
                  <a:pt x="416" y="40"/>
                  <a:pt x="288" y="96"/>
                </a:cubicBezTo>
                <a:cubicBezTo>
                  <a:pt x="160" y="152"/>
                  <a:pt x="80" y="244"/>
                  <a:pt x="0" y="3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63680" y="274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04920" y="3809880"/>
            <a:ext cx="5295960" cy="1791000"/>
          </a:xfrm>
          <a:custGeom>
            <a:avLst/>
            <a:gdLst/>
            <a:ahLst/>
            <a:rect l="l" t="t" r="r" b="b"/>
            <a:pathLst>
              <a:path w="3336" h="1128">
                <a:moveTo>
                  <a:pt x="3336" y="0"/>
                </a:moveTo>
                <a:cubicBezTo>
                  <a:pt x="3212" y="252"/>
                  <a:pt x="3088" y="504"/>
                  <a:pt x="2856" y="672"/>
                </a:cubicBezTo>
                <a:cubicBezTo>
                  <a:pt x="2624" y="840"/>
                  <a:pt x="2368" y="960"/>
                  <a:pt x="1944" y="1008"/>
                </a:cubicBezTo>
                <a:cubicBezTo>
                  <a:pt x="1520" y="1056"/>
                  <a:pt x="624" y="1128"/>
                  <a:pt x="312" y="960"/>
                </a:cubicBezTo>
                <a:cubicBezTo>
                  <a:pt x="0" y="792"/>
                  <a:pt x="36" y="396"/>
                  <a:pt x="7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90120" y="540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57480" y="2666880"/>
            <a:ext cx="5029200" cy="990720"/>
          </a:xfrm>
          <a:custGeom>
            <a:avLst/>
            <a:gdLst/>
            <a:ahLst/>
            <a:rect l="l" t="t" r="r" b="b"/>
            <a:pathLst>
              <a:path w="3168" h="624">
                <a:moveTo>
                  <a:pt x="3168" y="624"/>
                </a:moveTo>
                <a:cubicBezTo>
                  <a:pt x="2972" y="408"/>
                  <a:pt x="2776" y="192"/>
                  <a:pt x="2400" y="96"/>
                </a:cubicBezTo>
                <a:cubicBezTo>
                  <a:pt x="2024" y="0"/>
                  <a:pt x="1288" y="0"/>
                  <a:pt x="912" y="48"/>
                </a:cubicBezTo>
                <a:cubicBezTo>
                  <a:pt x="536" y="96"/>
                  <a:pt x="288" y="288"/>
                  <a:pt x="144" y="384"/>
                </a:cubicBezTo>
                <a:cubicBezTo>
                  <a:pt x="0" y="480"/>
                  <a:pt x="64" y="584"/>
                  <a:pt x="48" y="62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916520" y="2437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3080" y="3505320"/>
            <a:ext cx="15228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0"/>
                </a:moveTo>
                <a:lnTo>
                  <a:pt x="96" y="96"/>
                </a:lnTo>
                <a:lnTo>
                  <a:pt x="0" y="1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3690-90B7-4219-815E-8BA0B11067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eprocessing the patter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6" name=""/>
          <p:cNvSpPr/>
          <p:nvPr/>
        </p:nvSpPr>
        <p:spPr>
          <a:xfrm>
            <a:off x="910440" y="1523160"/>
            <a:ext cx="47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655560" y="3384000"/>
            <a:ext cx="7561440" cy="369720"/>
            <a:chOff x="655560" y="3384000"/>
            <a:chExt cx="7561440" cy="369720"/>
          </a:xfrm>
        </p:grpSpPr>
        <p:sp>
          <p:nvSpPr>
            <p:cNvPr id="428" name=""/>
            <p:cNvSpPr/>
            <p:nvPr/>
          </p:nvSpPr>
          <p:spPr>
            <a:xfrm>
              <a:off x="283356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6076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01336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1928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876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5556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402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8096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10816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6596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918560" y="338400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53352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40056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70256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4920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6704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68272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1804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83408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55156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6904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98508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609480" y="3714840"/>
            <a:ext cx="7808760" cy="0"/>
            <a:chOff x="609480" y="3714840"/>
            <a:chExt cx="7808760" cy="0"/>
          </a:xfrm>
        </p:grpSpPr>
        <p:sp>
          <p:nvSpPr>
            <p:cNvPr id="451" name=""/>
            <p:cNvSpPr/>
            <p:nvPr/>
          </p:nvSpPr>
          <p:spPr>
            <a:xfrm>
              <a:off x="60948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32516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4264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75868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7616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9400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0968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62752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4320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06104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77852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8418600" y="3619440"/>
            <a:ext cx="228600" cy="285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496360" y="3714840"/>
            <a:ext cx="76320" cy="759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57200" y="3200400"/>
            <a:ext cx="355680" cy="533520"/>
          </a:xfrm>
          <a:custGeom>
            <a:avLst/>
            <a:gdLst/>
            <a:ahLst/>
            <a:rect l="l" t="t" r="r" b="b"/>
            <a:pathLst>
              <a:path w="224" h="336">
                <a:moveTo>
                  <a:pt x="72" y="336"/>
                </a:moveTo>
                <a:cubicBezTo>
                  <a:pt x="148" y="216"/>
                  <a:pt x="224" y="96"/>
                  <a:pt x="216" y="48"/>
                </a:cubicBezTo>
                <a:cubicBezTo>
                  <a:pt x="208" y="0"/>
                  <a:pt x="48" y="8"/>
                  <a:pt x="24" y="48"/>
                </a:cubicBezTo>
                <a:cubicBezTo>
                  <a:pt x="0" y="88"/>
                  <a:pt x="36" y="188"/>
                  <a:pt x="72" y="28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95000" y="2894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028880" y="3048120"/>
            <a:ext cx="380880" cy="685800"/>
          </a:xfrm>
          <a:custGeom>
            <a:avLst/>
            <a:gdLst/>
            <a:ahLst/>
            <a:rect l="l" t="t" r="r" b="b"/>
            <a:pathLst>
              <a:path w="224" h="336">
                <a:moveTo>
                  <a:pt x="72" y="336"/>
                </a:moveTo>
                <a:cubicBezTo>
                  <a:pt x="148" y="216"/>
                  <a:pt x="224" y="96"/>
                  <a:pt x="216" y="48"/>
                </a:cubicBezTo>
                <a:cubicBezTo>
                  <a:pt x="208" y="0"/>
                  <a:pt x="48" y="8"/>
                  <a:pt x="24" y="48"/>
                </a:cubicBezTo>
                <a:cubicBezTo>
                  <a:pt x="0" y="88"/>
                  <a:pt x="36" y="188"/>
                  <a:pt x="72" y="28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106280" y="274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71680" y="3733920"/>
            <a:ext cx="1447560" cy="457200"/>
          </a:xfrm>
          <a:custGeom>
            <a:avLst/>
            <a:gdLst/>
            <a:ahLst/>
            <a:rect l="l" t="t" r="r" b="b"/>
            <a:pathLst>
              <a:path w="912" h="144">
                <a:moveTo>
                  <a:pt x="912" y="0"/>
                </a:moveTo>
                <a:cubicBezTo>
                  <a:pt x="796" y="72"/>
                  <a:pt x="680" y="144"/>
                  <a:pt x="528" y="144"/>
                </a:cubicBezTo>
                <a:cubicBezTo>
                  <a:pt x="376" y="144"/>
                  <a:pt x="188" y="72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57120" y="4190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257480" y="3352680"/>
            <a:ext cx="1447560" cy="304920"/>
          </a:xfrm>
          <a:custGeom>
            <a:avLst/>
            <a:gdLst/>
            <a:ahLst/>
            <a:rect l="l" t="t" r="r" b="b"/>
            <a:pathLst>
              <a:path w="864" h="272">
                <a:moveTo>
                  <a:pt x="864" y="272"/>
                </a:moveTo>
                <a:cubicBezTo>
                  <a:pt x="800" y="168"/>
                  <a:pt x="736" y="64"/>
                  <a:pt x="624" y="32"/>
                </a:cubicBezTo>
                <a:cubicBezTo>
                  <a:pt x="512" y="0"/>
                  <a:pt x="296" y="40"/>
                  <a:pt x="192" y="80"/>
                </a:cubicBezTo>
                <a:cubicBezTo>
                  <a:pt x="88" y="120"/>
                  <a:pt x="44" y="196"/>
                  <a:pt x="0" y="27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020680" y="3047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05040" y="3733920"/>
            <a:ext cx="685800" cy="317520"/>
          </a:xfrm>
          <a:custGeom>
            <a:avLst/>
            <a:gdLst/>
            <a:ahLst/>
            <a:rect l="l" t="t" r="r" b="b"/>
            <a:pathLst>
              <a:path w="432" h="200">
                <a:moveTo>
                  <a:pt x="432" y="0"/>
                </a:moveTo>
                <a:cubicBezTo>
                  <a:pt x="420" y="92"/>
                  <a:pt x="408" y="184"/>
                  <a:pt x="336" y="192"/>
                </a:cubicBezTo>
                <a:cubicBezTo>
                  <a:pt x="264" y="200"/>
                  <a:pt x="132" y="124"/>
                  <a:pt x="0" y="4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11400" y="4037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95360" y="3733920"/>
            <a:ext cx="3695760" cy="1155600"/>
          </a:xfrm>
          <a:custGeom>
            <a:avLst/>
            <a:gdLst/>
            <a:ahLst/>
            <a:rect l="l" t="t" r="r" b="b"/>
            <a:pathLst>
              <a:path w="2328" h="728">
                <a:moveTo>
                  <a:pt x="2304" y="48"/>
                </a:moveTo>
                <a:cubicBezTo>
                  <a:pt x="2316" y="288"/>
                  <a:pt x="2328" y="528"/>
                  <a:pt x="2016" y="624"/>
                </a:cubicBezTo>
                <a:cubicBezTo>
                  <a:pt x="1704" y="720"/>
                  <a:pt x="768" y="728"/>
                  <a:pt x="432" y="624"/>
                </a:cubicBezTo>
                <a:cubicBezTo>
                  <a:pt x="96" y="520"/>
                  <a:pt x="48" y="260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47840" y="4799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57480" y="3048120"/>
            <a:ext cx="3581280" cy="609480"/>
          </a:xfrm>
          <a:custGeom>
            <a:avLst/>
            <a:gdLst/>
            <a:ahLst/>
            <a:rect l="l" t="t" r="r" b="b"/>
            <a:pathLst>
              <a:path w="2256" h="384">
                <a:moveTo>
                  <a:pt x="2256" y="384"/>
                </a:moveTo>
                <a:cubicBezTo>
                  <a:pt x="2188" y="272"/>
                  <a:pt x="2120" y="160"/>
                  <a:pt x="1872" y="96"/>
                </a:cubicBezTo>
                <a:cubicBezTo>
                  <a:pt x="1624" y="32"/>
                  <a:pt x="1032" y="0"/>
                  <a:pt x="768" y="0"/>
                </a:cubicBezTo>
                <a:cubicBezTo>
                  <a:pt x="504" y="0"/>
                  <a:pt x="416" y="40"/>
                  <a:pt x="288" y="96"/>
                </a:cubicBezTo>
                <a:cubicBezTo>
                  <a:pt x="160" y="152"/>
                  <a:pt x="80" y="244"/>
                  <a:pt x="0" y="3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163680" y="274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920" y="3809880"/>
            <a:ext cx="5295960" cy="1791000"/>
          </a:xfrm>
          <a:custGeom>
            <a:avLst/>
            <a:gdLst/>
            <a:ahLst/>
            <a:rect l="l" t="t" r="r" b="b"/>
            <a:pathLst>
              <a:path w="3336" h="1128">
                <a:moveTo>
                  <a:pt x="3336" y="0"/>
                </a:moveTo>
                <a:cubicBezTo>
                  <a:pt x="3212" y="252"/>
                  <a:pt x="3088" y="504"/>
                  <a:pt x="2856" y="672"/>
                </a:cubicBezTo>
                <a:cubicBezTo>
                  <a:pt x="2624" y="840"/>
                  <a:pt x="2368" y="960"/>
                  <a:pt x="1944" y="1008"/>
                </a:cubicBezTo>
                <a:cubicBezTo>
                  <a:pt x="1520" y="1056"/>
                  <a:pt x="624" y="1128"/>
                  <a:pt x="312" y="960"/>
                </a:cubicBezTo>
                <a:cubicBezTo>
                  <a:pt x="0" y="792"/>
                  <a:pt x="36" y="396"/>
                  <a:pt x="7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390840" y="540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257480" y="2666880"/>
            <a:ext cx="5029200" cy="990720"/>
          </a:xfrm>
          <a:custGeom>
            <a:avLst/>
            <a:gdLst/>
            <a:ahLst/>
            <a:rect l="l" t="t" r="r" b="b"/>
            <a:pathLst>
              <a:path w="3168" h="624">
                <a:moveTo>
                  <a:pt x="3168" y="624"/>
                </a:moveTo>
                <a:cubicBezTo>
                  <a:pt x="2972" y="408"/>
                  <a:pt x="2776" y="192"/>
                  <a:pt x="2400" y="96"/>
                </a:cubicBezTo>
                <a:cubicBezTo>
                  <a:pt x="2024" y="0"/>
                  <a:pt x="1288" y="0"/>
                  <a:pt x="912" y="48"/>
                </a:cubicBezTo>
                <a:cubicBezTo>
                  <a:pt x="536" y="96"/>
                  <a:pt x="288" y="288"/>
                  <a:pt x="144" y="384"/>
                </a:cubicBezTo>
                <a:cubicBezTo>
                  <a:pt x="0" y="480"/>
                  <a:pt x="64" y="584"/>
                  <a:pt x="48" y="62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916520" y="2437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229280" y="3733920"/>
            <a:ext cx="2819160" cy="799920"/>
          </a:xfrm>
          <a:custGeom>
            <a:avLst/>
            <a:gdLst/>
            <a:ahLst/>
            <a:rect l="l" t="t" r="r" b="b"/>
            <a:pathLst>
              <a:path w="1776" h="504">
                <a:moveTo>
                  <a:pt x="1776" y="0"/>
                </a:moveTo>
                <a:cubicBezTo>
                  <a:pt x="1756" y="104"/>
                  <a:pt x="1736" y="208"/>
                  <a:pt x="1632" y="288"/>
                </a:cubicBezTo>
                <a:cubicBezTo>
                  <a:pt x="1528" y="368"/>
                  <a:pt x="1360" y="456"/>
                  <a:pt x="1152" y="480"/>
                </a:cubicBezTo>
                <a:cubicBezTo>
                  <a:pt x="944" y="504"/>
                  <a:pt x="576" y="504"/>
                  <a:pt x="384" y="432"/>
                </a:cubicBezTo>
                <a:cubicBezTo>
                  <a:pt x="192" y="360"/>
                  <a:pt x="96" y="204"/>
                  <a:pt x="0" y="4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29120" y="4494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81400" y="540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3080" y="3505320"/>
            <a:ext cx="15228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0"/>
                </a:moveTo>
                <a:lnTo>
                  <a:pt x="96" y="96"/>
                </a:lnTo>
                <a:lnTo>
                  <a:pt x="0" y="1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29000" y="3733920"/>
            <a:ext cx="4457880" cy="1726920"/>
          </a:xfrm>
          <a:custGeom>
            <a:avLst/>
            <a:gdLst/>
            <a:ahLst/>
            <a:rect l="l" t="t" r="r" b="b"/>
            <a:pathLst>
              <a:path w="2808" h="1088">
                <a:moveTo>
                  <a:pt x="2736" y="0"/>
                </a:moveTo>
                <a:cubicBezTo>
                  <a:pt x="2772" y="224"/>
                  <a:pt x="2808" y="448"/>
                  <a:pt x="2640" y="624"/>
                </a:cubicBezTo>
                <a:cubicBezTo>
                  <a:pt x="2472" y="800"/>
                  <a:pt x="2072" y="1024"/>
                  <a:pt x="1728" y="1056"/>
                </a:cubicBezTo>
                <a:cubicBezTo>
                  <a:pt x="1384" y="1088"/>
                  <a:pt x="864" y="984"/>
                  <a:pt x="576" y="816"/>
                </a:cubicBezTo>
                <a:cubicBezTo>
                  <a:pt x="288" y="648"/>
                  <a:pt x="144" y="348"/>
                  <a:pt x="0" y="4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7122-1F96-4278-ADF0-CB0596A37BC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unning on the string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55560" y="3384000"/>
            <a:ext cx="7561440" cy="369720"/>
            <a:chOff x="655560" y="3384000"/>
            <a:chExt cx="7561440" cy="369720"/>
          </a:xfrm>
        </p:grpSpPr>
        <p:sp>
          <p:nvSpPr>
            <p:cNvPr id="489" name=""/>
            <p:cNvSpPr/>
            <p:nvPr/>
          </p:nvSpPr>
          <p:spPr>
            <a:xfrm>
              <a:off x="283356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56076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01336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1928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2876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5556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4020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80960" y="338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0816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465960" y="338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18560" y="3384000"/>
              <a:ext cx="29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53352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40056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0256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4920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6704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68272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1804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3408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5156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269040" y="36766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985080" y="367668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609480" y="3714840"/>
            <a:ext cx="7808760" cy="0"/>
            <a:chOff x="609480" y="3714840"/>
            <a:chExt cx="7808760" cy="0"/>
          </a:xfrm>
        </p:grpSpPr>
        <p:sp>
          <p:nvSpPr>
            <p:cNvPr id="512" name=""/>
            <p:cNvSpPr/>
            <p:nvPr/>
          </p:nvSpPr>
          <p:spPr>
            <a:xfrm>
              <a:off x="60948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32516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264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75868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47616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19400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0968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2752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343200" y="3714840"/>
              <a:ext cx="640080" cy="0"/>
            </a:xfrm>
            <a:prstGeom prst="line">
              <a:avLst/>
            </a:prstGeom>
            <a:ln w="28440">
              <a:solidFill>
                <a:srgbClr val="0099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06104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778520" y="3714840"/>
              <a:ext cx="639720" cy="0"/>
            </a:xfrm>
            <a:prstGeom prst="line">
              <a:avLst/>
            </a:prstGeom>
            <a:ln w="28440">
              <a:solidFill>
                <a:srgbClr val="0099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8418600" y="3619440"/>
            <a:ext cx="228600" cy="285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496360" y="3714840"/>
            <a:ext cx="76320" cy="759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57200" y="3200400"/>
            <a:ext cx="355680" cy="533520"/>
          </a:xfrm>
          <a:custGeom>
            <a:avLst/>
            <a:gdLst/>
            <a:ahLst/>
            <a:rect l="l" t="t" r="r" b="b"/>
            <a:pathLst>
              <a:path w="224" h="336">
                <a:moveTo>
                  <a:pt x="72" y="336"/>
                </a:moveTo>
                <a:cubicBezTo>
                  <a:pt x="148" y="216"/>
                  <a:pt x="224" y="96"/>
                  <a:pt x="216" y="48"/>
                </a:cubicBezTo>
                <a:cubicBezTo>
                  <a:pt x="208" y="0"/>
                  <a:pt x="48" y="8"/>
                  <a:pt x="24" y="48"/>
                </a:cubicBezTo>
                <a:cubicBezTo>
                  <a:pt x="0" y="88"/>
                  <a:pt x="36" y="188"/>
                  <a:pt x="72" y="288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95000" y="2894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028880" y="3048120"/>
            <a:ext cx="380880" cy="685800"/>
          </a:xfrm>
          <a:custGeom>
            <a:avLst/>
            <a:gdLst/>
            <a:ahLst/>
            <a:rect l="l" t="t" r="r" b="b"/>
            <a:pathLst>
              <a:path w="224" h="336">
                <a:moveTo>
                  <a:pt x="72" y="336"/>
                </a:moveTo>
                <a:cubicBezTo>
                  <a:pt x="148" y="216"/>
                  <a:pt x="224" y="96"/>
                  <a:pt x="216" y="48"/>
                </a:cubicBezTo>
                <a:cubicBezTo>
                  <a:pt x="208" y="0"/>
                  <a:pt x="48" y="8"/>
                  <a:pt x="24" y="48"/>
                </a:cubicBezTo>
                <a:cubicBezTo>
                  <a:pt x="0" y="88"/>
                  <a:pt x="36" y="188"/>
                  <a:pt x="72" y="288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106280" y="274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1680" y="3733920"/>
            <a:ext cx="1447560" cy="457200"/>
          </a:xfrm>
          <a:custGeom>
            <a:avLst/>
            <a:gdLst/>
            <a:ahLst/>
            <a:rect l="l" t="t" r="r" b="b"/>
            <a:pathLst>
              <a:path w="912" h="144">
                <a:moveTo>
                  <a:pt x="912" y="0"/>
                </a:moveTo>
                <a:cubicBezTo>
                  <a:pt x="796" y="72"/>
                  <a:pt x="680" y="144"/>
                  <a:pt x="528" y="144"/>
                </a:cubicBezTo>
                <a:cubicBezTo>
                  <a:pt x="376" y="144"/>
                  <a:pt x="188" y="72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257120" y="4190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257480" y="3352680"/>
            <a:ext cx="1447560" cy="304920"/>
          </a:xfrm>
          <a:custGeom>
            <a:avLst/>
            <a:gdLst/>
            <a:ahLst/>
            <a:rect l="l" t="t" r="r" b="b"/>
            <a:pathLst>
              <a:path w="864" h="272">
                <a:moveTo>
                  <a:pt x="864" y="272"/>
                </a:moveTo>
                <a:cubicBezTo>
                  <a:pt x="800" y="168"/>
                  <a:pt x="736" y="64"/>
                  <a:pt x="624" y="32"/>
                </a:cubicBezTo>
                <a:cubicBezTo>
                  <a:pt x="512" y="0"/>
                  <a:pt x="296" y="40"/>
                  <a:pt x="192" y="80"/>
                </a:cubicBezTo>
                <a:cubicBezTo>
                  <a:pt x="88" y="120"/>
                  <a:pt x="44" y="196"/>
                  <a:pt x="0" y="272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20680" y="3047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705040" y="3733920"/>
            <a:ext cx="685800" cy="317520"/>
          </a:xfrm>
          <a:custGeom>
            <a:avLst/>
            <a:gdLst/>
            <a:ahLst/>
            <a:rect l="l" t="t" r="r" b="b"/>
            <a:pathLst>
              <a:path w="432" h="200">
                <a:moveTo>
                  <a:pt x="432" y="0"/>
                </a:moveTo>
                <a:cubicBezTo>
                  <a:pt x="420" y="92"/>
                  <a:pt x="408" y="184"/>
                  <a:pt x="336" y="192"/>
                </a:cubicBezTo>
                <a:cubicBezTo>
                  <a:pt x="264" y="200"/>
                  <a:pt x="132" y="124"/>
                  <a:pt x="0" y="48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011400" y="4037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360" y="3733920"/>
            <a:ext cx="3695760" cy="1155600"/>
          </a:xfrm>
          <a:custGeom>
            <a:avLst/>
            <a:gdLst/>
            <a:ahLst/>
            <a:rect l="l" t="t" r="r" b="b"/>
            <a:pathLst>
              <a:path w="2328" h="728">
                <a:moveTo>
                  <a:pt x="2304" y="48"/>
                </a:moveTo>
                <a:cubicBezTo>
                  <a:pt x="2316" y="288"/>
                  <a:pt x="2328" y="528"/>
                  <a:pt x="2016" y="624"/>
                </a:cubicBezTo>
                <a:cubicBezTo>
                  <a:pt x="1704" y="720"/>
                  <a:pt x="768" y="728"/>
                  <a:pt x="432" y="624"/>
                </a:cubicBezTo>
                <a:cubicBezTo>
                  <a:pt x="96" y="520"/>
                  <a:pt x="48" y="260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247840" y="4799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257480" y="3048120"/>
            <a:ext cx="3581280" cy="609480"/>
          </a:xfrm>
          <a:custGeom>
            <a:avLst/>
            <a:gdLst/>
            <a:ahLst/>
            <a:rect l="l" t="t" r="r" b="b"/>
            <a:pathLst>
              <a:path w="2256" h="384">
                <a:moveTo>
                  <a:pt x="2256" y="384"/>
                </a:moveTo>
                <a:cubicBezTo>
                  <a:pt x="2188" y="272"/>
                  <a:pt x="2120" y="160"/>
                  <a:pt x="1872" y="96"/>
                </a:cubicBezTo>
                <a:cubicBezTo>
                  <a:pt x="1624" y="32"/>
                  <a:pt x="1032" y="0"/>
                  <a:pt x="768" y="0"/>
                </a:cubicBezTo>
                <a:cubicBezTo>
                  <a:pt x="504" y="0"/>
                  <a:pt x="416" y="40"/>
                  <a:pt x="288" y="96"/>
                </a:cubicBezTo>
                <a:cubicBezTo>
                  <a:pt x="160" y="152"/>
                  <a:pt x="80" y="244"/>
                  <a:pt x="0" y="336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63680" y="2742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04920" y="3809880"/>
            <a:ext cx="5295960" cy="1791000"/>
          </a:xfrm>
          <a:custGeom>
            <a:avLst/>
            <a:gdLst/>
            <a:ahLst/>
            <a:rect l="l" t="t" r="r" b="b"/>
            <a:pathLst>
              <a:path w="3336" h="1128">
                <a:moveTo>
                  <a:pt x="3336" y="0"/>
                </a:moveTo>
                <a:cubicBezTo>
                  <a:pt x="3212" y="252"/>
                  <a:pt x="3088" y="504"/>
                  <a:pt x="2856" y="672"/>
                </a:cubicBezTo>
                <a:cubicBezTo>
                  <a:pt x="2624" y="840"/>
                  <a:pt x="2368" y="960"/>
                  <a:pt x="1944" y="1008"/>
                </a:cubicBezTo>
                <a:cubicBezTo>
                  <a:pt x="1520" y="1056"/>
                  <a:pt x="624" y="1128"/>
                  <a:pt x="312" y="960"/>
                </a:cubicBezTo>
                <a:cubicBezTo>
                  <a:pt x="0" y="792"/>
                  <a:pt x="36" y="396"/>
                  <a:pt x="72" y="0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390840" y="540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257480" y="2666880"/>
            <a:ext cx="5029200" cy="990720"/>
          </a:xfrm>
          <a:custGeom>
            <a:avLst/>
            <a:gdLst/>
            <a:ahLst/>
            <a:rect l="l" t="t" r="r" b="b"/>
            <a:pathLst>
              <a:path w="3168" h="624">
                <a:moveTo>
                  <a:pt x="3168" y="624"/>
                </a:moveTo>
                <a:cubicBezTo>
                  <a:pt x="2972" y="408"/>
                  <a:pt x="2776" y="192"/>
                  <a:pt x="2400" y="96"/>
                </a:cubicBezTo>
                <a:cubicBezTo>
                  <a:pt x="2024" y="0"/>
                  <a:pt x="1288" y="0"/>
                  <a:pt x="912" y="48"/>
                </a:cubicBezTo>
                <a:cubicBezTo>
                  <a:pt x="536" y="96"/>
                  <a:pt x="288" y="288"/>
                  <a:pt x="144" y="384"/>
                </a:cubicBezTo>
                <a:cubicBezTo>
                  <a:pt x="0" y="480"/>
                  <a:pt x="64" y="584"/>
                  <a:pt x="48" y="624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16520" y="2437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29280" y="3733920"/>
            <a:ext cx="2819160" cy="799920"/>
          </a:xfrm>
          <a:custGeom>
            <a:avLst/>
            <a:gdLst/>
            <a:ahLst/>
            <a:rect l="l" t="t" r="r" b="b"/>
            <a:pathLst>
              <a:path w="1776" h="504">
                <a:moveTo>
                  <a:pt x="1776" y="0"/>
                </a:moveTo>
                <a:cubicBezTo>
                  <a:pt x="1756" y="104"/>
                  <a:pt x="1736" y="208"/>
                  <a:pt x="1632" y="288"/>
                </a:cubicBezTo>
                <a:cubicBezTo>
                  <a:pt x="1528" y="368"/>
                  <a:pt x="1360" y="456"/>
                  <a:pt x="1152" y="480"/>
                </a:cubicBezTo>
                <a:cubicBezTo>
                  <a:pt x="944" y="504"/>
                  <a:pt x="576" y="504"/>
                  <a:pt x="384" y="432"/>
                </a:cubicBezTo>
                <a:cubicBezTo>
                  <a:pt x="192" y="360"/>
                  <a:pt x="96" y="204"/>
                  <a:pt x="0" y="48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829120" y="4494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981400" y="540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43080" y="3505320"/>
            <a:ext cx="15228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0"/>
                </a:moveTo>
                <a:lnTo>
                  <a:pt x="96" y="96"/>
                </a:lnTo>
                <a:lnTo>
                  <a:pt x="0" y="19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69360" y="1447200"/>
            <a:ext cx="80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 x x y x y x y y x y 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429000" y="3733920"/>
            <a:ext cx="4457880" cy="1726920"/>
          </a:xfrm>
          <a:custGeom>
            <a:avLst/>
            <a:gdLst/>
            <a:ahLst/>
            <a:rect l="l" t="t" r="r" b="b"/>
            <a:pathLst>
              <a:path w="2808" h="1088">
                <a:moveTo>
                  <a:pt x="2736" y="0"/>
                </a:moveTo>
                <a:cubicBezTo>
                  <a:pt x="2772" y="224"/>
                  <a:pt x="2808" y="448"/>
                  <a:pt x="2640" y="624"/>
                </a:cubicBezTo>
                <a:cubicBezTo>
                  <a:pt x="2472" y="800"/>
                  <a:pt x="2072" y="1024"/>
                  <a:pt x="1728" y="1056"/>
                </a:cubicBezTo>
                <a:cubicBezTo>
                  <a:pt x="1384" y="1088"/>
                  <a:pt x="864" y="984"/>
                  <a:pt x="576" y="816"/>
                </a:cubicBezTo>
                <a:cubicBezTo>
                  <a:pt x="288" y="648"/>
                  <a:pt x="144" y="348"/>
                  <a:pt x="0" y="48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sys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9BE1-6152-4B44-AB86-FC54D6AC4CA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nuth-Morris-Pratt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the preprocessing is done there are only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eps on any string of siz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follow your 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algorithm for doing preprocessing i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(m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usually good sinc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m&lt;&lt;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uth-Morris-Pratt Algorithm can do the pre-processing i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(m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m+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ED69-8F01-4FAE-9C2D-E9386D07B4B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inite State Machin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agram we built is a special case of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inite automa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or accepting state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rc out of each state labeled by each of the possible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te automata take strings of characters as input and decide what to do with them based on the paths they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6221-ADF4-4CE5-8294-576D64F256D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inite State Machin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ommunication protocols,       cache-coherency protocols, VLSI circuits, user-interfaces, even adventure games are designed by making finite state machines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strings” that are the input to the machines can 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quence of actions of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its that arrive on particular ports of the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ries of values on a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4549-AE8F-484F-86C9-BA78BDD891B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1000" y="638640"/>
            <a:ext cx="497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 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040" y="212040"/>
            <a:ext cx="80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 x x y x y x y y x y 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0CB8-9B24-40FE-8DAB-820208E6D6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inite State Machin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earch for arbitrary combinations of patterns not just a single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wo finite automata can build a single new one that accepts strings that either of the original ones acce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text searches are based on finite automata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l builds this in as a first-class component of the programming langu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6685-4BC8-4B65-913B-44C55F19ABC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ext tim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tart the computability and complexity portion of the cou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iscus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uring mach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ich are similar in style to finite-state machines but much more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powerful as any programming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9840-3896-4AE3-9E33-6B29A76E116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1000" y="546840"/>
            <a:ext cx="497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0400" y="212040"/>
            <a:ext cx="80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s =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 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y x y x y y x y 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3094-8543-4036-B345-1163522B79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1000" y="54684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400" y="212040"/>
            <a:ext cx="80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 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x y x y x y y x y 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88080" y="91224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2074-08DD-47B7-A040-5093334160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1000" y="54684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400" y="212040"/>
            <a:ext cx="80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y x y x y y x y 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92400" y="9122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63120" y="1278720"/>
            <a:ext cx="31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B8C9-6544-4281-A092-C3FB1D5FEB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1000" y="54684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0400" y="212040"/>
            <a:ext cx="80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 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 x 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y y x y 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92400" y="9122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67800" y="127872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37440" y="164376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 x y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D809-50A3-4421-B00D-4A9A32C34A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1000" y="54684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400" y="212040"/>
            <a:ext cx="80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 x 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 x y y x y x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92400" y="9122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67800" y="127872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1040" y="164376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12120" y="200916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y x y 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6694-9FF2-4B38-8130-60AD32BFA6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1000" y="54684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400" y="212040"/>
            <a:ext cx="80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x y x x 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 x y y x y x y x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y x y x y x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92400" y="9122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67800" y="127872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1040" y="164376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 y x y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17520" y="20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85000" y="237564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x y x y y x y x y x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5C97-81F8-4E9C-AF7E-7254F6D341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2-12T18:29:30Z</cp:lastPrinted>
  <dcterms:modified xsi:type="dcterms:W3CDTF">2001-02-16T01:22:55Z</dcterms:modified>
  <cp:revision>96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