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839-33D4-4FEE-8A74-FB1A79F7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6F6-6829-4E45-A418-DBC30DC7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1422-7147-4393-B949-3BD7E523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C95E-6288-4582-9EF6-6D2017E0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5422-1DFE-4DF4-945F-C19418E5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CA71-8CD7-4A58-A199-21849751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A038-438C-4CC5-9282-DAE87F46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5E73-219F-4A68-8911-C6FDEEF3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FB1C-ACE6-4887-B12A-6A144CE8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962B-E715-4150-9947-01346ACB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E749-ABD7-4BED-83E2-58EBE0AD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0F8-E891-4372-9710-25FB1CE6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8E32-83E9-4EA3-8D0D-E7BF6EDB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A7E4-5D89-45BD-8294-69379585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5461-FE51-407A-8094-E8C8D47B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CF7B-40A3-491B-AC96-B63BE094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B9E7-5EFE-479C-93C0-63425292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678-2FB6-40C3-954E-29F684D4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F0D-23BC-4F62-A64D-2CD3E1A8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F9D-5E51-4919-A754-2EBC21AA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A498-84D6-4011-A5AF-D26182F2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73D-5D2F-4280-9CD1-33ACFF9B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E93-8454-4386-BB09-6F5251BA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33F-22CA-42B7-92C9-ECD86B67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508D-5B4D-4137-9259-BEC6F059A8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E888-6DE0-4D82-807C-547691FD39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BB37-B329-4B8C-93B5-AB94FF74B5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x y x x y 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y 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92400" y="912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67800" y="12787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1040" y="16437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17520" y="20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85000" y="23756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59680" y="27410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DD0-3448-4A45-860E-DB92EA7DDA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 y x 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92400" y="912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67800" y="12787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1040" y="16437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17520" y="20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85000" y="23756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65440" y="27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34360" y="310608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CA5-4FDA-4BC8-B0D4-5E6B46FD55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 y x y x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y 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92400" y="912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67800" y="12787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1040" y="16437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17520" y="20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85000" y="23756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27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39040" y="31060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09040" y="347256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339-4216-4E92-9B0A-02177F31BD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 y x y x 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2400" y="912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67800" y="12787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1040" y="16437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17520" y="20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5000" y="23756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65440" y="27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39040" y="31060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3472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81920" y="383796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8B3-B4D1-414B-B225-4AB2745331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" y="212040"/>
            <a:ext cx="80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 y x y x y y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92400" y="912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67800" y="12787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1040" y="16437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17520" y="20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85000" y="23756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65440" y="27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39040" y="31060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3472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87680" y="38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56600" y="420300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</a:t>
            </a: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7C5-E5DF-4417-B4FF-F1D29DBAFE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 y x y x y y 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92400" y="912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67800" y="12787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1040" y="16437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17520" y="20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85000" y="23756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65440" y="27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39040" y="31060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3472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87680" y="38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60200" y="420300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31280" y="45698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3B6C-94AB-4DC4-9940-1877B1A4A2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 y x y x y y x 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2400" y="913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67800" y="12787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1040" y="16437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17520" y="20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85000" y="23756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65440" y="27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39040" y="31060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3472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87680" y="38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60200" y="420300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37040" y="4569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05960" y="493488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78240" y="547560"/>
            <a:ext cx="0" cy="219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78240" y="547560"/>
            <a:ext cx="0" cy="219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3120" y="2955960"/>
            <a:ext cx="246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orst-cas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m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18B-CB8C-4B6A-A059-5C3E8BA95F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1920" y="-1080"/>
            <a:ext cx="804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 y x y x y y x 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92400" y="913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67080" y="1278720"/>
            <a:ext cx="6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1760" y="1430640"/>
            <a:ext cx="146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16080" y="200916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89320" y="216252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 y</a:t>
            </a: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64000" y="274104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38680" y="3106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3360" y="347256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86240" y="383796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60920" y="3989880"/>
            <a:ext cx="146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35600" y="456984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10280" y="472176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 y x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78240" y="547560"/>
            <a:ext cx="0" cy="219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78240" y="547560"/>
            <a:ext cx="0" cy="219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53080" y="1065960"/>
            <a:ext cx="28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ots of wasted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124080" y="1279440"/>
            <a:ext cx="1811520" cy="244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81000" y="2009520"/>
            <a:ext cx="528480" cy="1251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1295280"/>
            <a:ext cx="1447920" cy="990720"/>
          </a:xfrm>
          <a:custGeom>
            <a:avLst/>
            <a:gdLst/>
            <a:ahLst/>
            <a:rect l="l" t="t" r="r" b="b"/>
            <a:pathLst>
              <a:path w="912" h="624">
                <a:moveTo>
                  <a:pt x="912" y="0"/>
                </a:moveTo>
                <a:cubicBezTo>
                  <a:pt x="892" y="188"/>
                  <a:pt x="872" y="376"/>
                  <a:pt x="720" y="480"/>
                </a:cubicBezTo>
                <a:cubicBezTo>
                  <a:pt x="568" y="584"/>
                  <a:pt x="120" y="600"/>
                  <a:pt x="0" y="62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2768760"/>
            <a:ext cx="3632040" cy="2463480"/>
          </a:xfrm>
          <a:custGeom>
            <a:avLst/>
            <a:gdLst/>
            <a:ahLst/>
            <a:rect l="l" t="t" r="r" b="b"/>
            <a:pathLst>
              <a:path w="2288" h="1552">
                <a:moveTo>
                  <a:pt x="432" y="80"/>
                </a:moveTo>
                <a:cubicBezTo>
                  <a:pt x="216" y="108"/>
                  <a:pt x="0" y="136"/>
                  <a:pt x="144" y="368"/>
                </a:cubicBezTo>
                <a:cubicBezTo>
                  <a:pt x="288" y="600"/>
                  <a:pt x="960" y="1392"/>
                  <a:pt x="1296" y="1472"/>
                </a:cubicBezTo>
                <a:cubicBezTo>
                  <a:pt x="1632" y="1552"/>
                  <a:pt x="2288" y="1080"/>
                  <a:pt x="2160" y="848"/>
                </a:cubicBezTo>
                <a:cubicBezTo>
                  <a:pt x="2032" y="616"/>
                  <a:pt x="864" y="160"/>
                  <a:pt x="528" y="80"/>
                </a:cubicBezTo>
                <a:cubicBezTo>
                  <a:pt x="192" y="0"/>
                  <a:pt x="168" y="184"/>
                  <a:pt x="144" y="3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1447920"/>
            <a:ext cx="1866960" cy="2361960"/>
          </a:xfrm>
          <a:custGeom>
            <a:avLst/>
            <a:gdLst/>
            <a:ahLst/>
            <a:rect l="l" t="t" r="r" b="b"/>
            <a:pathLst>
              <a:path w="1176" h="1488">
                <a:moveTo>
                  <a:pt x="0" y="0"/>
                </a:moveTo>
                <a:cubicBezTo>
                  <a:pt x="468" y="164"/>
                  <a:pt x="936" y="328"/>
                  <a:pt x="1056" y="576"/>
                </a:cubicBezTo>
                <a:cubicBezTo>
                  <a:pt x="1176" y="824"/>
                  <a:pt x="948" y="1156"/>
                  <a:pt x="720" y="14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6280" y="4494600"/>
            <a:ext cx="394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nce we know earlier agre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f the string with the patter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se can’t possibly 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1066680"/>
            <a:ext cx="1143000" cy="731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16080" y="2163600"/>
            <a:ext cx="362160" cy="365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4600" y="2527560"/>
            <a:ext cx="324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uppose we kne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attern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D78-3308-4F9C-8C3F-71EDC6A5AE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eprocess the Patter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each character in the pattern figure out ahead of time what the next useful work would be if it failed to match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how much can one shift over the pattern for the next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92D3-F38A-4C51-88E1-D8BFF4383B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1920" y="-1080"/>
            <a:ext cx="804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 y x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y x 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y y x y x y x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1760" y="1430640"/>
            <a:ext cx="146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89320" y="216252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x y</a:t>
            </a: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10280" y="472176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x y x y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78240" y="547560"/>
            <a:ext cx="0" cy="219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78240" y="547560"/>
            <a:ext cx="0" cy="219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81000" y="2009520"/>
            <a:ext cx="528480" cy="1251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A6F-ECFA-45F6-8FF1-83D80BD446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attern Matching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08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ing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tern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&lt;&lt;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ccurrences of the patter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Obvious algorith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see i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tches at each of the positions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topping at a failed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3B0-5882-4178-98DF-F2868C69F4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eprocessing the patter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ach mis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last part that matched plus extra mismatched charac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fit pattern as far to the left in this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look for the longest prefix of the pattern that matches the end of the sequence so f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8D5-76FD-47A4-B3FE-21F9CBD256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eprocessing the patter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5" name=""/>
          <p:cNvSpPr/>
          <p:nvPr/>
        </p:nvSpPr>
        <p:spPr>
          <a:xfrm>
            <a:off x="910440" y="1523160"/>
            <a:ext cx="47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55560" y="3384000"/>
            <a:ext cx="7561440" cy="369720"/>
            <a:chOff x="655560" y="3384000"/>
            <a:chExt cx="7561440" cy="369720"/>
          </a:xfrm>
        </p:grpSpPr>
        <p:sp>
          <p:nvSpPr>
            <p:cNvPr id="237" name=""/>
            <p:cNvSpPr/>
            <p:nvPr/>
          </p:nvSpPr>
          <p:spPr>
            <a:xfrm>
              <a:off x="28332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600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126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928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876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556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402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806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081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652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18560" y="33840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3352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00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0256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4920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67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8272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18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34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51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6904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85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9480" y="3714840"/>
            <a:ext cx="7808760" cy="0"/>
            <a:chOff x="609480" y="3714840"/>
            <a:chExt cx="7808760" cy="0"/>
          </a:xfrm>
        </p:grpSpPr>
        <p:sp>
          <p:nvSpPr>
            <p:cNvPr id="260" name=""/>
            <p:cNvSpPr/>
            <p:nvPr/>
          </p:nvSpPr>
          <p:spPr>
            <a:xfrm>
              <a:off x="6094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2516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4264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586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7616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9400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0968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27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4320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6104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78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8418600" y="3619440"/>
            <a:ext cx="228600" cy="285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496360" y="371484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3080" y="3505320"/>
            <a:ext cx="15228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0"/>
                </a:moveTo>
                <a:lnTo>
                  <a:pt x="96" y="96"/>
                </a:lnTo>
                <a:lnTo>
                  <a:pt x="0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1960" y="4494600"/>
            <a:ext cx="85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t represents how far in the pattern things are ma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378-E0AF-4E53-A240-95F3A74F5A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eprocessing the patter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6" name=""/>
          <p:cNvSpPr/>
          <p:nvPr/>
        </p:nvSpPr>
        <p:spPr>
          <a:xfrm>
            <a:off x="910440" y="1523160"/>
            <a:ext cx="47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55560" y="3384000"/>
            <a:ext cx="7561440" cy="369720"/>
            <a:chOff x="655560" y="3384000"/>
            <a:chExt cx="7561440" cy="369720"/>
          </a:xfrm>
        </p:grpSpPr>
        <p:sp>
          <p:nvSpPr>
            <p:cNvPr id="278" name=""/>
            <p:cNvSpPr/>
            <p:nvPr/>
          </p:nvSpPr>
          <p:spPr>
            <a:xfrm>
              <a:off x="28332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600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126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928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876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556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402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806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081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652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8560" y="33840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3352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00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0256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4920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67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8272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18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34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51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6904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85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09480" y="3714840"/>
            <a:ext cx="7808760" cy="0"/>
            <a:chOff x="609480" y="3714840"/>
            <a:chExt cx="7808760" cy="0"/>
          </a:xfrm>
        </p:grpSpPr>
        <p:sp>
          <p:nvSpPr>
            <p:cNvPr id="301" name=""/>
            <p:cNvSpPr/>
            <p:nvPr/>
          </p:nvSpPr>
          <p:spPr>
            <a:xfrm>
              <a:off x="6094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516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4264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586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7616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9400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0968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27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4320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6104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8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418600" y="3619440"/>
            <a:ext cx="228600" cy="285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496360" y="371484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3200400"/>
            <a:ext cx="355680" cy="533520"/>
          </a:xfrm>
          <a:custGeom>
            <a:avLst/>
            <a:gdLst/>
            <a:ahLst/>
            <a:rect l="l" t="t" r="r" b="b"/>
            <a:pathLst>
              <a:path w="224" h="336">
                <a:moveTo>
                  <a:pt x="72" y="336"/>
                </a:moveTo>
                <a:cubicBezTo>
                  <a:pt x="148" y="216"/>
                  <a:pt x="224" y="96"/>
                  <a:pt x="216" y="48"/>
                </a:cubicBezTo>
                <a:cubicBezTo>
                  <a:pt x="208" y="0"/>
                  <a:pt x="48" y="8"/>
                  <a:pt x="24" y="48"/>
                </a:cubicBezTo>
                <a:cubicBezTo>
                  <a:pt x="0" y="88"/>
                  <a:pt x="36" y="188"/>
                  <a:pt x="72" y="2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4640" y="2894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3080" y="3505320"/>
            <a:ext cx="15228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0"/>
                </a:moveTo>
                <a:lnTo>
                  <a:pt x="96" y="96"/>
                </a:lnTo>
                <a:lnTo>
                  <a:pt x="0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5D5-41EE-483C-A698-094EDE07FF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eprocessing the patter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8" name=""/>
          <p:cNvSpPr/>
          <p:nvPr/>
        </p:nvSpPr>
        <p:spPr>
          <a:xfrm>
            <a:off x="910440" y="1523160"/>
            <a:ext cx="47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55560" y="3384000"/>
            <a:ext cx="7561440" cy="369720"/>
            <a:chOff x="655560" y="3384000"/>
            <a:chExt cx="7561440" cy="369720"/>
          </a:xfrm>
        </p:grpSpPr>
        <p:sp>
          <p:nvSpPr>
            <p:cNvPr id="320" name=""/>
            <p:cNvSpPr/>
            <p:nvPr/>
          </p:nvSpPr>
          <p:spPr>
            <a:xfrm>
              <a:off x="28332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600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126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928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876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556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402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806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081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652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18560" y="33840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3352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00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0256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4920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67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8272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8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34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51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6904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85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09480" y="3714840"/>
            <a:ext cx="7808760" cy="0"/>
            <a:chOff x="609480" y="3714840"/>
            <a:chExt cx="7808760" cy="0"/>
          </a:xfrm>
        </p:grpSpPr>
        <p:sp>
          <p:nvSpPr>
            <p:cNvPr id="343" name=""/>
            <p:cNvSpPr/>
            <p:nvPr/>
          </p:nvSpPr>
          <p:spPr>
            <a:xfrm>
              <a:off x="6094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2516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4264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586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7616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9400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0968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27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4320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6104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78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8418600" y="3619440"/>
            <a:ext cx="228600" cy="285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496360" y="371484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3200400"/>
            <a:ext cx="355680" cy="533520"/>
          </a:xfrm>
          <a:custGeom>
            <a:avLst/>
            <a:gdLst/>
            <a:ahLst/>
            <a:rect l="l" t="t" r="r" b="b"/>
            <a:pathLst>
              <a:path w="224" h="336">
                <a:moveTo>
                  <a:pt x="72" y="336"/>
                </a:moveTo>
                <a:cubicBezTo>
                  <a:pt x="148" y="216"/>
                  <a:pt x="224" y="96"/>
                  <a:pt x="216" y="48"/>
                </a:cubicBezTo>
                <a:cubicBezTo>
                  <a:pt x="208" y="0"/>
                  <a:pt x="48" y="8"/>
                  <a:pt x="24" y="48"/>
                </a:cubicBezTo>
                <a:cubicBezTo>
                  <a:pt x="0" y="88"/>
                  <a:pt x="36" y="188"/>
                  <a:pt x="72" y="2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4640" y="2894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28880" y="3048120"/>
            <a:ext cx="380880" cy="685800"/>
          </a:xfrm>
          <a:custGeom>
            <a:avLst/>
            <a:gdLst/>
            <a:ahLst/>
            <a:rect l="l" t="t" r="r" b="b"/>
            <a:pathLst>
              <a:path w="224" h="336">
                <a:moveTo>
                  <a:pt x="72" y="336"/>
                </a:moveTo>
                <a:cubicBezTo>
                  <a:pt x="148" y="216"/>
                  <a:pt x="224" y="96"/>
                  <a:pt x="216" y="48"/>
                </a:cubicBezTo>
                <a:cubicBezTo>
                  <a:pt x="208" y="0"/>
                  <a:pt x="48" y="8"/>
                  <a:pt x="24" y="48"/>
                </a:cubicBezTo>
                <a:cubicBezTo>
                  <a:pt x="0" y="88"/>
                  <a:pt x="36" y="188"/>
                  <a:pt x="72" y="2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06280" y="274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1680" y="3733920"/>
            <a:ext cx="1447560" cy="4572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912" y="0"/>
                </a:moveTo>
                <a:cubicBezTo>
                  <a:pt x="796" y="72"/>
                  <a:pt x="680" y="144"/>
                  <a:pt x="528" y="144"/>
                </a:cubicBezTo>
                <a:cubicBezTo>
                  <a:pt x="376" y="144"/>
                  <a:pt x="188" y="72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56760" y="4190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57480" y="3352680"/>
            <a:ext cx="1447560" cy="304920"/>
          </a:xfrm>
          <a:custGeom>
            <a:avLst/>
            <a:gdLst/>
            <a:ahLst/>
            <a:rect l="l" t="t" r="r" b="b"/>
            <a:pathLst>
              <a:path w="864" h="272">
                <a:moveTo>
                  <a:pt x="864" y="272"/>
                </a:moveTo>
                <a:cubicBezTo>
                  <a:pt x="800" y="168"/>
                  <a:pt x="736" y="64"/>
                  <a:pt x="624" y="32"/>
                </a:cubicBezTo>
                <a:cubicBezTo>
                  <a:pt x="512" y="0"/>
                  <a:pt x="296" y="40"/>
                  <a:pt x="192" y="80"/>
                </a:cubicBezTo>
                <a:cubicBezTo>
                  <a:pt x="88" y="120"/>
                  <a:pt x="44" y="196"/>
                  <a:pt x="0" y="27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20680" y="3047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05040" y="3733920"/>
            <a:ext cx="685800" cy="317520"/>
          </a:xfrm>
          <a:custGeom>
            <a:avLst/>
            <a:gdLst/>
            <a:ahLst/>
            <a:rect l="l" t="t" r="r" b="b"/>
            <a:pathLst>
              <a:path w="432" h="200">
                <a:moveTo>
                  <a:pt x="432" y="0"/>
                </a:moveTo>
                <a:cubicBezTo>
                  <a:pt x="420" y="92"/>
                  <a:pt x="408" y="184"/>
                  <a:pt x="336" y="192"/>
                </a:cubicBezTo>
                <a:cubicBezTo>
                  <a:pt x="264" y="200"/>
                  <a:pt x="132" y="124"/>
                  <a:pt x="0" y="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11400" y="403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3080" y="3505320"/>
            <a:ext cx="15228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0"/>
                </a:moveTo>
                <a:lnTo>
                  <a:pt x="96" y="96"/>
                </a:lnTo>
                <a:lnTo>
                  <a:pt x="0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5CD-D59F-4672-8DC2-23B21D1DDA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eprocessing the patter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8" name=""/>
          <p:cNvSpPr/>
          <p:nvPr/>
        </p:nvSpPr>
        <p:spPr>
          <a:xfrm>
            <a:off x="910440" y="1523160"/>
            <a:ext cx="47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55560" y="3384000"/>
            <a:ext cx="7561440" cy="369720"/>
            <a:chOff x="655560" y="3384000"/>
            <a:chExt cx="7561440" cy="369720"/>
          </a:xfrm>
        </p:grpSpPr>
        <p:sp>
          <p:nvSpPr>
            <p:cNvPr id="370" name=""/>
            <p:cNvSpPr/>
            <p:nvPr/>
          </p:nvSpPr>
          <p:spPr>
            <a:xfrm>
              <a:off x="28332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600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26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928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876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56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402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806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081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652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18560" y="33840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53352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00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70256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4920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67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8272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18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4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51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6904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85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09480" y="3714840"/>
            <a:ext cx="7808760" cy="0"/>
            <a:chOff x="609480" y="3714840"/>
            <a:chExt cx="7808760" cy="0"/>
          </a:xfrm>
        </p:grpSpPr>
        <p:sp>
          <p:nvSpPr>
            <p:cNvPr id="393" name=""/>
            <p:cNvSpPr/>
            <p:nvPr/>
          </p:nvSpPr>
          <p:spPr>
            <a:xfrm>
              <a:off x="6094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2516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4264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586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7616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9400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0968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27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34320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6104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78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8418600" y="3619440"/>
            <a:ext cx="228600" cy="285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496360" y="371484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3200400"/>
            <a:ext cx="355680" cy="533520"/>
          </a:xfrm>
          <a:custGeom>
            <a:avLst/>
            <a:gdLst/>
            <a:ahLst/>
            <a:rect l="l" t="t" r="r" b="b"/>
            <a:pathLst>
              <a:path w="224" h="336">
                <a:moveTo>
                  <a:pt x="72" y="336"/>
                </a:moveTo>
                <a:cubicBezTo>
                  <a:pt x="148" y="216"/>
                  <a:pt x="224" y="96"/>
                  <a:pt x="216" y="48"/>
                </a:cubicBezTo>
                <a:cubicBezTo>
                  <a:pt x="208" y="0"/>
                  <a:pt x="48" y="8"/>
                  <a:pt x="24" y="48"/>
                </a:cubicBezTo>
                <a:cubicBezTo>
                  <a:pt x="0" y="88"/>
                  <a:pt x="36" y="188"/>
                  <a:pt x="72" y="2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4640" y="2894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28880" y="3048120"/>
            <a:ext cx="380880" cy="685800"/>
          </a:xfrm>
          <a:custGeom>
            <a:avLst/>
            <a:gdLst/>
            <a:ahLst/>
            <a:rect l="l" t="t" r="r" b="b"/>
            <a:pathLst>
              <a:path w="224" h="336">
                <a:moveTo>
                  <a:pt x="72" y="336"/>
                </a:moveTo>
                <a:cubicBezTo>
                  <a:pt x="148" y="216"/>
                  <a:pt x="224" y="96"/>
                  <a:pt x="216" y="48"/>
                </a:cubicBezTo>
                <a:cubicBezTo>
                  <a:pt x="208" y="0"/>
                  <a:pt x="48" y="8"/>
                  <a:pt x="24" y="48"/>
                </a:cubicBezTo>
                <a:cubicBezTo>
                  <a:pt x="0" y="88"/>
                  <a:pt x="36" y="188"/>
                  <a:pt x="72" y="2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06280" y="274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1680" y="3733920"/>
            <a:ext cx="1447560" cy="4572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912" y="0"/>
                </a:moveTo>
                <a:cubicBezTo>
                  <a:pt x="796" y="72"/>
                  <a:pt x="680" y="144"/>
                  <a:pt x="528" y="144"/>
                </a:cubicBezTo>
                <a:cubicBezTo>
                  <a:pt x="376" y="144"/>
                  <a:pt x="188" y="72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56760" y="4190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57480" y="3352680"/>
            <a:ext cx="1447560" cy="304920"/>
          </a:xfrm>
          <a:custGeom>
            <a:avLst/>
            <a:gdLst/>
            <a:ahLst/>
            <a:rect l="l" t="t" r="r" b="b"/>
            <a:pathLst>
              <a:path w="864" h="272">
                <a:moveTo>
                  <a:pt x="864" y="272"/>
                </a:moveTo>
                <a:cubicBezTo>
                  <a:pt x="800" y="168"/>
                  <a:pt x="736" y="64"/>
                  <a:pt x="624" y="32"/>
                </a:cubicBezTo>
                <a:cubicBezTo>
                  <a:pt x="512" y="0"/>
                  <a:pt x="296" y="40"/>
                  <a:pt x="192" y="80"/>
                </a:cubicBezTo>
                <a:cubicBezTo>
                  <a:pt x="88" y="120"/>
                  <a:pt x="44" y="196"/>
                  <a:pt x="0" y="27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20680" y="3047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05040" y="3733920"/>
            <a:ext cx="685800" cy="317520"/>
          </a:xfrm>
          <a:custGeom>
            <a:avLst/>
            <a:gdLst/>
            <a:ahLst/>
            <a:rect l="l" t="t" r="r" b="b"/>
            <a:pathLst>
              <a:path w="432" h="200">
                <a:moveTo>
                  <a:pt x="432" y="0"/>
                </a:moveTo>
                <a:cubicBezTo>
                  <a:pt x="420" y="92"/>
                  <a:pt x="408" y="184"/>
                  <a:pt x="336" y="192"/>
                </a:cubicBezTo>
                <a:cubicBezTo>
                  <a:pt x="264" y="200"/>
                  <a:pt x="132" y="124"/>
                  <a:pt x="0" y="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11400" y="403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360" y="3733920"/>
            <a:ext cx="3695760" cy="1155600"/>
          </a:xfrm>
          <a:custGeom>
            <a:avLst/>
            <a:gdLst/>
            <a:ahLst/>
            <a:rect l="l" t="t" r="r" b="b"/>
            <a:pathLst>
              <a:path w="2328" h="728">
                <a:moveTo>
                  <a:pt x="2304" y="48"/>
                </a:moveTo>
                <a:cubicBezTo>
                  <a:pt x="2316" y="288"/>
                  <a:pt x="2328" y="528"/>
                  <a:pt x="2016" y="624"/>
                </a:cubicBezTo>
                <a:cubicBezTo>
                  <a:pt x="1704" y="720"/>
                  <a:pt x="768" y="728"/>
                  <a:pt x="432" y="624"/>
                </a:cubicBezTo>
                <a:cubicBezTo>
                  <a:pt x="96" y="520"/>
                  <a:pt x="48" y="260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47120" y="479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57480" y="3048120"/>
            <a:ext cx="3581280" cy="609480"/>
          </a:xfrm>
          <a:custGeom>
            <a:avLst/>
            <a:gdLst/>
            <a:ahLst/>
            <a:rect l="l" t="t" r="r" b="b"/>
            <a:pathLst>
              <a:path w="2256" h="384">
                <a:moveTo>
                  <a:pt x="2256" y="384"/>
                </a:moveTo>
                <a:cubicBezTo>
                  <a:pt x="2188" y="272"/>
                  <a:pt x="2120" y="160"/>
                  <a:pt x="1872" y="96"/>
                </a:cubicBezTo>
                <a:cubicBezTo>
                  <a:pt x="1624" y="32"/>
                  <a:pt x="1032" y="0"/>
                  <a:pt x="768" y="0"/>
                </a:cubicBezTo>
                <a:cubicBezTo>
                  <a:pt x="504" y="0"/>
                  <a:pt x="416" y="40"/>
                  <a:pt x="288" y="96"/>
                </a:cubicBezTo>
                <a:cubicBezTo>
                  <a:pt x="160" y="152"/>
                  <a:pt x="80" y="244"/>
                  <a:pt x="0" y="3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63680" y="274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4920" y="3809880"/>
            <a:ext cx="5295960" cy="1791000"/>
          </a:xfrm>
          <a:custGeom>
            <a:avLst/>
            <a:gdLst/>
            <a:ahLst/>
            <a:rect l="l" t="t" r="r" b="b"/>
            <a:pathLst>
              <a:path w="3336" h="1128">
                <a:moveTo>
                  <a:pt x="3336" y="0"/>
                </a:moveTo>
                <a:cubicBezTo>
                  <a:pt x="3212" y="252"/>
                  <a:pt x="3088" y="504"/>
                  <a:pt x="2856" y="672"/>
                </a:cubicBezTo>
                <a:cubicBezTo>
                  <a:pt x="2624" y="840"/>
                  <a:pt x="2368" y="960"/>
                  <a:pt x="1944" y="1008"/>
                </a:cubicBezTo>
                <a:cubicBezTo>
                  <a:pt x="1520" y="1056"/>
                  <a:pt x="624" y="1128"/>
                  <a:pt x="312" y="960"/>
                </a:cubicBezTo>
                <a:cubicBezTo>
                  <a:pt x="0" y="792"/>
                  <a:pt x="36" y="396"/>
                  <a:pt x="7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90120" y="540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2666880"/>
            <a:ext cx="5029200" cy="990720"/>
          </a:xfrm>
          <a:custGeom>
            <a:avLst/>
            <a:gdLst/>
            <a:ahLst/>
            <a:rect l="l" t="t" r="r" b="b"/>
            <a:pathLst>
              <a:path w="3168" h="624">
                <a:moveTo>
                  <a:pt x="3168" y="624"/>
                </a:moveTo>
                <a:cubicBezTo>
                  <a:pt x="2972" y="408"/>
                  <a:pt x="2776" y="192"/>
                  <a:pt x="2400" y="96"/>
                </a:cubicBezTo>
                <a:cubicBezTo>
                  <a:pt x="2024" y="0"/>
                  <a:pt x="1288" y="0"/>
                  <a:pt x="912" y="48"/>
                </a:cubicBezTo>
                <a:cubicBezTo>
                  <a:pt x="536" y="96"/>
                  <a:pt x="288" y="288"/>
                  <a:pt x="144" y="384"/>
                </a:cubicBezTo>
                <a:cubicBezTo>
                  <a:pt x="0" y="480"/>
                  <a:pt x="64" y="584"/>
                  <a:pt x="48" y="62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916520" y="2437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080" y="3505320"/>
            <a:ext cx="15228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0"/>
                </a:moveTo>
                <a:lnTo>
                  <a:pt x="96" y="96"/>
                </a:lnTo>
                <a:lnTo>
                  <a:pt x="0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0A1-E007-4646-A21E-ED22FB0AF8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eprocessing the patter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6" name=""/>
          <p:cNvSpPr/>
          <p:nvPr/>
        </p:nvSpPr>
        <p:spPr>
          <a:xfrm>
            <a:off x="910440" y="1523160"/>
            <a:ext cx="47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55560" y="3384000"/>
            <a:ext cx="7561440" cy="369720"/>
            <a:chOff x="655560" y="3384000"/>
            <a:chExt cx="7561440" cy="369720"/>
          </a:xfrm>
        </p:grpSpPr>
        <p:sp>
          <p:nvSpPr>
            <p:cNvPr id="428" name=""/>
            <p:cNvSpPr/>
            <p:nvPr/>
          </p:nvSpPr>
          <p:spPr>
            <a:xfrm>
              <a:off x="283356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607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133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928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876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556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402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8096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1081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659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918560" y="33840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53352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00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70256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4920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67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68272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18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34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51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6904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85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09480" y="3714840"/>
            <a:ext cx="7808760" cy="0"/>
            <a:chOff x="609480" y="3714840"/>
            <a:chExt cx="7808760" cy="0"/>
          </a:xfrm>
        </p:grpSpPr>
        <p:sp>
          <p:nvSpPr>
            <p:cNvPr id="451" name=""/>
            <p:cNvSpPr/>
            <p:nvPr/>
          </p:nvSpPr>
          <p:spPr>
            <a:xfrm>
              <a:off x="6094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2516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4264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586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7616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9400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0968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627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4320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6104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78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8418600" y="3619440"/>
            <a:ext cx="228600" cy="285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496360" y="371484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" y="3200400"/>
            <a:ext cx="355680" cy="533520"/>
          </a:xfrm>
          <a:custGeom>
            <a:avLst/>
            <a:gdLst/>
            <a:ahLst/>
            <a:rect l="l" t="t" r="r" b="b"/>
            <a:pathLst>
              <a:path w="224" h="336">
                <a:moveTo>
                  <a:pt x="72" y="336"/>
                </a:moveTo>
                <a:cubicBezTo>
                  <a:pt x="148" y="216"/>
                  <a:pt x="224" y="96"/>
                  <a:pt x="216" y="48"/>
                </a:cubicBezTo>
                <a:cubicBezTo>
                  <a:pt x="208" y="0"/>
                  <a:pt x="48" y="8"/>
                  <a:pt x="24" y="48"/>
                </a:cubicBezTo>
                <a:cubicBezTo>
                  <a:pt x="0" y="88"/>
                  <a:pt x="36" y="188"/>
                  <a:pt x="72" y="2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95000" y="2894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028880" y="3048120"/>
            <a:ext cx="380880" cy="685800"/>
          </a:xfrm>
          <a:custGeom>
            <a:avLst/>
            <a:gdLst/>
            <a:ahLst/>
            <a:rect l="l" t="t" r="r" b="b"/>
            <a:pathLst>
              <a:path w="224" h="336">
                <a:moveTo>
                  <a:pt x="72" y="336"/>
                </a:moveTo>
                <a:cubicBezTo>
                  <a:pt x="148" y="216"/>
                  <a:pt x="224" y="96"/>
                  <a:pt x="216" y="48"/>
                </a:cubicBezTo>
                <a:cubicBezTo>
                  <a:pt x="208" y="0"/>
                  <a:pt x="48" y="8"/>
                  <a:pt x="24" y="48"/>
                </a:cubicBezTo>
                <a:cubicBezTo>
                  <a:pt x="0" y="88"/>
                  <a:pt x="36" y="188"/>
                  <a:pt x="72" y="2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06280" y="274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71680" y="3733920"/>
            <a:ext cx="1447560" cy="4572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912" y="0"/>
                </a:moveTo>
                <a:cubicBezTo>
                  <a:pt x="796" y="72"/>
                  <a:pt x="680" y="144"/>
                  <a:pt x="528" y="144"/>
                </a:cubicBezTo>
                <a:cubicBezTo>
                  <a:pt x="376" y="144"/>
                  <a:pt x="188" y="72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57120" y="4190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3352680"/>
            <a:ext cx="1447560" cy="304920"/>
          </a:xfrm>
          <a:custGeom>
            <a:avLst/>
            <a:gdLst/>
            <a:ahLst/>
            <a:rect l="l" t="t" r="r" b="b"/>
            <a:pathLst>
              <a:path w="864" h="272">
                <a:moveTo>
                  <a:pt x="864" y="272"/>
                </a:moveTo>
                <a:cubicBezTo>
                  <a:pt x="800" y="168"/>
                  <a:pt x="736" y="64"/>
                  <a:pt x="624" y="32"/>
                </a:cubicBezTo>
                <a:cubicBezTo>
                  <a:pt x="512" y="0"/>
                  <a:pt x="296" y="40"/>
                  <a:pt x="192" y="80"/>
                </a:cubicBezTo>
                <a:cubicBezTo>
                  <a:pt x="88" y="120"/>
                  <a:pt x="44" y="196"/>
                  <a:pt x="0" y="27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20680" y="3047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05040" y="3733920"/>
            <a:ext cx="685800" cy="317520"/>
          </a:xfrm>
          <a:custGeom>
            <a:avLst/>
            <a:gdLst/>
            <a:ahLst/>
            <a:rect l="l" t="t" r="r" b="b"/>
            <a:pathLst>
              <a:path w="432" h="200">
                <a:moveTo>
                  <a:pt x="432" y="0"/>
                </a:moveTo>
                <a:cubicBezTo>
                  <a:pt x="420" y="92"/>
                  <a:pt x="408" y="184"/>
                  <a:pt x="336" y="192"/>
                </a:cubicBezTo>
                <a:cubicBezTo>
                  <a:pt x="264" y="200"/>
                  <a:pt x="132" y="124"/>
                  <a:pt x="0" y="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11400" y="403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5360" y="3733920"/>
            <a:ext cx="3695760" cy="1155600"/>
          </a:xfrm>
          <a:custGeom>
            <a:avLst/>
            <a:gdLst/>
            <a:ahLst/>
            <a:rect l="l" t="t" r="r" b="b"/>
            <a:pathLst>
              <a:path w="2328" h="728">
                <a:moveTo>
                  <a:pt x="2304" y="48"/>
                </a:moveTo>
                <a:cubicBezTo>
                  <a:pt x="2316" y="288"/>
                  <a:pt x="2328" y="528"/>
                  <a:pt x="2016" y="624"/>
                </a:cubicBezTo>
                <a:cubicBezTo>
                  <a:pt x="1704" y="720"/>
                  <a:pt x="768" y="728"/>
                  <a:pt x="432" y="624"/>
                </a:cubicBezTo>
                <a:cubicBezTo>
                  <a:pt x="96" y="520"/>
                  <a:pt x="48" y="260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47840" y="479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57480" y="3048120"/>
            <a:ext cx="3581280" cy="609480"/>
          </a:xfrm>
          <a:custGeom>
            <a:avLst/>
            <a:gdLst/>
            <a:ahLst/>
            <a:rect l="l" t="t" r="r" b="b"/>
            <a:pathLst>
              <a:path w="2256" h="384">
                <a:moveTo>
                  <a:pt x="2256" y="384"/>
                </a:moveTo>
                <a:cubicBezTo>
                  <a:pt x="2188" y="272"/>
                  <a:pt x="2120" y="160"/>
                  <a:pt x="1872" y="96"/>
                </a:cubicBezTo>
                <a:cubicBezTo>
                  <a:pt x="1624" y="32"/>
                  <a:pt x="1032" y="0"/>
                  <a:pt x="768" y="0"/>
                </a:cubicBezTo>
                <a:cubicBezTo>
                  <a:pt x="504" y="0"/>
                  <a:pt x="416" y="40"/>
                  <a:pt x="288" y="96"/>
                </a:cubicBezTo>
                <a:cubicBezTo>
                  <a:pt x="160" y="152"/>
                  <a:pt x="80" y="244"/>
                  <a:pt x="0" y="3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63680" y="274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920" y="3809880"/>
            <a:ext cx="5295960" cy="1791000"/>
          </a:xfrm>
          <a:custGeom>
            <a:avLst/>
            <a:gdLst/>
            <a:ahLst/>
            <a:rect l="l" t="t" r="r" b="b"/>
            <a:pathLst>
              <a:path w="3336" h="1128">
                <a:moveTo>
                  <a:pt x="3336" y="0"/>
                </a:moveTo>
                <a:cubicBezTo>
                  <a:pt x="3212" y="252"/>
                  <a:pt x="3088" y="504"/>
                  <a:pt x="2856" y="672"/>
                </a:cubicBezTo>
                <a:cubicBezTo>
                  <a:pt x="2624" y="840"/>
                  <a:pt x="2368" y="960"/>
                  <a:pt x="1944" y="1008"/>
                </a:cubicBezTo>
                <a:cubicBezTo>
                  <a:pt x="1520" y="1056"/>
                  <a:pt x="624" y="1128"/>
                  <a:pt x="312" y="960"/>
                </a:cubicBezTo>
                <a:cubicBezTo>
                  <a:pt x="0" y="792"/>
                  <a:pt x="36" y="396"/>
                  <a:pt x="7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90840" y="540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57480" y="2666880"/>
            <a:ext cx="5029200" cy="990720"/>
          </a:xfrm>
          <a:custGeom>
            <a:avLst/>
            <a:gdLst/>
            <a:ahLst/>
            <a:rect l="l" t="t" r="r" b="b"/>
            <a:pathLst>
              <a:path w="3168" h="624">
                <a:moveTo>
                  <a:pt x="3168" y="624"/>
                </a:moveTo>
                <a:cubicBezTo>
                  <a:pt x="2972" y="408"/>
                  <a:pt x="2776" y="192"/>
                  <a:pt x="2400" y="96"/>
                </a:cubicBezTo>
                <a:cubicBezTo>
                  <a:pt x="2024" y="0"/>
                  <a:pt x="1288" y="0"/>
                  <a:pt x="912" y="48"/>
                </a:cubicBezTo>
                <a:cubicBezTo>
                  <a:pt x="536" y="96"/>
                  <a:pt x="288" y="288"/>
                  <a:pt x="144" y="384"/>
                </a:cubicBezTo>
                <a:cubicBezTo>
                  <a:pt x="0" y="480"/>
                  <a:pt x="64" y="584"/>
                  <a:pt x="48" y="62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16520" y="2437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29280" y="3733920"/>
            <a:ext cx="2819160" cy="799920"/>
          </a:xfrm>
          <a:custGeom>
            <a:avLst/>
            <a:gdLst/>
            <a:ahLst/>
            <a:rect l="l" t="t" r="r" b="b"/>
            <a:pathLst>
              <a:path w="1776" h="504">
                <a:moveTo>
                  <a:pt x="1776" y="0"/>
                </a:moveTo>
                <a:cubicBezTo>
                  <a:pt x="1756" y="104"/>
                  <a:pt x="1736" y="208"/>
                  <a:pt x="1632" y="288"/>
                </a:cubicBezTo>
                <a:cubicBezTo>
                  <a:pt x="1528" y="368"/>
                  <a:pt x="1360" y="456"/>
                  <a:pt x="1152" y="480"/>
                </a:cubicBezTo>
                <a:cubicBezTo>
                  <a:pt x="944" y="504"/>
                  <a:pt x="576" y="504"/>
                  <a:pt x="384" y="432"/>
                </a:cubicBezTo>
                <a:cubicBezTo>
                  <a:pt x="192" y="360"/>
                  <a:pt x="96" y="204"/>
                  <a:pt x="0" y="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29120" y="4494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81400" y="540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3505320"/>
            <a:ext cx="15228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0"/>
                </a:moveTo>
                <a:lnTo>
                  <a:pt x="96" y="96"/>
                </a:lnTo>
                <a:lnTo>
                  <a:pt x="0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29000" y="3733920"/>
            <a:ext cx="4457880" cy="1726920"/>
          </a:xfrm>
          <a:custGeom>
            <a:avLst/>
            <a:gdLst/>
            <a:ahLst/>
            <a:rect l="l" t="t" r="r" b="b"/>
            <a:pathLst>
              <a:path w="2808" h="1088">
                <a:moveTo>
                  <a:pt x="2736" y="0"/>
                </a:moveTo>
                <a:cubicBezTo>
                  <a:pt x="2772" y="224"/>
                  <a:pt x="2808" y="448"/>
                  <a:pt x="2640" y="624"/>
                </a:cubicBezTo>
                <a:cubicBezTo>
                  <a:pt x="2472" y="800"/>
                  <a:pt x="2072" y="1024"/>
                  <a:pt x="1728" y="1056"/>
                </a:cubicBezTo>
                <a:cubicBezTo>
                  <a:pt x="1384" y="1088"/>
                  <a:pt x="864" y="984"/>
                  <a:pt x="576" y="816"/>
                </a:cubicBezTo>
                <a:cubicBezTo>
                  <a:pt x="288" y="648"/>
                  <a:pt x="144" y="348"/>
                  <a:pt x="0" y="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F7B0-B24C-4BD7-8FE5-01CF014D47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unning on the string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55560" y="3384000"/>
            <a:ext cx="7561440" cy="369720"/>
            <a:chOff x="655560" y="3384000"/>
            <a:chExt cx="7561440" cy="369720"/>
          </a:xfrm>
        </p:grpSpPr>
        <p:sp>
          <p:nvSpPr>
            <p:cNvPr id="489" name=""/>
            <p:cNvSpPr/>
            <p:nvPr/>
          </p:nvSpPr>
          <p:spPr>
            <a:xfrm>
              <a:off x="283356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607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133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928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876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5556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402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8096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081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659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18560" y="33840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53352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400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0256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4920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7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8272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18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34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1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26904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85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609480" y="3714840"/>
            <a:ext cx="7808760" cy="0"/>
            <a:chOff x="609480" y="3714840"/>
            <a:chExt cx="7808760" cy="0"/>
          </a:xfrm>
        </p:grpSpPr>
        <p:sp>
          <p:nvSpPr>
            <p:cNvPr id="512" name=""/>
            <p:cNvSpPr/>
            <p:nvPr/>
          </p:nvSpPr>
          <p:spPr>
            <a:xfrm>
              <a:off x="6094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32516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264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586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7616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9400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0968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27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4320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6104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78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8418600" y="3619440"/>
            <a:ext cx="228600" cy="285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496360" y="371484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" y="3200400"/>
            <a:ext cx="355680" cy="533520"/>
          </a:xfrm>
          <a:custGeom>
            <a:avLst/>
            <a:gdLst/>
            <a:ahLst/>
            <a:rect l="l" t="t" r="r" b="b"/>
            <a:pathLst>
              <a:path w="224" h="336">
                <a:moveTo>
                  <a:pt x="72" y="336"/>
                </a:moveTo>
                <a:cubicBezTo>
                  <a:pt x="148" y="216"/>
                  <a:pt x="224" y="96"/>
                  <a:pt x="216" y="48"/>
                </a:cubicBezTo>
                <a:cubicBezTo>
                  <a:pt x="208" y="0"/>
                  <a:pt x="48" y="8"/>
                  <a:pt x="24" y="48"/>
                </a:cubicBezTo>
                <a:cubicBezTo>
                  <a:pt x="0" y="88"/>
                  <a:pt x="36" y="188"/>
                  <a:pt x="72" y="288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5000" y="2894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28880" y="3048120"/>
            <a:ext cx="380880" cy="685800"/>
          </a:xfrm>
          <a:custGeom>
            <a:avLst/>
            <a:gdLst/>
            <a:ahLst/>
            <a:rect l="l" t="t" r="r" b="b"/>
            <a:pathLst>
              <a:path w="224" h="336">
                <a:moveTo>
                  <a:pt x="72" y="336"/>
                </a:moveTo>
                <a:cubicBezTo>
                  <a:pt x="148" y="216"/>
                  <a:pt x="224" y="96"/>
                  <a:pt x="216" y="48"/>
                </a:cubicBezTo>
                <a:cubicBezTo>
                  <a:pt x="208" y="0"/>
                  <a:pt x="48" y="8"/>
                  <a:pt x="24" y="48"/>
                </a:cubicBezTo>
                <a:cubicBezTo>
                  <a:pt x="0" y="88"/>
                  <a:pt x="36" y="188"/>
                  <a:pt x="72" y="288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06280" y="274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1680" y="3733920"/>
            <a:ext cx="1447560" cy="4572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912" y="0"/>
                </a:moveTo>
                <a:cubicBezTo>
                  <a:pt x="796" y="72"/>
                  <a:pt x="680" y="144"/>
                  <a:pt x="528" y="144"/>
                </a:cubicBezTo>
                <a:cubicBezTo>
                  <a:pt x="376" y="144"/>
                  <a:pt x="188" y="72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57120" y="4190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257480" y="3352680"/>
            <a:ext cx="1447560" cy="304920"/>
          </a:xfrm>
          <a:custGeom>
            <a:avLst/>
            <a:gdLst/>
            <a:ahLst/>
            <a:rect l="l" t="t" r="r" b="b"/>
            <a:pathLst>
              <a:path w="864" h="272">
                <a:moveTo>
                  <a:pt x="864" y="272"/>
                </a:moveTo>
                <a:cubicBezTo>
                  <a:pt x="800" y="168"/>
                  <a:pt x="736" y="64"/>
                  <a:pt x="624" y="32"/>
                </a:cubicBezTo>
                <a:cubicBezTo>
                  <a:pt x="512" y="0"/>
                  <a:pt x="296" y="40"/>
                  <a:pt x="192" y="80"/>
                </a:cubicBezTo>
                <a:cubicBezTo>
                  <a:pt x="88" y="120"/>
                  <a:pt x="44" y="196"/>
                  <a:pt x="0" y="272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20680" y="3047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05040" y="3733920"/>
            <a:ext cx="685800" cy="317520"/>
          </a:xfrm>
          <a:custGeom>
            <a:avLst/>
            <a:gdLst/>
            <a:ahLst/>
            <a:rect l="l" t="t" r="r" b="b"/>
            <a:pathLst>
              <a:path w="432" h="200">
                <a:moveTo>
                  <a:pt x="432" y="0"/>
                </a:moveTo>
                <a:cubicBezTo>
                  <a:pt x="420" y="92"/>
                  <a:pt x="408" y="184"/>
                  <a:pt x="336" y="192"/>
                </a:cubicBezTo>
                <a:cubicBezTo>
                  <a:pt x="264" y="200"/>
                  <a:pt x="132" y="124"/>
                  <a:pt x="0" y="48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11400" y="403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360" y="3733920"/>
            <a:ext cx="3695760" cy="1155600"/>
          </a:xfrm>
          <a:custGeom>
            <a:avLst/>
            <a:gdLst/>
            <a:ahLst/>
            <a:rect l="l" t="t" r="r" b="b"/>
            <a:pathLst>
              <a:path w="2328" h="728">
                <a:moveTo>
                  <a:pt x="2304" y="48"/>
                </a:moveTo>
                <a:cubicBezTo>
                  <a:pt x="2316" y="288"/>
                  <a:pt x="2328" y="528"/>
                  <a:pt x="2016" y="624"/>
                </a:cubicBezTo>
                <a:cubicBezTo>
                  <a:pt x="1704" y="720"/>
                  <a:pt x="768" y="728"/>
                  <a:pt x="432" y="624"/>
                </a:cubicBezTo>
                <a:cubicBezTo>
                  <a:pt x="96" y="520"/>
                  <a:pt x="48" y="260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247840" y="479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57480" y="3048120"/>
            <a:ext cx="3581280" cy="609480"/>
          </a:xfrm>
          <a:custGeom>
            <a:avLst/>
            <a:gdLst/>
            <a:ahLst/>
            <a:rect l="l" t="t" r="r" b="b"/>
            <a:pathLst>
              <a:path w="2256" h="384">
                <a:moveTo>
                  <a:pt x="2256" y="384"/>
                </a:moveTo>
                <a:cubicBezTo>
                  <a:pt x="2188" y="272"/>
                  <a:pt x="2120" y="160"/>
                  <a:pt x="1872" y="96"/>
                </a:cubicBezTo>
                <a:cubicBezTo>
                  <a:pt x="1624" y="32"/>
                  <a:pt x="1032" y="0"/>
                  <a:pt x="768" y="0"/>
                </a:cubicBezTo>
                <a:cubicBezTo>
                  <a:pt x="504" y="0"/>
                  <a:pt x="416" y="40"/>
                  <a:pt x="288" y="96"/>
                </a:cubicBezTo>
                <a:cubicBezTo>
                  <a:pt x="160" y="152"/>
                  <a:pt x="80" y="244"/>
                  <a:pt x="0" y="336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63680" y="274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4920" y="3809880"/>
            <a:ext cx="5295960" cy="1791000"/>
          </a:xfrm>
          <a:custGeom>
            <a:avLst/>
            <a:gdLst/>
            <a:ahLst/>
            <a:rect l="l" t="t" r="r" b="b"/>
            <a:pathLst>
              <a:path w="3336" h="1128">
                <a:moveTo>
                  <a:pt x="3336" y="0"/>
                </a:moveTo>
                <a:cubicBezTo>
                  <a:pt x="3212" y="252"/>
                  <a:pt x="3088" y="504"/>
                  <a:pt x="2856" y="672"/>
                </a:cubicBezTo>
                <a:cubicBezTo>
                  <a:pt x="2624" y="840"/>
                  <a:pt x="2368" y="960"/>
                  <a:pt x="1944" y="1008"/>
                </a:cubicBezTo>
                <a:cubicBezTo>
                  <a:pt x="1520" y="1056"/>
                  <a:pt x="624" y="1128"/>
                  <a:pt x="312" y="960"/>
                </a:cubicBezTo>
                <a:cubicBezTo>
                  <a:pt x="0" y="792"/>
                  <a:pt x="36" y="396"/>
                  <a:pt x="72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90840" y="540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257480" y="2666880"/>
            <a:ext cx="5029200" cy="990720"/>
          </a:xfrm>
          <a:custGeom>
            <a:avLst/>
            <a:gdLst/>
            <a:ahLst/>
            <a:rect l="l" t="t" r="r" b="b"/>
            <a:pathLst>
              <a:path w="3168" h="624">
                <a:moveTo>
                  <a:pt x="3168" y="624"/>
                </a:moveTo>
                <a:cubicBezTo>
                  <a:pt x="2972" y="408"/>
                  <a:pt x="2776" y="192"/>
                  <a:pt x="2400" y="96"/>
                </a:cubicBezTo>
                <a:cubicBezTo>
                  <a:pt x="2024" y="0"/>
                  <a:pt x="1288" y="0"/>
                  <a:pt x="912" y="48"/>
                </a:cubicBezTo>
                <a:cubicBezTo>
                  <a:pt x="536" y="96"/>
                  <a:pt x="288" y="288"/>
                  <a:pt x="144" y="384"/>
                </a:cubicBezTo>
                <a:cubicBezTo>
                  <a:pt x="0" y="480"/>
                  <a:pt x="64" y="584"/>
                  <a:pt x="48" y="62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16520" y="2437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29280" y="3733920"/>
            <a:ext cx="2819160" cy="799920"/>
          </a:xfrm>
          <a:custGeom>
            <a:avLst/>
            <a:gdLst/>
            <a:ahLst/>
            <a:rect l="l" t="t" r="r" b="b"/>
            <a:pathLst>
              <a:path w="1776" h="504">
                <a:moveTo>
                  <a:pt x="1776" y="0"/>
                </a:moveTo>
                <a:cubicBezTo>
                  <a:pt x="1756" y="104"/>
                  <a:pt x="1736" y="208"/>
                  <a:pt x="1632" y="288"/>
                </a:cubicBezTo>
                <a:cubicBezTo>
                  <a:pt x="1528" y="368"/>
                  <a:pt x="1360" y="456"/>
                  <a:pt x="1152" y="480"/>
                </a:cubicBezTo>
                <a:cubicBezTo>
                  <a:pt x="944" y="504"/>
                  <a:pt x="576" y="504"/>
                  <a:pt x="384" y="432"/>
                </a:cubicBezTo>
                <a:cubicBezTo>
                  <a:pt x="192" y="360"/>
                  <a:pt x="96" y="204"/>
                  <a:pt x="0" y="48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829120" y="4494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981400" y="540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43080" y="3505320"/>
            <a:ext cx="15228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0"/>
                </a:moveTo>
                <a:lnTo>
                  <a:pt x="96" y="96"/>
                </a:lnTo>
                <a:lnTo>
                  <a:pt x="0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69360" y="1447200"/>
            <a:ext cx="80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 y x y x y y 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29000" y="3733920"/>
            <a:ext cx="4457880" cy="1726920"/>
          </a:xfrm>
          <a:custGeom>
            <a:avLst/>
            <a:gdLst/>
            <a:ahLst/>
            <a:rect l="l" t="t" r="r" b="b"/>
            <a:pathLst>
              <a:path w="2808" h="1088">
                <a:moveTo>
                  <a:pt x="2736" y="0"/>
                </a:moveTo>
                <a:cubicBezTo>
                  <a:pt x="2772" y="224"/>
                  <a:pt x="2808" y="448"/>
                  <a:pt x="2640" y="624"/>
                </a:cubicBezTo>
                <a:cubicBezTo>
                  <a:pt x="2472" y="800"/>
                  <a:pt x="2072" y="1024"/>
                  <a:pt x="1728" y="1056"/>
                </a:cubicBezTo>
                <a:cubicBezTo>
                  <a:pt x="1384" y="1088"/>
                  <a:pt x="864" y="984"/>
                  <a:pt x="576" y="816"/>
                </a:cubicBezTo>
                <a:cubicBezTo>
                  <a:pt x="288" y="648"/>
                  <a:pt x="144" y="348"/>
                  <a:pt x="0" y="48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347-F50A-46DF-B540-D94F733CE2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nuth-Morris-Pratt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preprocessing is done there are only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ps on any string of siz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follow your 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algorithm for doing preprocessing i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(m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usually good sinc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&lt;&lt;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uth-Morris-Pratt Algorithm can do the pre-processing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(m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m+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6F68-CAF1-464E-B010-6CF5F94797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nite State Machin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agram we built is a special case of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nite automa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or accepting state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c out of each state labeled by each of the possibl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te automata take strings of characters as input and decide what to do with them based on the paths they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A4B-4A06-4CD3-9C41-2DD5FA2C62B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nite State Machin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munication protocols,       cache-coherency protocols, VLSI circuits, user-interfaces, even adventure games are designed by making finite state machines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strings” that are the input to the machines can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quence of actions of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ts that arrive on particular port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values on a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40B-8011-4142-A7E9-6268B95707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1000" y="638640"/>
            <a:ext cx="497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" y="212040"/>
            <a:ext cx="80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 y x y x y y 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6D5A-878C-4327-B3E5-82A03167B2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nite State Machin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earch for arbitrary combinations of patterns not just a single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wo finite automata can build a single new one that accepts strings that either of the original ones 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text searches are based on finite automata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l builds this in as a first-class component of the programming langu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F71E-997E-41F1-A648-1A14FDBEDA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ext tim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tart the computability and complexity portion of the cou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iscus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uring mach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are similar in style to finite-state machines but much mo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owerful as any programm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96E0-2060-4E4B-9323-2FF4EC2DBC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1000" y="546840"/>
            <a:ext cx="49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s =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y x y x y y 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2AF-80B6-4BB8-A6C4-B2DDAF28E0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x y x y x y y 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88080" y="9122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285-B68E-4313-ADCD-FF9760DA2D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y x y x y y 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92400" y="912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63120" y="1278720"/>
            <a:ext cx="31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9BB-967D-4613-B704-E2320C2287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y y 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92400" y="912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67800" y="12787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37440" y="164376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20B-2F32-4FD4-8E5F-B2A02C2316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y y 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2400" y="912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67800" y="12787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1040" y="16437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12120" y="200916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CF69-3675-4685-8880-BBBE15832F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 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 y x y x y 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92400" y="912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67800" y="12787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1040" y="16437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17520" y="20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85000" y="23756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 y x y x y x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BA2-A7C9-4892-8FDC-44924D6E40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2-12T18:29:30Z</cp:lastPrinted>
  <dcterms:modified xsi:type="dcterms:W3CDTF">2001-02-16T01:22:55Z</dcterms:modified>
  <cp:revision>96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