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BC4-2B20-4097-A9D8-1460372E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75D8-106C-452D-B12D-994379E4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344-B628-472E-81E0-1F2CEE45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079-B527-4F75-968B-D0002C8D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E64F-9AD3-4416-A83F-CBF9A8E3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1973-EF50-4FDE-B60A-2EE582E3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BA5F-0475-4539-8AE1-D647B949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4F3C-EBA3-401A-8EC1-F55C3915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6DC0-0A10-444B-A842-0C764D67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EC4B-1937-4745-A746-A4AC9DB7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C911-0B5D-4339-B16A-0B34102F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B94-E39C-4C80-A5C2-09E65D94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BDE3-BBF2-4F1B-8B50-B929C125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5C10-A712-4594-B63B-9AE63930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791B-849E-4868-A7B3-2FE2D5A1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62E8-D439-4741-8A47-5F59EE65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DB3E-C11C-420E-B20D-05E35F73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4411-41D7-4744-ABDA-C15132A6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96D2-144F-446F-AA7D-9B0883A9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BFC-4557-4761-86B3-9806B073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F20-23EF-482A-A77A-FC1CEBE3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E8D-C582-43DC-8672-09113021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15EC-9D36-4406-9936-140C0917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245F-4A03-42AF-84FB-EF0340A8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C57D-4AE4-4CB3-89A7-3DA8E2BBE3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0E96-0919-4C8E-9215-D02B013418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719F-8F4C-4699-B99C-45F500B980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23880" y="2286000"/>
            <a:ext cx="6705720" cy="2730600"/>
          </a:xfrm>
          <a:custGeom>
            <a:avLst/>
            <a:gdLst/>
            <a:ahLst/>
            <a:rect l="l" t="t" r="r" b="b"/>
            <a:pathLst>
              <a:path w="4224" h="1720">
                <a:moveTo>
                  <a:pt x="96" y="1584"/>
                </a:moveTo>
                <a:cubicBezTo>
                  <a:pt x="48" y="1652"/>
                  <a:pt x="0" y="1720"/>
                  <a:pt x="96" y="1488"/>
                </a:cubicBezTo>
                <a:cubicBezTo>
                  <a:pt x="192" y="1256"/>
                  <a:pt x="520" y="384"/>
                  <a:pt x="672" y="192"/>
                </a:cubicBezTo>
                <a:cubicBezTo>
                  <a:pt x="824" y="0"/>
                  <a:pt x="912" y="240"/>
                  <a:pt x="1008" y="336"/>
                </a:cubicBezTo>
                <a:cubicBezTo>
                  <a:pt x="1104" y="432"/>
                  <a:pt x="1168" y="640"/>
                  <a:pt x="1248" y="768"/>
                </a:cubicBezTo>
                <a:cubicBezTo>
                  <a:pt x="1328" y="896"/>
                  <a:pt x="1360" y="1112"/>
                  <a:pt x="1488" y="1104"/>
                </a:cubicBezTo>
                <a:cubicBezTo>
                  <a:pt x="1616" y="1096"/>
                  <a:pt x="1832" y="848"/>
                  <a:pt x="2016" y="720"/>
                </a:cubicBezTo>
                <a:cubicBezTo>
                  <a:pt x="2200" y="592"/>
                  <a:pt x="2344" y="288"/>
                  <a:pt x="2592" y="336"/>
                </a:cubicBezTo>
                <a:cubicBezTo>
                  <a:pt x="2840" y="384"/>
                  <a:pt x="3232" y="808"/>
                  <a:pt x="3504" y="1008"/>
                </a:cubicBezTo>
                <a:cubicBezTo>
                  <a:pt x="3776" y="1208"/>
                  <a:pt x="4000" y="1372"/>
                  <a:pt x="4224" y="1536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Interpola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1828800"/>
            <a:ext cx="0" cy="47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6440" y="41911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320040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365760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819520"/>
            <a:ext cx="7632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733920"/>
            <a:ext cx="7596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3352680"/>
            <a:ext cx="7596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52440" y="5016240"/>
            <a:ext cx="544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ind unique degree 4 polynom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going through these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F52-841B-47A4-A6FA-A85D343130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ultiplying Polynomials by Evaluation &amp; Interpola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degre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ynomial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termined b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, ... R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tinc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...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put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ssume degree at mos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,..., P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Q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,...,Q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valu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Q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=0,...,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olate to recove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CCF0-E739-4E42-B345-F52934063C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ultiplying Polynomials by Evaluation &amp; Interpola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4" name=""/>
          <p:cNvSpPr/>
          <p:nvPr/>
        </p:nvSpPr>
        <p:spPr>
          <a:xfrm>
            <a:off x="336600" y="1686600"/>
            <a:ext cx="2112840" cy="926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2640" y="4160880"/>
            <a:ext cx="1934640" cy="1708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Q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Q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Q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58320" y="4146840"/>
            <a:ext cx="3296520" cy="1977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P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Q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P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Q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P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Q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99880" y="2011320"/>
            <a:ext cx="2191320" cy="5796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...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2286000"/>
            <a:ext cx="358164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925800" y="2286000"/>
                <a:ext cx="16876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3503880" y="1583280"/>
            <a:ext cx="246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ordinary polynom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multiplication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(n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96960" y="5257800"/>
            <a:ext cx="2684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94440" y="4555080"/>
            <a:ext cx="286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int-wise multi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f numb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575080"/>
            <a:ext cx="0" cy="1645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53520" y="2826000"/>
            <a:ext cx="14122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alu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.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(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178840" y="2575080"/>
            <a:ext cx="0" cy="1645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9800" y="2826000"/>
            <a:ext cx="16621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po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.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(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73C2-E016-4BA8-9BCC-E1DC6D571E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0160" y="2284560"/>
            <a:ext cx="2558880" cy="2558880"/>
          </a:xfrm>
          <a:prstGeom prst="ellipse">
            <a:avLst/>
          </a:prstGeom>
          <a:solidFill>
            <a:srgbClr val="ffffff"/>
          </a:solidFill>
          <a:ln cap="rnd" w="2844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mplex Number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9" name=""/>
          <p:cNvSpPr/>
          <p:nvPr/>
        </p:nvSpPr>
        <p:spPr>
          <a:xfrm>
            <a:off x="5719320" y="761400"/>
            <a:ext cx="11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Palatino"/>
              </a:rPr>
              <a:t>i</a:t>
            </a:r>
            <a:r>
              <a:rPr b="1" lang="en-US" sz="2800" spc="-1" strike="noStrike" baseline="30000">
                <a:solidFill>
                  <a:srgbClr val="0099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=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49600" y="2057400"/>
            <a:ext cx="3240" cy="3048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356400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83440" y="17647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Palatino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652840" y="2743200"/>
            <a:ext cx="1004760" cy="8208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09440" y="237852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+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3120" y="2665080"/>
            <a:ext cx="422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ultiply complex numb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dd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ultiply l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69240" y="30474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3800" y="278532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3124080"/>
            <a:ext cx="609480" cy="45720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0"/>
                </a:moveTo>
                <a:lnTo>
                  <a:pt x="96" y="240"/>
                </a:lnTo>
                <a:lnTo>
                  <a:pt x="336" y="24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3200400"/>
            <a:ext cx="533520" cy="38088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0" y="96"/>
                </a:moveTo>
                <a:lnTo>
                  <a:pt x="96" y="192"/>
                </a:lnTo>
                <a:lnTo>
                  <a:pt x="288" y="192"/>
                </a:lnTo>
                <a:lnTo>
                  <a:pt x="144" y="0"/>
                </a:lnTo>
                <a:lnTo>
                  <a:pt x="0" y="9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04960" y="2238480"/>
            <a:ext cx="92160" cy="9180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4760" y="3517920"/>
            <a:ext cx="91800" cy="921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24080" y="3517920"/>
            <a:ext cx="91800" cy="921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06760" y="4799160"/>
            <a:ext cx="92160" cy="9180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76920" y="3091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89560" y="4798440"/>
            <a:ext cx="4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Palatino"/>
              </a:rPr>
              <a:t>-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20880" y="30470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209320" y="2379600"/>
            <a:ext cx="443160" cy="118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3352680"/>
            <a:ext cx="68580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288" y="96"/>
                </a:moveTo>
                <a:lnTo>
                  <a:pt x="192" y="0"/>
                </a:lnTo>
                <a:lnTo>
                  <a:pt x="96" y="0"/>
                </a:lnTo>
                <a:lnTo>
                  <a:pt x="0" y="0"/>
                </a:lnTo>
                <a:lnTo>
                  <a:pt x="192" y="96"/>
                </a:lnTo>
                <a:lnTo>
                  <a:pt x="288" y="9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1415520" y="3092040"/>
            <a:ext cx="1233720" cy="47484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58000" y="190404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+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2560" y="2742480"/>
            <a:ext cx="7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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560" y="266580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e+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61920" y="391536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e+f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a+bi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c+d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53720" y="4646160"/>
            <a:ext cx="51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+bi =cos</a:t>
            </a:r>
            <a:r>
              <a:rPr b="0" i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0033cc"/>
                </a:solidFill>
                <a:latin typeface="Palatino"/>
              </a:rPr>
              <a:t>i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sin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= e</a:t>
            </a:r>
            <a:r>
              <a:rPr b="1" i="1" lang="en-US" sz="2400" spc="-1" strike="noStrike" baseline="30000">
                <a:solidFill>
                  <a:srgbClr val="0033cc"/>
                </a:solidFill>
                <a:latin typeface="Palatino"/>
              </a:rPr>
              <a:t>i</a:t>
            </a:r>
            <a:r>
              <a:rPr b="1" lang="en-US" sz="24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+di =cos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Palatino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sin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e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Palatino"/>
              </a:rPr>
              <a:t>i</a:t>
            </a:r>
            <a:r>
              <a:rPr b="1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e+fi =cos</a:t>
            </a:r>
            <a:r>
              <a:rPr b="0" i="1" lang="en-US" sz="2400" spc="-1" strike="noStrike">
                <a:solidFill>
                  <a:srgbClr val="cc00cc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cc00cc"/>
                </a:solidFill>
                <a:latin typeface="Symbol"/>
                <a:ea typeface="Symbol"/>
              </a:rPr>
              <a:t></a:t>
            </a:r>
            <a:r>
              <a:rPr b="0" lang="en-US" sz="2400" spc="-1" strike="noStrike">
                <a:solidFill>
                  <a:srgbClr val="cc00cc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cc00cc"/>
                </a:solidFill>
                <a:latin typeface="Palatino"/>
              </a:rPr>
              <a:t>i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si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cc00cc"/>
                </a:solidFill>
                <a:latin typeface="Symbol"/>
                <a:ea typeface="Symbol"/>
              </a:rPr>
              <a:t></a:t>
            </a:r>
            <a:r>
              <a:rPr b="0" lang="en-US" sz="2400" spc="-1" strike="noStrike">
                <a:solidFill>
                  <a:srgbClr val="cc00cc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= e</a:t>
            </a:r>
            <a:r>
              <a:rPr b="1" i="1" lang="en-US" sz="2400" spc="-1" strike="noStrike" baseline="30000">
                <a:solidFill>
                  <a:srgbClr val="cc00cc"/>
                </a:solidFill>
                <a:latin typeface="Palatino"/>
              </a:rPr>
              <a:t>i</a:t>
            </a:r>
            <a:r>
              <a:rPr b="1" lang="en-US" sz="2400" spc="-1" strike="noStrike" baseline="30000">
                <a:solidFill>
                  <a:srgbClr val="cc00cc"/>
                </a:solidFill>
                <a:latin typeface="Palatino"/>
              </a:rPr>
              <a:t>(</a:t>
            </a:r>
            <a:r>
              <a:rPr b="1" lang="en-US" sz="2400" spc="-1" strike="noStrike" baseline="30000">
                <a:solidFill>
                  <a:srgbClr val="cc00cc"/>
                </a:solidFill>
                <a:latin typeface="Symbol"/>
                <a:ea typeface="Symbol"/>
              </a:rPr>
              <a:t>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9960" y="5257440"/>
            <a:ext cx="12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e</a:t>
            </a:r>
            <a:r>
              <a:rPr b="1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30000">
                <a:solidFill>
                  <a:srgbClr val="009900"/>
                </a:solidFill>
                <a:latin typeface="Palatino"/>
              </a:rPr>
              <a:t>i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e</a:t>
            </a:r>
            <a:r>
              <a:rPr b="1" lang="en-US" sz="28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30000">
                <a:solidFill>
                  <a:srgbClr val="009900"/>
                </a:solidFill>
                <a:latin typeface="Palatino"/>
              </a:rPr>
              <a:t>i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477-C1EB-4186-A2AE-985DBC25C7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itiv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-th root of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    </a:t>
            </a:r>
            <a:r>
              <a:rPr b="1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1" lang="en-US" sz="4000" spc="-1" strike="noStrike">
                <a:solidFill>
                  <a:srgbClr val="009900"/>
                </a:solidFill>
                <a:latin typeface="Palatino"/>
              </a:rPr>
              <a:t>=</a:t>
            </a:r>
            <a:r>
              <a:rPr b="1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1" lang="en-US" sz="4000" spc="-1" strike="noStrike" baseline="-25000">
                <a:solidFill>
                  <a:srgbClr val="009900"/>
                </a:solidFill>
                <a:latin typeface="Arial"/>
              </a:rPr>
              <a:t>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7" name=""/>
          <p:cNvSpPr/>
          <p:nvPr/>
        </p:nvSpPr>
        <p:spPr>
          <a:xfrm>
            <a:off x="4180680" y="1722600"/>
            <a:ext cx="491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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1" i="1" lang="en-US" sz="2800" spc="-1" strike="noStrike" baseline="30000">
                <a:solidFill>
                  <a:srgbClr val="0033cc"/>
                </a:solidFill>
                <a:latin typeface="Palatino"/>
              </a:rPr>
              <a:t>i 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30000">
                <a:solidFill>
                  <a:srgbClr val="0033cc"/>
                </a:solidFill>
                <a:latin typeface="Palatino"/>
              </a:rPr>
              <a:t> 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/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os</a:t>
            </a:r>
            <a:r>
              <a:rPr b="0" i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2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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)</a:t>
            </a:r>
            <a:r>
              <a:rPr b="0" i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0033cc"/>
                </a:solidFill>
                <a:latin typeface="Palatino"/>
              </a:rPr>
              <a:t>i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2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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1960" y="5486040"/>
            <a:ext cx="123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Palatino"/>
              </a:rPr>
              <a:t>i</a:t>
            </a:r>
            <a:r>
              <a:rPr b="1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 -1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e</a:t>
            </a:r>
            <a:r>
              <a:rPr b="1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30000">
                <a:solidFill>
                  <a:srgbClr val="009900"/>
                </a:solidFill>
                <a:latin typeface="Palatino"/>
              </a:rPr>
              <a:t>i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600" y="1370880"/>
            <a:ext cx="5125320" cy="3949560"/>
            <a:chOff x="12600" y="1370880"/>
            <a:chExt cx="5125320" cy="3949560"/>
          </a:xfrm>
        </p:grpSpPr>
        <p:sp>
          <p:nvSpPr>
            <p:cNvPr id="170" name=""/>
            <p:cNvSpPr/>
            <p:nvPr/>
          </p:nvSpPr>
          <p:spPr>
            <a:xfrm>
              <a:off x="3715200" y="2923560"/>
              <a:ext cx="142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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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12600" y="1370880"/>
              <a:ext cx="4046760" cy="3949560"/>
              <a:chOff x="12600" y="1370880"/>
              <a:chExt cx="4046760" cy="3949560"/>
            </a:xfrm>
          </p:grpSpPr>
          <p:sp>
            <p:nvSpPr>
              <p:cNvPr id="172" name=""/>
              <p:cNvSpPr/>
              <p:nvPr/>
            </p:nvSpPr>
            <p:spPr>
              <a:xfrm>
                <a:off x="1086120" y="2117880"/>
                <a:ext cx="2558880" cy="255888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65560" y="1890720"/>
                <a:ext cx="3240" cy="304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2640" y="3397320"/>
                <a:ext cx="327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21840" y="1370880"/>
                <a:ext cx="8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en-US" sz="2800" spc="-1" strike="noStrike" baseline="30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Palatino"/>
                  </a:rPr>
                  <a:t>=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20920" y="2071800"/>
                <a:ext cx="92160" cy="9180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00720" y="3351240"/>
                <a:ext cx="91800" cy="9216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40040" y="3351240"/>
                <a:ext cx="91800" cy="9216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322720" y="4632480"/>
                <a:ext cx="92160" cy="9180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06200" y="4799880"/>
                <a:ext cx="1073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en-US" sz="2800" spc="-1" strike="noStrike" baseline="30000">
                    <a:solidFill>
                      <a:srgbClr val="ff0000"/>
                    </a:solidFill>
                    <a:latin typeface="Arial"/>
                  </a:rPr>
                  <a:t>6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=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Palatino"/>
                  </a:rPr>
                  <a:t> -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2600" y="2850480"/>
                <a:ext cx="1017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en-US" sz="2800" spc="-1" strike="noStrike" baseline="30000">
                    <a:solidFill>
                      <a:srgbClr val="ff0000"/>
                    </a:solidFill>
                    <a:latin typeface="Arial"/>
                  </a:rPr>
                  <a:t>4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=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281400" y="2484360"/>
                <a:ext cx="92160" cy="9216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21280" y="4237200"/>
                <a:ext cx="91800" cy="9180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392480" y="4237200"/>
                <a:ext cx="91800" cy="9180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452600" y="2424240"/>
                <a:ext cx="92160" cy="9180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2392560" y="2531880"/>
                <a:ext cx="920520" cy="850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33120" y="19645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en-US" sz="2800" spc="-1" strike="noStrike" baseline="30000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55640" y="4112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en-US" sz="2800" spc="-1" strike="noStrike" baseline="30000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42320" y="2117160"/>
                <a:ext cx="424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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1440" y="428076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en-US" sz="2800" spc="-1" strike="noStrike" baseline="30000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2368800" y="2117880"/>
                <a:ext cx="23760" cy="126504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1544760" y="2516040"/>
                <a:ext cx="820800" cy="8668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1085760" y="3414600"/>
                <a:ext cx="1282680" cy="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1483920" y="3414600"/>
                <a:ext cx="908280" cy="82260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2368800" y="3414600"/>
                <a:ext cx="23760" cy="12621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92560" y="3414600"/>
                <a:ext cx="888840" cy="8668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392560" y="3397320"/>
                <a:ext cx="1252440" cy="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4491720" y="3368520"/>
            <a:ext cx="461736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oper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 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Any 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.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or 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&lt;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s 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imitiv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-th root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k+n/2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3F4D-58D8-4453-9FAA-3956E04187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ultiplying Polynomials by Fast Fourier Transfor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"/>
          <p:cNvSpPr/>
          <p:nvPr/>
        </p:nvSpPr>
        <p:spPr>
          <a:xfrm>
            <a:off x="336600" y="1686600"/>
            <a:ext cx="2112840" cy="926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6120" y="4053240"/>
            <a:ext cx="2047680" cy="192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1),Q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Q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Q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Q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8080" y="4056120"/>
            <a:ext cx="3492360" cy="222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(1)=P(1)Q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Q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Q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Q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99880" y="2011320"/>
            <a:ext cx="2191320" cy="5796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...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66880" y="2286000"/>
            <a:ext cx="358164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925800" y="2286000"/>
                <a:ext cx="16876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3503880" y="1583280"/>
            <a:ext cx="246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ordinary polynom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multiplication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(n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96960" y="5257800"/>
            <a:ext cx="2684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72400" y="4555080"/>
            <a:ext cx="286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int-wise multi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f numb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2575080"/>
            <a:ext cx="0" cy="1466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66120" y="2846880"/>
            <a:ext cx="159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alu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,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(n log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8178840" y="2575080"/>
            <a:ext cx="0" cy="14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81640" y="2846880"/>
            <a:ext cx="189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po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,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(n log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BE4-95E7-41D9-A157-8DDEB5A054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he key idea (since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 is even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(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...+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+...+ a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n-2</a:t>
            </a:r>
            <a:r>
              <a:rPr b="0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9900"/>
                </a:solidFill>
                <a:latin typeface="Arial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...+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even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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(-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=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...  -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+...+ a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n-2</a:t>
            </a:r>
            <a:r>
              <a:rPr b="0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9900"/>
                </a:solidFill>
                <a:latin typeface="Arial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...+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=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even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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2438280"/>
            <a:ext cx="5105520" cy="503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4560" y="2949480"/>
            <a:ext cx="520992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4876920"/>
            <a:ext cx="5257800" cy="503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76360" y="5380200"/>
            <a:ext cx="5411880" cy="484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2EE6-5184-499D-B2C8-1CCF6FE256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he recursive idea for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 a power of 2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608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degre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(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2k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k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(-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2k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k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siv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,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...,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,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...,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to comput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,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...,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/2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to comput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-1,-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-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...,-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/2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.e. a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/2+1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/2+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...,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19920" y="3077640"/>
            <a:ext cx="2909880" cy="916920"/>
          </a:xfrm>
          <a:prstGeom prst="rect">
            <a:avLst/>
          </a:pr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 baseline="30000">
                <a:solidFill>
                  <a:srgbClr val="996633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 is an n/2-th root of 1 so problem is of same type but smaller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181120" y="4008600"/>
            <a:ext cx="838440" cy="106200"/>
          </a:xfrm>
          <a:prstGeom prst="line">
            <a:avLst/>
          </a:prstGeom>
          <a:ln w="2844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444D-770D-4CD9-9B93-E3DF068C7F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nalysis and mor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(n)=2T(n/2)+c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o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(n)=O(n log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much for evaluation ... what about interpolatio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R(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R(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R(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R(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 c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...,c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.t.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(x)=c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c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+...c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87F-1079-45AA-BE90-180CC0849D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Interpolation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 Evaluatio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trange but tru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rd fac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define a new polynomial                                 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(x) = r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 r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 + r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...+ r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-1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 r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 ... , r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are the evaluations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,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 ... ,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=T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-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k=0,...,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,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...,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-(n-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divide each by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th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...,c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haves just like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d so the sam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n log 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aluation algorithm applie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7C1-0A77-47B5-A7B8-619F5944A5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ultiplying Faste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first HW you analyzed our usual algorithm for multiplying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bet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describe the basic ideas by multiplying polynomials rather than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 is we don’t get confused by worrying about carries at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B138-FFD2-4C76-A0FE-58E333043A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y this is called the discrete Fourier transfor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Fourier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real valued functio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d o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[0,2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the Fourier series 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given by                     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s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s(2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...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s(m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is the component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frequency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ignal processing and data compression one ignores all but the components with larg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re aren’t many si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770200" y="3352680"/>
                <a:ext cx="283212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2209680" y="3352680"/>
            <a:ext cx="3353040" cy="987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724280" y="5695920"/>
                <a:ext cx="12463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F78-F984-482E-A6A5-2833D57B59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y this is called the discrete Fourier transfor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Fourier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functio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d o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[0,2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the complex Fourier series 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given by                         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(z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1" i="1" lang="en-US" sz="2800" spc="-1" strike="noStrike" baseline="30000">
                <a:solidFill>
                  <a:srgbClr val="0033cc"/>
                </a:solidFill>
                <a:latin typeface="Palatino"/>
              </a:rPr>
              <a:t>i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i="1" lang="en-US" sz="2800" spc="-1" strike="noStrike" baseline="30000">
                <a:solidFill>
                  <a:srgbClr val="0033cc"/>
                </a:solidFill>
                <a:latin typeface="Palatino"/>
              </a:rPr>
              <a:t>i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...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m</a:t>
            </a:r>
            <a:r>
              <a:rPr b="1" i="1" lang="en-US" sz="2800" spc="-1" strike="noStrike" baseline="30000">
                <a:solidFill>
                  <a:srgbClr val="0033cc"/>
                </a:solidFill>
                <a:latin typeface="Palatino"/>
              </a:rPr>
              <a:t>i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...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is the component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frequency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integral using values a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n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spaced points betwee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0" y="3352680"/>
            <a:ext cx="3352680" cy="987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041640" y="3327480"/>
                <a:ext cx="229860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m</m:t>
                            </m:r>
                            <m:r>
                              <m:t xml:space="preserve">iz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38" name=""/>
          <p:cNvGrpSpPr/>
          <p:nvPr/>
        </p:nvGrpSpPr>
        <p:grpSpPr>
          <a:xfrm>
            <a:off x="838080" y="5605560"/>
            <a:ext cx="6996240" cy="871560"/>
            <a:chOff x="838080" y="5605560"/>
            <a:chExt cx="6996240" cy="871560"/>
          </a:xfrm>
        </p:grpSpPr>
        <p:grpSp>
          <p:nvGrpSpPr>
            <p:cNvPr id="239" name=""/>
            <p:cNvGrpSpPr/>
            <p:nvPr/>
          </p:nvGrpSpPr>
          <p:grpSpPr>
            <a:xfrm>
              <a:off x="1033560" y="5605560"/>
              <a:ext cx="6793920" cy="871560"/>
              <a:chOff x="1033560" y="5605560"/>
              <a:chExt cx="6793920" cy="871560"/>
            </a:xfrm>
          </p:grpSpPr>
          <mc:AlternateContent>
            <mc:Choice xmlns:a14="http://schemas.microsoft.com/office/drawing/2010/main" Requires="a14">
              <p:sp>
                <p:nvSpPr>
                  <p:cNvPr id="240" name=""/>
                  <p:cNvSpPr txBox="1"/>
                  <p:nvPr/>
                </p:nvSpPr>
                <p:spPr>
                  <a:xfrm>
                    <a:off x="1033560" y="5605560"/>
                    <a:ext cx="4303440" cy="871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2km</m:t>
                            </m:r>
                            <m:r>
                              <m:t xml:space="preserve">i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n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nary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m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1" name=""/>
              <p:cNvSpPr/>
              <p:nvPr/>
            </p:nvSpPr>
            <p:spPr>
              <a:xfrm>
                <a:off x="5346720" y="5760000"/>
                <a:ext cx="2480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where 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f(2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/n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838080" y="5605560"/>
              <a:ext cx="6996240" cy="87156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352680" y="64760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just like interpolation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7590960" y="4810680"/>
            <a:ext cx="1381680" cy="3988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n a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643-DEBC-42CC-A7AF-897A240A68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ote on Polynomial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just formal sequences of coefficients so when we show something multiplied b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just means shifte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ces to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6CC5-0589-41F0-9BC6-4516AC2CA1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olynomial Multiplica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nomial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 =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… 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… 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m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nomia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+...+ 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m-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m-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m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vious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ll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llect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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n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1F6-CEA3-4D98-B586-FB5F182593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aive Divide and Conque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=2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... 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k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+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… 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k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k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k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(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b-problems of siz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k=m/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linear comb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(m)=4T(m/2)+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(m) = O(m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16C6-8CFB-4AB6-83F7-4F2CF470EC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4" name=""/>
          <p:cNvCxnSpPr/>
          <p:nvPr/>
        </p:nvCxnSpPr>
        <p:spPr>
          <a:xfrm>
            <a:off x="456840" y="3971520"/>
            <a:ext cx="1080" cy="1080"/>
          </a:xfrm>
          <a:prstGeom prst="straightConnector1">
            <a:avLst/>
          </a:prstGeom>
          <a:ln w="76320">
            <a:solidFill>
              <a:srgbClr val="ff0000"/>
            </a:solidFill>
            <a:miter/>
          </a:ln>
        </p:spPr>
      </p:cxn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aratsub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tter way to compute th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(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hich i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(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-problems of siz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u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m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(m) = 3 T(m/2) +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(m) = O(m</a:t>
            </a:r>
            <a:r>
              <a:rPr b="0" lang="en-US" sz="24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= log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 = 1.59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DB9-79F1-43BA-8EFD-4EDCEEFC11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7" name=""/>
          <p:cNvCxnSpPr/>
          <p:nvPr/>
        </p:nvCxnSpPr>
        <p:spPr>
          <a:xfrm>
            <a:off x="456840" y="3971520"/>
            <a:ext cx="1080" cy="1080"/>
          </a:xfrm>
          <a:prstGeom prst="straightConnector1">
            <a:avLst/>
          </a:prstGeom>
          <a:ln w="76320">
            <a:solidFill>
              <a:srgbClr val="ff0000"/>
            </a:solidFill>
            <a:miter/>
          </a:ln>
        </p:spPr>
      </p:cxn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aratsuba’s Algorithm Alternativ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(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,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(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 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/2 - 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-problems of siz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u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m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(m) = 3 T(m/2) +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(m) = O(m</a:t>
            </a:r>
            <a:r>
              <a:rPr b="0" lang="en-US" sz="24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= log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 = 1.59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84C-AFCB-4381-87A1-745B619A95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Karatsuba’s Algorithm did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y=x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wanted to comp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P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)Q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evalu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601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Q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601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Q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601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Q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ultiplied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P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)Q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P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)Q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P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)Q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then used these 3 values to figure out what the degree 2 polynomial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P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)Q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rp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DC9-F7D7-4BC8-9FA2-2C3944A943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Interpola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1828800"/>
            <a:ext cx="0" cy="47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6440" y="41911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320040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365760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2819520"/>
            <a:ext cx="7632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3733920"/>
            <a:ext cx="7596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3352680"/>
            <a:ext cx="7596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4760" y="4769640"/>
            <a:ext cx="50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iven set of values at  5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913-DEA3-4FC4-9B4F-28A522BDB0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2-09T18:03:23Z</cp:lastPrinted>
  <dcterms:modified xsi:type="dcterms:W3CDTF">2001-02-09T18:03:44Z</dcterms:modified>
  <cp:revision>93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