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B97-3D41-478B-B5C1-B384FC9E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F07-577B-470C-BB9B-0638692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473-1843-4601-BA5B-630FA09F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C75-59E3-4172-B321-99BD045F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98C0-D487-4B7D-BDFB-B20544A9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46C-8FA7-445B-A2A0-171B998F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0238-EC3C-4DB6-ACE5-C3D0333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0E0D-A77E-4CB8-BAC9-E84590A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5BA1-71E9-493F-A5D6-F6D4CF8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A26F-CB7A-43A9-B862-1411E71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315D-96FF-4FF6-A42B-390E374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DAD-2067-4747-8532-DB3315B0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168-EB31-47A0-A781-297E9CA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DED-5938-4CD7-AB74-679DFAA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EFED-7A4A-4C5F-9008-43BC9A4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C9B-67A9-4968-B15A-DEEA03AB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9513-9638-4224-8659-7D4B2063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8D4-7A82-4B2E-A806-9355C469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533-50B0-4D10-8D54-A3DECAC6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608-A11E-4E00-A074-CA55936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E86-C4CF-4BAC-82D2-5117F3A3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94B-AF70-4588-B369-8374BCF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0C9-1D88-4F08-A191-B9D96F82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8C5-9476-48C7-8003-42B33E1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3864-7802-45C5-ADD1-679B62610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A060-DF7B-43FF-B015-E78FED21E5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Helvetic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SE 417:  Algorithms and Computational Complexity</a:t>
            </a:r>
            <a:endParaRPr b="0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aul Be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05120"/>
            <a:ext cx="7848720" cy="18288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FC9-E9F2-4A5D-BD24-2EBDFB6478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2286000"/>
            <a:ext cx="6705720" cy="2730600"/>
          </a:xfrm>
          <a:custGeom>
            <a:avLst/>
            <a:gdLst/>
            <a:ahLst/>
            <a:rect l="l" t="t" r="r" b="b"/>
            <a:pathLst>
              <a:path w="4224" h="1720">
                <a:moveTo>
                  <a:pt x="96" y="1584"/>
                </a:moveTo>
                <a:cubicBezTo>
                  <a:pt x="48" y="1652"/>
                  <a:pt x="0" y="1720"/>
                  <a:pt x="96" y="1488"/>
                </a:cubicBezTo>
                <a:cubicBezTo>
                  <a:pt x="192" y="1256"/>
                  <a:pt x="520" y="384"/>
                  <a:pt x="672" y="192"/>
                </a:cubicBezTo>
                <a:cubicBezTo>
                  <a:pt x="824" y="0"/>
                  <a:pt x="912" y="240"/>
                  <a:pt x="1008" y="336"/>
                </a:cubicBezTo>
                <a:cubicBezTo>
                  <a:pt x="1104" y="432"/>
                  <a:pt x="1168" y="640"/>
                  <a:pt x="1248" y="768"/>
                </a:cubicBezTo>
                <a:cubicBezTo>
                  <a:pt x="1328" y="896"/>
                  <a:pt x="1360" y="1112"/>
                  <a:pt x="1488" y="1104"/>
                </a:cubicBezTo>
                <a:cubicBezTo>
                  <a:pt x="1616" y="1096"/>
                  <a:pt x="1832" y="848"/>
                  <a:pt x="2016" y="720"/>
                </a:cubicBezTo>
                <a:cubicBezTo>
                  <a:pt x="2200" y="592"/>
                  <a:pt x="2344" y="288"/>
                  <a:pt x="2592" y="336"/>
                </a:cubicBezTo>
                <a:cubicBezTo>
                  <a:pt x="2840" y="384"/>
                  <a:pt x="3232" y="808"/>
                  <a:pt x="3504" y="1008"/>
                </a:cubicBezTo>
                <a:cubicBezTo>
                  <a:pt x="3776" y="1208"/>
                  <a:pt x="4000" y="1372"/>
                  <a:pt x="4224" y="1536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6440" y="4191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657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8195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35268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2440" y="5016240"/>
            <a:ext cx="544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ind unique degree 4 polynom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going through thes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84E-A097-4E45-A426-841AD18A8A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Evaluation &amp; 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degre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 ... R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inc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ssume degree at mos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..., 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,...,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value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=0,...,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to recover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65D-7EE5-40C9-A1B4-ED54E1AF4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Evaluation &amp; 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4" name=""/>
          <p:cNvSpPr/>
          <p:nvPr/>
        </p:nvSpPr>
        <p:spPr>
          <a:xfrm>
            <a:off x="336600" y="1686600"/>
            <a:ext cx="2112840" cy="926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2640" y="4160880"/>
            <a:ext cx="1934640" cy="1708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58320" y="4146840"/>
            <a:ext cx="3296520" cy="197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99880" y="2011320"/>
            <a:ext cx="2191320" cy="579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286000"/>
            <a:ext cx="358164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25800" y="2286000"/>
                <a:ext cx="16876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503880" y="15832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rdinary polynom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ultiplication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96960" y="5257800"/>
            <a:ext cx="2684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94440" y="455508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int-wise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575080"/>
            <a:ext cx="0" cy="1645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53520" y="2826000"/>
            <a:ext cx="1412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178840" y="2575080"/>
            <a:ext cx="0" cy="1645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9800" y="2826000"/>
            <a:ext cx="16621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p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F9D-5B9D-4944-9EEF-26F15F34E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0160" y="2284560"/>
            <a:ext cx="2558880" cy="2558880"/>
          </a:xfrm>
          <a:prstGeom prst="ellipse">
            <a:avLst/>
          </a:prstGeom>
          <a:solidFill>
            <a:srgbClr val="ffffff"/>
          </a:solidFill>
          <a:ln cap="rnd" w="2844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Complex Number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9" name=""/>
          <p:cNvSpPr/>
          <p:nvPr/>
        </p:nvSpPr>
        <p:spPr>
          <a:xfrm>
            <a:off x="5719320" y="761400"/>
            <a:ext cx="11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9600" y="2057400"/>
            <a:ext cx="3240" cy="3048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5640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3440" y="17647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52840" y="2743200"/>
            <a:ext cx="1004760" cy="8208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09440" y="237852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+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3120" y="266508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ultiply complex nu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d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ultiply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69240" y="30474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3800" y="278532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3124080"/>
            <a:ext cx="609480" cy="45720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lnTo>
                  <a:pt x="96" y="240"/>
                </a:lnTo>
                <a:lnTo>
                  <a:pt x="336" y="2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200400"/>
            <a:ext cx="533520" cy="3808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96"/>
                </a:moveTo>
                <a:lnTo>
                  <a:pt x="96" y="192"/>
                </a:lnTo>
                <a:lnTo>
                  <a:pt x="288" y="192"/>
                </a:lnTo>
                <a:lnTo>
                  <a:pt x="144" y="0"/>
                </a:lnTo>
                <a:lnTo>
                  <a:pt x="0" y="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04960" y="2238480"/>
            <a:ext cx="92160" cy="918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3517920"/>
            <a:ext cx="91800" cy="921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4080" y="3517920"/>
            <a:ext cx="91800" cy="9216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06760" y="4799160"/>
            <a:ext cx="92160" cy="91800"/>
          </a:xfrm>
          <a:prstGeom prst="ellipse">
            <a:avLst/>
          </a:prstGeom>
          <a:solidFill>
            <a:srgbClr val="009900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6920" y="309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89560" y="4798440"/>
            <a:ext cx="4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Palatino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0880" y="30470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209320" y="2379600"/>
            <a:ext cx="443160" cy="118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352680"/>
            <a:ext cx="68580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288" y="96"/>
                </a:move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  <a:lnTo>
                  <a:pt x="192" y="96"/>
                </a:lnTo>
                <a:lnTo>
                  <a:pt x="288" y="9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415520" y="3092040"/>
            <a:ext cx="1233720" cy="474840"/>
          </a:xfrm>
          <a:prstGeom prst="line">
            <a:avLst/>
          </a:prstGeom>
          <a:ln w="284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8000" y="190404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+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2560" y="274248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cc"/>
                </a:solidFill>
                <a:latin typeface="Symbol"/>
                <a:ea typeface="Symbol"/>
              </a:rPr>
              <a:t>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560" y="26658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61920" y="391536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a+bi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c+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53720" y="4646160"/>
            <a:ext cx="51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+bi =cos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33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+di =cos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e+fi =cos</a:t>
            </a:r>
            <a:r>
              <a:rPr b="0" i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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cc00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s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</a:t>
            </a:r>
            <a:r>
              <a:rPr b="0" lang="en-US" sz="2400" spc="-1" strike="noStrike">
                <a:solidFill>
                  <a:srgbClr val="cc00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= e</a:t>
            </a:r>
            <a:r>
              <a:rPr b="1" i="1" lang="en-US" sz="2400" spc="-1" strike="noStrike" baseline="30000">
                <a:solidFill>
                  <a:srgbClr val="cc00cc"/>
                </a:solidFill>
                <a:latin typeface="Palatino"/>
              </a:rPr>
              <a:t>i</a:t>
            </a:r>
            <a:r>
              <a:rPr b="1" lang="en-US" sz="2400" spc="-1" strike="noStrike" baseline="30000">
                <a:solidFill>
                  <a:srgbClr val="cc00cc"/>
                </a:solidFill>
                <a:latin typeface="Palatino"/>
              </a:rPr>
              <a:t>(</a:t>
            </a:r>
            <a:r>
              <a:rPr b="1" lang="en-US" sz="2400" spc="-1" strike="noStrike" baseline="30000">
                <a:solidFill>
                  <a:srgbClr val="cc00cc"/>
                </a:solidFill>
                <a:latin typeface="Symbol"/>
                <a:ea typeface="Symbol"/>
              </a:rPr>
              <a:t>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9960" y="5257440"/>
            <a:ext cx="12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3D9-10EB-4673-B27B-223510209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rimitiv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-th root 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   </a:t>
            </a:r>
            <a:r>
              <a:rPr b="1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>
                <a:solidFill>
                  <a:srgbClr val="009900"/>
                </a:solidFill>
                <a:latin typeface="Palatino"/>
              </a:rPr>
              <a:t>=</a:t>
            </a:r>
            <a:r>
              <a:rPr b="1" lang="en-US" sz="40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1" lang="en-US" sz="4000" spc="-1" strike="noStrike" baseline="-25000">
                <a:solidFill>
                  <a:srgbClr val="009900"/>
                </a:solidFill>
                <a:latin typeface="Arial"/>
              </a:rPr>
              <a:t>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7" name=""/>
          <p:cNvSpPr/>
          <p:nvPr/>
        </p:nvSpPr>
        <p:spPr>
          <a:xfrm>
            <a:off x="4180680" y="1722600"/>
            <a:ext cx="491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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 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 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/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s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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)</a:t>
            </a:r>
            <a:r>
              <a:rPr b="0" i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33cc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i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2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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1960" y="5486040"/>
            <a:ext cx="123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-1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30000">
                <a:solidFill>
                  <a:srgbClr val="009900"/>
                </a:solidFill>
                <a:latin typeface="Palatino"/>
              </a:rPr>
              <a:t>i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600" y="1370880"/>
            <a:ext cx="5125320" cy="3949560"/>
            <a:chOff x="12600" y="1370880"/>
            <a:chExt cx="5125320" cy="3949560"/>
          </a:xfrm>
        </p:grpSpPr>
        <p:sp>
          <p:nvSpPr>
            <p:cNvPr id="170" name=""/>
            <p:cNvSpPr/>
            <p:nvPr/>
          </p:nvSpPr>
          <p:spPr>
            <a:xfrm>
              <a:off x="3715200" y="2923560"/>
              <a:ext cx="14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2600" y="1370880"/>
              <a:ext cx="4046760" cy="3949560"/>
              <a:chOff x="12600" y="1370880"/>
              <a:chExt cx="4046760" cy="3949560"/>
            </a:xfrm>
          </p:grpSpPr>
          <p:sp>
            <p:nvSpPr>
              <p:cNvPr id="172" name=""/>
              <p:cNvSpPr/>
              <p:nvPr/>
            </p:nvSpPr>
            <p:spPr>
              <a:xfrm>
                <a:off x="1086120" y="2117880"/>
                <a:ext cx="2558880" cy="2558880"/>
              </a:xfrm>
              <a:prstGeom prst="ellipse">
                <a:avLst/>
              </a:prstGeom>
              <a:solidFill>
                <a:srgbClr val="ffffff"/>
              </a:solidFill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65560" y="1890720"/>
                <a:ext cx="3240" cy="304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2640" y="339732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21840" y="1370880"/>
                <a:ext cx="861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Palatino"/>
                  </a:rPr>
                  <a:t>=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20920" y="207180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00720" y="3351240"/>
                <a:ext cx="9180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40040" y="3351240"/>
                <a:ext cx="9180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22720" y="463248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06200" y="4799880"/>
                <a:ext cx="107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6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Palatino"/>
                  </a:rPr>
                  <a:t> -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600" y="2850480"/>
                <a:ext cx="101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=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81400" y="2484360"/>
                <a:ext cx="92160" cy="921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21280" y="4237200"/>
                <a:ext cx="9180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92480" y="4237200"/>
                <a:ext cx="9180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52600" y="2424240"/>
                <a:ext cx="92160" cy="918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92560" y="2531880"/>
                <a:ext cx="920520" cy="850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33120" y="19645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55640" y="4112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42320" y="2117160"/>
                <a:ext cx="424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1440" y="428076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</a:t>
                </a:r>
                <a:r>
                  <a:rPr b="1" lang="en-US" sz="2800" spc="-1" strike="noStrike" baseline="30000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2368800" y="2117880"/>
                <a:ext cx="23760" cy="12650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1544760" y="2516040"/>
                <a:ext cx="820800" cy="866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085760" y="3414600"/>
                <a:ext cx="128268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483920" y="3414600"/>
                <a:ext cx="908280" cy="82260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68800" y="3414600"/>
                <a:ext cx="23760" cy="12621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92560" y="3414600"/>
                <a:ext cx="888840" cy="866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92560" y="3397320"/>
                <a:ext cx="12524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4491720" y="3368520"/>
            <a:ext cx="46173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ny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s.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&lt;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imitiv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-th root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+n/2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A25-EE22-4DC6-A99C-C7D570009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Polynomials by Fast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1686600"/>
            <a:ext cx="2112840" cy="926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6120" y="4053240"/>
            <a:ext cx="2047680" cy="192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1),Q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Q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8080" y="4056120"/>
            <a:ext cx="3492360" cy="222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1)=P(1)Q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9880" y="2011320"/>
            <a:ext cx="2191320" cy="5796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286000"/>
            <a:ext cx="358164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925800" y="2286000"/>
                <a:ext cx="16876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←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503880" y="158328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ordinary polynom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ultiplication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96960" y="5257800"/>
            <a:ext cx="2684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72400" y="4555080"/>
            <a:ext cx="286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int-wise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f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2575080"/>
            <a:ext cx="0" cy="1466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66120" y="28468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 log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178840" y="2575080"/>
            <a:ext cx="0" cy="14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81640" y="2846880"/>
            <a:ext cx="189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p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(n log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C6A-E708-40A4-A5C7-B5C602A7D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key idea (since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is even)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...+ 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(-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=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...  -a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+...+ a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n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...+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=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438280"/>
            <a:ext cx="5105520" cy="503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4560" y="2949480"/>
            <a:ext cx="520992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4876920"/>
            <a:ext cx="5257800" cy="503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6360" y="5380200"/>
            <a:ext cx="5411880" cy="484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D31-0C39-4AAB-8908-8092DA6A16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The recursive idea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 a power of 2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08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degre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n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(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99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o comput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1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-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 a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+1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/2+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 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3077640"/>
            <a:ext cx="2909880" cy="91692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 baseline="30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 is an n/2-th root of 1 so problem is of same type but smaller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181120" y="4008600"/>
            <a:ext cx="838440" cy="106200"/>
          </a:xfrm>
          <a:prstGeom prst="line">
            <a:avLst/>
          </a:prstGeom>
          <a:ln w="28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E17-7984-44D4-81AF-7B340D8AFA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Analysis and mor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(n)=2T(n/2)+c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o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(n)=O(n 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much for evaluation ... what about interpolation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=R(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 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,...,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.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(x)=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+...c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8DA-727B-4873-962A-B1657F954F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 Evalua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strange but tru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rd fa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define a new polynomial            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x) =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 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+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... , r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are the evaluations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 ... ,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=T(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k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=0,...,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(n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divide each b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th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,...,c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haves just lik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d so the sam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(n log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ation algorithm appli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C3C-1250-460D-A19B-F1F6D11502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Multiplying Fast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irst HW you analyzed our usual algorithm for multiplying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b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describe the basic ideas by multiplying polynomials rather than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 is we don’t get confused by worrying about carrie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E86-FE9B-4508-8C5B-AC190E437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is is called the discrete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Fouri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real valued fun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0,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the Fourier series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        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s(m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is the component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requenc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gnal processing and data compression one ignores all but the components with larg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re aren’t many si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770200" y="3352680"/>
                <a:ext cx="283212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2209680" y="3352680"/>
            <a:ext cx="335304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5695920"/>
                <a:ext cx="1246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289-AB76-4775-8149-F283DF2CAB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y this is called the discrete Fourier transfor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Fouri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functi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o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0,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the complex Fourier series for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                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(z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0033cc"/>
                </a:solidFill>
                <a:latin typeface="Palatino"/>
              </a:rPr>
              <a:t>i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+...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is the component of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requency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ntegral using values at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n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spaced points betwee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352680"/>
            <a:ext cx="3352680" cy="987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041640" y="3327480"/>
                <a:ext cx="22986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m</m:t>
                            </m:r>
                            <m:r>
                              <m:t xml:space="preserve">iz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838080" y="5605560"/>
            <a:ext cx="6996240" cy="871560"/>
            <a:chOff x="838080" y="5605560"/>
            <a:chExt cx="6996240" cy="871560"/>
          </a:xfrm>
        </p:grpSpPr>
        <p:grpSp>
          <p:nvGrpSpPr>
            <p:cNvPr id="239" name=""/>
            <p:cNvGrpSpPr/>
            <p:nvPr/>
          </p:nvGrpSpPr>
          <p:grpSpPr>
            <a:xfrm>
              <a:off x="1033560" y="5605560"/>
              <a:ext cx="6793920" cy="871560"/>
              <a:chOff x="1033560" y="5605560"/>
              <a:chExt cx="6793920" cy="871560"/>
            </a:xfrm>
          </p:grpSpPr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1033560" y="5605560"/>
                    <a:ext cx="430344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2km</m:t>
                            </m:r>
                            <m:r>
                              <m:t xml:space="preserve">i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n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m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1" name=""/>
              <p:cNvSpPr/>
              <p:nvPr/>
            </p:nvSpPr>
            <p:spPr>
              <a:xfrm>
                <a:off x="5346720" y="5760000"/>
                <a:ext cx="2480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where 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f(2k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/n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838080" y="5605560"/>
              <a:ext cx="6996240" cy="87156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352680" y="64760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just like interpolation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590960" y="4810680"/>
            <a:ext cx="1381680" cy="398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n a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CFE-4AD6-45EB-B710-0D99CFE86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ote on Polynomials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just formal sequences of coefficients so when we show something multiplied by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just means shifted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s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C59-76AB-4FE3-B751-EAA301B8AE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Polynomial Multiplic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nomial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+...+ (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m-3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m-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m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vious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ll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llect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76B-197E-44A5-9991-38E5EE1597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Naive Divide and Conquer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=2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...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k+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…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k=m/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linear comb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=4T(m/2)+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895-7241-4575-A811-9D2B5C7E9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4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way to compute th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ich is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3 T(m/2) +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5D3-2C3E-4D69-A140-A6BFCF79A7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7" name=""/>
          <p:cNvCxnSpPr/>
          <p:nvPr/>
        </p:nvCxnSpPr>
        <p:spPr>
          <a:xfrm>
            <a:off x="456840" y="3971520"/>
            <a:ext cx="1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Karatsuba’s Algorithm Alternative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(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 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(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2 -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+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-problems of siz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u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(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3 T(m/2) +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(m) = O(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= log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 = 1.59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2B2-92C8-4EF1-9917-5DC5B61CD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What Karatsuba’s Algorithm did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wanted to comp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valu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601"/>
              </a:spcBef>
              <a:buClr>
                <a:srgbClr val="ffcc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Q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ltiplied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en used these 3 values to figure out what the degree 2 polynomial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Q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p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C3F-50F7-4807-9DFE-5F71E0095D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"/>
              </a:rPr>
              <a:t>Interpolation</a:t>
            </a:r>
            <a:endParaRPr b="1" lang="en-US" sz="4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828800"/>
            <a:ext cx="0" cy="47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440" y="41911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2004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657600"/>
            <a:ext cx="7632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8195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3733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35268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4760" y="476964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iven set of values at  5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589-9CB3-4CC9-888B-707ED5F9DB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6:57:42Z</dcterms:created>
  <dc:creator>ruzzo</dc:creator>
  <dc:description/>
  <dc:language>en-US</dc:language>
  <cp:lastModifiedBy>beame</cp:lastModifiedBy>
  <cp:lastPrinted>2001-02-09T18:03:23Z</cp:lastPrinted>
  <dcterms:modified xsi:type="dcterms:W3CDTF">2001-02-09T18:03:44Z</dcterms:modified>
  <cp:revision>93</cp:revision>
  <dc:subject/>
  <dc:title>CSE 421:  Introduction to Algorith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homes/ruzzo</vt:lpwstr>
  </property>
  <property fmtid="{D5CDD505-2E9C-101B-9397-08002B2CF9AE}" pid="9" name="LinkColor">
    <vt:r8>16711782</vt:r8>
  </property>
  <property fmtid="{D5CDD505-2E9C-101B-9397-08002B2CF9AE}" pid="10" name="MailAddress">
    <vt:lpwstr>ruzzo@cs.washington.edu</vt:lpwstr>
  </property>
  <property fmtid="{D5CDD505-2E9C-101B-9397-08002B2CF9AE}" pid="11" name="NavBtnPos">
    <vt:r8>1</vt:r8>
  </property>
  <property fmtid="{D5CDD505-2E9C-101B-9397-08002B2CF9AE}" pid="12" name="Other">
    <vt:lpwstr>(c) 1998,  University of Washington, CSE</vt:lpwstr>
  </property>
  <property fmtid="{D5CDD505-2E9C-101B-9397-08002B2CF9AE}" pid="13" name="OutputDir">
    <vt:lpwstr>W:\www\education\courses\421\CurrentQtr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