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D0B-72E5-4F7C-B5DF-DE01D559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737-77FC-42B2-8F4B-6CCA378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46A-F2AB-4716-AD48-B5EBE53E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D87-4FA8-404A-B6CE-01C0DE6C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08A6-8D9C-4A1E-9F0D-CDE3E17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9C8E-B841-4FE8-8D94-B65C991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E97F-F265-46E5-992F-F044BBD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97AD-3764-42F8-9185-37C1E4E9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BCF-EDC5-4C8B-A0FA-EB752AB9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6C6-13F8-4730-9009-796A3E3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1E9-AA47-4BB3-9F9A-7C7F44C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335-E986-4496-AF39-7D6A447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566D-FD20-4F92-8DCF-AB6861C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E47E-4590-4DD2-8BB3-84727EE4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83C0-EC59-41E0-9735-72ED147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41B9-DA80-4ED0-A1C9-565F6820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EB5-5939-4C63-854A-9DCFF977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224-6DD8-4D79-B59B-E3BD8057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6FE-88E9-47A9-9604-C2DE6AC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63E-AF56-4AFB-B4CE-0BE5F9C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16B-1753-48C9-97AD-51370479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95A-3CE8-4556-88CB-4A3EFE4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939-BB89-497E-8E08-12E5E59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5BE-396A-4BDD-B36E-5998AF8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FA85-4C5D-49D6-BAFC-B1DDF3686E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6AC-B008-439D-AE43-6AFC56A4E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35BA-1736-4E58-9AF2-E161946919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Fast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HW you analyzed our usual algorithm for multiplying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describe the basic ideas by multiplying polynomials rather than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is we don’t get confused by worrying about carrie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242-463B-439C-8517-FCD6874AA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te on Polynomial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just formal sequences of coefficients so when we show something multipli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just means shift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s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946-51EF-46E1-AD76-0221BCDA6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Multiplic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n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n-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...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..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+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... 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l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llect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B19-70F1-4576-907A-AA3617FE2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Divide and Conqu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wer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…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...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/2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linear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=4T(n/2)+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AE4-A53C-4A64-AAEF-1E6C59BA4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way to compute th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3 T(n/2) + 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869-8819-433B-B89E-BA67C6035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l-pairs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negative-weight edges and sparse graphs run Dijsktra from each vertex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 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c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117-9995-4E63-A570-D170C6077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 Ide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vertices in a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sktra’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step always computed shortest paths that only had interior vertices from a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each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yd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add interior vertices on fixed schedule rather than depending o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90720" y="2438280"/>
            <a:ext cx="4498200" cy="1144440"/>
            <a:chOff x="1890720" y="2438280"/>
            <a:chExt cx="4498200" cy="1144440"/>
          </a:xfrm>
        </p:grpSpPr>
        <p:sp>
          <p:nvSpPr>
            <p:cNvPr id="91" name=""/>
            <p:cNvSpPr/>
            <p:nvPr/>
          </p:nvSpPr>
          <p:spPr>
            <a:xfrm>
              <a:off x="2133720" y="2666880"/>
              <a:ext cx="4038480" cy="241560"/>
            </a:xfrm>
            <a:custGeom>
              <a:avLst/>
              <a:gdLst/>
              <a:ahLst/>
              <a:rect l="l" t="t" r="r" b="b"/>
              <a:pathLst>
                <a:path w="2544" h="152">
                  <a:moveTo>
                    <a:pt x="0" y="96"/>
                  </a:moveTo>
                  <a:cubicBezTo>
                    <a:pt x="132" y="116"/>
                    <a:pt x="264" y="136"/>
                    <a:pt x="384" y="144"/>
                  </a:cubicBezTo>
                  <a:cubicBezTo>
                    <a:pt x="504" y="152"/>
                    <a:pt x="592" y="144"/>
                    <a:pt x="720" y="144"/>
                  </a:cubicBezTo>
                  <a:cubicBezTo>
                    <a:pt x="848" y="144"/>
                    <a:pt x="1032" y="152"/>
                    <a:pt x="1152" y="144"/>
                  </a:cubicBezTo>
                  <a:cubicBezTo>
                    <a:pt x="1272" y="136"/>
                    <a:pt x="1320" y="112"/>
                    <a:pt x="1440" y="96"/>
                  </a:cubicBezTo>
                  <a:cubicBezTo>
                    <a:pt x="1560" y="80"/>
                    <a:pt x="1688" y="64"/>
                    <a:pt x="1872" y="48"/>
                  </a:cubicBezTo>
                  <a:cubicBezTo>
                    <a:pt x="2056" y="32"/>
                    <a:pt x="2300" y="16"/>
                    <a:pt x="2544" y="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890720" y="2819520"/>
              <a:ext cx="333000" cy="534600"/>
              <a:chOff x="1890720" y="2819520"/>
              <a:chExt cx="333000" cy="534600"/>
            </a:xfrm>
          </p:grpSpPr>
          <p:sp>
            <p:nvSpPr>
              <p:cNvPr id="93" name=""/>
              <p:cNvSpPr/>
              <p:nvPr/>
            </p:nvSpPr>
            <p:spPr>
              <a:xfrm>
                <a:off x="2057400" y="281952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90720" y="289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743200" y="2895480"/>
              <a:ext cx="7632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988600" y="2666880"/>
              <a:ext cx="400320" cy="534600"/>
              <a:chOff x="5988600" y="2666880"/>
              <a:chExt cx="400320" cy="53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188040" y="266688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88600" y="2741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276720" y="2819520"/>
              <a:ext cx="75960" cy="7596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2819520"/>
              <a:ext cx="76320" cy="7596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2743200"/>
              <a:ext cx="7596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666880"/>
              <a:ext cx="7596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438280"/>
              <a:ext cx="2971800" cy="76212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87160" y="312300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interior vert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ABC-B449-48AC-9A37-5C76A3432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=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ngth of shortest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nly allow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as interior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weight of ed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gth of shortest path fro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572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739-2FE8-441D-B6F4-8B0411220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18760" y="1676520"/>
            <a:ext cx="3859920" cy="1398240"/>
            <a:chOff x="4118760" y="1676520"/>
            <a:chExt cx="3859920" cy="1398240"/>
          </a:xfrm>
        </p:grpSpPr>
        <p:sp>
          <p:nvSpPr>
            <p:cNvPr id="110" name=""/>
            <p:cNvSpPr/>
            <p:nvPr/>
          </p:nvSpPr>
          <p:spPr>
            <a:xfrm>
              <a:off x="4305240" y="2057400"/>
              <a:ext cx="3428640" cy="88920"/>
            </a:xfrm>
            <a:custGeom>
              <a:avLst/>
              <a:gdLst/>
              <a:ahLst/>
              <a:rect l="l" t="t" r="r" b="b"/>
              <a:pathLst>
                <a:path w="2160" h="56">
                  <a:moveTo>
                    <a:pt x="0" y="0"/>
                  </a:moveTo>
                  <a:cubicBezTo>
                    <a:pt x="120" y="24"/>
                    <a:pt x="240" y="48"/>
                    <a:pt x="384" y="48"/>
                  </a:cubicBezTo>
                  <a:cubicBezTo>
                    <a:pt x="528" y="48"/>
                    <a:pt x="728" y="0"/>
                    <a:pt x="864" y="0"/>
                  </a:cubicBezTo>
                  <a:cubicBezTo>
                    <a:pt x="1000" y="0"/>
                    <a:pt x="1064" y="40"/>
                    <a:pt x="1200" y="48"/>
                  </a:cubicBezTo>
                  <a:cubicBezTo>
                    <a:pt x="1336" y="56"/>
                    <a:pt x="1568" y="56"/>
                    <a:pt x="1680" y="48"/>
                  </a:cubicBezTo>
                  <a:cubicBezTo>
                    <a:pt x="1792" y="40"/>
                    <a:pt x="1792" y="0"/>
                    <a:pt x="1872" y="0"/>
                  </a:cubicBezTo>
                  <a:cubicBezTo>
                    <a:pt x="1952" y="0"/>
                    <a:pt x="2112" y="40"/>
                    <a:pt x="2160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118760" y="2057400"/>
              <a:ext cx="372600" cy="559800"/>
              <a:chOff x="4118760" y="2057400"/>
              <a:chExt cx="372600" cy="559800"/>
            </a:xfrm>
          </p:grpSpPr>
          <p:sp>
            <p:nvSpPr>
              <p:cNvPr id="112" name=""/>
              <p:cNvSpPr/>
              <p:nvPr/>
            </p:nvSpPr>
            <p:spPr>
              <a:xfrm>
                <a:off x="4305240" y="205740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18760" y="2107080"/>
                <a:ext cx="372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838400" y="1676520"/>
              <a:ext cx="2628720" cy="761760"/>
              <a:chOff x="4838400" y="1676520"/>
              <a:chExt cx="2628720" cy="76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491436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16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33680" y="207000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66840" y="21337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8588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38400" y="1676520"/>
                <a:ext cx="2628720" cy="76176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569120" y="2564640"/>
              <a:ext cx="293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vertices from v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,...,v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96080" y="2070000"/>
              <a:ext cx="75600" cy="7632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06080" y="21834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23680" y="4343400"/>
            <a:ext cx="3860280" cy="1398240"/>
            <a:chOff x="4423680" y="4343400"/>
            <a:chExt cx="3860280" cy="1398240"/>
          </a:xfrm>
        </p:grpSpPr>
        <p:sp>
          <p:nvSpPr>
            <p:cNvPr id="125" name=""/>
            <p:cNvSpPr/>
            <p:nvPr/>
          </p:nvSpPr>
          <p:spPr>
            <a:xfrm>
              <a:off x="4610160" y="4724280"/>
              <a:ext cx="3429000" cy="88920"/>
            </a:xfrm>
            <a:custGeom>
              <a:avLst/>
              <a:gdLst/>
              <a:ahLst/>
              <a:rect l="l" t="t" r="r" b="b"/>
              <a:pathLst>
                <a:path w="2160" h="56">
                  <a:moveTo>
                    <a:pt x="0" y="0"/>
                  </a:moveTo>
                  <a:cubicBezTo>
                    <a:pt x="120" y="24"/>
                    <a:pt x="240" y="48"/>
                    <a:pt x="384" y="48"/>
                  </a:cubicBezTo>
                  <a:cubicBezTo>
                    <a:pt x="528" y="48"/>
                    <a:pt x="728" y="0"/>
                    <a:pt x="864" y="0"/>
                  </a:cubicBezTo>
                  <a:cubicBezTo>
                    <a:pt x="1000" y="0"/>
                    <a:pt x="1064" y="40"/>
                    <a:pt x="1200" y="48"/>
                  </a:cubicBezTo>
                  <a:cubicBezTo>
                    <a:pt x="1336" y="56"/>
                    <a:pt x="1568" y="56"/>
                    <a:pt x="1680" y="48"/>
                  </a:cubicBezTo>
                  <a:cubicBezTo>
                    <a:pt x="1792" y="40"/>
                    <a:pt x="1792" y="0"/>
                    <a:pt x="1872" y="0"/>
                  </a:cubicBezTo>
                  <a:cubicBezTo>
                    <a:pt x="1952" y="0"/>
                    <a:pt x="2112" y="40"/>
                    <a:pt x="2160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423680" y="4724280"/>
              <a:ext cx="372600" cy="559800"/>
              <a:chOff x="4423680" y="4724280"/>
              <a:chExt cx="372600" cy="559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610160" y="472428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23680" y="4773960"/>
                <a:ext cx="372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143320" y="4343400"/>
              <a:ext cx="2628720" cy="761760"/>
              <a:chOff x="5143320" y="4343400"/>
              <a:chExt cx="2628720" cy="761760"/>
            </a:xfrm>
          </p:grpSpPr>
          <p:sp>
            <p:nvSpPr>
              <p:cNvPr id="130" name=""/>
              <p:cNvSpPr/>
              <p:nvPr/>
            </p:nvSpPr>
            <p:spPr>
              <a:xfrm>
                <a:off x="5219640" y="47368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05440" y="47368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38600" y="4736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72120" y="4800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91160" y="4736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43320" y="4343400"/>
                <a:ext cx="2628720" cy="761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795200" y="5231520"/>
              <a:ext cx="309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vertices from 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...,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736880"/>
              <a:ext cx="76320" cy="7632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11360" y="48502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37960" y="1794240"/>
            <a:ext cx="36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i,j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7440" y="3475080"/>
            <a:ext cx="325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8080" y="4541760"/>
            <a:ext cx="23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192-EBC0-4025-8BE8-52B97AB6C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43400" y="3124080"/>
            <a:ext cx="838080" cy="1276560"/>
          </a:xfrm>
          <a:custGeom>
            <a:avLst/>
            <a:gdLst/>
            <a:ahLst/>
            <a:rect l="l" t="t" r="r" b="b"/>
            <a:pathLst>
              <a:path w="528" h="804">
                <a:moveTo>
                  <a:pt x="264" y="798"/>
                </a:moveTo>
                <a:cubicBezTo>
                  <a:pt x="237" y="757"/>
                  <a:pt x="264" y="804"/>
                  <a:pt x="246" y="720"/>
                </a:cubicBezTo>
                <a:cubicBezTo>
                  <a:pt x="244" y="711"/>
                  <a:pt x="234" y="696"/>
                  <a:pt x="234" y="696"/>
                </a:cubicBezTo>
                <a:lnTo>
                  <a:pt x="0" y="528"/>
                </a:lnTo>
                <a:lnTo>
                  <a:pt x="96" y="0"/>
                </a:lnTo>
                <a:lnTo>
                  <a:pt x="528" y="0"/>
                </a:lnTo>
                <a:lnTo>
                  <a:pt x="480" y="576"/>
                </a:lnTo>
                <a:lnTo>
                  <a:pt x="264" y="798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146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895480"/>
            <a:ext cx="1371600" cy="1320840"/>
          </a:xfrm>
          <a:prstGeom prst="ellipse">
            <a:avLst/>
          </a:prstGeom>
          <a:noFill/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3840" y="225972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160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163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3822840"/>
            <a:ext cx="7632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FED-9D2B-471F-A6BA-D5814C9473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343400" y="3124080"/>
            <a:ext cx="838080" cy="1276560"/>
          </a:xfrm>
          <a:custGeom>
            <a:avLst/>
            <a:gdLst/>
            <a:ahLst/>
            <a:rect l="l" t="t" r="r" b="b"/>
            <a:pathLst>
              <a:path w="528" h="804">
                <a:moveTo>
                  <a:pt x="264" y="798"/>
                </a:moveTo>
                <a:cubicBezTo>
                  <a:pt x="237" y="757"/>
                  <a:pt x="264" y="804"/>
                  <a:pt x="246" y="720"/>
                </a:cubicBezTo>
                <a:cubicBezTo>
                  <a:pt x="244" y="711"/>
                  <a:pt x="234" y="696"/>
                  <a:pt x="234" y="696"/>
                </a:cubicBezTo>
                <a:lnTo>
                  <a:pt x="0" y="528"/>
                </a:lnTo>
                <a:lnTo>
                  <a:pt x="96" y="0"/>
                </a:lnTo>
                <a:lnTo>
                  <a:pt x="528" y="0"/>
                </a:lnTo>
                <a:lnTo>
                  <a:pt x="480" y="576"/>
                </a:lnTo>
                <a:lnTo>
                  <a:pt x="264" y="798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179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95480"/>
            <a:ext cx="1371600" cy="1320840"/>
          </a:xfrm>
          <a:prstGeom prst="ellipse">
            <a:avLst/>
          </a:prstGeom>
          <a:noFill/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3840" y="225972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193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196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22840"/>
            <a:ext cx="7632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72080" y="2285640"/>
            <a:ext cx="2523960" cy="1536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771720" y="2195280"/>
            <a:ext cx="1485720" cy="2020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3360" y="258948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ot on shortest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ince no negativ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996-8707-4579-8FF8-A40B9695C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2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214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226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229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50600" y="2560680"/>
            <a:ext cx="400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 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k] + 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k,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F56-A108-4870-9D63-176DC4B60D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yd(G)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matrix of G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j]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{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j],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k]+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k,j]}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760" y="1522800"/>
            <a:ext cx="347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) storage by maintai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rray for last two values of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51B-07F1-41D8-B595-B09769FB0A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5T21:48:09Z</cp:lastPrinted>
  <dcterms:modified xsi:type="dcterms:W3CDTF">2001-02-05T21:48:13Z</dcterms:modified>
  <cp:revision>8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