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8BD9-CC4B-4472-B37E-D2EE1C9F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7A87-53E5-4485-8901-D8AF1079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C442-E330-46AE-A414-4CCD2AFA2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A867-7E82-4431-89C7-9D36554B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06BD-75EB-4FDF-88FA-6F0FC096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052E-F241-47CC-BD46-2A8A235A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80C4-2F48-4478-AED8-073C5CF2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0E4B-A527-41A6-BD51-3776EA72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7AB1-03E6-4F86-9CD8-49C7FF95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4EBA-2F82-457B-9444-011C1E49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ED00-87EA-4CD3-8F3E-10D81C15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9008-E836-427A-A181-A85DF668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551D-18B5-429A-988A-556995B8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2DE1-21EA-4A9F-85F8-16C9C9AE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A1A8-3B5C-4CF4-BCA5-37CDFEEB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385E-26C9-4499-BAA8-2FDF9E77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B7DD-2387-49C6-BA0E-D96F7CD6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C8E7-1466-4972-ACC5-9191D674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FEDE-D24A-447C-8B89-4C82A508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6D9C-9FE8-49D5-965A-A93C48C4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839E-3504-4E01-B8C4-F7237F79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A312-1277-48A9-9D2E-B8338969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FA9-BBDE-431E-8150-65871A00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C17A-A81B-4399-AA74-3D35038B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9A2F-B2F1-4580-8FE3-D85EED56CA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EEF0-C1C4-4460-9638-BD4C3BA3B1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A135-86FA-4787-9530-6B15B5C23C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ultiplying Faster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first HW you analyzed our usual algorithm for multiplying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bet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describe the basic ideas by multiplying polynomials rather than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 is we don’t get confused by worrying about carries at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6C5-D376-41A8-BCF2-8D192D455A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ote on Polynomial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just formal sequences of coefficients so when we show something multiplied by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just means shifte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ces to the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7FA5-51CB-4522-865A-D1D6737826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olynomial Multiplica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ynomial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 =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n-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-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… 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n-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-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… 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n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ynomial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n-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2n-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 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n-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n-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2n-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...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+ 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n-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i+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...+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i+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+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... +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vious Algorith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all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ollect 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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n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6563-2C23-4B38-97AA-A153B11AF9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aive Divide and Conquer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ower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9900"/>
                </a:solidFill>
                <a:latin typeface="Arial"/>
              </a:rPr>
              <a:t>n/2-1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n-2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9900"/>
                </a:solidFill>
                <a:latin typeface="Arial"/>
              </a:rPr>
              <a:t>n/2-2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+ … + 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n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+ 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n/2-1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x</a:t>
            </a:r>
            <a:r>
              <a:rPr b="0" lang="en-US" sz="2400" spc="-1" strike="noStrike" baseline="30000">
                <a:solidFill>
                  <a:srgbClr val="009900"/>
                </a:solidFill>
                <a:latin typeface="Arial"/>
              </a:rPr>
              <a:t>n/2-1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+ ... + 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x</a:t>
            </a:r>
            <a:r>
              <a:rPr b="0" lang="en-US" sz="24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x + 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/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/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b-problems of siz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/2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us linear comb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(n)=4T(n/2)+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(n) = O(n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7B93-6655-4200-A7D8-B7E2ACB2D7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/>
          <p:nvPr/>
        </p:nvCxnSpPr>
        <p:spPr>
          <a:xfrm>
            <a:off x="456840" y="3971520"/>
            <a:ext cx="1080" cy="1080"/>
          </a:xfrm>
          <a:prstGeom prst="straightConnector1">
            <a:avLst/>
          </a:prstGeom>
          <a:ln w="76320">
            <a:solidFill>
              <a:srgbClr val="ff0000"/>
            </a:solidFill>
            <a:miter/>
          </a:ln>
        </p:spPr>
      </p:cxn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aratsub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etter way to compute the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(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hich i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(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b-problems of siz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u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(n) = 3 T(n/2) + 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(n) = O(n</a:t>
            </a:r>
            <a:r>
              <a:rPr b="0" lang="en-US" sz="24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= log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 = 1.59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254C-2F82-4A96-A446-4E3C0CD68D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ll-pairs shortest path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 negative-weight edges and sparse graphs run Dijsktra from each vertex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(nm log 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other c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4A11-D948-4FEA-82C5-A8E179B8C1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loyd’s Algorithm Idea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ior vertices in a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jsktra’s Algorith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ach step always computed shortest paths that only had interior vertices from a se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each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yd’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ly add interior vertices on fixed schedule rather than depending on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890720" y="2438280"/>
            <a:ext cx="4498200" cy="1144440"/>
            <a:chOff x="1890720" y="2438280"/>
            <a:chExt cx="4498200" cy="1144440"/>
          </a:xfrm>
        </p:grpSpPr>
        <p:sp>
          <p:nvSpPr>
            <p:cNvPr id="91" name=""/>
            <p:cNvSpPr/>
            <p:nvPr/>
          </p:nvSpPr>
          <p:spPr>
            <a:xfrm>
              <a:off x="2133720" y="2666880"/>
              <a:ext cx="4038480" cy="241560"/>
            </a:xfrm>
            <a:custGeom>
              <a:avLst/>
              <a:gdLst/>
              <a:ahLst/>
              <a:rect l="l" t="t" r="r" b="b"/>
              <a:pathLst>
                <a:path w="2544" h="152">
                  <a:moveTo>
                    <a:pt x="0" y="96"/>
                  </a:moveTo>
                  <a:cubicBezTo>
                    <a:pt x="132" y="116"/>
                    <a:pt x="264" y="136"/>
                    <a:pt x="384" y="144"/>
                  </a:cubicBezTo>
                  <a:cubicBezTo>
                    <a:pt x="504" y="152"/>
                    <a:pt x="592" y="144"/>
                    <a:pt x="720" y="144"/>
                  </a:cubicBezTo>
                  <a:cubicBezTo>
                    <a:pt x="848" y="144"/>
                    <a:pt x="1032" y="152"/>
                    <a:pt x="1152" y="144"/>
                  </a:cubicBezTo>
                  <a:cubicBezTo>
                    <a:pt x="1272" y="136"/>
                    <a:pt x="1320" y="112"/>
                    <a:pt x="1440" y="96"/>
                  </a:cubicBezTo>
                  <a:cubicBezTo>
                    <a:pt x="1560" y="80"/>
                    <a:pt x="1688" y="64"/>
                    <a:pt x="1872" y="48"/>
                  </a:cubicBezTo>
                  <a:cubicBezTo>
                    <a:pt x="2056" y="32"/>
                    <a:pt x="2300" y="16"/>
                    <a:pt x="2544" y="0"/>
                  </a:cubicBezTo>
                </a:path>
              </a:pathLst>
            </a:custGeom>
            <a:noFill/>
            <a:ln w="284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890720" y="2819520"/>
              <a:ext cx="333000" cy="534600"/>
              <a:chOff x="1890720" y="2819520"/>
              <a:chExt cx="333000" cy="534600"/>
            </a:xfrm>
          </p:grpSpPr>
          <p:sp>
            <p:nvSpPr>
              <p:cNvPr id="93" name=""/>
              <p:cNvSpPr/>
              <p:nvPr/>
            </p:nvSpPr>
            <p:spPr>
              <a:xfrm>
                <a:off x="2057400" y="2819520"/>
                <a:ext cx="76320" cy="75960"/>
              </a:xfrm>
              <a:prstGeom prst="ellipse">
                <a:avLst/>
              </a:prstGeom>
              <a:solidFill>
                <a:srgbClr val="0033cc"/>
              </a:solidFill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90720" y="2894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Arial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2743200" y="2895480"/>
              <a:ext cx="76320" cy="76320"/>
            </a:xfrm>
            <a:prstGeom prst="ellipse">
              <a:avLst/>
            </a:prstGeom>
            <a:solidFill>
              <a:srgbClr val="009900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988600" y="2666880"/>
              <a:ext cx="400320" cy="534600"/>
              <a:chOff x="5988600" y="2666880"/>
              <a:chExt cx="400320" cy="534600"/>
            </a:xfrm>
          </p:grpSpPr>
          <p:sp>
            <p:nvSpPr>
              <p:cNvPr id="97" name=""/>
              <p:cNvSpPr/>
              <p:nvPr/>
            </p:nvSpPr>
            <p:spPr>
              <a:xfrm>
                <a:off x="6188040" y="2666880"/>
                <a:ext cx="76320" cy="75960"/>
              </a:xfrm>
              <a:prstGeom prst="ellipse">
                <a:avLst/>
              </a:prstGeom>
              <a:solidFill>
                <a:srgbClr val="0033cc"/>
              </a:solidFill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988600" y="2741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Arial"/>
                  </a:rPr>
                  <a:t>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3276720" y="2819520"/>
              <a:ext cx="75960" cy="75960"/>
            </a:xfrm>
            <a:prstGeom prst="ellipse">
              <a:avLst/>
            </a:prstGeom>
            <a:solidFill>
              <a:srgbClr val="009900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86200" y="2819520"/>
              <a:ext cx="76320" cy="75960"/>
            </a:xfrm>
            <a:prstGeom prst="ellipse">
              <a:avLst/>
            </a:prstGeom>
            <a:solidFill>
              <a:srgbClr val="009900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19720" y="2743200"/>
              <a:ext cx="75960" cy="76320"/>
            </a:xfrm>
            <a:prstGeom prst="ellipse">
              <a:avLst/>
            </a:prstGeom>
            <a:solidFill>
              <a:srgbClr val="009900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05520" y="2666880"/>
              <a:ext cx="75960" cy="76320"/>
            </a:xfrm>
            <a:prstGeom prst="ellipse">
              <a:avLst/>
            </a:prstGeom>
            <a:solidFill>
              <a:srgbClr val="009900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90920" y="2438280"/>
              <a:ext cx="2971800" cy="762120"/>
            </a:xfrm>
            <a:prstGeom prst="ellipse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87160" y="3123000"/>
              <a:ext cx="224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interior vert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A20A-3A1C-4E63-81EA-B74D24F453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loyd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e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={v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...,v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[i,j]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ngth of shortest path fro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only allow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{v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...,v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as interior ver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[i,j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 weight of edg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v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v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v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v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[i,j]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ngth of shortest path from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v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v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457200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FF15-A31B-4F67-B253-1BFE3120F8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loyd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118760" y="1676520"/>
            <a:ext cx="3859920" cy="1398240"/>
            <a:chOff x="4118760" y="1676520"/>
            <a:chExt cx="3859920" cy="1398240"/>
          </a:xfrm>
        </p:grpSpPr>
        <p:sp>
          <p:nvSpPr>
            <p:cNvPr id="110" name=""/>
            <p:cNvSpPr/>
            <p:nvPr/>
          </p:nvSpPr>
          <p:spPr>
            <a:xfrm>
              <a:off x="4305240" y="2057400"/>
              <a:ext cx="3428640" cy="88920"/>
            </a:xfrm>
            <a:custGeom>
              <a:avLst/>
              <a:gdLst/>
              <a:ahLst/>
              <a:rect l="l" t="t" r="r" b="b"/>
              <a:pathLst>
                <a:path w="2160" h="56">
                  <a:moveTo>
                    <a:pt x="0" y="0"/>
                  </a:moveTo>
                  <a:cubicBezTo>
                    <a:pt x="120" y="24"/>
                    <a:pt x="240" y="48"/>
                    <a:pt x="384" y="48"/>
                  </a:cubicBezTo>
                  <a:cubicBezTo>
                    <a:pt x="528" y="48"/>
                    <a:pt x="728" y="0"/>
                    <a:pt x="864" y="0"/>
                  </a:cubicBezTo>
                  <a:cubicBezTo>
                    <a:pt x="1000" y="0"/>
                    <a:pt x="1064" y="40"/>
                    <a:pt x="1200" y="48"/>
                  </a:cubicBezTo>
                  <a:cubicBezTo>
                    <a:pt x="1336" y="56"/>
                    <a:pt x="1568" y="56"/>
                    <a:pt x="1680" y="48"/>
                  </a:cubicBezTo>
                  <a:cubicBezTo>
                    <a:pt x="1792" y="40"/>
                    <a:pt x="1792" y="0"/>
                    <a:pt x="1872" y="0"/>
                  </a:cubicBezTo>
                  <a:cubicBezTo>
                    <a:pt x="1952" y="0"/>
                    <a:pt x="2112" y="40"/>
                    <a:pt x="2160" y="48"/>
                  </a:cubicBezTo>
                </a:path>
              </a:pathLst>
            </a:custGeom>
            <a:noFill/>
            <a:ln w="284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4118760" y="2057400"/>
              <a:ext cx="372600" cy="559800"/>
              <a:chOff x="4118760" y="2057400"/>
              <a:chExt cx="372600" cy="559800"/>
            </a:xfrm>
          </p:grpSpPr>
          <p:sp>
            <p:nvSpPr>
              <p:cNvPr id="112" name=""/>
              <p:cNvSpPr/>
              <p:nvPr/>
            </p:nvSpPr>
            <p:spPr>
              <a:xfrm>
                <a:off x="4305240" y="2057400"/>
                <a:ext cx="76320" cy="75960"/>
              </a:xfrm>
              <a:prstGeom prst="ellipse">
                <a:avLst/>
              </a:prstGeom>
              <a:solidFill>
                <a:srgbClr val="0033cc"/>
              </a:solidFill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118760" y="2107080"/>
                <a:ext cx="372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Arial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33cc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4838400" y="1676520"/>
              <a:ext cx="2628720" cy="761760"/>
              <a:chOff x="4838400" y="1676520"/>
              <a:chExt cx="2628720" cy="761760"/>
            </a:xfrm>
          </p:grpSpPr>
          <p:sp>
            <p:nvSpPr>
              <p:cNvPr id="115" name=""/>
              <p:cNvSpPr/>
              <p:nvPr/>
            </p:nvSpPr>
            <p:spPr>
              <a:xfrm>
                <a:off x="4914360" y="20700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160" y="20700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33680" y="2070000"/>
                <a:ext cx="75600" cy="76320"/>
              </a:xfrm>
              <a:prstGeom prst="ellipse">
                <a:avLst/>
              </a:prstGeom>
              <a:solidFill>
                <a:srgbClr val="009900"/>
              </a:solidFill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666840" y="213372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85880" y="20700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838400" y="1676520"/>
                <a:ext cx="2628720" cy="761760"/>
              </a:xfrm>
              <a:prstGeom prst="ellipse">
                <a:avLst/>
              </a:prstGeom>
              <a:noFill/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4569120" y="2564640"/>
              <a:ext cx="2931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vertices from v</a:t>
              </a:r>
              <a:r>
                <a:rPr b="0" lang="en-US" sz="2400" spc="-1" strike="noStrike" baseline="-25000">
                  <a:solidFill>
                    <a:srgbClr val="0099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9900"/>
                  </a:solidFill>
                  <a:latin typeface="Arial"/>
                </a:rPr>
                <a:t>,...,v</a:t>
              </a:r>
              <a:r>
                <a:rPr b="0" lang="en-US" sz="2400" spc="-1" strike="noStrike" baseline="-25000">
                  <a:solidFill>
                    <a:srgbClr val="0099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96080" y="2070000"/>
              <a:ext cx="75600" cy="76320"/>
            </a:xfrm>
            <a:prstGeom prst="ellipse">
              <a:avLst/>
            </a:prstGeom>
            <a:solidFill>
              <a:srgbClr val="0033cc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06080" y="2183400"/>
              <a:ext cx="37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33cc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423680" y="4343400"/>
            <a:ext cx="3860280" cy="1398240"/>
            <a:chOff x="4423680" y="4343400"/>
            <a:chExt cx="3860280" cy="1398240"/>
          </a:xfrm>
        </p:grpSpPr>
        <p:sp>
          <p:nvSpPr>
            <p:cNvPr id="125" name=""/>
            <p:cNvSpPr/>
            <p:nvPr/>
          </p:nvSpPr>
          <p:spPr>
            <a:xfrm>
              <a:off x="4610160" y="4724280"/>
              <a:ext cx="3429000" cy="88920"/>
            </a:xfrm>
            <a:custGeom>
              <a:avLst/>
              <a:gdLst/>
              <a:ahLst/>
              <a:rect l="l" t="t" r="r" b="b"/>
              <a:pathLst>
                <a:path w="2160" h="56">
                  <a:moveTo>
                    <a:pt x="0" y="0"/>
                  </a:moveTo>
                  <a:cubicBezTo>
                    <a:pt x="120" y="24"/>
                    <a:pt x="240" y="48"/>
                    <a:pt x="384" y="48"/>
                  </a:cubicBezTo>
                  <a:cubicBezTo>
                    <a:pt x="528" y="48"/>
                    <a:pt x="728" y="0"/>
                    <a:pt x="864" y="0"/>
                  </a:cubicBezTo>
                  <a:cubicBezTo>
                    <a:pt x="1000" y="0"/>
                    <a:pt x="1064" y="40"/>
                    <a:pt x="1200" y="48"/>
                  </a:cubicBezTo>
                  <a:cubicBezTo>
                    <a:pt x="1336" y="56"/>
                    <a:pt x="1568" y="56"/>
                    <a:pt x="1680" y="48"/>
                  </a:cubicBezTo>
                  <a:cubicBezTo>
                    <a:pt x="1792" y="40"/>
                    <a:pt x="1792" y="0"/>
                    <a:pt x="1872" y="0"/>
                  </a:cubicBezTo>
                  <a:cubicBezTo>
                    <a:pt x="1952" y="0"/>
                    <a:pt x="2112" y="40"/>
                    <a:pt x="2160" y="48"/>
                  </a:cubicBezTo>
                </a:path>
              </a:pathLst>
            </a:custGeom>
            <a:noFill/>
            <a:ln w="284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423680" y="4724280"/>
              <a:ext cx="372600" cy="559800"/>
              <a:chOff x="4423680" y="4724280"/>
              <a:chExt cx="372600" cy="559800"/>
            </a:xfrm>
          </p:grpSpPr>
          <p:sp>
            <p:nvSpPr>
              <p:cNvPr id="127" name=""/>
              <p:cNvSpPr/>
              <p:nvPr/>
            </p:nvSpPr>
            <p:spPr>
              <a:xfrm>
                <a:off x="4610160" y="4724280"/>
                <a:ext cx="76320" cy="75960"/>
              </a:xfrm>
              <a:prstGeom prst="ellipse">
                <a:avLst/>
              </a:prstGeom>
              <a:solidFill>
                <a:srgbClr val="0033cc"/>
              </a:solidFill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423680" y="4773960"/>
                <a:ext cx="372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Arial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33cc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143320" y="4343400"/>
              <a:ext cx="2628720" cy="761760"/>
              <a:chOff x="5143320" y="4343400"/>
              <a:chExt cx="2628720" cy="761760"/>
            </a:xfrm>
          </p:grpSpPr>
          <p:sp>
            <p:nvSpPr>
              <p:cNvPr id="130" name=""/>
              <p:cNvSpPr/>
              <p:nvPr/>
            </p:nvSpPr>
            <p:spPr>
              <a:xfrm>
                <a:off x="5219640" y="473688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05440" y="473688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438600" y="473688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972120" y="480060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391160" y="473688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143320" y="4343400"/>
                <a:ext cx="2628720" cy="76176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4795200" y="5231520"/>
              <a:ext cx="3090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vertices from v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,...,v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01000" y="4736880"/>
              <a:ext cx="76320" cy="76320"/>
            </a:xfrm>
            <a:prstGeom prst="ellipse">
              <a:avLst/>
            </a:prstGeom>
            <a:solidFill>
              <a:srgbClr val="0033cc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911360" y="4850280"/>
              <a:ext cx="37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33cc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37960" y="1794240"/>
            <a:ext cx="3643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ing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[i,j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47440" y="3475080"/>
            <a:ext cx="325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ase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t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58080" y="4541760"/>
            <a:ext cx="238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[i,j]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k-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[i,j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6DBE-6577-4338-9316-7B69EA6380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343400" y="3124080"/>
            <a:ext cx="838080" cy="1276560"/>
          </a:xfrm>
          <a:custGeom>
            <a:avLst/>
            <a:gdLst/>
            <a:ahLst/>
            <a:rect l="l" t="t" r="r" b="b"/>
            <a:pathLst>
              <a:path w="528" h="804">
                <a:moveTo>
                  <a:pt x="264" y="798"/>
                </a:moveTo>
                <a:cubicBezTo>
                  <a:pt x="237" y="757"/>
                  <a:pt x="264" y="804"/>
                  <a:pt x="246" y="720"/>
                </a:cubicBezTo>
                <a:cubicBezTo>
                  <a:pt x="244" y="711"/>
                  <a:pt x="234" y="696"/>
                  <a:pt x="234" y="696"/>
                </a:cubicBezTo>
                <a:lnTo>
                  <a:pt x="0" y="528"/>
                </a:lnTo>
                <a:lnTo>
                  <a:pt x="96" y="0"/>
                </a:lnTo>
                <a:lnTo>
                  <a:pt x="528" y="0"/>
                </a:lnTo>
                <a:lnTo>
                  <a:pt x="480" y="576"/>
                </a:lnTo>
                <a:lnTo>
                  <a:pt x="264" y="798"/>
                </a:lnTo>
                <a:close/>
              </a:path>
            </a:pathLst>
          </a:custGeom>
          <a:noFill/>
          <a:ln w="28440">
            <a:solidFill>
              <a:srgbClr val="ffcc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loyd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4" name=""/>
          <p:cNvSpPr/>
          <p:nvPr/>
        </p:nvSpPr>
        <p:spPr>
          <a:xfrm>
            <a:off x="1409760" y="4191120"/>
            <a:ext cx="6781680" cy="241200"/>
          </a:xfrm>
          <a:custGeom>
            <a:avLst/>
            <a:gdLst/>
            <a:ahLst/>
            <a:rect l="l" t="t" r="r" b="b"/>
            <a:pathLst>
              <a:path w="2544" h="152">
                <a:moveTo>
                  <a:pt x="0" y="96"/>
                </a:moveTo>
                <a:cubicBezTo>
                  <a:pt x="132" y="116"/>
                  <a:pt x="264" y="136"/>
                  <a:pt x="384" y="144"/>
                </a:cubicBezTo>
                <a:cubicBezTo>
                  <a:pt x="504" y="152"/>
                  <a:pt x="592" y="144"/>
                  <a:pt x="720" y="144"/>
                </a:cubicBezTo>
                <a:cubicBezTo>
                  <a:pt x="848" y="144"/>
                  <a:pt x="1032" y="152"/>
                  <a:pt x="1152" y="144"/>
                </a:cubicBezTo>
                <a:cubicBezTo>
                  <a:pt x="1272" y="136"/>
                  <a:pt x="1320" y="112"/>
                  <a:pt x="1440" y="96"/>
                </a:cubicBezTo>
                <a:cubicBezTo>
                  <a:pt x="1560" y="80"/>
                  <a:pt x="1688" y="64"/>
                  <a:pt x="1872" y="48"/>
                </a:cubicBezTo>
                <a:cubicBezTo>
                  <a:pt x="2056" y="32"/>
                  <a:pt x="2300" y="16"/>
                  <a:pt x="2544" y="0"/>
                </a:cubicBez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004960" y="4191120"/>
            <a:ext cx="372600" cy="559800"/>
            <a:chOff x="8004960" y="4191120"/>
            <a:chExt cx="372600" cy="559800"/>
          </a:xfrm>
        </p:grpSpPr>
        <p:sp>
          <p:nvSpPr>
            <p:cNvPr id="146" name=""/>
            <p:cNvSpPr/>
            <p:nvPr/>
          </p:nvSpPr>
          <p:spPr>
            <a:xfrm>
              <a:off x="8191440" y="4191120"/>
              <a:ext cx="76320" cy="75960"/>
            </a:xfrm>
            <a:prstGeom prst="ellipse">
              <a:avLst/>
            </a:prstGeom>
            <a:solidFill>
              <a:srgbClr val="0033cc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04960" y="4240800"/>
              <a:ext cx="37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33cc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594680" y="4469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429264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421632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421632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62920" y="4216320"/>
            <a:ext cx="7596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81960" y="4140360"/>
            <a:ext cx="7632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3898800"/>
            <a:ext cx="26287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90640" y="4698000"/>
            <a:ext cx="30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rtices from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...,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k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0600" y="1646280"/>
            <a:ext cx="2660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ase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2895480"/>
            <a:ext cx="1371600" cy="1320840"/>
          </a:xfrm>
          <a:prstGeom prst="ellipse">
            <a:avLst/>
          </a:prstGeom>
          <a:noFill/>
          <a:ln w="2844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83840" y="2259720"/>
            <a:ext cx="30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vertices from v</a:t>
            </a:r>
            <a:r>
              <a:rPr b="0" lang="en-US" sz="2400" spc="-1" strike="noStrike" baseline="-25000">
                <a:solidFill>
                  <a:srgbClr val="9966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,...,v</a:t>
            </a:r>
            <a:r>
              <a:rPr b="0" lang="en-US" sz="2400" spc="-1" strike="noStrike" baseline="-25000">
                <a:solidFill>
                  <a:srgbClr val="996633"/>
                </a:solidFill>
                <a:latin typeface="Arial"/>
              </a:rPr>
              <a:t>k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146960" y="4343400"/>
            <a:ext cx="372600" cy="559800"/>
            <a:chOff x="1146960" y="4343400"/>
            <a:chExt cx="372600" cy="559800"/>
          </a:xfrm>
        </p:grpSpPr>
        <p:sp>
          <p:nvSpPr>
            <p:cNvPr id="160" name=""/>
            <p:cNvSpPr/>
            <p:nvPr/>
          </p:nvSpPr>
          <p:spPr>
            <a:xfrm>
              <a:off x="1333440" y="4343400"/>
              <a:ext cx="76320" cy="75960"/>
            </a:xfrm>
            <a:prstGeom prst="ellipse">
              <a:avLst/>
            </a:prstGeom>
            <a:solidFill>
              <a:srgbClr val="0033cc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46960" y="4393080"/>
              <a:ext cx="37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33cc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866960" y="3962520"/>
            <a:ext cx="2628720" cy="761760"/>
            <a:chOff x="1866960" y="3962520"/>
            <a:chExt cx="2628720" cy="761760"/>
          </a:xfrm>
        </p:grpSpPr>
        <p:sp>
          <p:nvSpPr>
            <p:cNvPr id="163" name=""/>
            <p:cNvSpPr/>
            <p:nvPr/>
          </p:nvSpPr>
          <p:spPr>
            <a:xfrm>
              <a:off x="1943280" y="4356000"/>
              <a:ext cx="75960" cy="763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29080" y="4356000"/>
              <a:ext cx="75960" cy="763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62240" y="4356000"/>
              <a:ext cx="76320" cy="763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95760" y="4419720"/>
              <a:ext cx="76320" cy="759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4356000"/>
              <a:ext cx="76320" cy="763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66960" y="3962520"/>
              <a:ext cx="2628720" cy="7617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518480" y="4850640"/>
            <a:ext cx="30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rtices from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...,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k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43560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3822840"/>
            <a:ext cx="76320" cy="75960"/>
          </a:xfrm>
          <a:prstGeom prst="ellipse">
            <a:avLst/>
          </a:prstGeom>
          <a:solidFill>
            <a:srgbClr val="996633"/>
          </a:solidFill>
          <a:ln w="2844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3124080"/>
            <a:ext cx="76320" cy="76320"/>
          </a:xfrm>
          <a:prstGeom prst="ellipse">
            <a:avLst/>
          </a:prstGeom>
          <a:solidFill>
            <a:srgbClr val="996633"/>
          </a:solidFill>
          <a:ln w="2844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3124080"/>
            <a:ext cx="76320" cy="76320"/>
          </a:xfrm>
          <a:prstGeom prst="ellipse">
            <a:avLst/>
          </a:prstGeom>
          <a:solidFill>
            <a:srgbClr val="996633"/>
          </a:solidFill>
          <a:ln w="2844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3962520"/>
            <a:ext cx="75960" cy="75960"/>
          </a:xfrm>
          <a:prstGeom prst="ellipse">
            <a:avLst/>
          </a:prstGeom>
          <a:solidFill>
            <a:srgbClr val="996633"/>
          </a:solidFill>
          <a:ln w="2844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404E-04F5-4AA0-A9E3-B8583B387B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343400" y="3124080"/>
            <a:ext cx="838080" cy="1276560"/>
          </a:xfrm>
          <a:custGeom>
            <a:avLst/>
            <a:gdLst/>
            <a:ahLst/>
            <a:rect l="l" t="t" r="r" b="b"/>
            <a:pathLst>
              <a:path w="528" h="804">
                <a:moveTo>
                  <a:pt x="264" y="798"/>
                </a:moveTo>
                <a:cubicBezTo>
                  <a:pt x="237" y="757"/>
                  <a:pt x="264" y="804"/>
                  <a:pt x="246" y="720"/>
                </a:cubicBezTo>
                <a:cubicBezTo>
                  <a:pt x="244" y="711"/>
                  <a:pt x="234" y="696"/>
                  <a:pt x="234" y="696"/>
                </a:cubicBezTo>
                <a:lnTo>
                  <a:pt x="0" y="528"/>
                </a:lnTo>
                <a:lnTo>
                  <a:pt x="96" y="0"/>
                </a:lnTo>
                <a:lnTo>
                  <a:pt x="528" y="0"/>
                </a:lnTo>
                <a:lnTo>
                  <a:pt x="480" y="576"/>
                </a:lnTo>
                <a:lnTo>
                  <a:pt x="264" y="798"/>
                </a:lnTo>
                <a:close/>
              </a:path>
            </a:pathLst>
          </a:custGeom>
          <a:noFill/>
          <a:ln w="28440">
            <a:solidFill>
              <a:srgbClr val="ffcc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loyd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7" name=""/>
          <p:cNvSpPr/>
          <p:nvPr/>
        </p:nvSpPr>
        <p:spPr>
          <a:xfrm>
            <a:off x="1409760" y="4191120"/>
            <a:ext cx="6781680" cy="241200"/>
          </a:xfrm>
          <a:custGeom>
            <a:avLst/>
            <a:gdLst/>
            <a:ahLst/>
            <a:rect l="l" t="t" r="r" b="b"/>
            <a:pathLst>
              <a:path w="2544" h="152">
                <a:moveTo>
                  <a:pt x="0" y="96"/>
                </a:moveTo>
                <a:cubicBezTo>
                  <a:pt x="132" y="116"/>
                  <a:pt x="264" y="136"/>
                  <a:pt x="384" y="144"/>
                </a:cubicBezTo>
                <a:cubicBezTo>
                  <a:pt x="504" y="152"/>
                  <a:pt x="592" y="144"/>
                  <a:pt x="720" y="144"/>
                </a:cubicBezTo>
                <a:cubicBezTo>
                  <a:pt x="848" y="144"/>
                  <a:pt x="1032" y="152"/>
                  <a:pt x="1152" y="144"/>
                </a:cubicBezTo>
                <a:cubicBezTo>
                  <a:pt x="1272" y="136"/>
                  <a:pt x="1320" y="112"/>
                  <a:pt x="1440" y="96"/>
                </a:cubicBezTo>
                <a:cubicBezTo>
                  <a:pt x="1560" y="80"/>
                  <a:pt x="1688" y="64"/>
                  <a:pt x="1872" y="48"/>
                </a:cubicBezTo>
                <a:cubicBezTo>
                  <a:pt x="2056" y="32"/>
                  <a:pt x="2300" y="16"/>
                  <a:pt x="2544" y="0"/>
                </a:cubicBez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8004960" y="4191120"/>
            <a:ext cx="372600" cy="559800"/>
            <a:chOff x="8004960" y="4191120"/>
            <a:chExt cx="372600" cy="559800"/>
          </a:xfrm>
        </p:grpSpPr>
        <p:sp>
          <p:nvSpPr>
            <p:cNvPr id="179" name=""/>
            <p:cNvSpPr/>
            <p:nvPr/>
          </p:nvSpPr>
          <p:spPr>
            <a:xfrm>
              <a:off x="8191440" y="4191120"/>
              <a:ext cx="76320" cy="75960"/>
            </a:xfrm>
            <a:prstGeom prst="ellipse">
              <a:avLst/>
            </a:prstGeom>
            <a:solidFill>
              <a:srgbClr val="0033cc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004960" y="4240800"/>
              <a:ext cx="37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33cc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594680" y="4469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10080" y="429264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5880" y="421632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421632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62920" y="4216320"/>
            <a:ext cx="7596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81960" y="4140360"/>
            <a:ext cx="7632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4120" y="3898800"/>
            <a:ext cx="26287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90640" y="4698000"/>
            <a:ext cx="30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rtices from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...,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k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0600" y="1646280"/>
            <a:ext cx="2660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ase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2895480"/>
            <a:ext cx="1371600" cy="1320840"/>
          </a:xfrm>
          <a:prstGeom prst="ellipse">
            <a:avLst/>
          </a:prstGeom>
          <a:noFill/>
          <a:ln w="2844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83840" y="2259720"/>
            <a:ext cx="30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vertices from v</a:t>
            </a:r>
            <a:r>
              <a:rPr b="0" lang="en-US" sz="2400" spc="-1" strike="noStrike" baseline="-25000">
                <a:solidFill>
                  <a:srgbClr val="9966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,...,v</a:t>
            </a:r>
            <a:r>
              <a:rPr b="0" lang="en-US" sz="2400" spc="-1" strike="noStrike" baseline="-25000">
                <a:solidFill>
                  <a:srgbClr val="996633"/>
                </a:solidFill>
                <a:latin typeface="Arial"/>
              </a:rPr>
              <a:t>k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146960" y="4343400"/>
            <a:ext cx="372600" cy="559800"/>
            <a:chOff x="1146960" y="4343400"/>
            <a:chExt cx="372600" cy="559800"/>
          </a:xfrm>
        </p:grpSpPr>
        <p:sp>
          <p:nvSpPr>
            <p:cNvPr id="193" name=""/>
            <p:cNvSpPr/>
            <p:nvPr/>
          </p:nvSpPr>
          <p:spPr>
            <a:xfrm>
              <a:off x="1333440" y="4343400"/>
              <a:ext cx="76320" cy="75960"/>
            </a:xfrm>
            <a:prstGeom prst="ellipse">
              <a:avLst/>
            </a:prstGeom>
            <a:solidFill>
              <a:srgbClr val="0033cc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46960" y="4393080"/>
              <a:ext cx="37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33cc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866960" y="3962520"/>
            <a:ext cx="2628720" cy="761760"/>
            <a:chOff x="1866960" y="3962520"/>
            <a:chExt cx="2628720" cy="761760"/>
          </a:xfrm>
        </p:grpSpPr>
        <p:sp>
          <p:nvSpPr>
            <p:cNvPr id="196" name=""/>
            <p:cNvSpPr/>
            <p:nvPr/>
          </p:nvSpPr>
          <p:spPr>
            <a:xfrm>
              <a:off x="1943280" y="4356000"/>
              <a:ext cx="75960" cy="763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29080" y="4356000"/>
              <a:ext cx="75960" cy="763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62240" y="4356000"/>
              <a:ext cx="76320" cy="763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95760" y="4419720"/>
              <a:ext cx="76320" cy="759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14800" y="4356000"/>
              <a:ext cx="76320" cy="763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66960" y="3962520"/>
              <a:ext cx="2628720" cy="7617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18480" y="4850640"/>
            <a:ext cx="30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rtices from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...,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k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3560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43400" y="3822840"/>
            <a:ext cx="76320" cy="75960"/>
          </a:xfrm>
          <a:prstGeom prst="ellipse">
            <a:avLst/>
          </a:prstGeom>
          <a:solidFill>
            <a:srgbClr val="996633"/>
          </a:solidFill>
          <a:ln w="2844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3124080"/>
            <a:ext cx="76320" cy="76320"/>
          </a:xfrm>
          <a:prstGeom prst="ellipse">
            <a:avLst/>
          </a:prstGeom>
          <a:solidFill>
            <a:srgbClr val="996633"/>
          </a:solidFill>
          <a:ln w="2844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3124080"/>
            <a:ext cx="76320" cy="76320"/>
          </a:xfrm>
          <a:prstGeom prst="ellipse">
            <a:avLst/>
          </a:prstGeom>
          <a:solidFill>
            <a:srgbClr val="996633"/>
          </a:solidFill>
          <a:ln w="2844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3962520"/>
            <a:ext cx="75960" cy="75960"/>
          </a:xfrm>
          <a:prstGeom prst="ellipse">
            <a:avLst/>
          </a:prstGeom>
          <a:solidFill>
            <a:srgbClr val="996633"/>
          </a:solidFill>
          <a:ln w="2844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772080" y="2285640"/>
            <a:ext cx="2523960" cy="15368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3771720" y="2195280"/>
            <a:ext cx="1485720" cy="20206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43360" y="2589480"/>
            <a:ext cx="348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not on shortest pa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ince no negative cy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00F2-9F3C-45A3-A286-CE6370A325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loyd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2" name=""/>
          <p:cNvSpPr/>
          <p:nvPr/>
        </p:nvSpPr>
        <p:spPr>
          <a:xfrm>
            <a:off x="1409760" y="4191120"/>
            <a:ext cx="6781680" cy="241200"/>
          </a:xfrm>
          <a:custGeom>
            <a:avLst/>
            <a:gdLst/>
            <a:ahLst/>
            <a:rect l="l" t="t" r="r" b="b"/>
            <a:pathLst>
              <a:path w="2544" h="152">
                <a:moveTo>
                  <a:pt x="0" y="96"/>
                </a:moveTo>
                <a:cubicBezTo>
                  <a:pt x="132" y="116"/>
                  <a:pt x="264" y="136"/>
                  <a:pt x="384" y="144"/>
                </a:cubicBezTo>
                <a:cubicBezTo>
                  <a:pt x="504" y="152"/>
                  <a:pt x="592" y="144"/>
                  <a:pt x="720" y="144"/>
                </a:cubicBezTo>
                <a:cubicBezTo>
                  <a:pt x="848" y="144"/>
                  <a:pt x="1032" y="152"/>
                  <a:pt x="1152" y="144"/>
                </a:cubicBezTo>
                <a:cubicBezTo>
                  <a:pt x="1272" y="136"/>
                  <a:pt x="1320" y="112"/>
                  <a:pt x="1440" y="96"/>
                </a:cubicBezTo>
                <a:cubicBezTo>
                  <a:pt x="1560" y="80"/>
                  <a:pt x="1688" y="64"/>
                  <a:pt x="1872" y="48"/>
                </a:cubicBezTo>
                <a:cubicBezTo>
                  <a:pt x="2056" y="32"/>
                  <a:pt x="2300" y="16"/>
                  <a:pt x="2544" y="0"/>
                </a:cubicBez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8004960" y="4191120"/>
            <a:ext cx="372600" cy="559800"/>
            <a:chOff x="8004960" y="4191120"/>
            <a:chExt cx="372600" cy="559800"/>
          </a:xfrm>
        </p:grpSpPr>
        <p:sp>
          <p:nvSpPr>
            <p:cNvPr id="214" name=""/>
            <p:cNvSpPr/>
            <p:nvPr/>
          </p:nvSpPr>
          <p:spPr>
            <a:xfrm>
              <a:off x="8191440" y="4191120"/>
              <a:ext cx="76320" cy="75960"/>
            </a:xfrm>
            <a:prstGeom prst="ellipse">
              <a:avLst/>
            </a:prstGeom>
            <a:solidFill>
              <a:srgbClr val="0033cc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04960" y="4240800"/>
              <a:ext cx="37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33cc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594680" y="4469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429264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5880" y="421632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29400" y="421632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62920" y="4216320"/>
            <a:ext cx="7596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81960" y="4140360"/>
            <a:ext cx="7632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4120" y="3898800"/>
            <a:ext cx="26287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0640" y="4698000"/>
            <a:ext cx="30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rtices from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...,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k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0600" y="1646280"/>
            <a:ext cx="2660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ase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46960" y="4343400"/>
            <a:ext cx="372600" cy="559800"/>
            <a:chOff x="1146960" y="4343400"/>
            <a:chExt cx="372600" cy="559800"/>
          </a:xfrm>
        </p:grpSpPr>
        <p:sp>
          <p:nvSpPr>
            <p:cNvPr id="226" name=""/>
            <p:cNvSpPr/>
            <p:nvPr/>
          </p:nvSpPr>
          <p:spPr>
            <a:xfrm>
              <a:off x="1333440" y="4343400"/>
              <a:ext cx="76320" cy="75960"/>
            </a:xfrm>
            <a:prstGeom prst="ellipse">
              <a:avLst/>
            </a:prstGeom>
            <a:solidFill>
              <a:srgbClr val="0033cc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46960" y="4393080"/>
              <a:ext cx="37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33cc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866960" y="3962520"/>
            <a:ext cx="2628720" cy="761760"/>
            <a:chOff x="1866960" y="3962520"/>
            <a:chExt cx="2628720" cy="761760"/>
          </a:xfrm>
        </p:grpSpPr>
        <p:sp>
          <p:nvSpPr>
            <p:cNvPr id="229" name=""/>
            <p:cNvSpPr/>
            <p:nvPr/>
          </p:nvSpPr>
          <p:spPr>
            <a:xfrm>
              <a:off x="1943280" y="4356000"/>
              <a:ext cx="75960" cy="763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29080" y="4356000"/>
              <a:ext cx="75960" cy="763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62240" y="4356000"/>
              <a:ext cx="76320" cy="763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5760" y="4419720"/>
              <a:ext cx="76320" cy="759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14800" y="4356000"/>
              <a:ext cx="76320" cy="763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66960" y="3962520"/>
              <a:ext cx="2628720" cy="7617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518480" y="4850640"/>
            <a:ext cx="30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rtices from 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...,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k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4356000"/>
            <a:ext cx="76320" cy="7632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50600" y="2560680"/>
            <a:ext cx="4001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[i,j] = D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k-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[i,k] + D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k-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[k,j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2662-E579-4280-851F-B93EB9BDB7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loyd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yd(G)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 matrix of G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=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=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=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i,j]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{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i,j],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i,k]+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k,j]}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760" y="1522800"/>
            <a:ext cx="347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(n</a:t>
            </a:r>
            <a:r>
              <a:rPr b="0" lang="en-US" sz="2000" spc="-1" strike="noStrike" baseline="30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)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O(n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) storage by maintai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array for last two values of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1B19-7B42-4C9E-AD61-129AF67992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2-05T21:48:09Z</cp:lastPrinted>
  <dcterms:modified xsi:type="dcterms:W3CDTF">2001-02-05T21:48:13Z</dcterms:modified>
  <cp:revision>87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