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F3A-DB54-494E-9281-453E944C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1EC-8968-4F38-97EA-D974615C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1E41-F06F-44DD-A2F5-50044FB5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417-C63C-4D83-8E9A-ED7D672F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C3D-EAF3-4BFE-B6BD-3C6FC8C3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91CE-CC26-4197-B958-3144074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A005-4DEC-4971-B2E5-9CAEAE9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7A6-AA62-46F9-B073-BCA3AC04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A8D6-FCFD-4305-8A64-D62CA34A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0F1E-2427-4892-86A8-E2C5F877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EE2-27E0-4D89-9563-72B63592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B6B-7321-45AE-B87F-56603C4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7CF5-9042-4F22-8ED7-A43EC63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12A1-0221-44C2-94B1-07190FBC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AD4-65FD-4DB6-A1B7-4595EB5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730F-2511-4FB8-A79D-5A36CE36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1AFF-DE60-4AB3-9AB0-63B259AF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307-9DA0-48D6-904D-6EE47D9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37D-D70A-4DFA-9A31-7F005B58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D0E-6DEB-419E-B7BB-715382B4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9AD-E270-4625-B732-B22B18C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889-A286-4A9F-8C1A-4DAB0FD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9AC-AABD-4071-96C3-6B3BEF3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4FB-9D36-4E85-8DB6-D8D87B2E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273-554C-4594-B169-F8A0FD6913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E82-9AF4-4D68-8F9F-D567654C5B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D783-3CAA-4CDA-92AE-92E0492531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692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466-0B76-4BC6-9C2D-6AA564EBDC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6352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49F-C516-4DFE-9DD5-F677DD88A7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8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484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9ED-6E0F-46A9-90AA-C3E14A6DE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4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7144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9DA-25E9-4CA4-98DC-C24373B83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0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276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C73-407E-4E44-A912-B117A4198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793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D63-A803-452E-B7BB-4055021D8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0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06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9D7-6436-4954-A8C4-D2E51C58E4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1872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3F4-D859-4232-89F5-7A1E54BDC8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4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860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52F-4147-4CC8-AADC-C4CD345F9D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5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9520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862-C82D-4109-AD10-40DB1F0951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ingle-source shortest path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n (un)direc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ach edg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(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length of shortest path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vertex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 a (directed) cycle with negative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go around the cycle over and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ume first that there are no negative cost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253-ABCF-4262-9FD0-4BE450C5C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6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652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1C2-6109-4555-AAAE-02270B3547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7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0312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9AA-23C0-4668-B839-31535567AD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8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444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F1A-E566-4590-BC47-299D413993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59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1104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CE7-7764-48F1-A3F4-B955073EAD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10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2236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A44-725F-4204-AD54-79F813BF1C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189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177-1201-44C3-8485-28612752A8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1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302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B1B-408B-43C6-B644-C24815D95C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268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4FE-3FA1-47EA-9C5F-CFE012DC27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 Correctnes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4" name=""/>
          <p:cNvSpPr/>
          <p:nvPr/>
        </p:nvSpPr>
        <p:spPr>
          <a:xfrm>
            <a:off x="3200400" y="2895480"/>
            <a:ext cx="1981080" cy="312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36760" y="152244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ll distances to vertices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smallest current value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59160" y="4570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(u)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36200" y="5028120"/>
            <a:ext cx="27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x-u path length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17360" y="2284560"/>
            <a:ext cx="86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ance value of vertex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gth of shortest path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only last edge le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28600" y="2895480"/>
            <a:ext cx="2133720" cy="2971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6480" y="4495680"/>
            <a:ext cx="76320" cy="76320"/>
          </a:xfrm>
          <a:prstGeom prst="ellipse">
            <a:avLst/>
          </a:prstGeom>
          <a:solidFill>
            <a:srgbClr val="0033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71600" y="408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62520" y="50292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0033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2133720" y="5105160"/>
            <a:ext cx="182880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85800" y="4495680"/>
            <a:ext cx="1371600" cy="736560"/>
          </a:xfrm>
          <a:custGeom>
            <a:avLst/>
            <a:gdLst/>
            <a:ahLst/>
            <a:rect l="l" t="t" r="r" b="b"/>
            <a:pathLst>
              <a:path w="864" h="464">
                <a:moveTo>
                  <a:pt x="0" y="0"/>
                </a:moveTo>
                <a:cubicBezTo>
                  <a:pt x="16" y="56"/>
                  <a:pt x="32" y="112"/>
                  <a:pt x="96" y="144"/>
                </a:cubicBezTo>
                <a:cubicBezTo>
                  <a:pt x="160" y="176"/>
                  <a:pt x="272" y="144"/>
                  <a:pt x="384" y="192"/>
                </a:cubicBezTo>
                <a:cubicBezTo>
                  <a:pt x="496" y="240"/>
                  <a:pt x="688" y="400"/>
                  <a:pt x="768" y="432"/>
                </a:cubicBezTo>
                <a:cubicBezTo>
                  <a:pt x="848" y="464"/>
                  <a:pt x="856" y="424"/>
                  <a:pt x="864" y="384"/>
                </a:cubicBezTo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632040" y="3962520"/>
            <a:ext cx="470160" cy="1066680"/>
          </a:xfrm>
          <a:custGeom>
            <a:avLst/>
            <a:gdLst/>
            <a:ahLst/>
            <a:rect l="l" t="t" r="r" b="b"/>
            <a:pathLst>
              <a:path w="296" h="672">
                <a:moveTo>
                  <a:pt x="16" y="0"/>
                </a:moveTo>
                <a:cubicBezTo>
                  <a:pt x="88" y="48"/>
                  <a:pt x="160" y="96"/>
                  <a:pt x="160" y="144"/>
                </a:cubicBezTo>
                <a:cubicBezTo>
                  <a:pt x="160" y="192"/>
                  <a:pt x="0" y="232"/>
                  <a:pt x="16" y="288"/>
                </a:cubicBezTo>
                <a:cubicBezTo>
                  <a:pt x="32" y="344"/>
                  <a:pt x="216" y="416"/>
                  <a:pt x="256" y="480"/>
                </a:cubicBezTo>
                <a:cubicBezTo>
                  <a:pt x="296" y="544"/>
                  <a:pt x="276" y="608"/>
                  <a:pt x="256" y="672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3962520"/>
            <a:ext cx="2971800" cy="533160"/>
          </a:xfrm>
          <a:custGeom>
            <a:avLst/>
            <a:gdLst/>
            <a:ahLst/>
            <a:rect l="l" t="t" r="r" b="b"/>
            <a:pathLst>
              <a:path w="1872" h="336">
                <a:moveTo>
                  <a:pt x="0" y="336"/>
                </a:moveTo>
                <a:cubicBezTo>
                  <a:pt x="68" y="196"/>
                  <a:pt x="136" y="56"/>
                  <a:pt x="288" y="48"/>
                </a:cubicBezTo>
                <a:cubicBezTo>
                  <a:pt x="440" y="40"/>
                  <a:pt x="648" y="296"/>
                  <a:pt x="912" y="288"/>
                </a:cubicBezTo>
                <a:cubicBezTo>
                  <a:pt x="1176" y="280"/>
                  <a:pt x="1712" y="48"/>
                  <a:pt x="1872" y="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964320" y="5104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811680" y="358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3932280"/>
            <a:ext cx="7632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068480" y="327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9480" y="3274920"/>
            <a:ext cx="395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som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t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first ve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path not i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717160" y="5485320"/>
            <a:ext cx="31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ther path is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1960" y="6019200"/>
            <a:ext cx="77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fore ad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eeps correct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08C-B2CA-42B8-8C77-68C9B4AAD9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also produces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hortest paths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s ancestors in the tree back 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you care about is the shortest path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y stop the algorithm wh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dded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82E-D6D6-4ECC-8B09-4321E7987C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reedy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jkstra’s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set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ertices whose shortest path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={v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current best lengths of paths that only go through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ach of the vertice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-lengths to elements o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right, 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-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y might not b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dly add vertex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s the shortest path-length of any vertex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ath lengths based on new paths through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C19-6CB6-4DFB-A0F0-D9EAC2508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mplementing 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current distance values for nod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-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inimum current distan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istances when vertex move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s as priority queue version of Prim’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difference is rule for upda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value + edge-weight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ge-weight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run-times as Prim’s Algorith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m lo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5BF-A48A-4B2F-9964-FFCC5318C4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ive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rected acyclic graph (D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Outpu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mb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ertices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mbers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edges only go from lower number to higher numbered ver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repres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s represent precedence betwee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ical sort gives a sequential schedule for solving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C78-3309-48A5-844A-DAECD77A6F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rected Acyclic Grap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909-E93C-4771-9D90-B33B1D0970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using DFS (see b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simpler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vertex of in-degree 0 can  be given number 1 to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it from the graph and then give a vertex of in-degree 0 number 2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EB7-5904-4DAD-B5FB-70A8170647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DE7-60C0-4F01-BAA1-FD32C0C9F5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2FE-EBE2-487F-A88E-2E6BBA5599F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2BF-84A3-46CD-A5F6-78EE985D5A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743-1E44-400A-ABD5-008D880956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24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411-1A1F-4DA7-BC74-739D7D1FC8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6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54F-E055-4FC1-AC1F-5C38D2C9CD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24F-BBC7-46DB-A414-19C6F416AB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9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83D-42DC-4DFA-B8C6-3E762AFB9B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3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6D0-401D-40E9-A18B-CBB7C6AC14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6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53B-CCD0-4265-92CE-E03F99BDE3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BFC-CBE6-41D2-92D4-F82D45303A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40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EF0-9AB5-4F3F-BC02-5D56517C76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76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D21-38BA-4421-80C5-7CE135DBFF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12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9E8-08C2-43D9-9383-9B625E63F5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48" name=""/>
          <p:cNvSpPr/>
          <p:nvPr/>
        </p:nvSpPr>
        <p:spPr>
          <a:xfrm>
            <a:off x="44197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429000" y="23623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943600" y="25909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886200" y="5257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886200" y="42670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590920" y="3048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590920" y="419112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209680" y="5181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143000" y="56386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752480" y="6324480"/>
            <a:ext cx="38124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943600" y="358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7010280" y="3886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010280" y="48006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809520" y="1981080"/>
            <a:ext cx="68580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971800" y="2666880"/>
            <a:ext cx="457200" cy="381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743200" y="3429000"/>
            <a:ext cx="0" cy="762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2514240" y="4572000"/>
            <a:ext cx="1522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1523520" y="5486400"/>
            <a:ext cx="6858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447920" y="6019920"/>
            <a:ext cx="304560" cy="304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971800" y="3429000"/>
            <a:ext cx="990720" cy="8380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038480" y="4724280"/>
            <a:ext cx="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00600" y="1905120"/>
            <a:ext cx="11430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172200" y="3048120"/>
            <a:ext cx="0" cy="5331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324480" y="3809880"/>
            <a:ext cx="60984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162920" y="4343400"/>
            <a:ext cx="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6324120" y="2971800"/>
            <a:ext cx="838440" cy="914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1981080" y="5638320"/>
            <a:ext cx="381240" cy="685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371600" y="3429000"/>
            <a:ext cx="1219320" cy="2209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H="1" flipV="1">
            <a:off x="3809520" y="2666880"/>
            <a:ext cx="2133720" cy="152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4266720" y="2971800"/>
            <a:ext cx="1676520" cy="13716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2133720" y="5562720"/>
            <a:ext cx="1752480" cy="761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657600" y="2743200"/>
            <a:ext cx="380880" cy="14479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4266720" y="3962520"/>
            <a:ext cx="1676520" cy="1295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94360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172200" y="1981080"/>
            <a:ext cx="0" cy="6098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919-7D5E-44AA-848A-ADE387CE24A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mplementing Topological 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hrough all edges, computing in-degree for each vertex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queue (or stack) of vertices of           in-degre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ny vertex in queue and numbe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ertex is removed, decrease in-degree of each of its neighbors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dd them to the queue if their degree drops to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+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C9E-16F6-4BE7-8137-93537A0BD6C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1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16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303-7478-48C9-8590-547EA2F92F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108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90C-1BC1-4B14-951F-B0115EECA2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3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4768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8FD-8891-4BA1-85D7-BCCBBC7C2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4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9000" y="1723320"/>
            <a:ext cx="29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di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C19-3EE6-4F10-9047-2895E32FE5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jkstr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5" name=""/>
          <p:cNvSpPr/>
          <p:nvPr/>
        </p:nvSpPr>
        <p:spPr>
          <a:xfrm>
            <a:off x="3775320" y="172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8080" y="2426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65480" y="4339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83360" y="3506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16680" y="3287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3280" y="159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84800" y="2166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0" y="2815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20040" y="3183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99280" y="3926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90080" y="422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0320" y="3668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48080" y="469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86320" y="507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98960" y="5691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25880" y="595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17720" y="61128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58000" y="472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1535800">
            <a:off x="4357440" y="1600200"/>
            <a:ext cx="380880" cy="38088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1535800">
            <a:off x="3381120" y="237960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35800">
            <a:off x="5898960" y="256212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35800">
            <a:off x="3892320" y="526716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35800">
            <a:off x="3873240" y="42768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35800">
            <a:off x="2555640" y="3081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1535800">
            <a:off x="2576160" y="422424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1535800">
            <a:off x="2214360" y="522144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1535800">
            <a:off x="1155240" y="569916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1535800">
            <a:off x="1777680" y="637236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1535800">
            <a:off x="5917680" y="355284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1535800">
            <a:off x="6989400" y="3836880"/>
            <a:ext cx="380880" cy="381240"/>
          </a:xfrm>
          <a:prstGeom prst="ellipse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1535800">
            <a:off x="7007040" y="4751280"/>
            <a:ext cx="3808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759840" y="1982520"/>
            <a:ext cx="677160" cy="4701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932560" y="2688120"/>
            <a:ext cx="450000" cy="389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12240" y="3462480"/>
            <a:ext cx="14400" cy="761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514600" y="4606920"/>
            <a:ext cx="142200" cy="5364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532880" y="5529240"/>
            <a:ext cx="682920" cy="1652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64120" y="6076800"/>
            <a:ext cx="310320" cy="2988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40480" y="3458880"/>
            <a:ext cx="1006200" cy="819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31280" y="4734000"/>
            <a:ext cx="8640" cy="4572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41200" y="1901520"/>
            <a:ext cx="1156680" cy="7405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33680" y="3017880"/>
            <a:ext cx="10080" cy="53352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99280" y="3777840"/>
            <a:ext cx="612720" cy="1407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48160" y="4295880"/>
            <a:ext cx="7200" cy="380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6284160" y="2940120"/>
            <a:ext cx="855360" cy="898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03400" y="5679360"/>
            <a:ext cx="368280" cy="69300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380960" y="3465000"/>
            <a:ext cx="1178280" cy="223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3764160" y="2681640"/>
            <a:ext cx="2135880" cy="1126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52680" y="2946960"/>
            <a:ext cx="1650600" cy="1402560"/>
          </a:xfrm>
          <a:prstGeom prst="line">
            <a:avLst/>
          </a:prstGeom>
          <a:ln cap="rnd" w="381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156760" y="5574960"/>
            <a:ext cx="1738080" cy="79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55600" y="1723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E4A-43DB-495F-AB2A-9FFB2E370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2T19:15:47Z</cp:lastPrinted>
  <dcterms:modified xsi:type="dcterms:W3CDTF">2001-02-02T22:37:15Z</dcterms:modified>
  <cp:revision>80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