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6BA1-7FF6-4F22-A86C-20A36127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17D0-F354-4ED7-BFEF-5C894614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EA5-6201-4043-9FDF-48ADB277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E294-EFEC-40D7-91B9-A4EA80E5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2AD3-575B-4E02-B687-9D84BDC3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CDBC-825C-48CB-8F9C-8BB8065E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A5C0-0016-419C-BE90-168E15A7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AB34-0288-4290-AB55-91A1D0D1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57FE-4E6F-47D2-B4E3-F7650D41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5568-E215-4312-9EFF-CC647327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14DC-02E2-4CE1-BC30-FDDA495B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546A-B209-475C-9D40-3312926B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03F9-E4BC-473B-B23F-C4937BB6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0EBD-38CF-45CB-92FF-0350C499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2B6D-D938-4D12-AEF9-73420712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18BC-FCA6-42C1-89B9-541A3F4E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7FC3-C50D-46B1-AE9E-D636EE53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DE3-4A93-47D8-93C5-01B6027E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959-D5BA-4BCF-BE80-F0A3A049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F8D-7EB5-4DC5-A37A-8DE42BF8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2A55-AEA5-4163-84F5-E21107D3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F5F-6F3F-41A8-BC7A-1D7A0E5F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1E2-FAD9-4AED-87F1-8CFD5EB8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7354-2013-478B-B564-388D52FD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E459-A6E6-4C7C-AADB-6910357F27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035E-DCEA-42B9-BD74-4A0286C884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F892-9512-45BC-9A23-7D2DD97734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6920" y="172332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90B1-445D-48EA-BFD6-D70BF42195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7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16352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E709-777A-4812-844B-FC0D462616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8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4840" y="172332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AA1-FC96-496C-88EB-402A613104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49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17144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12F-2621-4172-AA14-43B53CCE1E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0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2760" y="172332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93B9-5F00-4404-8135-19502E7D47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7936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8A11-EDC4-4A87-9A2D-7C36D20A6B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02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0680" y="172332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6E1F-232E-4D28-9D72-73D4659AF7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3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18728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54D2-B934-4899-AFA3-18A41FD2A8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4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98600" y="172332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0CF-01F6-4669-9E82-5F62A882E9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5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19520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5C5A-BAC1-4038-9C2C-9615761340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ingle-source shortest path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n (un)directed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each edg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ing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(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 vertex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length of shortest paths fro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ach vertex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re is a (directed) cycle with negative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go around the cycle over and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sume first that there are no negative cost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73D7-20F3-4031-9E27-2EE5AA83E4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6520" y="172332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41B-D8E5-4C68-B373-0056CDE8C5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57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20312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F822-EAAD-48CD-891B-93A1FA6818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8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14440" y="172332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441-9460-4706-8DBC-2133E20FD9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59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21104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9F7A-5498-4EF4-ADC1-9BD27A94A5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10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22360" y="172332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D987-DFED-4494-9D66-435713A4D2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6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21896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5EF4-6BF1-42BD-8203-83317E01D1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12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30280" y="172332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20AB-EA78-4768-A005-0979934E8B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63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2688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D8D-B753-41C7-89B1-8C0BA01BF9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 Correctnes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14" name=""/>
          <p:cNvSpPr/>
          <p:nvPr/>
        </p:nvSpPr>
        <p:spPr>
          <a:xfrm>
            <a:off x="3200400" y="2895480"/>
            <a:ext cx="1981080" cy="3124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36760" y="1522440"/>
            <a:ext cx="67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all distances to vertices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smallest current value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059160" y="457092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(u)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d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36200" y="5028120"/>
            <a:ext cx="27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x-u path length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17360" y="2284560"/>
            <a:ext cx="869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tance value of vertex 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-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ngth of shortest path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th only last edge lea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28600" y="2895480"/>
            <a:ext cx="2133720" cy="2971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36480" y="4495680"/>
            <a:ext cx="76320" cy="76320"/>
          </a:xfrm>
          <a:prstGeom prst="ellipse">
            <a:avLst/>
          </a:prstGeom>
          <a:solidFill>
            <a:srgbClr val="0033cc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71600" y="408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962520" y="502920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057400" y="5105520"/>
            <a:ext cx="76320" cy="75960"/>
          </a:xfrm>
          <a:prstGeom prst="ellipse">
            <a:avLst/>
          </a:prstGeom>
          <a:solidFill>
            <a:srgbClr val="0033cc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2133720" y="5105160"/>
            <a:ext cx="182880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" y="4495680"/>
            <a:ext cx="1371600" cy="736560"/>
          </a:xfrm>
          <a:custGeom>
            <a:avLst/>
            <a:gdLst/>
            <a:ahLst/>
            <a:rect l="l" t="t" r="r" b="b"/>
            <a:pathLst>
              <a:path w="864" h="464">
                <a:moveTo>
                  <a:pt x="0" y="0"/>
                </a:moveTo>
                <a:cubicBezTo>
                  <a:pt x="16" y="56"/>
                  <a:pt x="32" y="112"/>
                  <a:pt x="96" y="144"/>
                </a:cubicBezTo>
                <a:cubicBezTo>
                  <a:pt x="160" y="176"/>
                  <a:pt x="272" y="144"/>
                  <a:pt x="384" y="192"/>
                </a:cubicBezTo>
                <a:cubicBezTo>
                  <a:pt x="496" y="240"/>
                  <a:pt x="688" y="400"/>
                  <a:pt x="768" y="432"/>
                </a:cubicBezTo>
                <a:cubicBezTo>
                  <a:pt x="848" y="464"/>
                  <a:pt x="856" y="424"/>
                  <a:pt x="864" y="384"/>
                </a:cubicBezTo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632040" y="3962520"/>
            <a:ext cx="470160" cy="1066680"/>
          </a:xfrm>
          <a:custGeom>
            <a:avLst/>
            <a:gdLst/>
            <a:ahLst/>
            <a:rect l="l" t="t" r="r" b="b"/>
            <a:pathLst>
              <a:path w="296" h="672">
                <a:moveTo>
                  <a:pt x="16" y="0"/>
                </a:moveTo>
                <a:cubicBezTo>
                  <a:pt x="88" y="48"/>
                  <a:pt x="160" y="96"/>
                  <a:pt x="160" y="144"/>
                </a:cubicBezTo>
                <a:cubicBezTo>
                  <a:pt x="160" y="192"/>
                  <a:pt x="0" y="232"/>
                  <a:pt x="16" y="288"/>
                </a:cubicBezTo>
                <a:cubicBezTo>
                  <a:pt x="32" y="344"/>
                  <a:pt x="216" y="416"/>
                  <a:pt x="256" y="480"/>
                </a:cubicBezTo>
                <a:cubicBezTo>
                  <a:pt x="296" y="544"/>
                  <a:pt x="276" y="608"/>
                  <a:pt x="256" y="67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85800" y="3962520"/>
            <a:ext cx="2971800" cy="533160"/>
          </a:xfrm>
          <a:custGeom>
            <a:avLst/>
            <a:gdLst/>
            <a:ahLst/>
            <a:rect l="l" t="t" r="r" b="b"/>
            <a:pathLst>
              <a:path w="1872" h="336">
                <a:moveTo>
                  <a:pt x="0" y="336"/>
                </a:moveTo>
                <a:cubicBezTo>
                  <a:pt x="68" y="196"/>
                  <a:pt x="136" y="56"/>
                  <a:pt x="288" y="48"/>
                </a:cubicBezTo>
                <a:cubicBezTo>
                  <a:pt x="440" y="40"/>
                  <a:pt x="648" y="296"/>
                  <a:pt x="912" y="288"/>
                </a:cubicBezTo>
                <a:cubicBezTo>
                  <a:pt x="1176" y="280"/>
                  <a:pt x="1712" y="48"/>
                  <a:pt x="1872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964320" y="5104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811680" y="358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657600" y="39322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068480" y="3276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109480" y="3274920"/>
            <a:ext cx="395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som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to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first vert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is path not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717160" y="5485320"/>
            <a:ext cx="31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ther path is l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81960" y="6019200"/>
            <a:ext cx="77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refore add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eeps correct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5D2-467C-4C86-BA48-DAA373E28A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also produces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shortest paths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 its ancestors in the tree back 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you care about is the shortest path fro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mply stop the algorithm whe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dded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6FDE-8559-43C0-A27F-3BE31F6AC1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 greedy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jkstra’s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a s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ertices whose shortest paths ar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={v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ing current best lengths of paths that only go through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ach of the vertices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-lengths to elements of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 right, to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-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y might not b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dly add vertex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has the shortest path-length of any vertex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path lengths based on new paths through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CEC7-4F82-4EDA-91A5-21A80616EB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Implementing 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current distance values for node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minimum current distanc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distances when vertex move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perations as priority queue version of Prim’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difference is rule for updating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value + edge-weight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v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ge-weight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run-times as Prim’s Algorithm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m lo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6FD-450A-482D-AD43-C7F64188D2E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Give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rected acyclic graph (DA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umbe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ertices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mbers fro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edges only go from lower number to higher numbered ver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represent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s represent precedence between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ological sort gives a sequential schedule for solving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32FA-5A42-4E31-8133-7E500C67DC2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rected Acyclic Graph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2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2223-D6BA-46BD-B6EE-70C9012F632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using DFS (see b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simpler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vertex of in-degree 0 can  be given number 1 to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it from the graph and then give a vertex of in-degree 0 number 2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5AA-F0A6-4814-A1E6-F3CCE9C100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80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91F4-3FEF-4937-8928-13C4E34EC94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16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B829-0789-4898-BFB9-72B4B420CC0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52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FDF2-70B0-48B4-ADE3-1A6E26C0C87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88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2F3-8546-48F2-846A-2FF34E6CFF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24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322-0FDB-416D-A516-A2800AEC6B7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60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E93-513A-4D16-BA15-6FBE79DC431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216B-4E9C-40DC-8C61-FDD0A5C46E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96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BE00-ECE8-427A-98F6-B25087535F3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32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004-8235-409B-83F2-2CC39B6E4FD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68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C33-D0F4-40BE-B744-0774E9DD39F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04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24F5-DB85-464E-8D13-EF5C9522E57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40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10D5-AECC-4136-900E-BB0E5F2A670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76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D7B8-8756-4834-BD81-DE6E31561C3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12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92E-5CBB-452D-A25F-219E59E043A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48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A37F-342D-4FAC-9608-2AAE3C0B88F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Implementing 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hrough all edges, computing in-degree for each vertex 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m+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a queue (or stack) of vertices of           in-degre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ny vertex in queue and number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vertex is removed, decrease in-degree of each of its neighbors b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dd them to the queue if their degree drops to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cos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m+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F952-8FD7-4BFF-B01A-628EB5EC762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816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93E-E783-48BC-B2B9-DDF998DE13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2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1080" y="172332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4A2D-CACD-4499-8539-967F2F0746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3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4768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5F1-5E80-404E-98F5-4ACC86AD9D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4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9000" y="172332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964-B2D2-42ED-B934-AFE5A73FBC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45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5560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E1D-52DA-49B6-B396-BC7B813024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2-02T19:15:47Z</cp:lastPrinted>
  <dcterms:modified xsi:type="dcterms:W3CDTF">2001-02-02T22:37:15Z</dcterms:modified>
  <cp:revision>80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