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939-62FF-4DDE-AFCA-1C1CB0CB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F20-661D-4159-8943-85534FC6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822-0A54-4646-B7B8-01483AAF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62B-287B-4022-81AD-9B9D3234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979-D410-4742-9ADF-4537F409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410B-DDCD-4374-824E-14E235A6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A14D-CF66-4AFE-B694-DF326D93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15F9-D292-487A-B4C5-D36DBDF6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092C-988E-43B7-B977-E6E1A83F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9670-9832-40F6-AEFE-B8A88EAD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9147-CC8D-468B-89FB-29BE2BF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80A-36DD-4FFF-8D9C-1B8FA22A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EACC-D3D4-42D0-9529-9CDF121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A52C-C19A-4BED-9F40-B968C44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6A7D-D59B-47EF-A0BE-D92F40B3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1078-C030-4792-8494-DED3DD6C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1992-3FC2-45F5-9492-132A6921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966-8E88-4CA1-92D3-E377198F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48C-C812-447E-8FAA-DB502129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450-170C-43A4-90C5-413AF372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01D-379D-4D5B-81CF-71AFEA70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6CD-3E75-49C3-BA32-EB52E767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D47-75DA-4A4D-8230-83C66CB1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869-D11D-462D-9E3E-6C93FCF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73D4-0F21-4182-80F9-7F43D4FA7C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F36B-EB09-4F01-9AD6-D5A3F62D3C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ABCE-8D2E-475C-8E4B-8F0CF31D5F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greedy algorithms always choose safe 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skal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chooses cheapest edge connected two pieces of the graph that aren’t yet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cheapest edge across any cut which has those two pieces on different sides and doesn’t split any current pie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86B-7D11-41DC-BF7F-44B1252EEB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447920"/>
            <a:ext cx="4724280" cy="5333760"/>
          </a:xfrm>
          <a:custGeom>
            <a:avLst/>
            <a:gdLst/>
            <a:ahLst/>
            <a:rect l="l" t="t" r="r" b="b"/>
            <a:pathLst>
              <a:path w="2976" h="3360">
                <a:moveTo>
                  <a:pt x="96" y="3360"/>
                </a:moveTo>
                <a:lnTo>
                  <a:pt x="1104" y="3312"/>
                </a:lnTo>
                <a:lnTo>
                  <a:pt x="1680" y="1344"/>
                </a:lnTo>
                <a:lnTo>
                  <a:pt x="2976" y="336"/>
                </a:lnTo>
                <a:lnTo>
                  <a:pt x="2448" y="0"/>
                </a:lnTo>
                <a:lnTo>
                  <a:pt x="816" y="816"/>
                </a:lnTo>
                <a:lnTo>
                  <a:pt x="0" y="3120"/>
                </a:lnTo>
                <a:lnTo>
                  <a:pt x="96" y="336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2133720"/>
            <a:ext cx="4419360" cy="3657600"/>
          </a:xfrm>
          <a:custGeom>
            <a:avLst/>
            <a:gdLst/>
            <a:ahLst/>
            <a:rect l="l" t="t" r="r" b="b"/>
            <a:pathLst>
              <a:path w="2784" h="2304">
                <a:moveTo>
                  <a:pt x="96" y="1440"/>
                </a:moveTo>
                <a:lnTo>
                  <a:pt x="1536" y="0"/>
                </a:lnTo>
                <a:lnTo>
                  <a:pt x="2784" y="864"/>
                </a:lnTo>
                <a:lnTo>
                  <a:pt x="2736" y="2064"/>
                </a:lnTo>
                <a:lnTo>
                  <a:pt x="288" y="2304"/>
                </a:lnTo>
                <a:lnTo>
                  <a:pt x="0" y="2016"/>
                </a:lnTo>
                <a:lnTo>
                  <a:pt x="96" y="144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7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4D4-693A-4EBF-B0BA-C383C3F317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2120" y="1523880"/>
            <a:ext cx="6858000" cy="5257800"/>
          </a:xfrm>
          <a:custGeom>
            <a:avLst/>
            <a:gdLst/>
            <a:ahLst/>
            <a:rect l="l" t="t" r="r" b="b"/>
            <a:pathLst>
              <a:path w="4320" h="3312">
                <a:moveTo>
                  <a:pt x="2352" y="2448"/>
                </a:moveTo>
                <a:lnTo>
                  <a:pt x="1440" y="1968"/>
                </a:lnTo>
                <a:lnTo>
                  <a:pt x="1632" y="1152"/>
                </a:lnTo>
                <a:lnTo>
                  <a:pt x="2448" y="816"/>
                </a:lnTo>
                <a:lnTo>
                  <a:pt x="3360" y="1008"/>
                </a:lnTo>
                <a:lnTo>
                  <a:pt x="3648" y="1152"/>
                </a:lnTo>
                <a:lnTo>
                  <a:pt x="3936" y="1728"/>
                </a:lnTo>
                <a:lnTo>
                  <a:pt x="4080" y="1776"/>
                </a:lnTo>
                <a:lnTo>
                  <a:pt x="4320" y="1632"/>
                </a:lnTo>
                <a:lnTo>
                  <a:pt x="3888" y="576"/>
                </a:lnTo>
                <a:lnTo>
                  <a:pt x="2784" y="0"/>
                </a:lnTo>
                <a:lnTo>
                  <a:pt x="2016" y="48"/>
                </a:lnTo>
                <a:lnTo>
                  <a:pt x="720" y="864"/>
                </a:lnTo>
                <a:lnTo>
                  <a:pt x="0" y="2688"/>
                </a:lnTo>
                <a:lnTo>
                  <a:pt x="288" y="3264"/>
                </a:lnTo>
                <a:lnTo>
                  <a:pt x="864" y="3312"/>
                </a:lnTo>
                <a:lnTo>
                  <a:pt x="2256" y="2784"/>
                </a:lnTo>
                <a:lnTo>
                  <a:pt x="2352" y="24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3200400"/>
            <a:ext cx="4114800" cy="2666880"/>
          </a:xfrm>
          <a:custGeom>
            <a:avLst/>
            <a:gdLst/>
            <a:ahLst/>
            <a:rect l="l" t="t" r="r" b="b"/>
            <a:pathLst>
              <a:path w="2592" h="1680">
                <a:moveTo>
                  <a:pt x="0" y="816"/>
                </a:moveTo>
                <a:lnTo>
                  <a:pt x="912" y="0"/>
                </a:lnTo>
                <a:lnTo>
                  <a:pt x="1872" y="96"/>
                </a:lnTo>
                <a:lnTo>
                  <a:pt x="2208" y="768"/>
                </a:lnTo>
                <a:lnTo>
                  <a:pt x="2592" y="912"/>
                </a:lnTo>
                <a:lnTo>
                  <a:pt x="2400" y="1680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9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9FD-014A-4C83-8CAB-E500716B0A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of of Lemm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895480"/>
            <a:ext cx="2133720" cy="297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2895480"/>
            <a:ext cx="1981080" cy="3124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5486400" y="3352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3352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952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48769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" y="167544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you have an MST not using cheapest edg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33920" y="4952880"/>
            <a:ext cx="1676160" cy="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2560" y="487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3352680"/>
            <a:ext cx="228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91120" y="453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8200" y="479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7120" y="2970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733920" y="3809880"/>
            <a:ext cx="1752480" cy="152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510080"/>
            <a:ext cx="1676160" cy="138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3809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43376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6483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05040" y="3429000"/>
            <a:ext cx="1028880" cy="1612800"/>
          </a:xfrm>
          <a:custGeom>
            <a:avLst/>
            <a:gdLst/>
            <a:ahLst/>
            <a:rect l="l" t="t" r="r" b="b"/>
            <a:pathLst>
              <a:path w="648" h="1016">
                <a:moveTo>
                  <a:pt x="648" y="912"/>
                </a:moveTo>
                <a:cubicBezTo>
                  <a:pt x="548" y="964"/>
                  <a:pt x="448" y="1016"/>
                  <a:pt x="360" y="1008"/>
                </a:cubicBezTo>
                <a:cubicBezTo>
                  <a:pt x="272" y="1000"/>
                  <a:pt x="176" y="944"/>
                  <a:pt x="120" y="864"/>
                </a:cubicBezTo>
                <a:cubicBezTo>
                  <a:pt x="64" y="784"/>
                  <a:pt x="0" y="672"/>
                  <a:pt x="24" y="528"/>
                </a:cubicBezTo>
                <a:cubicBezTo>
                  <a:pt x="48" y="384"/>
                  <a:pt x="156" y="192"/>
                  <a:pt x="264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3962520"/>
            <a:ext cx="7596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86400" y="341640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48" y="8"/>
                </a:moveTo>
                <a:cubicBezTo>
                  <a:pt x="128" y="4"/>
                  <a:pt x="208" y="0"/>
                  <a:pt x="240" y="8"/>
                </a:cubicBezTo>
                <a:cubicBezTo>
                  <a:pt x="272" y="16"/>
                  <a:pt x="248" y="40"/>
                  <a:pt x="240" y="56"/>
                </a:cubicBezTo>
                <a:cubicBezTo>
                  <a:pt x="232" y="72"/>
                  <a:pt x="216" y="72"/>
                  <a:pt x="192" y="104"/>
                </a:cubicBezTo>
                <a:cubicBezTo>
                  <a:pt x="168" y="136"/>
                  <a:pt x="128" y="224"/>
                  <a:pt x="96" y="248"/>
                </a:cubicBezTo>
                <a:cubicBezTo>
                  <a:pt x="64" y="272"/>
                  <a:pt x="16" y="248"/>
                  <a:pt x="0" y="2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4038480"/>
            <a:ext cx="241560" cy="457200"/>
          </a:xfrm>
          <a:custGeom>
            <a:avLst/>
            <a:gdLst/>
            <a:ahLst/>
            <a:rect l="l" t="t" r="r" b="b"/>
            <a:pathLst>
              <a:path w="152" h="288">
                <a:moveTo>
                  <a:pt x="152" y="288"/>
                </a:moveTo>
                <a:cubicBezTo>
                  <a:pt x="84" y="276"/>
                  <a:pt x="16" y="264"/>
                  <a:pt x="8" y="240"/>
                </a:cubicBezTo>
                <a:cubicBezTo>
                  <a:pt x="0" y="216"/>
                  <a:pt x="96" y="176"/>
                  <a:pt x="104" y="144"/>
                </a:cubicBezTo>
                <a:cubicBezTo>
                  <a:pt x="112" y="112"/>
                  <a:pt x="48" y="72"/>
                  <a:pt x="56" y="48"/>
                </a:cubicBezTo>
                <a:cubicBezTo>
                  <a:pt x="64" y="24"/>
                  <a:pt x="108" y="12"/>
                  <a:pt x="152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70400" y="4406760"/>
            <a:ext cx="1130400" cy="1536840"/>
          </a:xfrm>
          <a:custGeom>
            <a:avLst/>
            <a:gdLst/>
            <a:ahLst/>
            <a:rect l="l" t="t" r="r" b="b"/>
            <a:pathLst>
              <a:path w="712" h="968">
                <a:moveTo>
                  <a:pt x="136" y="152"/>
                </a:moveTo>
                <a:cubicBezTo>
                  <a:pt x="200" y="84"/>
                  <a:pt x="264" y="16"/>
                  <a:pt x="328" y="8"/>
                </a:cubicBezTo>
                <a:cubicBezTo>
                  <a:pt x="392" y="0"/>
                  <a:pt x="464" y="48"/>
                  <a:pt x="520" y="104"/>
                </a:cubicBezTo>
                <a:cubicBezTo>
                  <a:pt x="576" y="160"/>
                  <a:pt x="648" y="208"/>
                  <a:pt x="664" y="344"/>
                </a:cubicBezTo>
                <a:cubicBezTo>
                  <a:pt x="680" y="480"/>
                  <a:pt x="712" y="872"/>
                  <a:pt x="616" y="920"/>
                </a:cubicBezTo>
                <a:cubicBezTo>
                  <a:pt x="520" y="968"/>
                  <a:pt x="176" y="720"/>
                  <a:pt x="88" y="632"/>
                </a:cubicBezTo>
                <a:cubicBezTo>
                  <a:pt x="0" y="544"/>
                  <a:pt x="44" y="468"/>
                  <a:pt x="88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9760" y="380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6240" y="449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9880" y="243756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(e)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(f),w(g),w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50480" y="6201360"/>
            <a:ext cx="65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point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connected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89320" y="5562720"/>
            <a:ext cx="2273400" cy="15228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A64-5F0C-47EC-9D05-A5DDE85046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of of Lemm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8" name=""/>
          <p:cNvSpPr/>
          <p:nvPr/>
        </p:nvSpPr>
        <p:spPr>
          <a:xfrm>
            <a:off x="1828800" y="2895480"/>
            <a:ext cx="2133720" cy="297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2895480"/>
            <a:ext cx="1981080" cy="3124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5486400" y="3352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352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4952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48769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43200" y="1675440"/>
            <a:ext cx="65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ing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increase weight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33920" y="4952880"/>
            <a:ext cx="16761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92560" y="487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3352680"/>
            <a:ext cx="228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91120" y="453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88200" y="479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7120" y="2970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733920" y="3809880"/>
            <a:ext cx="1752480" cy="152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4510080"/>
            <a:ext cx="1676160" cy="1382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3809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33920" y="443376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0080" y="46483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05040" y="3429000"/>
            <a:ext cx="1028880" cy="1612800"/>
          </a:xfrm>
          <a:custGeom>
            <a:avLst/>
            <a:gdLst/>
            <a:ahLst/>
            <a:rect l="l" t="t" r="r" b="b"/>
            <a:pathLst>
              <a:path w="648" h="1016">
                <a:moveTo>
                  <a:pt x="648" y="912"/>
                </a:moveTo>
                <a:cubicBezTo>
                  <a:pt x="548" y="964"/>
                  <a:pt x="448" y="1016"/>
                  <a:pt x="360" y="1008"/>
                </a:cubicBezTo>
                <a:cubicBezTo>
                  <a:pt x="272" y="1000"/>
                  <a:pt x="176" y="944"/>
                  <a:pt x="120" y="864"/>
                </a:cubicBezTo>
                <a:cubicBezTo>
                  <a:pt x="64" y="784"/>
                  <a:pt x="0" y="672"/>
                  <a:pt x="24" y="528"/>
                </a:cubicBezTo>
                <a:cubicBezTo>
                  <a:pt x="48" y="384"/>
                  <a:pt x="156" y="192"/>
                  <a:pt x="264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3920" y="3962520"/>
            <a:ext cx="7596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341640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48" y="8"/>
                </a:moveTo>
                <a:cubicBezTo>
                  <a:pt x="128" y="4"/>
                  <a:pt x="208" y="0"/>
                  <a:pt x="240" y="8"/>
                </a:cubicBezTo>
                <a:cubicBezTo>
                  <a:pt x="272" y="16"/>
                  <a:pt x="248" y="40"/>
                  <a:pt x="240" y="56"/>
                </a:cubicBezTo>
                <a:cubicBezTo>
                  <a:pt x="232" y="72"/>
                  <a:pt x="216" y="72"/>
                  <a:pt x="192" y="104"/>
                </a:cubicBezTo>
                <a:cubicBezTo>
                  <a:pt x="168" y="136"/>
                  <a:pt x="128" y="224"/>
                  <a:pt x="96" y="248"/>
                </a:cubicBezTo>
                <a:cubicBezTo>
                  <a:pt x="64" y="272"/>
                  <a:pt x="16" y="248"/>
                  <a:pt x="0" y="2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92360" y="4038480"/>
            <a:ext cx="241560" cy="457200"/>
          </a:xfrm>
          <a:custGeom>
            <a:avLst/>
            <a:gdLst/>
            <a:ahLst/>
            <a:rect l="l" t="t" r="r" b="b"/>
            <a:pathLst>
              <a:path w="152" h="288">
                <a:moveTo>
                  <a:pt x="152" y="288"/>
                </a:moveTo>
                <a:cubicBezTo>
                  <a:pt x="84" y="276"/>
                  <a:pt x="16" y="264"/>
                  <a:pt x="8" y="240"/>
                </a:cubicBezTo>
                <a:cubicBezTo>
                  <a:pt x="0" y="216"/>
                  <a:pt x="96" y="176"/>
                  <a:pt x="104" y="144"/>
                </a:cubicBezTo>
                <a:cubicBezTo>
                  <a:pt x="112" y="112"/>
                  <a:pt x="48" y="72"/>
                  <a:pt x="56" y="48"/>
                </a:cubicBezTo>
                <a:cubicBezTo>
                  <a:pt x="64" y="24"/>
                  <a:pt x="108" y="12"/>
                  <a:pt x="152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70400" y="4406760"/>
            <a:ext cx="1130400" cy="1536840"/>
          </a:xfrm>
          <a:custGeom>
            <a:avLst/>
            <a:gdLst/>
            <a:ahLst/>
            <a:rect l="l" t="t" r="r" b="b"/>
            <a:pathLst>
              <a:path w="712" h="968">
                <a:moveTo>
                  <a:pt x="136" y="152"/>
                </a:moveTo>
                <a:cubicBezTo>
                  <a:pt x="200" y="84"/>
                  <a:pt x="264" y="16"/>
                  <a:pt x="328" y="8"/>
                </a:cubicBezTo>
                <a:cubicBezTo>
                  <a:pt x="392" y="0"/>
                  <a:pt x="464" y="48"/>
                  <a:pt x="520" y="104"/>
                </a:cubicBezTo>
                <a:cubicBezTo>
                  <a:pt x="576" y="160"/>
                  <a:pt x="648" y="208"/>
                  <a:pt x="664" y="344"/>
                </a:cubicBezTo>
                <a:cubicBezTo>
                  <a:pt x="680" y="480"/>
                  <a:pt x="712" y="872"/>
                  <a:pt x="616" y="920"/>
                </a:cubicBezTo>
                <a:cubicBezTo>
                  <a:pt x="520" y="968"/>
                  <a:pt x="176" y="720"/>
                  <a:pt x="88" y="632"/>
                </a:cubicBezTo>
                <a:cubicBezTo>
                  <a:pt x="0" y="544"/>
                  <a:pt x="44" y="468"/>
                  <a:pt x="88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9760" y="380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16240" y="449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59880" y="243756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(e)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(f),w(g),w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87040" y="6201360"/>
            <a:ext cx="69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same points are connected by the new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89320" y="5562720"/>
            <a:ext cx="2273400" cy="15228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04A-3CDD-4CF0-9986-AADBFC2C19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aive Prim’s Algorithm Implementation &amp;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the minimum weight edge at each stage.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m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tep new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tices in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n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57B-BEF8-403B-B231-A517B09F05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 Implementation &amp;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ort the edges by weigh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 log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hrough edges from smallest to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ndpoints of edg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urrently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dd to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sk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Union-find data structure handles last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otal cost of last par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n)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n)&lt;&lt; log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Overall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 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582-28EE-43AB-8A31-EBA87E3E99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ion-find disjoint sets data structur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ent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er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omponents of the two endpoints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two components when edge connecting them i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08A-B45E-473D-9B8C-588DF8DB2E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 with Priority Queu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in tree maintain current cheapest edge from tree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riority queue with key = weight of this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nser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ach vertex added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lete-m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ach vertex deleted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the vertex of smallest key, remove it from the p.q. and add its edge to th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crease-k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ach edge updates one vert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FFF-E3A5-4BC0-A907-2583E42795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 with Priority Queu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queue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lete-m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crease-ke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n+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m)=O(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, delete-min, decrease-key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m 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eap  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=m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, delete-min, decrease-key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log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m/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m log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m/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F3D-D2B8-4CFA-B0D0-11006F2D51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inimum Spanning Trees (Forests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 undirected graph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each edg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ing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inimum total weight s.t. every pair of vertices connected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lso connected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nected 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ree otherwise it is a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B68-3416-481B-84C9-0852B778BF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eighted Undirected Grap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16360" y="1596600"/>
            <a:ext cx="6652440" cy="5160240"/>
            <a:chOff x="1116360" y="1596600"/>
            <a:chExt cx="6652440" cy="5160240"/>
          </a:xfrm>
        </p:grpSpPr>
        <p:sp>
          <p:nvSpPr>
            <p:cNvPr id="90" name=""/>
            <p:cNvSpPr/>
            <p:nvPr/>
          </p:nvSpPr>
          <p:spPr>
            <a:xfrm>
              <a:off x="3775320" y="1723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48080" y="2426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06800" y="43394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83360" y="3506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6680" y="3287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83280" y="1599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84800" y="2166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39200" y="2815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0040" y="3183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3926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0080" y="4225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0320" y="3668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8080" y="4693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86320" y="5076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98960" y="5691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25880" y="5952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16360" y="6112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58000" y="4726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152000" y="1596600"/>
              <a:ext cx="6239520" cy="5160240"/>
              <a:chOff x="1152000" y="1596600"/>
              <a:chExt cx="6239520" cy="5160240"/>
            </a:xfrm>
          </p:grpSpPr>
          <p:sp>
            <p:nvSpPr>
              <p:cNvPr id="109" name=""/>
              <p:cNvSpPr/>
              <p:nvPr/>
            </p:nvSpPr>
            <p:spPr>
              <a:xfrm rot="21535800">
                <a:off x="4357080" y="1600200"/>
                <a:ext cx="38124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1535800">
                <a:off x="3380760" y="23799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1535800">
                <a:off x="5898600" y="256248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21535800">
                <a:off x="3891960" y="52675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1535800">
                <a:off x="3872880" y="42768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1535800">
                <a:off x="2555280" y="308160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1535800">
                <a:off x="2575800" y="42246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1535800">
                <a:off x="2214000" y="52214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1535800">
                <a:off x="1155240" y="569916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1535800">
                <a:off x="1777320" y="63723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1535800">
                <a:off x="5917680" y="355284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1535800">
                <a:off x="6989400" y="38372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535800">
                <a:off x="7006680" y="47516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759840" y="1982880"/>
                <a:ext cx="677160" cy="470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32200" y="2688120"/>
                <a:ext cx="450000" cy="389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11880" y="3462480"/>
                <a:ext cx="14400" cy="762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514600" y="4607280"/>
                <a:ext cx="142560" cy="536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532880" y="5529240"/>
                <a:ext cx="682920" cy="1652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63760" y="6076800"/>
                <a:ext cx="310680" cy="299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40120" y="3459240"/>
                <a:ext cx="1005840" cy="819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30920" y="4734000"/>
                <a:ext cx="8640" cy="4572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41200" y="1901520"/>
                <a:ext cx="1156680" cy="740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33680" y="3017880"/>
                <a:ext cx="10080" cy="533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99280" y="3777840"/>
                <a:ext cx="612360" cy="1407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47800" y="4295880"/>
                <a:ext cx="7200" cy="380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6284160" y="2940120"/>
                <a:ext cx="855360" cy="898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003400" y="5679360"/>
                <a:ext cx="367920" cy="693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1380960" y="3465720"/>
                <a:ext cx="1177920" cy="2232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3763800" y="2682000"/>
                <a:ext cx="2135880" cy="113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252680" y="2946960"/>
                <a:ext cx="1650600" cy="1402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156040" y="5574960"/>
                <a:ext cx="1738440" cy="794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8A4-C1A2-4428-80B2-291FFF1F6D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rst Greedy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’s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a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cheapest edge adjacent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ly add the cheapest edge that joins the vertices explored so far to the rest of th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76E-ADC4-4ECA-9F31-7F3E4E94B0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econd Greedy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skal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vertices and no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ly add the cheapest edge that joins two different components.  i.e. that doesn’t create a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25D-47C4-43A3-BECC-492BCAA9B0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y greed is goo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rtition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two non-empty pieces,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c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S,V-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 minimum spanning tree (or forest) containing an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eapest edge crossing the c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 connecting some node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some node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-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such an edg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B75-1C0A-411E-9D42-CDCAB0D0CB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2133720"/>
            <a:ext cx="6324840" cy="4647960"/>
          </a:xfrm>
          <a:custGeom>
            <a:avLst/>
            <a:gdLst/>
            <a:ahLst/>
            <a:rect l="l" t="t" r="r" b="b"/>
            <a:pathLst>
              <a:path w="3984" h="2928">
                <a:moveTo>
                  <a:pt x="0" y="2880"/>
                </a:moveTo>
                <a:lnTo>
                  <a:pt x="240" y="2928"/>
                </a:lnTo>
                <a:lnTo>
                  <a:pt x="576" y="2832"/>
                </a:lnTo>
                <a:lnTo>
                  <a:pt x="1728" y="2304"/>
                </a:lnTo>
                <a:lnTo>
                  <a:pt x="3792" y="1920"/>
                </a:lnTo>
                <a:lnTo>
                  <a:pt x="3984" y="1008"/>
                </a:lnTo>
                <a:lnTo>
                  <a:pt x="3120" y="0"/>
                </a:lnTo>
                <a:lnTo>
                  <a:pt x="1392" y="1392"/>
                </a:lnTo>
                <a:lnTo>
                  <a:pt x="720" y="1296"/>
                </a:lnTo>
                <a:lnTo>
                  <a:pt x="0" y="288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523880"/>
            <a:ext cx="4343400" cy="4648320"/>
          </a:xfrm>
          <a:custGeom>
            <a:avLst/>
            <a:gdLst/>
            <a:ahLst/>
            <a:rect l="l" t="t" r="r" b="b"/>
            <a:pathLst>
              <a:path w="2736" h="2928">
                <a:moveTo>
                  <a:pt x="0" y="2880"/>
                </a:moveTo>
                <a:lnTo>
                  <a:pt x="528" y="2928"/>
                </a:lnTo>
                <a:lnTo>
                  <a:pt x="1248" y="1488"/>
                </a:lnTo>
                <a:lnTo>
                  <a:pt x="2352" y="624"/>
                </a:lnTo>
                <a:lnTo>
                  <a:pt x="2736" y="48"/>
                </a:lnTo>
                <a:lnTo>
                  <a:pt x="2112" y="0"/>
                </a:lnTo>
                <a:lnTo>
                  <a:pt x="912" y="768"/>
                </a:lnTo>
                <a:lnTo>
                  <a:pt x="0" y="288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uts and Spanning Tre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9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644-C10B-468E-9AD7-EF738B2A1B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greedy algorithms always choose safe 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chooses cheapest edge from current tree to rest of th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heapest edge across a cut which has the vertices of that tree on one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0CD-8878-46ED-B28D-EC431DD9C4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38080" y="2819520"/>
            <a:ext cx="6858000" cy="3962160"/>
          </a:xfrm>
          <a:custGeom>
            <a:avLst/>
            <a:gdLst/>
            <a:ahLst/>
            <a:rect l="l" t="t" r="r" b="b"/>
            <a:pathLst>
              <a:path w="4320" h="2496">
                <a:moveTo>
                  <a:pt x="912" y="0"/>
                </a:moveTo>
                <a:lnTo>
                  <a:pt x="1344" y="144"/>
                </a:lnTo>
                <a:lnTo>
                  <a:pt x="1584" y="1488"/>
                </a:lnTo>
                <a:lnTo>
                  <a:pt x="3072" y="1536"/>
                </a:lnTo>
                <a:lnTo>
                  <a:pt x="4080" y="1152"/>
                </a:lnTo>
                <a:lnTo>
                  <a:pt x="4320" y="1584"/>
                </a:lnTo>
                <a:lnTo>
                  <a:pt x="720" y="2496"/>
                </a:lnTo>
                <a:lnTo>
                  <a:pt x="0" y="2352"/>
                </a:lnTo>
                <a:lnTo>
                  <a:pt x="144" y="1104"/>
                </a:lnTo>
                <a:lnTo>
                  <a:pt x="912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523880"/>
            <a:ext cx="4495680" cy="3276720"/>
          </a:xfrm>
          <a:custGeom>
            <a:avLst/>
            <a:gdLst/>
            <a:ahLst/>
            <a:rect l="l" t="t" r="r" b="b"/>
            <a:pathLst>
              <a:path w="2832" h="2064">
                <a:moveTo>
                  <a:pt x="0" y="480"/>
                </a:moveTo>
                <a:lnTo>
                  <a:pt x="384" y="2064"/>
                </a:lnTo>
                <a:lnTo>
                  <a:pt x="2832" y="1776"/>
                </a:lnTo>
                <a:lnTo>
                  <a:pt x="2208" y="48"/>
                </a:lnTo>
                <a:lnTo>
                  <a:pt x="432" y="0"/>
                </a:lnTo>
                <a:lnTo>
                  <a:pt x="0" y="48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3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373-BADA-48D2-B263-9A8F27F0A0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31T21:21:11Z</cp:lastPrinted>
  <dcterms:modified xsi:type="dcterms:W3CDTF">2001-01-31T21:21:23Z</dcterms:modified>
  <cp:revision>75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