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99B-7F6E-49BA-8ABF-66B58CFC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90C-3F22-46E7-803C-7E5A76B8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C13-D3E7-4A23-B7DF-848535C0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769-4630-4A8C-8DED-E6069ADE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10B6-9224-4CCE-BBDE-1B453693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A864-4A11-4C84-8265-5F848F96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E7C1-ED5F-4F2F-8F51-47313B9E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5FB4-3F9F-4220-ADF4-D489AC85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DF18-0343-437E-85DE-D1A92831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2705-2198-486B-8ED6-A52D1664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18F6-CE80-49D6-ADC8-6D4AAC89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23C-6E11-4C16-8477-15054136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1EEB-4A6F-4323-B25B-54099D24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2775-7AC7-4BB2-BEB7-194325B9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8D53-7F13-4777-B920-62C21CDC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81E-2E64-4C02-95B5-39CAA4B7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5EDC-0C81-4B8A-9896-2CE41993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14D-7C04-4F35-9333-474B97A7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B99-0227-4572-978C-EC7AD93C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2AE9-D7AA-44C9-9C82-B804A957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C07-8D5A-4866-AFBB-F7B05C21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3E6-7366-47D6-A95D-51F4B09E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BD3-C522-4BFF-B769-6724B5FD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DE1-12E5-427C-B0D1-CAD5647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92D3-7DE2-4B88-927B-6FCEDF5E7E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5B12-6B7A-431E-87C5-E020A332BC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A6E1-C4DE-406F-848D-A7CB059F8C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SCC is the first vertex in it visited by D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ly, the root is the vertex in the SCC with the smallest number in DFS or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81B-0375-412A-8A36-7E32FE7685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ubgoal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of an SCC are descendants of its roo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identify some ro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e root of the first SCC completely explored by DF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o exit from first SCC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rst SCC is leftmost “leaf” in collapsed D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2A0-6FD8-4656-A251-05C696D561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exit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 subtree)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a descendant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head of a (cross- or back-) edge from a descendant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clu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on-root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n 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2720" y="228600"/>
            <a:ext cx="1461960" cy="1306440"/>
            <a:chOff x="6462720" y="228600"/>
            <a:chExt cx="1461960" cy="1306440"/>
          </a:xfrm>
        </p:grpSpPr>
        <p:sp>
          <p:nvSpPr>
            <p:cNvPr id="212" name=""/>
            <p:cNvSpPr/>
            <p:nvPr/>
          </p:nvSpPr>
          <p:spPr>
            <a:xfrm>
              <a:off x="7086600" y="620640"/>
              <a:ext cx="838080" cy="914400"/>
            </a:xfrm>
            <a:custGeom>
              <a:avLst/>
              <a:gdLst/>
              <a:ahLst/>
              <a:rect l="l" t="t" r="r" b="b"/>
              <a:pathLst>
                <a:path w="528" h="576">
                  <a:moveTo>
                    <a:pt x="261" y="0"/>
                  </a:moveTo>
                  <a:lnTo>
                    <a:pt x="528" y="576"/>
                  </a:lnTo>
                  <a:lnTo>
                    <a:pt x="0" y="576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3320" y="911160"/>
              <a:ext cx="614160" cy="243000"/>
            </a:xfrm>
            <a:custGeom>
              <a:avLst/>
              <a:gdLst/>
              <a:ahLst/>
              <a:rect l="l" t="t" r="r" b="b"/>
              <a:pathLst>
                <a:path w="387" h="153">
                  <a:moveTo>
                    <a:pt x="387" y="153"/>
                  </a:move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443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1680" y="849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9400" y="228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62720" y="609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27800" y="4343400"/>
            <a:ext cx="1461960" cy="1458720"/>
            <a:chOff x="6427800" y="4343400"/>
            <a:chExt cx="1461960" cy="1458720"/>
          </a:xfrm>
        </p:grpSpPr>
        <p:sp>
          <p:nvSpPr>
            <p:cNvPr id="219" name=""/>
            <p:cNvSpPr/>
            <p:nvPr/>
          </p:nvSpPr>
          <p:spPr>
            <a:xfrm>
              <a:off x="7051680" y="4887720"/>
              <a:ext cx="838080" cy="914400"/>
            </a:xfrm>
            <a:custGeom>
              <a:avLst/>
              <a:gdLst/>
              <a:ahLst/>
              <a:rect l="l" t="t" r="r" b="b"/>
              <a:pathLst>
                <a:path w="528" h="576">
                  <a:moveTo>
                    <a:pt x="261" y="0"/>
                  </a:moveTo>
                  <a:lnTo>
                    <a:pt x="528" y="576"/>
                  </a:lnTo>
                  <a:lnTo>
                    <a:pt x="0" y="576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18400" y="5178240"/>
              <a:ext cx="614160" cy="243000"/>
            </a:xfrm>
            <a:custGeom>
              <a:avLst/>
              <a:gdLst/>
              <a:ahLst/>
              <a:rect l="l" t="t" r="r" b="b"/>
              <a:pathLst>
                <a:path w="387" h="153">
                  <a:moveTo>
                    <a:pt x="387" y="153"/>
                  </a:move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32560" y="48117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46760" y="51163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94480" y="4495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27800" y="48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99400" y="43434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35720" y="4419360"/>
              <a:ext cx="463680" cy="728640"/>
            </a:xfrm>
            <a:custGeom>
              <a:avLst/>
              <a:gdLst/>
              <a:ahLst/>
              <a:rect l="l" t="t" r="r" b="b"/>
              <a:pathLst>
                <a:path w="292" h="459">
                  <a:moveTo>
                    <a:pt x="292" y="0"/>
                  </a:moveTo>
                  <a:cubicBezTo>
                    <a:pt x="246" y="24"/>
                    <a:pt x="32" y="109"/>
                    <a:pt x="16" y="141"/>
                  </a:cubicBezTo>
                  <a:cubicBezTo>
                    <a:pt x="0" y="173"/>
                    <a:pt x="182" y="169"/>
                    <a:pt x="196" y="192"/>
                  </a:cubicBezTo>
                  <a:cubicBezTo>
                    <a:pt x="210" y="215"/>
                    <a:pt x="95" y="250"/>
                    <a:pt x="103" y="282"/>
                  </a:cubicBezTo>
                  <a:cubicBezTo>
                    <a:pt x="111" y="314"/>
                    <a:pt x="224" y="354"/>
                    <a:pt x="244" y="384"/>
                  </a:cubicBezTo>
                  <a:cubicBezTo>
                    <a:pt x="264" y="414"/>
                    <a:pt x="225" y="444"/>
                    <a:pt x="220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75360" y="4419360"/>
              <a:ext cx="466920" cy="376200"/>
            </a:xfrm>
            <a:custGeom>
              <a:avLst/>
              <a:gdLst/>
              <a:ahLst/>
              <a:rect l="l" t="t" r="r" b="b"/>
              <a:pathLst>
                <a:path w="294" h="237">
                  <a:moveTo>
                    <a:pt x="0" y="0"/>
                  </a:moveTo>
                  <a:cubicBezTo>
                    <a:pt x="16" y="24"/>
                    <a:pt x="56" y="118"/>
                    <a:pt x="96" y="141"/>
                  </a:cubicBezTo>
                  <a:cubicBezTo>
                    <a:pt x="136" y="164"/>
                    <a:pt x="209" y="120"/>
                    <a:pt x="242" y="136"/>
                  </a:cubicBezTo>
                  <a:cubicBezTo>
                    <a:pt x="275" y="152"/>
                    <a:pt x="283" y="216"/>
                    <a:pt x="294" y="2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26440" y="4914720"/>
              <a:ext cx="83880" cy="486000"/>
            </a:xfrm>
            <a:custGeom>
              <a:avLst/>
              <a:gdLst/>
              <a:ahLst/>
              <a:rect l="l" t="t" r="r" b="b"/>
              <a:pathLst>
                <a:path w="53" h="306">
                  <a:moveTo>
                    <a:pt x="25" y="0"/>
                  </a:moveTo>
                  <a:cubicBezTo>
                    <a:pt x="22" y="15"/>
                    <a:pt x="0" y="66"/>
                    <a:pt x="4" y="93"/>
                  </a:cubicBezTo>
                  <a:cubicBezTo>
                    <a:pt x="8" y="120"/>
                    <a:pt x="51" y="127"/>
                    <a:pt x="52" y="162"/>
                  </a:cubicBezTo>
                  <a:cubicBezTo>
                    <a:pt x="53" y="197"/>
                    <a:pt x="21" y="276"/>
                    <a:pt x="13" y="3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ACF-FAA1-4ACD-8D0C-E87B1EB39A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ding SCC’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ot nod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imes have ex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via a cross-edge to a nod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not in a component with a root abov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1A8-0CF0-455F-A13B-9280A209D9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629400" y="4572000"/>
            <a:ext cx="110952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819520"/>
            <a:ext cx="4419720" cy="4038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2362320"/>
            <a:ext cx="2590920" cy="1981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57560" y="2133720"/>
            <a:ext cx="1109520" cy="761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1371600"/>
            <a:ext cx="1109880" cy="7621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ongly-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600" y="2743200"/>
            <a:ext cx="380880" cy="1523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0A6-02AE-4739-A6A4-67F54E7538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inimum Spanning Trees (Forests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n undirected graph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each edg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ing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b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minimum total weight s.t. every pair of vertices connected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lso connected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nected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ree otherwise it is a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D01-196E-4B42-8F37-702179DA0E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eighted Undirected Grap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116360" y="1596600"/>
            <a:ext cx="6652440" cy="5160240"/>
            <a:chOff x="1116360" y="1596600"/>
            <a:chExt cx="6652440" cy="5160240"/>
          </a:xfrm>
        </p:grpSpPr>
        <p:sp>
          <p:nvSpPr>
            <p:cNvPr id="273" name=""/>
            <p:cNvSpPr/>
            <p:nvPr/>
          </p:nvSpPr>
          <p:spPr>
            <a:xfrm>
              <a:off x="3775320" y="1723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48080" y="2426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06800" y="4339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83360" y="3506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16680" y="3287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3280" y="1599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84800" y="2166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39200" y="2815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20040" y="3183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99280" y="392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90080" y="4225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40320" y="3668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48080" y="4693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86320" y="5076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98960" y="5691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25880" y="5952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16360" y="6112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58000" y="4726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152000" y="1596600"/>
              <a:ext cx="6239520" cy="5160240"/>
              <a:chOff x="1152000" y="1596600"/>
              <a:chExt cx="6239520" cy="5160240"/>
            </a:xfrm>
          </p:grpSpPr>
          <p:sp>
            <p:nvSpPr>
              <p:cNvPr id="292" name=""/>
              <p:cNvSpPr/>
              <p:nvPr/>
            </p:nvSpPr>
            <p:spPr>
              <a:xfrm rot="21535800">
                <a:off x="4357080" y="1600200"/>
                <a:ext cx="38124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535800">
                <a:off x="3380760" y="23799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535800">
                <a:off x="5898600" y="256248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535800">
                <a:off x="3891960" y="52675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1535800">
                <a:off x="3872880" y="42768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1535800">
                <a:off x="2555280" y="308160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535800">
                <a:off x="2575800" y="42246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1535800">
                <a:off x="2214000" y="52214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1535800">
                <a:off x="1155240" y="569916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1535800">
                <a:off x="1777320" y="63723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1535800">
                <a:off x="5917680" y="355284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1535800">
                <a:off x="6989400" y="38372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1535800">
                <a:off x="7006680" y="47516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759840" y="1982880"/>
                <a:ext cx="677160" cy="470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2932200" y="2688120"/>
                <a:ext cx="450000" cy="389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711880" y="3462480"/>
                <a:ext cx="14400" cy="762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2514600" y="4607280"/>
                <a:ext cx="142560" cy="536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1532880" y="5529240"/>
                <a:ext cx="682920" cy="1652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63760" y="6076800"/>
                <a:ext cx="310680" cy="299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40120" y="3459240"/>
                <a:ext cx="1005840" cy="819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30920" y="4734000"/>
                <a:ext cx="8640" cy="4572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41200" y="1901520"/>
                <a:ext cx="1156680" cy="740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133680" y="3017880"/>
                <a:ext cx="10080" cy="533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99280" y="3777840"/>
                <a:ext cx="612360" cy="1407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47800" y="4295880"/>
                <a:ext cx="7200" cy="380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6284160" y="2940120"/>
                <a:ext cx="855360" cy="898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003400" y="5679360"/>
                <a:ext cx="367920" cy="693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1380960" y="3465720"/>
                <a:ext cx="1177920" cy="2232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3763800" y="2682000"/>
                <a:ext cx="2135880" cy="113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4252680" y="2946960"/>
                <a:ext cx="1650600" cy="1402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156040" y="5574960"/>
                <a:ext cx="1738440" cy="794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F3C-55B5-4003-99E8-00BD136FFD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rst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’s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cheapest edge adjacent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add the cheapest edge that joins the vertices explored so far to the rest of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how it works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A4F-F486-4BA9-BB1C-01215E79E6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355-903D-4785-8B27-B1593EC26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601-E6EA-4F51-A3CF-89AC60506C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 for a directed grap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65C-A2D4-4756-A9C3-E1B5D62AE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0B3-D93D-4847-A16A-57114AC9B4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D52-9452-42A6-92E3-4A7307DD0F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CAB-63DF-4EB6-A9B7-C26B8697CB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DD0-658D-47FE-87FB-ABD3ED2BE8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EF1-93CD-44B8-BCF2-C0D90ED70F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03D-18DE-43B3-8879-7AE079F44D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64E-1EDF-4411-820D-2C0E6BD3FB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AC5-53F6-4963-82B9-D9C0F6D759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7F5-5918-4D03-B508-7923D46669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2DA-7F3C-4FF6-AE66-A337855E26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2743200"/>
            <a:ext cx="380880" cy="1523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080" y="190404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9800" y="3945600"/>
            <a:ext cx="14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ck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080" y="226908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forward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94360" y="6018840"/>
            <a:ext cx="183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ross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25600" y="5485320"/>
            <a:ext cx="2286720" cy="39888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996633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996633"/>
                </a:solidFill>
                <a:latin typeface="Arial"/>
              </a:rPr>
              <a:t> cross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41A-3E3D-45AC-8A2D-52B8400F7B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988520" y="54396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T weight =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0F1-85A4-4535-9B3E-81B3FC379E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econd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skal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vertices and no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dly add the cheapest edge that joins two different components.  i.e. that doesn’t create a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 we save the proof of correctness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41A-8182-49FD-878E-745844F831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116360" y="1596600"/>
            <a:ext cx="6652440" cy="5160240"/>
            <a:chOff x="1116360" y="1596600"/>
            <a:chExt cx="6652440" cy="5160240"/>
          </a:xfrm>
        </p:grpSpPr>
        <p:sp>
          <p:nvSpPr>
            <p:cNvPr id="980" name=""/>
            <p:cNvSpPr/>
            <p:nvPr/>
          </p:nvSpPr>
          <p:spPr>
            <a:xfrm>
              <a:off x="3775320" y="1723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48080" y="2426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06800" y="43394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83360" y="3506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16680" y="3287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83280" y="15994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84800" y="2166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39200" y="2815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20040" y="3183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299280" y="39268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90080" y="4225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740320" y="3668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48080" y="4693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86320" y="5076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298960" y="56919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125880" y="5952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16360" y="6112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58000" y="4726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1152000" y="1596600"/>
              <a:ext cx="6239520" cy="5160240"/>
              <a:chOff x="1152000" y="1596600"/>
              <a:chExt cx="6239520" cy="5160240"/>
            </a:xfrm>
          </p:grpSpPr>
          <p:sp>
            <p:nvSpPr>
              <p:cNvPr id="999" name=""/>
              <p:cNvSpPr/>
              <p:nvPr/>
            </p:nvSpPr>
            <p:spPr>
              <a:xfrm rot="21535800">
                <a:off x="4357080" y="1600200"/>
                <a:ext cx="38124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21535800">
                <a:off x="3380760" y="23799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21535800">
                <a:off x="5898600" y="256248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21535800">
                <a:off x="3891960" y="52675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21535800">
                <a:off x="3872880" y="42768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21535800">
                <a:off x="2555280" y="308160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21535800">
                <a:off x="2575800" y="422460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21535800">
                <a:off x="2214000" y="52214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21535800">
                <a:off x="1155240" y="569916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21535800">
                <a:off x="1777320" y="63723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1535800">
                <a:off x="5917680" y="3552840"/>
                <a:ext cx="380880" cy="3812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21535800">
                <a:off x="6989400" y="38372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21535800">
                <a:off x="7006680" y="47516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3759840" y="1982880"/>
                <a:ext cx="677160" cy="470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2932200" y="2688120"/>
                <a:ext cx="450000" cy="389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711880" y="3462480"/>
                <a:ext cx="14400" cy="7621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2514600" y="4607280"/>
                <a:ext cx="142560" cy="536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1532880" y="5529240"/>
                <a:ext cx="682920" cy="1652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63760" y="6076800"/>
                <a:ext cx="310680" cy="2991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940120" y="3459240"/>
                <a:ext cx="1005840" cy="8193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030920" y="4734000"/>
                <a:ext cx="8640" cy="4572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741200" y="1901520"/>
                <a:ext cx="1156680" cy="740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133680" y="3017880"/>
                <a:ext cx="10080" cy="533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299280" y="3777840"/>
                <a:ext cx="612360" cy="1407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47800" y="4295880"/>
                <a:ext cx="7200" cy="3808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 flipV="1">
                <a:off x="6284160" y="2940120"/>
                <a:ext cx="855360" cy="898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2003400" y="5679360"/>
                <a:ext cx="367920" cy="693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1380960" y="3465720"/>
                <a:ext cx="1177920" cy="2232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3763800" y="2682000"/>
                <a:ext cx="2135880" cy="11304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4252680" y="2946960"/>
                <a:ext cx="1650600" cy="140256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2156040" y="5574960"/>
                <a:ext cx="1738440" cy="79452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D71-99F8-4A74-97EE-019B2F6B67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A21-2AF0-4EE5-9EC9-EF524E81F9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CF9-3793-4095-98C9-ED437265294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19B-3C03-4464-B68A-9F01F9B3A9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CE7-183A-4210-97A7-F48955BCDF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E17-3795-4373-B301-8B0828F615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AC6-05CC-45F1-AD30-3175A39253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D8E-111D-4407-AC2D-BEE30E4F3C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ongly-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irected graph if there is a path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might not be one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trongly connected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f there is a path in both directions (i.e. a directed cycle containing both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graph into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C7D-52B1-4F2C-BD49-EA603F10C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50A-6D48-4281-AECA-E5158A1499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2CE-F939-4A05-BDCF-3A2F422A5B2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0C9-1E16-40D8-ACF2-ADA944D411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BC9-E2BB-4830-B479-A449CA086B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F30-EC49-4F08-81A9-2D46FFF56A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3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A46-8E7C-4FAB-8C74-0712131C0BE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ruskal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8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306800" y="4339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116360" y="6112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816440" y="5378040"/>
            <a:ext cx="390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same tree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’s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534-568C-4C66-B74D-23E6F7C8AB3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629400" y="4572000"/>
            <a:ext cx="110952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819520"/>
            <a:ext cx="4419720" cy="4038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2362320"/>
            <a:ext cx="2590920" cy="19810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57560" y="2133720"/>
            <a:ext cx="1109520" cy="761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1371600"/>
            <a:ext cx="1109880" cy="7621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ongly-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2743200"/>
            <a:ext cx="380880" cy="1523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72F-1DF1-42B6-86EC-5DF9EE770A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ses for SCC’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ing compilers need to find loops, which are SCC’s in the program flow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u,v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proces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waiting for proces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CC’s  show dead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071-41FD-4C2F-B43A-3576967D72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rected Acyclic Grap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collapse each SCC to a single vertex we get a directed graph with no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irected acyclic grap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blems on directed graphs can be solved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SCC’s and resulting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one computation on each S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nother computation on the overall DA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D2E-0230-4591-AD4D-BFC861FDF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imple SCC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,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ame SCC iff there a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S from every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,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m) = O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24B-779C-4CAE-AF01-9FB763D39C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etter metho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pute all the SCC’s while doing a single DFS!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+m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on’t do the full algorithm but will give som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26A-DD58-4495-BE20-9BB9E5B019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29T19:22:50Z</cp:lastPrinted>
  <dcterms:modified xsi:type="dcterms:W3CDTF">2001-01-30T23:17:43Z</dcterms:modified>
  <cp:revision>67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