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636-D4E8-4561-BAFE-7A7B4F4E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B2A-ED12-46FD-A61D-BF93494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E21-73A3-45D6-AA86-4CFAB6E2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ED5-5A13-40D9-9CB6-B67DE76E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2638-0B48-45FE-ABA8-56C6D20F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DF4-CB03-4AB7-9AEC-D9E9CE6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B5F4-EBED-4E29-8C62-C826A80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A1FC-C771-4485-93B2-23501347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C58-62AA-4F69-83C1-5EB1FC94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61A-3DE8-4F13-8DC0-5FFA0A34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304B-7EEB-4624-9048-97F76EC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03E-309D-4777-85B7-2B1A0064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2C68-F8C6-4DF9-A594-42F0BA6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0EE5-613E-403B-9788-9B2D442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3E7-BC05-4859-89AE-C402FD8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66CE-6821-4E0C-B03A-6132F97D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0FA-FE81-4CE3-AECA-B315DD25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326-FA5A-478F-83DB-F55CF1DA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7B8-645A-4953-B5A1-27A0035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79B-199D-4B8C-B68D-2969F5DB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21E-4501-4FAF-B80A-B16DF97A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7CC-1C6D-4479-AD3B-95E5B65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D48-9950-4F3F-8921-86351E6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076-DA25-4AC7-8E43-E3AED08B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DE2-3C7F-4DD4-824B-66B80B57AA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7239-974E-4A3D-B3E8-ED065A03F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CD66-0C43-4648-AED9-08D2E8C6F3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SCC is the first vertex in it visited by D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ly, the root is the vertex in the SCC with the smallest number in DFS or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EFE-9112-4687-8118-57DA388B67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ubgoa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of an SCC are descendants of its roo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identify some r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e root of the first SCC completely explored by D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o exit from first SCC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SCC is leftmost “leaf” in collapsed D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425-B12E-4A6F-B1D6-A903F2C011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exit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subtree)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descendant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ead of a (cross- or back-) edge from a descendant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clu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on-root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n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2720" y="228600"/>
            <a:ext cx="1461960" cy="1306440"/>
            <a:chOff x="6462720" y="228600"/>
            <a:chExt cx="1461960" cy="1306440"/>
          </a:xfrm>
        </p:grpSpPr>
        <p:sp>
          <p:nvSpPr>
            <p:cNvPr id="212" name=""/>
            <p:cNvSpPr/>
            <p:nvPr/>
          </p:nvSpPr>
          <p:spPr>
            <a:xfrm>
              <a:off x="7086600" y="620640"/>
              <a:ext cx="838080" cy="914400"/>
            </a:xfrm>
            <a:custGeom>
              <a:avLst/>
              <a:gdLst/>
              <a:ahLst/>
              <a:rect l="l" t="t" r="r" b="b"/>
              <a:pathLst>
                <a:path w="528" h="576">
                  <a:moveTo>
                    <a:pt x="261" y="0"/>
                  </a:moveTo>
                  <a:lnTo>
                    <a:pt x="528" y="576"/>
                  </a:lnTo>
                  <a:lnTo>
                    <a:pt x="0" y="576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3320" y="911160"/>
              <a:ext cx="614160" cy="243000"/>
            </a:xfrm>
            <a:custGeom>
              <a:avLst/>
              <a:gdLst/>
              <a:ahLst/>
              <a:rect l="l" t="t" r="r" b="b"/>
              <a:pathLst>
                <a:path w="387" h="153">
                  <a:moveTo>
                    <a:pt x="387" y="153"/>
                  </a:move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4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1680" y="849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9400" y="228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6272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27800" y="4343400"/>
            <a:ext cx="1461960" cy="1458720"/>
            <a:chOff x="6427800" y="4343400"/>
            <a:chExt cx="1461960" cy="1458720"/>
          </a:xfrm>
        </p:grpSpPr>
        <p:sp>
          <p:nvSpPr>
            <p:cNvPr id="219" name=""/>
            <p:cNvSpPr/>
            <p:nvPr/>
          </p:nvSpPr>
          <p:spPr>
            <a:xfrm>
              <a:off x="7051680" y="4887720"/>
              <a:ext cx="838080" cy="914400"/>
            </a:xfrm>
            <a:custGeom>
              <a:avLst/>
              <a:gdLst/>
              <a:ahLst/>
              <a:rect l="l" t="t" r="r" b="b"/>
              <a:pathLst>
                <a:path w="528" h="576">
                  <a:moveTo>
                    <a:pt x="261" y="0"/>
                  </a:moveTo>
                  <a:lnTo>
                    <a:pt x="528" y="576"/>
                  </a:lnTo>
                  <a:lnTo>
                    <a:pt x="0" y="576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8400" y="5178240"/>
              <a:ext cx="614160" cy="243000"/>
            </a:xfrm>
            <a:custGeom>
              <a:avLst/>
              <a:gdLst/>
              <a:ahLst/>
              <a:rect l="l" t="t" r="r" b="b"/>
              <a:pathLst>
                <a:path w="387" h="153">
                  <a:moveTo>
                    <a:pt x="387" y="153"/>
                  </a:move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32560" y="4811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6760" y="5116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4480" y="44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27800" y="48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9940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35720" y="4419360"/>
              <a:ext cx="463680" cy="728640"/>
            </a:xfrm>
            <a:custGeom>
              <a:avLst/>
              <a:gdLst/>
              <a:ahLst/>
              <a:rect l="l" t="t" r="r" b="b"/>
              <a:pathLst>
                <a:path w="292" h="459">
                  <a:moveTo>
                    <a:pt x="292" y="0"/>
                  </a:moveTo>
                  <a:cubicBezTo>
                    <a:pt x="246" y="24"/>
                    <a:pt x="32" y="109"/>
                    <a:pt x="16" y="141"/>
                  </a:cubicBezTo>
                  <a:cubicBezTo>
                    <a:pt x="0" y="173"/>
                    <a:pt x="182" y="169"/>
                    <a:pt x="196" y="192"/>
                  </a:cubicBezTo>
                  <a:cubicBezTo>
                    <a:pt x="210" y="215"/>
                    <a:pt x="95" y="250"/>
                    <a:pt x="103" y="282"/>
                  </a:cubicBezTo>
                  <a:cubicBezTo>
                    <a:pt x="111" y="314"/>
                    <a:pt x="224" y="354"/>
                    <a:pt x="244" y="384"/>
                  </a:cubicBezTo>
                  <a:cubicBezTo>
                    <a:pt x="264" y="414"/>
                    <a:pt x="225" y="444"/>
                    <a:pt x="220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75360" y="4419360"/>
              <a:ext cx="466920" cy="376200"/>
            </a:xfrm>
            <a:custGeom>
              <a:avLst/>
              <a:gdLst/>
              <a:ahLst/>
              <a:rect l="l" t="t" r="r" b="b"/>
              <a:pathLst>
                <a:path w="294" h="237">
                  <a:moveTo>
                    <a:pt x="0" y="0"/>
                  </a:moveTo>
                  <a:cubicBezTo>
                    <a:pt x="16" y="24"/>
                    <a:pt x="56" y="118"/>
                    <a:pt x="96" y="141"/>
                  </a:cubicBezTo>
                  <a:cubicBezTo>
                    <a:pt x="136" y="164"/>
                    <a:pt x="209" y="120"/>
                    <a:pt x="242" y="136"/>
                  </a:cubicBezTo>
                  <a:cubicBezTo>
                    <a:pt x="275" y="152"/>
                    <a:pt x="283" y="216"/>
                    <a:pt x="294" y="2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26440" y="4914720"/>
              <a:ext cx="83880" cy="486000"/>
            </a:xfrm>
            <a:custGeom>
              <a:avLst/>
              <a:gdLst/>
              <a:ahLst/>
              <a:rect l="l" t="t" r="r" b="b"/>
              <a:pathLst>
                <a:path w="53" h="306">
                  <a:moveTo>
                    <a:pt x="25" y="0"/>
                  </a:moveTo>
                  <a:cubicBezTo>
                    <a:pt x="22" y="15"/>
                    <a:pt x="0" y="66"/>
                    <a:pt x="4" y="93"/>
                  </a:cubicBezTo>
                  <a:cubicBezTo>
                    <a:pt x="8" y="120"/>
                    <a:pt x="51" y="127"/>
                    <a:pt x="52" y="162"/>
                  </a:cubicBezTo>
                  <a:cubicBezTo>
                    <a:pt x="53" y="197"/>
                    <a:pt x="21" y="276"/>
                    <a:pt x="13" y="3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CFC-CCF3-4A2B-90FE-4A313DEEF2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ding SCC’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ot nod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imes have ex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via a cross-edge to a nod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not in a component with a root abo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0F8-DABC-4B7E-B77C-BDBD42095E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629400" y="4572000"/>
            <a:ext cx="110952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819520"/>
            <a:ext cx="4419720" cy="4038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2362320"/>
            <a:ext cx="2590920" cy="1981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57560" y="2133720"/>
            <a:ext cx="110952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1371600"/>
            <a:ext cx="1109880" cy="76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ongly-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2743200"/>
            <a:ext cx="380880" cy="1523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16F-93F3-457C-A87A-53FCD3135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inimum Spanning Trees (Forests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each edg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inimum total weight s.t. every pair of vertices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lso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nected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ree otherwise it is a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2AF-1723-4CBF-9D4B-6A6449FAE2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eighted Undirected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16360" y="1596600"/>
            <a:ext cx="6652440" cy="5160240"/>
            <a:chOff x="1116360" y="1596600"/>
            <a:chExt cx="6652440" cy="5160240"/>
          </a:xfrm>
        </p:grpSpPr>
        <p:sp>
          <p:nvSpPr>
            <p:cNvPr id="273" name=""/>
            <p:cNvSpPr/>
            <p:nvPr/>
          </p:nvSpPr>
          <p:spPr>
            <a:xfrm>
              <a:off x="3775320" y="1723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48080" y="2426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06800" y="4339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83360" y="3506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16680" y="328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328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84800" y="216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39200" y="281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004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99280" y="392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90080" y="422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0320" y="366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48080" y="469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86320" y="5076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98960" y="569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25880" y="595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16360" y="611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8000" y="472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152000" y="1596600"/>
              <a:ext cx="6239520" cy="5160240"/>
              <a:chOff x="1152000" y="1596600"/>
              <a:chExt cx="6239520" cy="5160240"/>
            </a:xfrm>
          </p:grpSpPr>
          <p:sp>
            <p:nvSpPr>
              <p:cNvPr id="292" name=""/>
              <p:cNvSpPr/>
              <p:nvPr/>
            </p:nvSpPr>
            <p:spPr>
              <a:xfrm rot="21535800">
                <a:off x="4357080" y="1600200"/>
                <a:ext cx="3812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535800">
                <a:off x="3380760" y="2379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535800">
                <a:off x="5898600" y="256248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535800">
                <a:off x="3891960" y="52675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535800">
                <a:off x="3872880" y="42768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535800">
                <a:off x="2555280" y="308160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535800">
                <a:off x="2575800" y="42246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1535800">
                <a:off x="2214000" y="5221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1535800">
                <a:off x="1155240" y="569916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1535800">
                <a:off x="1777320" y="63723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1535800">
                <a:off x="5917680" y="355284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1535800">
                <a:off x="6989400" y="38372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535800">
                <a:off x="7006680" y="47516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759840" y="1982880"/>
                <a:ext cx="677160" cy="47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2932200" y="2688120"/>
                <a:ext cx="450000" cy="389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711880" y="3462480"/>
                <a:ext cx="1440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2514600" y="4607280"/>
                <a:ext cx="142560" cy="536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1532880" y="5529240"/>
                <a:ext cx="682920" cy="16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63760" y="6076800"/>
                <a:ext cx="310680" cy="299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40120" y="3459240"/>
                <a:ext cx="1005840" cy="819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30920" y="4734000"/>
                <a:ext cx="8640" cy="457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41200" y="1901520"/>
                <a:ext cx="1156680" cy="740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33680" y="3017880"/>
                <a:ext cx="10080" cy="533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99280" y="3777840"/>
                <a:ext cx="612360" cy="140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47800" y="4295880"/>
                <a:ext cx="7200" cy="380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6284160" y="2940120"/>
                <a:ext cx="855360" cy="898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003400" y="5679360"/>
                <a:ext cx="367920" cy="69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1380960" y="3465720"/>
                <a:ext cx="117792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3763800" y="2682000"/>
                <a:ext cx="2135880" cy="113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4252680" y="2946960"/>
                <a:ext cx="1650600" cy="1402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156040" y="5574960"/>
                <a:ext cx="1738440" cy="794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7DB-B0D2-44BE-BFB0-D99684C16A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rst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’s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cheapest edge adjacen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he vertices explored so far to the rest of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how it work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7C4-E3BF-499C-9FF0-15682845E2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780-CC79-4183-A3AC-7A9B484D9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923-A9F5-464E-A082-F5603B2A4B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 for a directed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E40-001D-4DB6-875E-0FDDBC7D2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2C9-6BBD-4047-8562-E0EC6C20E4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9F9-A8C2-47E1-B693-638F6CC10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409-DB34-40C8-A707-4AEC5BC2B0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ECC-212A-41AB-9872-5961BA4A5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085-5318-49B0-8DD7-AD964B8305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2B2-2095-4722-8168-7345BE8EB7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6C8-99F1-4ACF-AC69-626205F73C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E78-8AB6-4F60-B0AC-D99A62FECB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199-041F-4074-BEB3-17DFB0CCC6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AC3-6FF8-4FA8-B97B-6FA40C3C73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743200"/>
            <a:ext cx="380880" cy="1523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080" y="190404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9800" y="39456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ck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080" y="226908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orward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94360" y="6018840"/>
            <a:ext cx="183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ross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25600" y="5485320"/>
            <a:ext cx="2286720" cy="39888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996633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 cross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452-0C5D-466D-9B9E-983E84D61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88520" y="54396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T weight =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75C-EB0A-4417-88DE-6A70B5F5D2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econd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skal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vertices and no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wo different components.  i.e. that doesn’t create a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we save the proof of correctnes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EAB-89EE-49F4-ABB6-B998CE9A54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116360" y="1596600"/>
            <a:ext cx="6652440" cy="5160240"/>
            <a:chOff x="1116360" y="1596600"/>
            <a:chExt cx="6652440" cy="5160240"/>
          </a:xfrm>
        </p:grpSpPr>
        <p:sp>
          <p:nvSpPr>
            <p:cNvPr id="980" name=""/>
            <p:cNvSpPr/>
            <p:nvPr/>
          </p:nvSpPr>
          <p:spPr>
            <a:xfrm>
              <a:off x="3775320" y="1723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48080" y="2426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06800" y="4339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83360" y="3506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16680" y="328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8328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84800" y="216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39200" y="281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2004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299280" y="392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90080" y="422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40320" y="366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48080" y="469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86320" y="5076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98960" y="569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125880" y="595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16360" y="611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8000" y="472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1152000" y="1596600"/>
              <a:ext cx="6239520" cy="5160240"/>
              <a:chOff x="1152000" y="1596600"/>
              <a:chExt cx="6239520" cy="5160240"/>
            </a:xfrm>
          </p:grpSpPr>
          <p:sp>
            <p:nvSpPr>
              <p:cNvPr id="999" name=""/>
              <p:cNvSpPr/>
              <p:nvPr/>
            </p:nvSpPr>
            <p:spPr>
              <a:xfrm rot="21535800">
                <a:off x="4357080" y="1600200"/>
                <a:ext cx="3812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21535800">
                <a:off x="3380760" y="2379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21535800">
                <a:off x="5898600" y="256248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21535800">
                <a:off x="3891960" y="52675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21535800">
                <a:off x="3872880" y="42768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21535800">
                <a:off x="2555280" y="308160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21535800">
                <a:off x="2575800" y="42246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1535800">
                <a:off x="2214000" y="5221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1535800">
                <a:off x="1155240" y="569916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1535800">
                <a:off x="1777320" y="63723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1535800">
                <a:off x="5917680" y="355284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21535800">
                <a:off x="6989400" y="38372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21535800">
                <a:off x="7006680" y="47516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3759840" y="1982880"/>
                <a:ext cx="677160" cy="47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2932200" y="2688120"/>
                <a:ext cx="450000" cy="389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11880" y="3462480"/>
                <a:ext cx="1440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2514600" y="4607280"/>
                <a:ext cx="142560" cy="536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532880" y="5529240"/>
                <a:ext cx="682920" cy="16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63760" y="6076800"/>
                <a:ext cx="310680" cy="299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40120" y="3459240"/>
                <a:ext cx="1005840" cy="819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030920" y="4734000"/>
                <a:ext cx="8640" cy="457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741200" y="1901520"/>
                <a:ext cx="1156680" cy="740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133680" y="3017880"/>
                <a:ext cx="10080" cy="533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299280" y="3777840"/>
                <a:ext cx="612360" cy="140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47800" y="4295880"/>
                <a:ext cx="7200" cy="380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>
                <a:off x="6284160" y="2940120"/>
                <a:ext cx="855360" cy="898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2003400" y="5679360"/>
                <a:ext cx="367920" cy="69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1380960" y="3465720"/>
                <a:ext cx="117792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3763800" y="2682000"/>
                <a:ext cx="2135880" cy="113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4252680" y="2946960"/>
                <a:ext cx="1650600" cy="1402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156040" y="5574960"/>
                <a:ext cx="1738440" cy="794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AC9-7A9F-433A-9F68-B89AFC8397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D08-851C-4B38-A7D7-99F5460D4F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3B1-AC45-483F-8901-EA949B0DA5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166-3459-44C3-895C-53E44BEA9B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3C8-4662-4816-BD39-7FF200A4A3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5DC-5873-4A09-A569-54CDAF91D8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06C-B65E-4EF9-B8C0-4388F15A93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098-7C14-41A7-A131-CAF689492C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ongly-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irected graph if there is a path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might not be one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rongly connecte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f there is a path in both directions (i.e. a directed cycle containing bot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graph into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3AB-6C37-4EF7-A350-834EABAEA1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F2F-B1C2-4F84-A448-DB19C2DAB9E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E15-0A16-4F47-8424-435D5CCBF88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431-9560-4E07-9A29-441BE655DD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78C-A62E-4E98-8A3A-5656927381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0EF-B1EB-43DE-AC15-7071C2E61D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984-1017-4866-B43B-1AB12BFF34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816440" y="5378040"/>
            <a:ext cx="39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same tree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’s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BE1-BB37-4C78-ADE6-1BF6CE3A7A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629400" y="4572000"/>
            <a:ext cx="110952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819520"/>
            <a:ext cx="4419720" cy="4038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362320"/>
            <a:ext cx="2590920" cy="1981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57560" y="2133720"/>
            <a:ext cx="110952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1371600"/>
            <a:ext cx="1109880" cy="76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ongly-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2743200"/>
            <a:ext cx="380880" cy="1523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565-9944-4387-AE3E-8284969BC0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ses for SCC’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compilers need to find loops, which are SCC’s in the program flow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proces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waiting for proces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CC’s  show dead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CF4-3003-4276-80C2-79DCF778E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rected Acyclic Grap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collapse each SCC to a single vertex we get a directed graph with no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irected acyclic gra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blems on directed graphs can be solve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CC’s and resulting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one computation on each S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nother computation on the overall D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609-5286-4233-8871-5FF5A231D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imple SCC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ame SCC iff there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S from every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,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m) = O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2A6-7D7C-47B3-99F1-9639EBB03E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etter metho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 all the SCC’s while doing a single DFS!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+m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n’t do the full algorithm but will give som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06B-4B87-4FD3-B486-958CA3D60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29T19:22:50Z</cp:lastPrinted>
  <dcterms:modified xsi:type="dcterms:W3CDTF">2001-01-30T23:17:43Z</dcterms:modified>
  <cp:revision>6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