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8D1-6D88-4ADF-8A95-3C285F46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877-ABC9-4392-9224-3044A6A1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26F-1DBE-4879-A61E-FEA921A6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742-E07C-495F-A541-D385E72D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DC53-CFE3-44F6-A999-4B628AB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358-8F6B-48B2-BF26-BBEC513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079A-1012-42BF-BE08-361BC68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D724-D5AA-4016-9377-57E33F2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C36-E529-45E7-A326-F65B790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A7A3-3130-4BC7-A43F-FFC51C1C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48FF-3785-40DA-9903-056C496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A87-E89D-4B6C-B84C-3AD123F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6E09-4F42-495E-98E7-170FFF3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6390-9E3A-4245-8449-5EA0048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B860-27B2-43B1-AEF9-AEA727C3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A0A-36A0-400D-9277-87D273F4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FD95-348B-4797-9E53-8817DCE9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FCA-B86E-41D0-AD0E-FC87CE50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012-E4BF-4D46-905B-705152E0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252-A0EE-45F1-B488-F7911E57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AA5-CACB-4D11-A1AE-3A16700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C02-6EAF-4744-AC92-8665419B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E52-F4B1-45F1-AAA7-CF656EA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8BC-A96C-4473-92BC-593D156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557-4C26-4BA0-88CE-CDD853A76E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596-727F-4048-A57B-DCCF338440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36C5-6E91-4FA7-BEE1-AA02D8578B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bad exampl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75248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91120" y="373320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191120" y="28954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97180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12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971800"/>
            <a:ext cx="0" cy="7621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1960" y="3924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4480" y="3962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240" y="2705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B94-8CF3-4CB7-B77D-7327B60FE0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bad exampl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7180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75248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91120" y="373320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91120" y="28954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97180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5012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971800"/>
            <a:ext cx="0" cy="7621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1960" y="3924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3962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2895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971800"/>
            <a:ext cx="2438640" cy="7621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2920" y="27781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v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240" y="2705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373-2FFD-42F6-A3BB-99572A802E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omething that work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of the n! orderings of the poi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length of the cycle you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be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71D-E5FE-49E6-92EC-2A6F2F1E5B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fficienc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incorrect algorithms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de choices and never reconsidered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t does no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does the algorithms are typicall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rrect algorithm is incredibly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!  is so large that counting to one billion in a second it would still take 2.4 billion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round 70 year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E96-CEFB-4408-BD1F-A94695C039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easuring efficiency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RAM mode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 = Random Access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# of instructions executed in an ideal assembl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mple operation (+,*,-,=,if,call) takes one tim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mory access takes one tim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und on th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0F8-65A0-4AE0-B43C-35020EE95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e left out things but...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we’v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, caches, registers have many orders of magnitude differences in acces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instructions take the same time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M model is very useful for understanding how to design algorithms and get  a good sense of how quickly they wil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an usually tune implementations so that the hierarchy etc is not a hug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CFD-05C6-4B1B-B680-61CCA11F8F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kind of analysis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st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-case complex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inputs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53F-F961-4F58-81F9-DFC058E64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s and cons: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listic over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une an algorithm so it works on one eas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isn’t comf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st algorithm has a comforting guaran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ay to cheat by hard-coding speci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too pessim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what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ople may have different averag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0B3-DDC4-443A-AD7B-903C7B94D1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d circuit-board company has a robot arm that solders components to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do it depends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tance the arm must move from initial rest position around the board and back to the initial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board design, must figure out good order to do the sol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4A4-85F4-41CD-BB20-8030F2C2E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nted Circuit Bo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2666880"/>
            <a:ext cx="3429000" cy="2438640"/>
          </a:xfrm>
          <a:prstGeom prst="parallelogram">
            <a:avLst>
              <a:gd name="adj" fmla="val 35153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038480"/>
            <a:ext cx="914400" cy="914400"/>
          </a:xfrm>
          <a:prstGeom prst="lightningBol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304812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6576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81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5812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6483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0292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BE0-C507-4C8D-9E87-C5F2E7EA1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nted Circuit Bo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666880"/>
            <a:ext cx="3429000" cy="2438640"/>
          </a:xfrm>
          <a:prstGeom prst="parallelogram">
            <a:avLst>
              <a:gd name="adj" fmla="val 35153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038480"/>
            <a:ext cx="914400" cy="914400"/>
          </a:xfrm>
          <a:prstGeom prst="lightningBol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04812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6576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0481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5812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6483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0292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7920" y="2971800"/>
            <a:ext cx="2603520" cy="2197080"/>
          </a:xfrm>
          <a:custGeom>
            <a:avLst/>
            <a:gdLst/>
            <a:ahLst/>
            <a:rect l="l" t="t" r="r" b="b"/>
            <a:pathLst>
              <a:path w="1640" h="1384">
                <a:moveTo>
                  <a:pt x="88" y="1296"/>
                </a:moveTo>
                <a:cubicBezTo>
                  <a:pt x="0" y="1352"/>
                  <a:pt x="104" y="1384"/>
                  <a:pt x="184" y="1248"/>
                </a:cubicBezTo>
                <a:cubicBezTo>
                  <a:pt x="264" y="1112"/>
                  <a:pt x="480" y="672"/>
                  <a:pt x="568" y="480"/>
                </a:cubicBezTo>
                <a:cubicBezTo>
                  <a:pt x="656" y="288"/>
                  <a:pt x="600" y="168"/>
                  <a:pt x="712" y="96"/>
                </a:cubicBezTo>
                <a:cubicBezTo>
                  <a:pt x="824" y="24"/>
                  <a:pt x="1088" y="0"/>
                  <a:pt x="1240" y="48"/>
                </a:cubicBezTo>
                <a:cubicBezTo>
                  <a:pt x="1392" y="96"/>
                  <a:pt x="1640" y="320"/>
                  <a:pt x="1624" y="384"/>
                </a:cubicBezTo>
                <a:cubicBezTo>
                  <a:pt x="1608" y="448"/>
                  <a:pt x="1160" y="352"/>
                  <a:pt x="1144" y="432"/>
                </a:cubicBezTo>
                <a:cubicBezTo>
                  <a:pt x="1128" y="512"/>
                  <a:pt x="1536" y="752"/>
                  <a:pt x="1528" y="864"/>
                </a:cubicBezTo>
                <a:cubicBezTo>
                  <a:pt x="1520" y="976"/>
                  <a:pt x="1232" y="1096"/>
                  <a:pt x="1096" y="1104"/>
                </a:cubicBezTo>
                <a:cubicBezTo>
                  <a:pt x="960" y="1112"/>
                  <a:pt x="880" y="880"/>
                  <a:pt x="712" y="912"/>
                </a:cubicBezTo>
                <a:cubicBezTo>
                  <a:pt x="544" y="944"/>
                  <a:pt x="176" y="1240"/>
                  <a:pt x="88" y="1296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42A-079D-4DE8-803F-AD9E65981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well-defined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ints in th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hortest cycle tour that visits each point in the 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solv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8BB-D0D6-493A-BF5C-E7F19B9AA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earest Neighbor Heuristic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some point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first to its nearest neighb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walk to the nearest unvisited neighbor until all points have been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alk back to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6F9-9CAC-40B3-A7B2-4B0E946253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earest Neighbor Heuristic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6668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4382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1240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4038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44956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8098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868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5840" y="1866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3400" y="2413080"/>
            <a:ext cx="3162240" cy="2120760"/>
          </a:xfrm>
          <a:custGeom>
            <a:avLst/>
            <a:gdLst/>
            <a:ahLst/>
            <a:rect l="l" t="t" r="r" b="b"/>
            <a:pathLst>
              <a:path w="1992" h="1336">
                <a:moveTo>
                  <a:pt x="296" y="160"/>
                </a:moveTo>
                <a:cubicBezTo>
                  <a:pt x="392" y="144"/>
                  <a:pt x="624" y="80"/>
                  <a:pt x="824" y="64"/>
                </a:cubicBezTo>
                <a:cubicBezTo>
                  <a:pt x="1024" y="48"/>
                  <a:pt x="1304" y="0"/>
                  <a:pt x="1496" y="64"/>
                </a:cubicBezTo>
                <a:cubicBezTo>
                  <a:pt x="1688" y="128"/>
                  <a:pt x="1960" y="280"/>
                  <a:pt x="1976" y="448"/>
                </a:cubicBezTo>
                <a:cubicBezTo>
                  <a:pt x="1992" y="616"/>
                  <a:pt x="1776" y="928"/>
                  <a:pt x="1592" y="1072"/>
                </a:cubicBezTo>
                <a:cubicBezTo>
                  <a:pt x="1408" y="1216"/>
                  <a:pt x="1120" y="1336"/>
                  <a:pt x="872" y="1312"/>
                </a:cubicBezTo>
                <a:cubicBezTo>
                  <a:pt x="624" y="1288"/>
                  <a:pt x="208" y="1112"/>
                  <a:pt x="104" y="928"/>
                </a:cubicBezTo>
                <a:cubicBezTo>
                  <a:pt x="0" y="744"/>
                  <a:pt x="224" y="336"/>
                  <a:pt x="248" y="208"/>
                </a:cubicBezTo>
                <a:cubicBezTo>
                  <a:pt x="272" y="80"/>
                  <a:pt x="240" y="168"/>
                  <a:pt x="248" y="160"/>
                </a:cubicBezTo>
                <a:cubicBezTo>
                  <a:pt x="256" y="152"/>
                  <a:pt x="200" y="176"/>
                  <a:pt x="296" y="160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90080" y="36576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524-4C75-4766-BE10-9420C37672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 input where it works badl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"/>
          <p:cNvSpPr/>
          <p:nvPr/>
        </p:nvSpPr>
        <p:spPr>
          <a:xfrm>
            <a:off x="5190480" y="289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66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3657600"/>
            <a:ext cx="7924680" cy="612000"/>
            <a:chOff x="457200" y="3657600"/>
            <a:chExt cx="7924680" cy="612000"/>
          </a:xfrm>
        </p:grpSpPr>
        <p:sp>
          <p:nvSpPr>
            <p:cNvPr id="132" name=""/>
            <p:cNvSpPr/>
            <p:nvPr/>
          </p:nvSpPr>
          <p:spPr>
            <a:xfrm>
              <a:off x="5334120" y="3657600"/>
              <a:ext cx="75960" cy="76320"/>
            </a:xfrm>
            <a:prstGeom prst="ellipse">
              <a:avLst/>
            </a:prstGeom>
            <a:noFill/>
            <a:ln w="76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5920" y="3657600"/>
              <a:ext cx="7596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22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516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5360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5340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4888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1440" y="3772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33520" y="2247840"/>
            <a:ext cx="7772400" cy="2540160"/>
          </a:xfrm>
          <a:custGeom>
            <a:avLst/>
            <a:gdLst/>
            <a:ahLst/>
            <a:rect l="l" t="t" r="r" b="b"/>
            <a:pathLst>
              <a:path w="4896" h="1600">
                <a:moveTo>
                  <a:pt x="3072" y="888"/>
                </a:moveTo>
                <a:cubicBezTo>
                  <a:pt x="3148" y="896"/>
                  <a:pt x="3224" y="904"/>
                  <a:pt x="3216" y="888"/>
                </a:cubicBezTo>
                <a:cubicBezTo>
                  <a:pt x="3208" y="872"/>
                  <a:pt x="3080" y="792"/>
                  <a:pt x="3024" y="792"/>
                </a:cubicBezTo>
                <a:cubicBezTo>
                  <a:pt x="2968" y="792"/>
                  <a:pt x="2848" y="912"/>
                  <a:pt x="2880" y="888"/>
                </a:cubicBezTo>
                <a:cubicBezTo>
                  <a:pt x="2912" y="864"/>
                  <a:pt x="3088" y="648"/>
                  <a:pt x="3216" y="648"/>
                </a:cubicBezTo>
                <a:cubicBezTo>
                  <a:pt x="3344" y="648"/>
                  <a:pt x="3632" y="920"/>
                  <a:pt x="3648" y="888"/>
                </a:cubicBezTo>
                <a:cubicBezTo>
                  <a:pt x="3664" y="856"/>
                  <a:pt x="3480" y="536"/>
                  <a:pt x="3312" y="456"/>
                </a:cubicBezTo>
                <a:cubicBezTo>
                  <a:pt x="3144" y="376"/>
                  <a:pt x="2848" y="336"/>
                  <a:pt x="2640" y="408"/>
                </a:cubicBezTo>
                <a:cubicBezTo>
                  <a:pt x="2432" y="480"/>
                  <a:pt x="2032" y="936"/>
                  <a:pt x="2064" y="888"/>
                </a:cubicBezTo>
                <a:cubicBezTo>
                  <a:pt x="2096" y="840"/>
                  <a:pt x="2472" y="240"/>
                  <a:pt x="2832" y="120"/>
                </a:cubicBezTo>
                <a:cubicBezTo>
                  <a:pt x="3192" y="0"/>
                  <a:pt x="3880" y="40"/>
                  <a:pt x="4224" y="168"/>
                </a:cubicBezTo>
                <a:cubicBezTo>
                  <a:pt x="4568" y="296"/>
                  <a:pt x="4896" y="672"/>
                  <a:pt x="4896" y="888"/>
                </a:cubicBezTo>
                <a:cubicBezTo>
                  <a:pt x="4896" y="1104"/>
                  <a:pt x="4856" y="1360"/>
                  <a:pt x="4224" y="1464"/>
                </a:cubicBezTo>
                <a:cubicBezTo>
                  <a:pt x="3592" y="1568"/>
                  <a:pt x="1808" y="1600"/>
                  <a:pt x="1104" y="1512"/>
                </a:cubicBezTo>
                <a:cubicBezTo>
                  <a:pt x="400" y="1424"/>
                  <a:pt x="184" y="1032"/>
                  <a:pt x="0" y="93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733920"/>
            <a:ext cx="4863960" cy="546120"/>
          </a:xfrm>
          <a:custGeom>
            <a:avLst/>
            <a:gdLst/>
            <a:ahLst/>
            <a:rect l="l" t="t" r="r" b="b"/>
            <a:pathLst>
              <a:path w="3064" h="344">
                <a:moveTo>
                  <a:pt x="0" y="0"/>
                </a:moveTo>
                <a:cubicBezTo>
                  <a:pt x="200" y="92"/>
                  <a:pt x="400" y="184"/>
                  <a:pt x="720" y="240"/>
                </a:cubicBezTo>
                <a:cubicBezTo>
                  <a:pt x="1040" y="296"/>
                  <a:pt x="1560" y="328"/>
                  <a:pt x="1920" y="336"/>
                </a:cubicBezTo>
                <a:cubicBezTo>
                  <a:pt x="2280" y="344"/>
                  <a:pt x="2696" y="344"/>
                  <a:pt x="2880" y="288"/>
                </a:cubicBezTo>
                <a:cubicBezTo>
                  <a:pt x="3064" y="232"/>
                  <a:pt x="3044" y="116"/>
                  <a:pt x="3024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5562720"/>
            <a:ext cx="7924680" cy="612000"/>
            <a:chOff x="533520" y="5562720"/>
            <a:chExt cx="7924680" cy="612000"/>
          </a:xfrm>
        </p:grpSpPr>
        <p:sp>
          <p:nvSpPr>
            <p:cNvPr id="148" name=""/>
            <p:cNvSpPr/>
            <p:nvPr/>
          </p:nvSpPr>
          <p:spPr>
            <a:xfrm>
              <a:off x="5410440" y="5562720"/>
              <a:ext cx="75960" cy="76320"/>
            </a:xfrm>
            <a:prstGeom prst="ellipse">
              <a:avLst/>
            </a:prstGeom>
            <a:noFill/>
            <a:ln w="76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2240" y="5562720"/>
              <a:ext cx="7596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8560" y="571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9148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992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2972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2520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67760" y="5677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609480" y="5562360"/>
            <a:ext cx="784872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130720"/>
            <a:ext cx="7848720" cy="432000"/>
          </a:xfrm>
          <a:custGeom>
            <a:avLst/>
            <a:gdLst/>
            <a:ahLst/>
            <a:rect l="l" t="t" r="r" b="b"/>
            <a:pathLst>
              <a:path w="4944" h="272">
                <a:moveTo>
                  <a:pt x="0" y="272"/>
                </a:moveTo>
                <a:cubicBezTo>
                  <a:pt x="352" y="196"/>
                  <a:pt x="704" y="120"/>
                  <a:pt x="1392" y="80"/>
                </a:cubicBezTo>
                <a:cubicBezTo>
                  <a:pt x="2080" y="40"/>
                  <a:pt x="3536" y="0"/>
                  <a:pt x="4128" y="32"/>
                </a:cubicBezTo>
                <a:cubicBezTo>
                  <a:pt x="4720" y="64"/>
                  <a:pt x="4808" y="232"/>
                  <a:pt x="4944" y="27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AFF-1725-4804-8B98-4C82D934D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vised idea - Closest Pairs firs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pick the closest pair of points to join so that the result can still be part of a single loop in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endpoints of line segments already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line segments consist of singl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closest pair of these endpoints that lie on different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work on our bad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47B-5C5B-442C-B0AE-EFF95B170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5T19:13:28Z</cp:lastPrinted>
  <dcterms:modified xsi:type="dcterms:W3CDTF">2001-01-10T17:56:34Z</dcterms:modified>
  <cp:revision>41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