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D28-E06D-46D2-9E11-E0477687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24C-6100-4E95-953B-8BF3DA6F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353-48A1-45D6-A09C-875D4159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0CD-3557-4111-83A1-28CFEAE7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FCB2-F2BD-4624-9E13-17B1A37B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1E07-4557-48AE-BEE2-A5C21877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DE78-F5BB-4080-9358-1BE8492C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60D7-B381-41C4-AE4D-3F6C041E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41F4-CE6D-4E37-9A93-9C8F2ADD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1FD4-73BA-4491-8F73-A24970C0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F6F1-E38F-4022-8DD6-E9EE6F8E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C04-5AC8-4EE1-923C-817AFB05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7525-A722-46D5-B921-2DB1BDC2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6952-7619-4924-B916-19728524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A4AE-E7EF-42B9-B154-BEF25A92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C510-5785-437B-8FD3-BFF1836D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A48C-8B66-4056-91A5-EE6AF1CC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1D4-FB40-477C-A011-77B30350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047-2B7A-4C9E-B23F-9E2C4BCE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C50-2B60-4B42-8F3C-254A768E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49D-665F-40C9-98A6-EC174CA7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AD5-E506-4A1D-B22B-8B770F18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F73-0EE2-4F44-8FE2-E615BD74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779-FDB0-42BE-BB18-490866B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359D-2780-46F1-8BED-AEB30EC0BE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1205-770E-423A-832E-C2E90BE2E9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41AA-FAC4-4A93-B672-3847626687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other bad exampl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971800" y="373320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752480" y="373320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91120" y="3733200"/>
            <a:ext cx="7596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191120" y="289548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971800" y="28954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28954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012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2971800"/>
            <a:ext cx="0" cy="76212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71960" y="3924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4480" y="3962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3240" y="27050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E10-422B-4386-957A-C161D894F2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other bad exampl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971800" y="373320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752480" y="373320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91120" y="3733200"/>
            <a:ext cx="7596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91120" y="289548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971800" y="28954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2480" y="28954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5012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2971800"/>
            <a:ext cx="0" cy="76212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1960" y="3924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3962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28954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2971800"/>
            <a:ext cx="2438640" cy="76212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82920" y="277812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 v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43240" y="27050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4D0-A8F4-4C4C-A744-CAE3558948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omething that work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of the n! orderings of the poi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length of the cycle you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bes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342-E688-4A3C-B5D0-08747E96EB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fficienc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incorrect algorithms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de choices and never reconsidered thei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t does no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does the algorithms are typicall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orrect algorithm is incredibly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!  is so large that counting to one billion in a second it would still take 2.4 billion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round 70 year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8B0-3784-49C7-8125-36EBB0F218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easuring efficiency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RAM model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 = Random Access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# of instructions executed in an ideal assembl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imple operation (+,*,-,=,if,call) takes one tim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mory access takes one tim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und on th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1D6-DD39-490D-BF1A-3379BF5D0B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e left out things but...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we’ve dro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, caches, registers have many orders of magnitude differences in acces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instructions take the same time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M model is very useful for understanding how to design algorithms and get  a good sense of how quickly they wil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an usually tune implementations so that the hierarchy etc is not a huge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08D-B94F-45C0-A9E6-6E2FFD3D72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kind of analysis?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st-cas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any input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-case complex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any input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-cas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inputs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934-123F-4994-A524-BC7D2400C4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s and cons: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alistic overs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une an algorithm so it works on one easy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 isn’t comf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t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st algorithm has a comforting guaran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way to cheat by hard-coding speci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too pessim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-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what distrib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eople may have different averag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2A6-946E-48A8-A7FD-A19938738F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ed circuit-board company has a robot arm that solders components to th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do it depends 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tance the arm must move from initial rest position around the board and back to the initial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board design, must figure out good order to do the sol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4CC-C055-4E55-BD90-3C5CD0234E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nted Circuit Bo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2666880"/>
            <a:ext cx="3429000" cy="2438640"/>
          </a:xfrm>
          <a:prstGeom prst="parallelogram">
            <a:avLst>
              <a:gd name="adj" fmla="val 35153"/>
            </a:avLst>
          </a:prstGeom>
          <a:noFill/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4038480"/>
            <a:ext cx="914400" cy="914400"/>
          </a:xfrm>
          <a:prstGeom prst="lightningBol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3048120"/>
            <a:ext cx="7596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365760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04812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365760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358128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64832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502920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42670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741-A10E-46B6-9667-D7D2FAF361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nted Circuit Bo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666880"/>
            <a:ext cx="3429000" cy="2438640"/>
          </a:xfrm>
          <a:prstGeom prst="parallelogram">
            <a:avLst>
              <a:gd name="adj" fmla="val 35153"/>
            </a:avLst>
          </a:prstGeom>
          <a:noFill/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4038480"/>
            <a:ext cx="914400" cy="914400"/>
          </a:xfrm>
          <a:prstGeom prst="lightningBol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3048120"/>
            <a:ext cx="7596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65760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04812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434340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365760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358128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4648320"/>
            <a:ext cx="76320" cy="75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502920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42670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17920" y="2971800"/>
            <a:ext cx="2603520" cy="2197080"/>
          </a:xfrm>
          <a:custGeom>
            <a:avLst/>
            <a:gdLst/>
            <a:ahLst/>
            <a:rect l="l" t="t" r="r" b="b"/>
            <a:pathLst>
              <a:path w="1640" h="1384">
                <a:moveTo>
                  <a:pt x="88" y="1296"/>
                </a:moveTo>
                <a:cubicBezTo>
                  <a:pt x="0" y="1352"/>
                  <a:pt x="104" y="1384"/>
                  <a:pt x="184" y="1248"/>
                </a:cubicBezTo>
                <a:cubicBezTo>
                  <a:pt x="264" y="1112"/>
                  <a:pt x="480" y="672"/>
                  <a:pt x="568" y="480"/>
                </a:cubicBezTo>
                <a:cubicBezTo>
                  <a:pt x="656" y="288"/>
                  <a:pt x="600" y="168"/>
                  <a:pt x="712" y="96"/>
                </a:cubicBezTo>
                <a:cubicBezTo>
                  <a:pt x="824" y="24"/>
                  <a:pt x="1088" y="0"/>
                  <a:pt x="1240" y="48"/>
                </a:cubicBezTo>
                <a:cubicBezTo>
                  <a:pt x="1392" y="96"/>
                  <a:pt x="1640" y="320"/>
                  <a:pt x="1624" y="384"/>
                </a:cubicBezTo>
                <a:cubicBezTo>
                  <a:pt x="1608" y="448"/>
                  <a:pt x="1160" y="352"/>
                  <a:pt x="1144" y="432"/>
                </a:cubicBezTo>
                <a:cubicBezTo>
                  <a:pt x="1128" y="512"/>
                  <a:pt x="1536" y="752"/>
                  <a:pt x="1528" y="864"/>
                </a:cubicBezTo>
                <a:cubicBezTo>
                  <a:pt x="1520" y="976"/>
                  <a:pt x="1232" y="1096"/>
                  <a:pt x="1096" y="1104"/>
                </a:cubicBezTo>
                <a:cubicBezTo>
                  <a:pt x="960" y="1112"/>
                  <a:pt x="880" y="880"/>
                  <a:pt x="712" y="912"/>
                </a:cubicBezTo>
                <a:cubicBezTo>
                  <a:pt x="544" y="944"/>
                  <a:pt x="176" y="1240"/>
                  <a:pt x="88" y="1296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5B9-5A0B-4291-9BF5-E6435966A6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well-defined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s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ints in the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hortest cycle tour that visits each point in the s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you solv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988-E633-4EAC-9406-F1DBE7C586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earest Neighbor Heuristic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some point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 first to its nearest neighbor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edly walk to the nearest unvisited neighbor until all points have been 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walk back to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35D-7632-4E23-AFF5-D0A428EADD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earest Neighbor Heuristic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26668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4382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124080"/>
            <a:ext cx="7596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40384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44956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809880"/>
            <a:ext cx="76320" cy="76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1868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45840" y="18669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73400" y="2413080"/>
            <a:ext cx="3162240" cy="2120760"/>
          </a:xfrm>
          <a:custGeom>
            <a:avLst/>
            <a:gdLst/>
            <a:ahLst/>
            <a:rect l="l" t="t" r="r" b="b"/>
            <a:pathLst>
              <a:path w="1992" h="1336">
                <a:moveTo>
                  <a:pt x="296" y="160"/>
                </a:moveTo>
                <a:cubicBezTo>
                  <a:pt x="392" y="144"/>
                  <a:pt x="624" y="80"/>
                  <a:pt x="824" y="64"/>
                </a:cubicBezTo>
                <a:cubicBezTo>
                  <a:pt x="1024" y="48"/>
                  <a:pt x="1304" y="0"/>
                  <a:pt x="1496" y="64"/>
                </a:cubicBezTo>
                <a:cubicBezTo>
                  <a:pt x="1688" y="128"/>
                  <a:pt x="1960" y="280"/>
                  <a:pt x="1976" y="448"/>
                </a:cubicBezTo>
                <a:cubicBezTo>
                  <a:pt x="1992" y="616"/>
                  <a:pt x="1776" y="928"/>
                  <a:pt x="1592" y="1072"/>
                </a:cubicBezTo>
                <a:cubicBezTo>
                  <a:pt x="1408" y="1216"/>
                  <a:pt x="1120" y="1336"/>
                  <a:pt x="872" y="1312"/>
                </a:cubicBezTo>
                <a:cubicBezTo>
                  <a:pt x="624" y="1288"/>
                  <a:pt x="208" y="1112"/>
                  <a:pt x="104" y="928"/>
                </a:cubicBezTo>
                <a:cubicBezTo>
                  <a:pt x="0" y="744"/>
                  <a:pt x="224" y="336"/>
                  <a:pt x="248" y="208"/>
                </a:cubicBezTo>
                <a:cubicBezTo>
                  <a:pt x="272" y="80"/>
                  <a:pt x="240" y="168"/>
                  <a:pt x="248" y="160"/>
                </a:cubicBezTo>
                <a:cubicBezTo>
                  <a:pt x="256" y="152"/>
                  <a:pt x="200" y="176"/>
                  <a:pt x="296" y="160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90080" y="365760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78A-1E4B-4F65-8C86-37E300C93D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 input where it works badl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0" name=""/>
          <p:cNvSpPr/>
          <p:nvPr/>
        </p:nvSpPr>
        <p:spPr>
          <a:xfrm>
            <a:off x="5190480" y="2895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3366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3657600"/>
            <a:ext cx="7924680" cy="612000"/>
            <a:chOff x="457200" y="3657600"/>
            <a:chExt cx="7924680" cy="612000"/>
          </a:xfrm>
        </p:grpSpPr>
        <p:sp>
          <p:nvSpPr>
            <p:cNvPr id="132" name=""/>
            <p:cNvSpPr/>
            <p:nvPr/>
          </p:nvSpPr>
          <p:spPr>
            <a:xfrm>
              <a:off x="5334120" y="3657600"/>
              <a:ext cx="75960" cy="76320"/>
            </a:xfrm>
            <a:prstGeom prst="ellipse">
              <a:avLst/>
            </a:prstGeom>
            <a:noFill/>
            <a:ln w="763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365760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365760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4480" y="365760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9880" y="365760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05920" y="3657600"/>
              <a:ext cx="7596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" y="365760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224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5160" y="377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53600" y="377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53400" y="377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48880" y="377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91440" y="3772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33520" y="2247840"/>
            <a:ext cx="7772400" cy="2540160"/>
          </a:xfrm>
          <a:custGeom>
            <a:avLst/>
            <a:gdLst/>
            <a:ahLst/>
            <a:rect l="l" t="t" r="r" b="b"/>
            <a:pathLst>
              <a:path w="4896" h="1600">
                <a:moveTo>
                  <a:pt x="3072" y="888"/>
                </a:moveTo>
                <a:cubicBezTo>
                  <a:pt x="3148" y="896"/>
                  <a:pt x="3224" y="904"/>
                  <a:pt x="3216" y="888"/>
                </a:cubicBezTo>
                <a:cubicBezTo>
                  <a:pt x="3208" y="872"/>
                  <a:pt x="3080" y="792"/>
                  <a:pt x="3024" y="792"/>
                </a:cubicBezTo>
                <a:cubicBezTo>
                  <a:pt x="2968" y="792"/>
                  <a:pt x="2848" y="912"/>
                  <a:pt x="2880" y="888"/>
                </a:cubicBezTo>
                <a:cubicBezTo>
                  <a:pt x="2912" y="864"/>
                  <a:pt x="3088" y="648"/>
                  <a:pt x="3216" y="648"/>
                </a:cubicBezTo>
                <a:cubicBezTo>
                  <a:pt x="3344" y="648"/>
                  <a:pt x="3632" y="920"/>
                  <a:pt x="3648" y="888"/>
                </a:cubicBezTo>
                <a:cubicBezTo>
                  <a:pt x="3664" y="856"/>
                  <a:pt x="3480" y="536"/>
                  <a:pt x="3312" y="456"/>
                </a:cubicBezTo>
                <a:cubicBezTo>
                  <a:pt x="3144" y="376"/>
                  <a:pt x="2848" y="336"/>
                  <a:pt x="2640" y="408"/>
                </a:cubicBezTo>
                <a:cubicBezTo>
                  <a:pt x="2432" y="480"/>
                  <a:pt x="2032" y="936"/>
                  <a:pt x="2064" y="888"/>
                </a:cubicBezTo>
                <a:cubicBezTo>
                  <a:pt x="2096" y="840"/>
                  <a:pt x="2472" y="240"/>
                  <a:pt x="2832" y="120"/>
                </a:cubicBezTo>
                <a:cubicBezTo>
                  <a:pt x="3192" y="0"/>
                  <a:pt x="3880" y="40"/>
                  <a:pt x="4224" y="168"/>
                </a:cubicBezTo>
                <a:cubicBezTo>
                  <a:pt x="4568" y="296"/>
                  <a:pt x="4896" y="672"/>
                  <a:pt x="4896" y="888"/>
                </a:cubicBezTo>
                <a:cubicBezTo>
                  <a:pt x="4896" y="1104"/>
                  <a:pt x="4856" y="1360"/>
                  <a:pt x="4224" y="1464"/>
                </a:cubicBezTo>
                <a:cubicBezTo>
                  <a:pt x="3592" y="1568"/>
                  <a:pt x="1808" y="1600"/>
                  <a:pt x="1104" y="1512"/>
                </a:cubicBezTo>
                <a:cubicBezTo>
                  <a:pt x="400" y="1424"/>
                  <a:pt x="184" y="1032"/>
                  <a:pt x="0" y="93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733920"/>
            <a:ext cx="4863960" cy="546120"/>
          </a:xfrm>
          <a:custGeom>
            <a:avLst/>
            <a:gdLst/>
            <a:ahLst/>
            <a:rect l="l" t="t" r="r" b="b"/>
            <a:pathLst>
              <a:path w="3064" h="344">
                <a:moveTo>
                  <a:pt x="0" y="0"/>
                </a:moveTo>
                <a:cubicBezTo>
                  <a:pt x="200" y="92"/>
                  <a:pt x="400" y="184"/>
                  <a:pt x="720" y="240"/>
                </a:cubicBezTo>
                <a:cubicBezTo>
                  <a:pt x="1040" y="296"/>
                  <a:pt x="1560" y="328"/>
                  <a:pt x="1920" y="336"/>
                </a:cubicBezTo>
                <a:cubicBezTo>
                  <a:pt x="2280" y="344"/>
                  <a:pt x="2696" y="344"/>
                  <a:pt x="2880" y="288"/>
                </a:cubicBezTo>
                <a:cubicBezTo>
                  <a:pt x="3064" y="232"/>
                  <a:pt x="3044" y="116"/>
                  <a:pt x="3024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5562720"/>
            <a:ext cx="7924680" cy="612000"/>
            <a:chOff x="533520" y="5562720"/>
            <a:chExt cx="7924680" cy="612000"/>
          </a:xfrm>
        </p:grpSpPr>
        <p:sp>
          <p:nvSpPr>
            <p:cNvPr id="148" name=""/>
            <p:cNvSpPr/>
            <p:nvPr/>
          </p:nvSpPr>
          <p:spPr>
            <a:xfrm>
              <a:off x="5410440" y="5562720"/>
              <a:ext cx="75960" cy="76320"/>
            </a:xfrm>
            <a:prstGeom prst="ellipse">
              <a:avLst/>
            </a:prstGeom>
            <a:noFill/>
            <a:ln w="7632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556272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5520" y="556272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556272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6200" y="556272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2240" y="5562720"/>
              <a:ext cx="7596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520" y="5562720"/>
              <a:ext cx="76320" cy="76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88560" y="571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91480" y="567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29920" y="567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29720" y="567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25200" y="5677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67760" y="56772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V="1">
            <a:off x="609480" y="5562360"/>
            <a:ext cx="784872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5130720"/>
            <a:ext cx="7848720" cy="432000"/>
          </a:xfrm>
          <a:custGeom>
            <a:avLst/>
            <a:gdLst/>
            <a:ahLst/>
            <a:rect l="l" t="t" r="r" b="b"/>
            <a:pathLst>
              <a:path w="4944" h="272">
                <a:moveTo>
                  <a:pt x="0" y="272"/>
                </a:moveTo>
                <a:cubicBezTo>
                  <a:pt x="352" y="196"/>
                  <a:pt x="704" y="120"/>
                  <a:pt x="1392" y="80"/>
                </a:cubicBezTo>
                <a:cubicBezTo>
                  <a:pt x="2080" y="40"/>
                  <a:pt x="3536" y="0"/>
                  <a:pt x="4128" y="32"/>
                </a:cubicBezTo>
                <a:cubicBezTo>
                  <a:pt x="4720" y="64"/>
                  <a:pt x="4808" y="232"/>
                  <a:pt x="4944" y="272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916-7672-4B8F-8C37-079A6E750D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vised idea - Closest Pairs firs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edly pick the closest pair of points to join so that the result can still be part of a single loop in 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endpoints of line segments already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line segments consist of singl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closest pair of these endpoints that lie on different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work on our bad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71D-DECE-4F8D-B0B6-33B571CB55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05T19:13:28Z</cp:lastPrinted>
  <dcterms:modified xsi:type="dcterms:W3CDTF">2001-01-10T17:56:34Z</dcterms:modified>
  <cp:revision>41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