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00240" y="680760"/>
            <a:ext cx="454032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0716-B6E5-4703-A0FF-F6FC92ADA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: N/5, (N-5a)/4, … =&gt; N^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N-5a-4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p on b only 0,…4, since 5 @4 cents can be replaced by 4 @ 5 c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UT may not work for more general denomination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4187-27E0-4A41-AE8F-B5E31EE92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7014-0E70-45E2-82A5-7385D19C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748C-F5E1-4D0C-BC2C-4AA627722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3C50-613E-45AC-942B-0D550D7C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A8B7-D7C5-40D4-8F2E-C5B1F82C8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1CCA-C6BB-425E-99FF-13D612FE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B217-65A2-4942-A31E-C652C638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1D3B-6CF4-43EE-A2FE-11BE1B5E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AC24-2B39-40D4-A041-27DF4298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6A36-6CC0-4AB2-8FF4-9C88CC04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E9CA-B590-4D6A-896B-D48A0C2D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2041-4F1B-40A6-804F-A19D800C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4707-D819-49FF-BBCE-2B00CC6C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0D71-8EAC-4DDB-B646-62B1A1FB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BDC4-F911-4471-93EE-FBA32F0B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55E3-814D-4922-8113-B6516057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1670-4DD0-44B9-BC4D-ADD3C1963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5C7C-480B-4A49-B52B-A2A5B408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A1D6-CF91-419D-B345-51E63553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4363-4FD3-467C-ADD8-140A4D9C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B6B5-88F0-4BCB-9056-938E5857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57A5-30D6-4206-A722-0493DF45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C7C5-794A-4145-AA1C-04C3AF63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5EEE-DCAE-43EC-BBC5-5DCECBE6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3011-EA55-48F4-97B3-43AFC283E3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91CC-A621-4750-B1B4-20D1B118A9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E 417:  Algorithms and Computational Complexity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aul Be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: Gidon Shav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905120"/>
            <a:ext cx="7848720" cy="18288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F80E-39AB-46FB-93CB-00AC763DCF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What the course is abou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of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or important types of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analyze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933F-B1D5-4D61-A60D-BB30F7530E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What the course is abou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ing machines and ideal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well-defined problems that even ideal computers can’t so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halting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87EB-2795-4E20-9D8A-306A0D31BE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What the course is abou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ity and NP-complet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y being able to solve problems in principle is not en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s must be efficient,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 class of useful problems whose solutions can be easily checked but not necessarily found effici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-complet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for understanding when problems are hard to 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4805-77B3-4E3A-9451-3171430955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On hardnes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yptography (e.g. RSA, SSL in brows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: p,q prime, say 512 bits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: n which equals pxq, 1024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inci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n algorithm that given n will find p and q by trying all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1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’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act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of RSA depends on the fact that n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ic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gorithm is known for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CD60-8B56-4C9A-AEBB-9A6A746E48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lgorithms versus Machin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ll know about Moore’s Law and the exponential improvements in hardware but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linear algebra for weather prediction 1967-19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orders of magnitude improvement  in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orders of magnitude improvement in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orders of magnitude improvement i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82BE-8C78-4ADF-87A5-C3052A5F8D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What you’ll have to do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 of the course are not nitty-gritty programming deta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them right is of course very important but too time-consuming for the amount of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homework assig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lish exposition and pseudo-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and argument as well as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term &amp; Final Ex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E0B4-2FE8-413C-8636-D73225E06F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ough Division of Tim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582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s (6 week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  <a:tab algn="l" pos="9734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f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  <a:tab algn="l" pos="9734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Algorithmic Design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  <a:tab algn="l" pos="9734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  <a:tab algn="l" pos="9734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 Fourier Trans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  <a:tab algn="l" pos="9734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 Matching &amp; Finite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ing Machines &amp; Computability (1.5 wee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ity &amp; NP-completeness (2 week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8B3C-3425-466D-8C63-7EBD13A525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6:57:42Z</dcterms:created>
  <dc:creator>ruzzo</dc:creator>
  <dc:description/>
  <dc:language>en-US</dc:language>
  <cp:lastModifiedBy>beame</cp:lastModifiedBy>
  <cp:lastPrinted>2001-01-03T19:19:15Z</cp:lastPrinted>
  <dcterms:modified xsi:type="dcterms:W3CDTF">2001-01-03T21:57:11Z</dcterms:modified>
  <cp:revision>40</cp:revision>
  <dc:subject/>
  <dc:title>CSE 421:  Introduction to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uzzo</vt:lpwstr>
  </property>
  <property fmtid="{D5CDD505-2E9C-101B-9397-08002B2CF9AE}" pid="9" name="LinkColor">
    <vt:r8>16711782</vt:r8>
  </property>
  <property fmtid="{D5CDD505-2E9C-101B-9397-08002B2CF9AE}" pid="10" name="MailAddress">
    <vt:lpwstr>ruzzo@cs.washington.edu</vt:lpwstr>
  </property>
  <property fmtid="{D5CDD505-2E9C-101B-9397-08002B2CF9AE}" pid="11" name="NavBtnPos">
    <vt:r8>1</vt:r8>
  </property>
  <property fmtid="{D5CDD505-2E9C-101B-9397-08002B2CF9AE}" pid="12" name="Other">
    <vt:lpwstr>(c) 1998,  University of Washington, CSE</vt:lpwstr>
  </property>
  <property fmtid="{D5CDD505-2E9C-101B-9397-08002B2CF9AE}" pid="13" name="OutputDir">
    <vt:lpwstr>W:\www\education\courses\421\CurrentQtr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