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4F20-92CD-434D-B40B-E2C3A56C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: N/5, (N-5a)/4, … =&gt; N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N-5a-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 on b only 0,…4, since 5 @4 cents can be replaced by 4 @ 5 c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UT may not work for more general denomina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00A-6EDE-4B78-A332-AEE8FD42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3B5-A72F-4D32-B098-52B75895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159-618D-4C84-B43D-F72E4BBA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597-647B-485A-96C5-650C5855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D70-E9FF-41C6-9A4A-0C35FDA0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508-088F-4616-9303-2099625E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02EF-EF71-4AFF-8825-EA51744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2660-7B4C-41ED-A9C4-3E41D36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3BD-9A17-4878-A8CF-4AA35EB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06DE-2008-46D4-B105-F30FEF4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4B1-737E-46CC-9A00-4419BB2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5E0-BE8F-4BCC-B5C1-393F282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CC9-2230-4E46-A2AB-F66ADF5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E99-694D-4DE9-AE73-D7FB554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FEEE-2408-4F1A-8CC9-5846796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DCF4-EDDA-4E9F-A14D-395BF277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D6D4-4372-43CE-811A-C0EA6422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980-9D73-4E64-95D9-3811CA1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D43-AE53-4ED5-AF82-9059D3FE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37C-F429-41BD-B25C-9F7A8C41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30F-5EBB-4DB7-B76D-157E57A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ADE-D161-4020-855E-F45BA57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539-DC47-4C47-8F2A-5B43555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6DC-7601-49CA-8BF0-21F678D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6E0-94D8-41D9-89FC-BFF37E2192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674-5B0B-40D5-A99F-0F58CEC93E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445-CE73-40D3-9401-E1B443E2A2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r important types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nalyz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AAD-4CD4-4E56-93CD-EB75F4D88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machines and idea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well-defined problems that even ideal computers can’t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t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E81-5607-4204-B46C-C917631682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d NP-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being able to solve problems in principle i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must be efficient,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class of useful problems whose solutions can be easily checked but not necessarily found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-comple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understanding when problems are hard to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0EA-652C-4723-917A-856C7C3FE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n hard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graphy (e.g. RSA, SSL in brow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: p,q prime, say 512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: n which equals pxq, 102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 that given n will find p and q by trying 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f RSA depends on the fact that n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 is known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44B-5A55-4D56-A155-8A210DF21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s versus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l know about Moore’s Law and the exponential improvements in hardware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linear algebra for weather prediction 1967-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rders of magnitude improvement  in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orders of magnitude improvement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orders of magnitude improvement i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147-DD10-4668-A390-E8D4BCA809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you’ll have to do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e course are not nitty-gritty programming det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m right is of course very important but too time-consuming for the amount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homework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exposition and pseudo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argument as well a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&amp;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D63-D1CF-4CCC-8322-0A5CC1E88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ough Division of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(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lgorithmic Desig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atching &amp;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Machines &amp; Computability (1.5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&amp; NP-completeness (2 wee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85E-48D7-4A7D-9CEF-DBF6C806EE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3T19:19:15Z</cp:lastPrinted>
  <dcterms:modified xsi:type="dcterms:W3CDTF">2001-01-03T21:57:11Z</dcterms:modified>
  <cp:revision>40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