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112C-79B1-4786-AE70-AB60EADF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57C8-B3E9-4A31-A10D-117377AB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D7F2-0025-49A4-A846-4F1E2C28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298-4B0C-4DFF-BBD3-DF4E2502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F068-6DE7-4A1B-A5F3-AF026707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8174-C6B3-4736-BD21-750503AF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98A0-F507-479F-B5F9-C2D40084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05DA-9032-42E0-8C98-4F950ED5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9F08-888C-4BB5-9308-4E5EBF41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A767-C2C5-4226-9106-8E687FEE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3BD0-5B2D-4923-88AA-7560F097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F01C-E0E5-4625-8669-D56B0C36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1652-9D03-4966-ACDC-2FE157CA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C2FB-A068-4F5E-ADC9-35B1A220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3454-965D-4767-9022-4A024EE6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2152-AFF1-4D8E-9C0A-D5D0209A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08FE-74B4-4F8B-B671-B3897FC8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87517-C222-48A4-8B31-7EF73161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ABFC0-913E-4969-8F67-0D6BCAA1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A0D56-FFD2-4279-B9A5-2C2C4921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16FF3-FA73-42CA-8134-E3AC1A30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1E730-C7BB-46DC-9F3F-696B996E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B83B-F834-4570-805B-ABC7ED49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5CC1E-FDE5-4EDC-BC9D-27BAFB24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C4080-B244-4297-A083-0E592876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210F4-BE1A-4987-9AFC-1949C04D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B891A-928B-4D6E-ABAD-96B86CE0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FD801-5DF0-4B15-90A0-C7FAD33F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B9C7A-E8B0-49B8-8BEC-D3F6E6A4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E506A-E6C0-4307-A9D7-48AEA824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F137-EEA8-4537-A3B0-E6082DA2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663E-C152-42EA-9AED-3ED1BC23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F370-36F7-4E48-B794-7D8F92DB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1BFD-0C7D-4809-9AD0-6D6F8532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4951-BB48-454D-8AD0-F952F72E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ED22-A996-4A91-BF6D-98FA336C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C72F-99BF-4E22-BEF0-1D96F99482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FAF1-4D38-4229-AC82-9F15E8C4CB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CDA4-4300-4348-A903-AEF7B87E2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85360" y="383760"/>
            <a:ext cx="8210520" cy="27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ty Types an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voiding Miscommunication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alentin Razmov (guest lecture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919160" y="3403440"/>
            <a:ext cx="5824800" cy="2951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nd so these men of Indo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isputed loud and lo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ach in his own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ceeding stiff and stro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ough each was partly in the righ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nd all were partly in the wrong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- John Godfrey Sa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SE403, Wi'07, Valentin Razm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6 F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95400" y="2014560"/>
          <a:ext cx="8966160" cy="2663640"/>
        </p:xfrm>
        <a:graphic>
          <a:graphicData uri="http://schemas.openxmlformats.org/drawingml/2006/table">
            <a:tbl>
              <a:tblPr/>
              <a:tblGrid>
                <a:gridCol w="1000080"/>
                <a:gridCol w="941400"/>
                <a:gridCol w="1073160"/>
                <a:gridCol w="1100160"/>
                <a:gridCol w="892080"/>
                <a:gridCol w="993600"/>
                <a:gridCol w="981360"/>
                <a:gridCol w="939600"/>
                <a:gridCol w="104472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’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’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’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’0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’0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’0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’0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’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: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: 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: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: 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: 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: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: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: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: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: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: 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: 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: 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: 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: 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: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: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: 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: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: 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: 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: 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: 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: 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: 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: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: 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 : 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: 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: 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: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: 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: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: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: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: 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y of MBTI Result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ross Different 403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735200" y="4811760"/>
            <a:ext cx="2469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I: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67.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N: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64.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: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70.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J: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77.7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4320" y="4802040"/>
            <a:ext cx="15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vera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403, Wi'07, Valentin Razmov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F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2280" y="2565360"/>
            <a:ext cx="281952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2577960"/>
            <a:ext cx="14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J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J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J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J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255276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2280" y="4000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2590920"/>
            <a:ext cx="145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N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 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N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 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N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N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3987720"/>
            <a:ext cx="141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P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P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P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P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4000680"/>
            <a:ext cx="1509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2ec000"/>
                </a:solidFill>
                <a:latin typeface="Courier New"/>
              </a:rPr>
              <a:t>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 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2ec000"/>
                </a:solidFill>
                <a:latin typeface="Courier New"/>
              </a:rPr>
              <a:t>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 4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2ec000"/>
                </a:solidFill>
                <a:latin typeface="Courier New"/>
              </a:rPr>
              <a:t>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 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2ec000"/>
                </a:solidFill>
                <a:latin typeface="Courier New"/>
              </a:rPr>
              <a:t>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0800" y="1754280"/>
            <a:ext cx="256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W C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ndergrad, 4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6480" y="1755720"/>
            <a:ext cx="265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W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grad, worksh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46800" y="1757520"/>
            <a:ext cx="255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 pop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ormaliz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62240" y="2565360"/>
            <a:ext cx="281952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10160" y="2577960"/>
            <a:ext cx="1390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J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J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J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J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10160" y="255276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62240" y="4000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62240" y="2590920"/>
            <a:ext cx="141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N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 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N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 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N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N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10160" y="3987720"/>
            <a:ext cx="137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P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P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P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P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62240" y="4000680"/>
            <a:ext cx="1365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2ec000"/>
                </a:solidFill>
                <a:latin typeface="Courier New"/>
              </a:rPr>
              <a:t>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 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2ec000"/>
                </a:solidFill>
                <a:latin typeface="Courier New"/>
              </a:rPr>
              <a:t>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 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2ec000"/>
                </a:solidFill>
                <a:latin typeface="Courier New"/>
              </a:rPr>
              <a:t>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 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2ec000"/>
                </a:solidFill>
                <a:latin typeface="Courier New"/>
              </a:rPr>
              <a:t>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 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son with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MBTI Statis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325440" y="5370480"/>
            <a:ext cx="8367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UW CSE: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67.4%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64.0%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70.3%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J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77.7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UW Engr: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55.0%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2.5%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45.0%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J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63.3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USA gen.: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50.9%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6.6%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40.4%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J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54.3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72200" y="2565360"/>
            <a:ext cx="281952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20120" y="2577960"/>
            <a:ext cx="1390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J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J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J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2200" spc="-1" strike="noStrike">
                <a:solidFill>
                  <a:srgbClr val="3366ff"/>
                </a:solidFill>
                <a:latin typeface="Courier New"/>
              </a:rPr>
              <a:t>J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1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20120" y="255276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4000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590920"/>
            <a:ext cx="141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N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 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N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 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N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N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 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0120" y="3987720"/>
            <a:ext cx="137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P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P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8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P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3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P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3</a:t>
            </a:r>
            <a:r>
              <a:rPr b="1" lang="en-US" sz="2200" spc="-1" strike="noStrike">
                <a:solidFill>
                  <a:srgbClr val="ff99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4000680"/>
            <a:ext cx="1365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2ec000"/>
                </a:solidFill>
                <a:latin typeface="Courier New"/>
              </a:rPr>
              <a:t>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 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2ec000"/>
                </a:solidFill>
                <a:latin typeface="Courier New"/>
              </a:rPr>
              <a:t>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J 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2ec000"/>
                </a:solidFill>
                <a:latin typeface="Courier New"/>
              </a:rPr>
              <a:t>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2ec000"/>
                </a:solidFill>
                <a:latin typeface="Courier New"/>
              </a:rPr>
              <a:t>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 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403, Wi'07, Valentin Razm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F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ty Types and Te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3920" y="1968120"/>
            <a:ext cx="881856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teams usually have members of different types, contributing strengths toward common go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-ha” moments when one realizes what their teammates’ strongest “muscles” are and correlates this with thei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iet” may indicate an introvert person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 incompetent or unengaged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re than one “field marshal” (ENFJ) on a team may be a cause for (and explanation for) power struggl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it a good idea to team up people based on personality types, in addition to (technical) aptitud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403, Wi'07, Valentin Razm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F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ty Types: Disclaim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4600" y="1955880"/>
            <a:ext cx="8828280" cy="47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ersonality type i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definition of who you will be tomorrow, much less who you will always b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iffers between situations (interpretations) and across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ersonality type indicates which your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urrently strong “muscles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ose strengths can be changed at wi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403, Wi'07, Valentin Razm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F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851040" y="1816200"/>
            <a:ext cx="8105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ody of research sh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mplicit Assumptions Impact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der Bias and Research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ludi and Bauer (Sex Roles, 198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9120" y="566280"/>
            <a:ext cx="826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reotypes Tilt the Playing Fiel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698480" y="3576600"/>
          <a:ext cx="4829400" cy="1608120"/>
        </p:xfrm>
        <a:graphic>
          <a:graphicData uri="http://schemas.openxmlformats.org/drawingml/2006/table">
            <a:tbl>
              <a:tblPr/>
              <a:tblGrid>
                <a:gridCol w="1692360"/>
                <a:gridCol w="1058760"/>
                <a:gridCol w="1014480"/>
                <a:gridCol w="1063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vie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-5, 1 to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ohn T. McK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oan T. McK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. T. McK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3378240" y="4334040"/>
          <a:ext cx="3136680" cy="847440"/>
        </p:xfrm>
        <a:graphic>
          <a:graphicData uri="http://schemas.openxmlformats.org/drawingml/2006/table">
            <a:tbl>
              <a:tblPr/>
              <a:tblGrid>
                <a:gridCol w="1060200"/>
                <a:gridCol w="1025640"/>
                <a:gridCol w="1050840"/>
              </a:tblGrid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50680" y="5227560"/>
            <a:ext cx="749124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der Bias and Performance Eval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chestra try-outs behind cur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reotype threat on exam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403, Wi'07, Valentin Razm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Feb 2007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ereotyping and Trends in the Discipline of Computer Scien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79520" y="1884240"/>
            <a:ext cx="846288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fted focus of Computer Science in recent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: fundamental and theoretical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: (increasingly) application-oriented, practical engineering discipline that serves many other fiel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eky” stereotype of computer scientists pers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pite mounting evidence to the contr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rdle toward increased participation of underrepresented groups as key constituencies with their unique and equally valuable perspecti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403, Wi'07, Valentin Razm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F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22120" y="876240"/>
            <a:ext cx="7792920" cy="8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Take-Away Po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53840" y="1895400"/>
            <a:ext cx="82342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many people who are very different from you in the way they approach the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ey are still perfectly reason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with such people requires mutual respect and care in understanding.  Effective communication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requis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th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reotyping is counterproductive: it closes doors and eliminates desirable possibilit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you label me, you negate me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403, Wi'07, Valentin Razm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F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95240" y="1879200"/>
            <a:ext cx="822960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BTI personality type test and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communication via stereoty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403, Wi'07, Valentin Razm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F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our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95240" y="1879560"/>
            <a:ext cx="822960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yers-Briggs Personality Type (MBTI) 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uts (distributed during and after cla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BTI workshop, at Leadership Institute for Tomorrow (LIFT), by Chris Lo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est lecture in CSE403 Sp’04, by Prof. Gino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403, Wi'07, Valentin Razm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F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8440" y="1841040"/>
            <a:ext cx="844848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ent any evidence to the contrary, humans tend to assume that others are like themsel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so others’ preferences “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u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” like their ow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ronger one’s preferences are, the harder it is to imagine that something very different may be just as vali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onality tests (e.g., MBTI) have demonstrated that people’s preferences differ along many a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nce, there is a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need for convers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to discover how to communicate effectively with each individu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ucial in a team setting where common goals are pursu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BTI provides a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anguage to talk about our differen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out marginalizing any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403, Wi'07, Valentin Razm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F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ty Trai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79520" y="1928520"/>
            <a:ext cx="547992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rovert vs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trov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do you get your energy fro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itive vs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you get inform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nking vs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e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you process inform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dging vs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cei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your lifesty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738760" y="1365120"/>
            <a:ext cx="3267000" cy="1752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757840" y="3240000"/>
            <a:ext cx="2571840" cy="168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403, Wi'07, Valentin Razm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F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622440" y="212760"/>
            <a:ext cx="2355840" cy="2117160"/>
            <a:chOff x="622440" y="212760"/>
            <a:chExt cx="2355840" cy="2117160"/>
          </a:xfrm>
        </p:grpSpPr>
        <p:sp>
          <p:nvSpPr>
            <p:cNvPr id="153" name=""/>
            <p:cNvSpPr/>
            <p:nvPr/>
          </p:nvSpPr>
          <p:spPr>
            <a:xfrm>
              <a:off x="622440" y="222120"/>
              <a:ext cx="2355840" cy="20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33120" y="23004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32040" y="212760"/>
              <a:ext cx="0" cy="20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2440" y="1263600"/>
              <a:ext cx="235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2440" y="239400"/>
              <a:ext cx="1021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33120" y="125460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2440" y="1262520"/>
              <a:ext cx="1021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 rot="16200000">
            <a:off x="-230400" y="104328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14520" y="2421000"/>
            <a:ext cx="2355840" cy="2117160"/>
            <a:chOff x="614520" y="2421000"/>
            <a:chExt cx="2355840" cy="2117160"/>
          </a:xfrm>
        </p:grpSpPr>
        <p:sp>
          <p:nvSpPr>
            <p:cNvPr id="162" name=""/>
            <p:cNvSpPr/>
            <p:nvPr/>
          </p:nvSpPr>
          <p:spPr>
            <a:xfrm>
              <a:off x="614520" y="2430360"/>
              <a:ext cx="2355840" cy="20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5200" y="243828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24120" y="2421000"/>
              <a:ext cx="0" cy="20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4520" y="3471840"/>
              <a:ext cx="235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4520" y="2447640"/>
              <a:ext cx="1021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25200" y="346284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4520" y="3470760"/>
              <a:ext cx="1021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rot="16200000">
            <a:off x="-403560" y="31993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17400" y="4629240"/>
            <a:ext cx="2355840" cy="2117160"/>
            <a:chOff x="617400" y="4629240"/>
            <a:chExt cx="2355840" cy="2117160"/>
          </a:xfrm>
        </p:grpSpPr>
        <p:sp>
          <p:nvSpPr>
            <p:cNvPr id="171" name=""/>
            <p:cNvSpPr/>
            <p:nvPr/>
          </p:nvSpPr>
          <p:spPr>
            <a:xfrm>
              <a:off x="617400" y="4638600"/>
              <a:ext cx="2355840" cy="20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28080" y="464652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27000" y="4629240"/>
              <a:ext cx="0" cy="20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7400" y="5680080"/>
              <a:ext cx="235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7400" y="4655880"/>
              <a:ext cx="1021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28080" y="567108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7400" y="5679000"/>
              <a:ext cx="1021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 rot="16200000">
            <a:off x="-400680" y="540936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2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645000" y="212760"/>
            <a:ext cx="2355840" cy="2117160"/>
            <a:chOff x="3645000" y="212760"/>
            <a:chExt cx="2355840" cy="2117160"/>
          </a:xfrm>
        </p:grpSpPr>
        <p:sp>
          <p:nvSpPr>
            <p:cNvPr id="180" name=""/>
            <p:cNvSpPr/>
            <p:nvPr/>
          </p:nvSpPr>
          <p:spPr>
            <a:xfrm>
              <a:off x="3645000" y="222120"/>
              <a:ext cx="2355840" cy="20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55680" y="23004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4600" y="212760"/>
              <a:ext cx="0" cy="20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45000" y="1263600"/>
              <a:ext cx="235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45000" y="239400"/>
              <a:ext cx="1021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55680" y="125460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45000" y="1262520"/>
              <a:ext cx="1021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 rot="16200000">
            <a:off x="2592360" y="95724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arS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37080" y="2421000"/>
            <a:ext cx="2355840" cy="2117160"/>
            <a:chOff x="3637080" y="2421000"/>
            <a:chExt cx="2355840" cy="2117160"/>
          </a:xfrm>
        </p:grpSpPr>
        <p:sp>
          <p:nvSpPr>
            <p:cNvPr id="189" name=""/>
            <p:cNvSpPr/>
            <p:nvPr/>
          </p:nvSpPr>
          <p:spPr>
            <a:xfrm>
              <a:off x="3637080" y="2430360"/>
              <a:ext cx="2355840" cy="20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47760" y="243828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46680" y="2421000"/>
              <a:ext cx="0" cy="20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37080" y="3471840"/>
              <a:ext cx="235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37080" y="2447640"/>
              <a:ext cx="1021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47760" y="346284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37080" y="3470760"/>
              <a:ext cx="1021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 rot="16200000">
            <a:off x="2788560" y="319140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SU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639960" y="4629240"/>
            <a:ext cx="2356200" cy="2117160"/>
            <a:chOff x="3639960" y="4629240"/>
            <a:chExt cx="2356200" cy="2117160"/>
          </a:xfrm>
        </p:grpSpPr>
        <p:sp>
          <p:nvSpPr>
            <p:cNvPr id="198" name=""/>
            <p:cNvSpPr/>
            <p:nvPr/>
          </p:nvSpPr>
          <p:spPr>
            <a:xfrm>
              <a:off x="3639960" y="4638600"/>
              <a:ext cx="2356200" cy="20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51000" y="464652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49920" y="4629240"/>
              <a:ext cx="0" cy="20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39960" y="5680080"/>
              <a:ext cx="235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39960" y="4655880"/>
              <a:ext cx="1021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51000" y="567108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39960" y="5679000"/>
              <a:ext cx="1021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 rot="16200000">
            <a:off x="2778840" y="540036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do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629400" y="208080"/>
            <a:ext cx="2355840" cy="2117160"/>
            <a:chOff x="6629400" y="208080"/>
            <a:chExt cx="2355840" cy="2117160"/>
          </a:xfrm>
        </p:grpSpPr>
        <p:sp>
          <p:nvSpPr>
            <p:cNvPr id="207" name=""/>
            <p:cNvSpPr/>
            <p:nvPr/>
          </p:nvSpPr>
          <p:spPr>
            <a:xfrm>
              <a:off x="6629400" y="217440"/>
              <a:ext cx="2355840" cy="20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840080" y="22536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39000" y="208080"/>
              <a:ext cx="0" cy="20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29400" y="1258920"/>
              <a:ext cx="235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29400" y="234720"/>
              <a:ext cx="1021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40080" y="124992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29400" y="1257840"/>
              <a:ext cx="1021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6200000">
            <a:off x="5336280" y="10159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tInThe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621480" y="2416320"/>
            <a:ext cx="2355840" cy="2117160"/>
            <a:chOff x="6621480" y="2416320"/>
            <a:chExt cx="2355840" cy="2117160"/>
          </a:xfrm>
        </p:grpSpPr>
        <p:sp>
          <p:nvSpPr>
            <p:cNvPr id="216" name=""/>
            <p:cNvSpPr/>
            <p:nvPr/>
          </p:nvSpPr>
          <p:spPr>
            <a:xfrm>
              <a:off x="6621480" y="2425680"/>
              <a:ext cx="2355840" cy="20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32160" y="243360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31080" y="2416320"/>
              <a:ext cx="0" cy="20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21480" y="3467160"/>
              <a:ext cx="235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21480" y="2442960"/>
              <a:ext cx="1021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832160" y="345816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21480" y="3466080"/>
              <a:ext cx="1021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 rot="16200000">
            <a:off x="5592960" y="32371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mn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624720" y="4624560"/>
            <a:ext cx="2355840" cy="2117160"/>
            <a:chOff x="6624720" y="4624560"/>
            <a:chExt cx="2355840" cy="2117160"/>
          </a:xfrm>
        </p:grpSpPr>
        <p:sp>
          <p:nvSpPr>
            <p:cNvPr id="225" name=""/>
            <p:cNvSpPr/>
            <p:nvPr/>
          </p:nvSpPr>
          <p:spPr>
            <a:xfrm>
              <a:off x="6624720" y="4633920"/>
              <a:ext cx="2355840" cy="20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35400" y="464184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34320" y="4624560"/>
              <a:ext cx="0" cy="20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24720" y="5675400"/>
              <a:ext cx="235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4720" y="4651200"/>
              <a:ext cx="1021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35400" y="5666400"/>
              <a:ext cx="1015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1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24720" y="5674320"/>
              <a:ext cx="1021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1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 rot="16200000">
            <a:off x="5677920" y="538596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BTI Result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gregated for All Te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012680" y="1827360"/>
            <a:ext cx="7543080" cy="4634280"/>
            <a:chOff x="1012680" y="1827360"/>
            <a:chExt cx="7543080" cy="4634280"/>
          </a:xfrm>
        </p:grpSpPr>
        <p:sp>
          <p:nvSpPr>
            <p:cNvPr id="236" name=""/>
            <p:cNvSpPr/>
            <p:nvPr/>
          </p:nvSpPr>
          <p:spPr>
            <a:xfrm>
              <a:off x="1012680" y="1848240"/>
              <a:ext cx="7543080" cy="456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86280" y="1868760"/>
              <a:ext cx="32619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3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3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3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3600" spc="-1" strike="noStrike">
                  <a:solidFill>
                    <a:srgbClr val="3366ff"/>
                  </a:solidFill>
                  <a:latin typeface="Courier New"/>
                </a:rPr>
                <a:t>J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3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3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3600" spc="-1" strike="noStrike">
                  <a:solidFill>
                    <a:srgbClr val="3366ff"/>
                  </a:solidFill>
                  <a:latin typeface="Courier New"/>
                </a:rPr>
                <a:t>S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3600" spc="-1" strike="noStrike">
                  <a:solidFill>
                    <a:srgbClr val="3366ff"/>
                  </a:solidFill>
                  <a:latin typeface="Courier New"/>
                </a:rPr>
                <a:t>J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86280" y="1827360"/>
              <a:ext cx="0" cy="45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12680" y="4173120"/>
              <a:ext cx="75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12680" y="1888920"/>
              <a:ext cx="32619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3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3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3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3600" spc="-1" strike="noStrike">
                  <a:solidFill>
                    <a:srgbClr val="ff0000"/>
                  </a:solidFill>
                  <a:latin typeface="Courier New"/>
                </a:rPr>
                <a:t>NF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86280" y="4152600"/>
              <a:ext cx="32619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3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3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3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1" lang="en-US" sz="3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3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3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36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r>
                <a:rPr b="1" lang="en-US" sz="36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12680" y="4173120"/>
              <a:ext cx="32619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3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J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3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J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r>
                <a:rPr b="1" lang="en-US" sz="3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P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en-US" sz="3600" spc="-1" strike="noStrike">
                  <a:solidFill>
                    <a:srgbClr val="2ec000"/>
                  </a:solidFill>
                  <a:latin typeface="Courier New"/>
                </a:rPr>
                <a:t>NT</a:t>
              </a:r>
              <a:r>
                <a:rPr b="1" lang="en-US" sz="3600" spc="-1" strike="noStrike">
                  <a:solidFill>
                    <a:srgbClr val="000000"/>
                  </a:solidFill>
                  <a:latin typeface="Courier New"/>
                </a:rPr>
                <a:t>P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E403, Wi'07, Valentin Razm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F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5:19:16Z</dcterms:created>
  <dc:creator>Stani Vlasseva</dc:creator>
  <dc:description/>
  <dc:language>en-US</dc:language>
  <cp:lastModifiedBy>valentin</cp:lastModifiedBy>
  <dcterms:modified xsi:type="dcterms:W3CDTF">2007-02-23T00:01:23Z</dcterms:modified>
  <cp:revision>66</cp:revision>
  <dc:subject/>
  <dc:title>Slide 1</dc:title>
</cp:coreProperties>
</file>