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333cc"/>
                </a:solidFill>
                <a:latin typeface="Arial Unicode MS"/>
              </a:rPr>
              <a:t>Click to move the slide</a:t>
            </a:r>
            <a:endParaRPr b="0" lang="en-US" sz="58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DD47C-5C36-40BD-A9F3-E4ECE6DAE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best defense against patent infring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best prote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:  Is this a reasonable la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nyone provide an exam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:  Does this seem fair?  Symantec – antivirus, and MS moving into this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F76FA-F22A-4FFE-AFFD-1419C0DE9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3080" y="455904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rack is senior technical - &gt; principal engineer, system archi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o choose what license when you author software.  Need to be aware of licenses when you us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D2707-FD2F-4321-86F0-1B020C2DA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1000" y="72216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73080" y="455904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ed – 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D36-D727-40EF-84E8-52A5515F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8B5-946A-4072-953A-2A4D432E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C46-2D9C-4497-9043-93F27A82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319-4363-4B24-9B14-C23B37BD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4E8E-9E2F-496A-9E2D-5484585E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E725-9257-41CF-AF4A-5C311DE4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ED69-A35A-45CD-9B41-3D6E96E1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7988-4870-4AF8-B5F1-5950023D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58EB-20AC-45AA-B426-3CAE96F6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8BF0-734C-4199-A331-F8C7FBB2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F105-012E-40C9-BADA-9E70964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670-1C9B-40CE-915F-123D940B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048E-94B9-4D9F-B9E4-FBA8C5C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02D-C5B5-410A-8148-B239FD04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C69F-6C47-434A-BE3F-73347DB5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5E9A-6FBA-4DFB-87AC-94E04647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224C-C9E7-463D-A12E-FE4CCAA8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79F-4649-491E-8D0D-DC0ACBBF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57C-58EE-42B5-897B-885F851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C15-EEA4-46BC-8821-BD451CF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B45-89D4-4ABB-9390-08856544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0D5-6EFB-45EA-9764-256E2656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CEF-1DED-455A-8C7E-AD57DF6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39B-510C-4EBB-803D-8441663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CSE 403, Winter 2007, Alv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E3D9-2C23-4747-B2F1-00DCF07CF3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333cc"/>
                </a:solidFill>
                <a:latin typeface="Arial Unicode MS"/>
              </a:rPr>
              <a:t>Click to edit the title text format</a:t>
            </a:r>
            <a:endParaRPr b="0" lang="en-US" sz="58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CSE 403, Winter 2007, Alv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9F3C-62D9-4234-BF4F-64EB07A56F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eattletimes.nwsource.com/html/home/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ebay.com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eattletimes.nwsource.com/html/home/" TargetMode="External"/><Relationship Id="rId3" Type="http://schemas.openxmlformats.org/officeDocument/2006/relationships/hyperlink" Target="http://seattletimes.nwsource.com/html/home/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eattletimes.nwsource.com/html/home/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dele.gerwinski.de/%7Eanja/gnuart/penguin/tux.jpg&amp;imgrefurl=http://adele.gerwinski.de/%7Eanja/gnuart/penguin/&amp;h=300&amp;w=254&amp;sz=9&amp;tbnid=vtsQTsTZd9cJ:&amp;tbnh=111&amp;tbnw=93&amp;hl=en&amp;prev=/images%3Fq%3Dlinux%2Bpenguin%26hl%3Den%26lr%3D&amp;oi=imagesr&amp;start=3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cc"/>
                </a:solidFill>
                <a:latin typeface="Arial Unicode MS"/>
              </a:rPr>
              <a:t>Intellectual Property</a:t>
            </a:r>
            <a:endParaRPr b="0" lang="en-US" sz="58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ail Alv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4038480"/>
            <a:ext cx="53337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673280" y="-6135840"/>
          <a:ext cx="1700280" cy="19131120"/>
        </p:xfrm>
        <a:graphic>
          <a:graphicData uri="http://schemas.openxmlformats.org/drawingml/2006/table">
            <a:tbl>
              <a:tblPr/>
              <a:tblGrid>
                <a:gridCol w="1450800"/>
                <a:gridCol w="249480"/>
              </a:tblGrid>
              <a:tr h="19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CS&amp;E logo"/>
          <p:cNvPicPr/>
          <p:nvPr/>
        </p:nvPicPr>
        <p:blipFill>
          <a:blip r:embed="rId2"/>
          <a:stretch/>
        </p:blipFill>
        <p:spPr>
          <a:xfrm>
            <a:off x="2514600" y="4800600"/>
            <a:ext cx="9619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340000" y="-6135840"/>
          <a:ext cx="365040" cy="191311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9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340000" y="-6135840"/>
          <a:ext cx="365040" cy="191311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9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University of Washington Computer Science &amp; Engineering"/>
          <p:cNvPicPr/>
          <p:nvPr/>
        </p:nvPicPr>
        <p:blipFill>
          <a:blip r:embed="rId3"/>
          <a:stretch/>
        </p:blipFill>
        <p:spPr>
          <a:xfrm>
            <a:off x="3429000" y="4724280"/>
            <a:ext cx="3886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Patents 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innovations (processes, machines, products, phrases, algorithms…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 again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others making, using, selling innovation,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even if they independently came up with i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novel, useful, non-obviou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20 years from filing – typically must file within a year of being publicly disclos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relatively high, in time and co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Patent ruling a win for eBay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tent on “Buy it Now” sales feature held by MercExchange and used by eBa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ercExchange sued for patent infring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upreme Court pushing back to lower court, but until decision, allows eBay to continue using the phra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cern by court of large corporations held hostage to minor innovations   (patent troll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7" name="" descr="The Seattle Ti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6019920"/>
            <a:ext cx="1904760" cy="54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 rot="10760400">
            <a:off x="7391520" y="63230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1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From collectibles to cars, buy and sell all kinds of items on eBa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1371600"/>
            <a:ext cx="1428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5257800"/>
            <a:ext cx="2133720" cy="1347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Unicode MS"/>
              </a:rPr>
              <a:t>Lucent accused of violating patents</a:t>
            </a:r>
            <a:endParaRPr b="1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ucent sued Dell/Gateway for patent infringement on innovations including controlling a computer with a styli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S pledged to cover Dell/Gateway customer costs, filed to invalidate the patents or resolve that not infring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ucent sued MS for infringement on video decoding 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S countered with claim that Lucent infringed 10 of its pat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0"/>
          <a:ext cx="4041720" cy="655560"/>
        </p:xfrm>
        <a:graphic>
          <a:graphicData uri="http://schemas.openxmlformats.org/drawingml/2006/table">
            <a:tbl>
              <a:tblPr/>
              <a:tblGrid>
                <a:gridCol w="786960"/>
                <a:gridCol w="216000"/>
                <a:gridCol w="3038760"/>
              </a:tblGrid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" descr="The Seattle Tim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6019920"/>
            <a:ext cx="1904760" cy="54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 rot="10760400">
            <a:off x="7315200" y="632412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1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War chest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panies like to build a war chest of patents for just this reas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3276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Copyright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expression of ideas on a tangible medium,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he idea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ed again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reproduction, copy distribution, derivative work creation (NOT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independent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eation of the same or similar work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original work, fixed in tangible fo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author’s life + 70 yea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simple, no registr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11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029200"/>
            <a:ext cx="792468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fact that internally developed SW looks or performs like SW that is owned by others but accessed by internal developers may raise a question of copyright infrin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4070520"/>
          <a:ext cx="378000" cy="455400"/>
        </p:xfrm>
        <a:graphic>
          <a:graphicData uri="http://schemas.openxmlformats.org/drawingml/2006/table">
            <a:tbl>
              <a:tblPr/>
              <a:tblGrid>
                <a:gridCol w="3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9360" y="4079880"/>
          <a:ext cx="5032440" cy="365040"/>
        </p:xfrm>
        <a:graphic>
          <a:graphicData uri="http://schemas.openxmlformats.org/drawingml/2006/table">
            <a:tbl>
              <a:tblPr/>
              <a:tblGrid>
                <a:gridCol w="5032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05520" y="81000"/>
            <a:ext cx="2895480" cy="931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55800" y="2378160"/>
            <a:ext cx="5876640" cy="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17560" y="3201840"/>
            <a:ext cx="5877000" cy="9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364000" y="3063960"/>
            <a:ext cx="97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More facts on copyright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most all things are copyrighted the moment they are written; No notice is required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pyright software – contracts/licenses can provide permission to use copyright materi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-436680" y="3749760"/>
          <a:ext cx="5429160" cy="455400"/>
        </p:xfrm>
        <a:graphic>
          <a:graphicData uri="http://schemas.openxmlformats.org/drawingml/2006/table">
            <a:tbl>
              <a:tblPr/>
              <a:tblGrid>
                <a:gridCol w="5429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-3048120" y="3276720"/>
          <a:ext cx="4724640" cy="1369800"/>
        </p:xfrm>
        <a:graphic>
          <a:graphicData uri="http://schemas.openxmlformats.org/drawingml/2006/table">
            <a:tbl>
              <a:tblPr/>
              <a:tblGrid>
                <a:gridCol w="2828880"/>
                <a:gridCol w="18957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990720" y="5257800"/>
            <a:ext cx="6781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o you think posting someone else’s email is a violation of copyrigh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Trade Secret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concept, idea, info, or innov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ed again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misappropriation (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ndependent creation of same work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o not generally known or availab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pany derives some value from secre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st spend reasonable effort to maintain secre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no predefined limi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no registration or examin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Symantec suit targets Vista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mantec said that Veritas shared Veritas trade secrets and even trained Microsoft engineers as the companies began working together. And Microsoft used those </a:t>
            </a:r>
            <a:r>
              <a:rPr b="0" lang="en-US" sz="2800" spc="-1" strike="noStrike">
                <a:solidFill>
                  <a:srgbClr val="0033cc"/>
                </a:solidFill>
                <a:latin typeface="Arial Unicode MS"/>
              </a:rPr>
              <a:t>trade secret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to start developing products [aspects of Vista] that directly competed with Veritas' offerings, the lawsuit said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icrosoft said that in 2004 it bought from Veritas the rights to the technologies in question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9" name="" descr="The Seattle Ti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6019920"/>
            <a:ext cx="1904760" cy="549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V="1" rot="10760400">
            <a:off x="7467120" y="624780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19,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124080" y="5943600"/>
            <a:ext cx="151452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371600" y="5562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Trademark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“any word, name, symbol, or device, or any combination thereof” used to distinguish certain goods from oth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ed again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others using the mark, likelihood of confusion and dilu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xclude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use in other industries / geographic area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use the mark in commerce or register with intent to use in future, must maintain quality control over goo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10 year renewable (no upper limit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8168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Unicode MS"/>
              </a:rPr>
              <a:t>Are any of your project names TM?</a:t>
            </a:r>
            <a:endParaRPr b="1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Tra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ited we tra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grade you tra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help people tra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trade your stuff for ca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dok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doku mas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doku delux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doku (dead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yond sudok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oyal sudok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mnimai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mnimai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295280"/>
            <a:ext cx="3352680" cy="752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ttp://tess2.uspto.g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84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3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0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5312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About me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990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715000"/>
            <a:ext cx="76201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chnical Manager for the VP of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876920"/>
            <a:ext cx="76201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nior Manager -  OS and P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76201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nager - Programming Environments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200400"/>
            <a:ext cx="76201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ject lead/Software engineer -  librari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362320"/>
            <a:ext cx="76201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ftware Engineer – libraries and 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228600" cy="3810240"/>
          </a:xfrm>
          <a:prstGeom prst="downArrow">
            <a:avLst>
              <a:gd name="adj1" fmla="val 50000"/>
              <a:gd name="adj2" fmla="val 41669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8037720" y="293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00200"/>
            <a:ext cx="7620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earcher - Software eng and system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Unicode MS"/>
              </a:rPr>
              <a:t>Apple infringes on Cisco’s iPhone TM</a:t>
            </a:r>
            <a:endParaRPr b="1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isco owns the iPhone trademark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pple started negotiations with Cisco to share the TM.  Cisco wanted open approach to allow Apple iPhone to be compatible with other companies’ produc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pple announced its iPhone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n agreement was mad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isco sued Apple for trademark infring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49116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http://blogs.cisco.com/news/2007/01/update_on_ciscos_iphone_trade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029200"/>
            <a:ext cx="716256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 “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This lawsuit is about Cisco's obligation to protect its trademark in the face of a willful violation. Our goal was collaboration. The action we have taken today is about not using people’s property without permiss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How did the saga end?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isco and Apple reached a settlement (2/21/07). The two companies pledged to "explore opportunities for interoperability in the areas of security, and consumer and (business) communications.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 terms were confidenti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Unicode MS"/>
              </a:rPr>
              <a:t>http://www.usatoday.com/tech/products/2007-02-21-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Unicode MS"/>
              </a:rPr>
              <a:t>cisco-apple-iphone_x.htm?csp=3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3335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Contract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tections, exclusions, requirements, terms, and costs must all be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defined as part of the contra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ou can make anything work if you have agreement by all parties involv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icense agre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endor agre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n-disclosure agre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ployee contrac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311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Popular License:  GPL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Free Software Foundation (FSF), established in 1985, is dedicated to promoting computer users' rights to use, study, copy, modify, and redistribute computer program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 Unicode MS"/>
              </a:rPr>
              <a:t>www.gnu.or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cc, g++, gdb,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ibc, gcj, violet,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nux,  …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1881360" cy="1981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1403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GPL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PL requires that all code that is “affected” by GPL code must also be distributed under the GPL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ffected” is loosely equated to, part of the same functional uni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n you make a profit using GPL software with your custom softwar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6" name="" descr="The image “http://www.aertia.com/docs/pathscale/pathscale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124080" y="5222880"/>
            <a:ext cx="24415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There are lots of other license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943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clipse – Eclipse Public Licen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gzilla – Mozilla Public licen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Java Memory Profiler – LGP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 Unicode MS"/>
              </a:rPr>
              <a:t>MySQL – GPL or MySQL commercial license ($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95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“</a:t>
            </a: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The Devil is in the Details”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6629400" cy="99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nderstand and know the basics but consult with a lawyer for the detail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1440" y="380880"/>
            <a:ext cx="87822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My last project: XT3 system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289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ly parallel processing supercomputer system used for analysis and stewardship of nuclear weapons  - initially for Sandia National Lab $93M – ultimately a commercial product, the Cray XT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9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9387"/>
          <a:stretch/>
        </p:blipFill>
        <p:spPr>
          <a:xfrm>
            <a:off x="228600" y="2819520"/>
            <a:ext cx="91440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From investorwords.com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Unicode MS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y intangible asset that consists of human knowledge and ideas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27672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ost such assets cannot be recognized on a balance sheet when internally generated, since </a:t>
            </a:r>
            <a:r>
              <a:rPr b="0" i="1" lang="en-US" sz="2400" spc="-1" strike="noStrike">
                <a:solidFill>
                  <a:srgbClr val="0033cc"/>
                </a:solidFill>
                <a:latin typeface="Arial Unicode MS"/>
              </a:rPr>
              <a:t>it is very difficult to objectively value intellectual property assets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hey can, however, be included in a balance sheet if acquired, which allows a more accurate valuation for the asset (that is, the acquisition cos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Common forms of IP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t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pyrigh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ade secre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ademark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trac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XT3 Software IP included…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nal Cray I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ardware management pat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prietary cluster management softwa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pprentice2      performance too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ternal IP,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with fe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tamount OS, Sandia National Lab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, Fortran compiler, PG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otalview parallel debugger, Etnu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BS Pro batch management tool, Verita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ternal IP,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without fe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AP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cc, gdb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5" name="" descr="http://adele.gerwinski.de/~anja/gnuart/penguin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4903920"/>
            <a:ext cx="1063440" cy="126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791320" y="2514600"/>
            <a:ext cx="2381040" cy="723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629400" y="3276720"/>
            <a:ext cx="1352520" cy="86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162920" y="5029200"/>
            <a:ext cx="895320" cy="94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0920" y="22096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553080" y="1371600"/>
            <a:ext cx="1019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403 Project IP includes …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Unicode MS"/>
              </a:rPr>
              <a:t>Who owns IP of student projects?</a:t>
            </a:r>
            <a:endParaRPr b="1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ew Policy on Intellectual Property Opens Rift Among Researchers at U. of Cambridge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00840" cy="29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" y="3124080"/>
            <a:ext cx="792468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University of Cambridge has imposed a controversial intellectual-property policy under which the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univers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will control patent rights for potentially money-making inventions that result from </a:t>
            </a:r>
            <a:r>
              <a:rPr b="0" i="1" lang="en-US" sz="2800" spc="-1" strike="noStrike">
                <a:solidFill>
                  <a:srgbClr val="ff0000"/>
                </a:solidFill>
                <a:latin typeface="Arial Unicode MS"/>
              </a:rPr>
              <a:t>research it finan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Previously, individual scientists could seek such patents on their 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438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14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What about at UW?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e US, inventors traditionally own their inventions, although universities most often share the monetary returns from commercialization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SE commercialization committee (Borning)                 UW office of technology transfe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 Unicode MS"/>
              </a:rPr>
              <a:t>http://depts.washington.edu/techtran/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y question is,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Arial Unicode MS"/>
              </a:rPr>
              <a:t>who is funding the work?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00084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9:36:23Z</dcterms:created>
  <dc:creator> </dc:creator>
  <dc:description/>
  <dc:language>en-US</dc:language>
  <cp:lastModifiedBy>Gail</cp:lastModifiedBy>
  <dcterms:modified xsi:type="dcterms:W3CDTF">2007-03-02T05:31:39Z</dcterms:modified>
  <cp:revision>110</cp:revision>
  <dc:subject/>
  <dc:title>Slide 1</dc:title>
</cp:coreProperties>
</file>